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D6B-8AE1-4554-98D9-8D346E19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927-0EDE-4C38-9286-8EF27467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83C-154F-415E-B886-61BDDEA8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947-7F09-4E06-B74A-4157E175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307-D9D3-4FA0-BDEB-16A49AAE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61E-7ABF-4770-932E-4925AEFC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482-F34A-4421-B983-2E3E8F3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51B-92BC-403D-8B9F-1D01AC5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5BB-0FA4-449A-9C56-971DBCD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2F1-257F-46E1-85DD-25F5D288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4E3-9915-40BF-BBB2-EC8B7B6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FF3-D2B0-4AC8-88CF-36B3981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C78C-FD1C-44C4-9F2A-63327F919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2286000" y="1522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914400" y="419040"/>
            <a:ext cx="70866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КОУ «Болт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Кто придумал таблицу умнож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(исследовательская раб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полнил: Михайлов Сем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еник 2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уководитель: Лаврентье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0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9"/>
          <p:cNvSpPr txBox="1"/>
          <p:nvPr/>
        </p:nvSpPr>
        <p:spPr>
          <a:xfrm>
            <a:off x="1905120" y="228600"/>
            <a:ext cx="544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90" name="Диаграмма 6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6"/>
          <p:cNvSpPr txBox="1"/>
          <p:nvPr/>
        </p:nvSpPr>
        <p:spPr>
          <a:xfrm>
            <a:off x="1981080" y="3049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 класс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1981080" y="3049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  класс 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Найти способы заучивания таблицы умножен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1981080" y="3049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работ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2286000" y="228600"/>
            <a:ext cx="6248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чи исследования: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8600" y="204876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Изучить научную литературу по теме «Таблица умнож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Провести анкетирование среди учащихся 2-4 классов по теме «Кто придумал таблицу умнож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Проверить знания таблицы умножения у учащихся 3-4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79280" algn="ctr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-189000" y="1743120"/>
            <a:ext cx="9339480" cy="474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Елена\Мои документы\Мои рисунки\Организатор клипов (Microsoft)\j0433160.jpg"/>
          <p:cNvPicPr/>
          <p:nvPr/>
        </p:nvPicPr>
        <p:blipFill>
          <a:blip r:embed="rId3"/>
          <a:stretch/>
        </p:blipFill>
        <p:spPr>
          <a:xfrm>
            <a:off x="6937200" y="12600"/>
            <a:ext cx="1347840" cy="180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Елена\Мои документы\Мои рисунки\Организатор клипов (Microsoft)\j0433161.jpg"/>
          <p:cNvPicPr/>
          <p:nvPr/>
        </p:nvPicPr>
        <p:blipFill>
          <a:blip r:embed="rId4"/>
          <a:stretch/>
        </p:blipFill>
        <p:spPr>
          <a:xfrm>
            <a:off x="4784760" y="4645080"/>
            <a:ext cx="1792080" cy="18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Елена\Мои документы\Мои рисунки\Организатор клипов (Microsoft)\j0433223.jpg"/>
          <p:cNvPicPr/>
          <p:nvPr/>
        </p:nvPicPr>
        <p:blipFill>
          <a:blip r:embed="rId5"/>
          <a:stretch/>
        </p:blipFill>
        <p:spPr>
          <a:xfrm>
            <a:off x="0" y="0"/>
            <a:ext cx="1865160" cy="172548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1905120" y="22860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потеза :   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6-24б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2666880" y="228600"/>
            <a:ext cx="4496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исследования: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2057400" y="9144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4"/>
          <p:cNvSpPr/>
          <p:nvPr/>
        </p:nvSpPr>
        <p:spPr>
          <a:xfrm>
            <a:off x="14400" y="2828880"/>
            <a:ext cx="21193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З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6"/>
          <p:cNvSpPr/>
          <p:nvPr/>
        </p:nvSpPr>
        <p:spPr>
          <a:xfrm>
            <a:off x="6907320" y="2820960"/>
            <a:ext cx="22510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7"/>
          <p:cNvSpPr/>
          <p:nvPr/>
        </p:nvSpPr>
        <p:spPr>
          <a:xfrm>
            <a:off x="3048120" y="3103560"/>
            <a:ext cx="3047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БРАБОТКА АН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9"/>
          <p:cNvSpPr/>
          <p:nvPr/>
        </p:nvSpPr>
        <p:spPr>
          <a:xfrm>
            <a:off x="3021120" y="1914480"/>
            <a:ext cx="3047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0"/>
          <p:cNvSpPr/>
          <p:nvPr/>
        </p:nvSpPr>
        <p:spPr>
          <a:xfrm>
            <a:off x="14400" y="4648320"/>
            <a:ext cx="2881080" cy="2209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ЧАТНЫХ МАТЕРИАЛ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С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НТЕР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1"/>
          <p:cNvSpPr/>
          <p:nvPr/>
        </p:nvSpPr>
        <p:spPr>
          <a:xfrm>
            <a:off x="3276720" y="4683240"/>
            <a:ext cx="2819160" cy="2209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 – 4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2"/>
          <p:cNvSpPr/>
          <p:nvPr/>
        </p:nvSpPr>
        <p:spPr>
          <a:xfrm>
            <a:off x="6497640" y="4648320"/>
            <a:ext cx="2666880" cy="2209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КАК УЧА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 – 4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НАЮТ ТАБ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МНОЖЕНИЯ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верх 17"/>
          <p:cNvSpPr/>
          <p:nvPr/>
        </p:nvSpPr>
        <p:spPr>
          <a:xfrm>
            <a:off x="4387680" y="4017960"/>
            <a:ext cx="486000" cy="66528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верх 18"/>
          <p:cNvSpPr/>
          <p:nvPr/>
        </p:nvSpPr>
        <p:spPr>
          <a:xfrm>
            <a:off x="7831080" y="3735360"/>
            <a:ext cx="484200" cy="91296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9"/>
          <p:cNvSpPr/>
          <p:nvPr/>
        </p:nvSpPr>
        <p:spPr>
          <a:xfrm>
            <a:off x="1017720" y="3728880"/>
            <a:ext cx="485640" cy="91944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верх 20"/>
          <p:cNvSpPr/>
          <p:nvPr/>
        </p:nvSpPr>
        <p:spPr>
          <a:xfrm>
            <a:off x="4329000" y="2828880"/>
            <a:ext cx="486000" cy="274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Соединительная линия уступом 22"/>
          <p:cNvCxnSpPr/>
          <p:nvPr/>
        </p:nvCxnSpPr>
        <p:spPr>
          <a:xfrm>
            <a:off x="6629400" y="2966760"/>
            <a:ext cx="783360" cy="538920"/>
          </a:xfrm>
          <a:prstGeom prst="bentConnector3">
            <a:avLst>
              <a:gd name="adj1" fmla="val 4997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1" name="Дуга 30"/>
          <p:cNvSpPr/>
          <p:nvPr/>
        </p:nvSpPr>
        <p:spPr>
          <a:xfrm>
            <a:off x="6400800" y="2209680"/>
            <a:ext cx="1143000" cy="10764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уга 6143"/>
          <p:cNvSpPr/>
          <p:nvPr/>
        </p:nvSpPr>
        <p:spPr>
          <a:xfrm>
            <a:off x="6400800" y="2730600"/>
            <a:ext cx="914400" cy="9144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верх 21"/>
          <p:cNvSpPr/>
          <p:nvPr/>
        </p:nvSpPr>
        <p:spPr>
          <a:xfrm rot="4519200">
            <a:off x="1834200" y="1588320"/>
            <a:ext cx="485640" cy="182412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верх 23"/>
          <p:cNvSpPr/>
          <p:nvPr/>
        </p:nvSpPr>
        <p:spPr>
          <a:xfrm rot="17359200">
            <a:off x="6664320" y="1674360"/>
            <a:ext cx="485640" cy="159696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282600" y="19018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2133720" y="304920"/>
            <a:ext cx="24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 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3080" y="2446200"/>
            <a:ext cx="796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сем детям в школе приходится учить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сли есть способы запомнить её быстрее и легч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о я могу помочь своим одноклассникам и вс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ел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Изучая литературу по теме «Таблица умножения», я узнал о новых для меня способах заучив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Можно заучивать таблицу с помощью стихотвор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1981080" y="3049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тературный 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6-24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Вам помогут ваши пальцы в изучении таблицы на 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1981080" y="3049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помощью руки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_2</cp:lastModifiedBy>
  <dcterms:modified xsi:type="dcterms:W3CDTF">2017-03-30T13:59:37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