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A06E-A9AF-4CA1-AD72-078C10EADD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156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94B1-28BC-4717-B826-64AE4416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640" y="1480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640" y="384156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14AF-0DE0-471D-8789-F3E06495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1480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7760" y="1480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156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384156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7760" y="384156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51CF-B992-49C8-BA3A-924ABCAC02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068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1FED3-004A-41D0-AE53-5B842EA4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EEC05-BEE3-46A7-99DF-5392B148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148068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654E-6CE0-43F0-A88B-B770BA93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856B-B000-4234-AA80-D02BDCD0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31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DE36-9710-4C89-BAF9-012F303A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148068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695F-3562-45D7-8BA4-E699AA2B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640" y="1480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640" y="384156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030E-05BF-45C4-9DCF-90832306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640" y="1480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6290-4E74-4462-91C0-75C0AE16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068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360"/>
            <a:ext cx="19130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46840" y="6408360"/>
            <a:ext cx="360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1AC6C-8188-4BBC-8754-94A24CFBFC2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1680" y="928800"/>
            <a:ext cx="7929360" cy="4429080"/>
          </a:xfrm>
          <a:prstGeom prst="horizontalScroll">
            <a:avLst>
              <a:gd name="adj" fmla="val 125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Презентация к уроку литературы на тему: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Стихотворение М.Ю. Лермонтова «Бородин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Подготовила: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Борисова Гал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75680" y="285840"/>
            <a:ext cx="5703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Demi"/>
              </a:rPr>
              <a:t>Бородинское сражени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(26 августа 181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57200" y="1143000"/>
            <a:ext cx="6572520" cy="5305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040" y="1357200"/>
            <a:ext cx="785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авалерия скакала по трупам, как по бревенчатой мостовой, втискивая трупы в землю, пропитанную кровь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928800"/>
            <a:ext cx="3303720" cy="3714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5840" y="4714920"/>
            <a:ext cx="27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М.И. ПЛ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2960" y="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Участие донских казаков во главе с атаманом М.И. Плато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372360" y="500040"/>
            <a:ext cx="2320920" cy="5286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684400" y="5857920"/>
            <a:ext cx="286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рядник лейб-гвард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Казачьего по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8286840" cy="6049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85840" y="0"/>
            <a:ext cx="88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Heavy"/>
              </a:rPr>
              <a:t>Участие донских казаков во главе с атаманом М.И. Плат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220000">
            <a:off x="1855800" y="2762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Л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35640" y="1071720"/>
            <a:ext cx="3983040" cy="5072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-1069560"/>
            <a:ext cx="4357800" cy="82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полеон написал: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«Из пятидесяти сражений, данных мною, в битве под Москвой было выказано наиболее доблести и одержан наименьший успех,.. Русские стяжали (получили) право быть непобедимым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000760" y="1000080"/>
            <a:ext cx="3200400" cy="3797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500080" y="4857840"/>
            <a:ext cx="2529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усский гене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А.П. Ерм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760" y="571680"/>
            <a:ext cx="48574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усский гене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Heavy"/>
              </a:rPr>
              <a:t>А.П. Ермолов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каз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Monotype Corsiva"/>
              </a:rPr>
              <a:t>«У </a:t>
            </a: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Бородино французская армия расшиблась о русскую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43080" y="78588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вадратное земляное укрепление на поле б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0" y="714240"/>
            <a:ext cx="21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Редут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(франц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86240" y="12142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сударь, господ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Lucida Sans Unicode"/>
              </a:rPr>
              <a:t>Мусью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(разг.народн.): мсье, месье(франц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2440" y="285840"/>
            <a:ext cx="75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тихотворение М.Ю. Лермонтова </a:t>
            </a: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«Бородино»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0120" y="1501560"/>
            <a:ext cx="70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тиллерийский снаряд, наполненный круглыми пулями, широко  рассеивающимися при выстр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5001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Карт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5920" y="221580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боевой станок, на котором укрепляется ствол артиллерийского оруд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600" y="2214720"/>
            <a:ext cx="12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Лаф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857680"/>
            <a:ext cx="121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Бив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4120" y="2928960"/>
            <a:ext cx="44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стоянка войск под открытым не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6840" y="328608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Кив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4280" y="335736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высокий военный головной убор из твёрдой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929040"/>
            <a:ext cx="13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Бул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7200" y="400068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оружие из булатной стали - стали особой зака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760" y="4500720"/>
            <a:ext cx="30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Уланы, драгу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14800" y="457200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солдаты конных пол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0720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Басурм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14368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люди другой веры, иноземцы, здесь: вр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dur="indefinite" fill="hold">
                      <p:stCondLst>
                        <p:cond delay="indefinite"/>
                      </p:stCondLst>
                      <p:childTnLst>
                        <p:par>
                          <p:cTn id="2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dur="indefinite" fill="hold">
                      <p:stCondLst>
                        <p:cond delay="indefinite"/>
                      </p:stCondLst>
                      <p:childTnLst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-478080"/>
            <a:ext cx="91440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Heavy"/>
                <a:ea typeface="Times New Roman"/>
              </a:rPr>
              <a:t>Задание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Прочитайте текст про себя, подготовьте ответы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то герои произвед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акие чувства владеют ими во время б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Чем объясняется победа русских войс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4643280" cy="4037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57200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dur="indefinite" fill="hold">
                      <p:stCondLst>
                        <p:cond delay="indefinite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3760" y="706320"/>
            <a:ext cx="3670200" cy="3444840"/>
            <a:chOff x="23760" y="706320"/>
            <a:chExt cx="3670200" cy="344484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23760" y="706320"/>
              <a:ext cx="3670200" cy="34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3760" y="706320"/>
              <a:ext cx="3670200" cy="34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00680" y="714240"/>
            <a:ext cx="4698720" cy="548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7120" y="5000760"/>
            <a:ext cx="4714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«Нераспустившийся цветок русской поэзии»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.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В.Г. Бели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720" y="357120"/>
            <a:ext cx="9439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Demi"/>
              </a:rPr>
              <a:t>Имение  Тарханы Пензенской губерн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ид на дом и фамильную усыпа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680680" cy="42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3320" y="285840"/>
            <a:ext cx="8939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Demi"/>
              </a:rPr>
              <a:t>г.Пятигорск.  Домик М.Ю. Лермонт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ыне Государственный  музей-заповедник М.Ю. Лермонт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631360" cy="41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5840" y="42876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Стихотворение М.Ю. Лермонтова  «Бороди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28120" y="1357200"/>
            <a:ext cx="66898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Москва, Москва!.. люблю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как 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Как русский, - сильно, пла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и нежно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М.Ю. Лермонтов. «Сашк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90920" y="357120"/>
            <a:ext cx="73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Demi"/>
              </a:rPr>
              <a:t>Отечественная война 1812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2960" y="1714680"/>
            <a:ext cx="314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12 июня  </a:t>
            </a: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1812 года 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армия Наполеона вторглась в Росс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35640" y="1071720"/>
            <a:ext cx="3983040" cy="5072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29160" y="63579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поле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8501040" cy="4429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660000">
            <a:off x="4032000" y="297000"/>
            <a:ext cx="3357360" cy="1357200"/>
          </a:xfrm>
          <a:custGeom>
            <a:avLst/>
            <a:gdLst>
              <a:gd name="textAreaLeft" fmla="*/ 712080 w 3357360"/>
              <a:gd name="textAreaRight" fmla="*/ 2475720 w 3357360"/>
              <a:gd name="textAreaTop" fmla="*/ 181800 h 1357200"/>
              <a:gd name="textAreaBottom" fmla="*/ 117540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63" hR="21600" stAng="10800000" swAng="5400000"/>
                <a:lnTo>
                  <a:pt x="11345" y="0"/>
                </a:lnTo>
                <a:arcTo wR="9163" hR="21600" stAng="-5400000" swAng="3520383"/>
                <a:lnTo>
                  <a:pt x="21309" y="16200"/>
                </a:lnTo>
                <a:lnTo>
                  <a:pt x="19417" y="21600"/>
                </a:lnTo>
                <a:lnTo>
                  <a:pt x="16943" y="16200"/>
                </a:lnTo>
                <a:lnTo>
                  <a:pt x="18035" y="16200"/>
                </a:lnTo>
                <a:arcTo wR="9163" hR="21600" stAng="-1879617" swAng="-3345652"/>
                <a:lnTo>
                  <a:pt x="10254" y="154"/>
                </a:lnTo>
                <a:arcTo wR="9163" hR="21600" stAng="-5574731" swAng="-5225269"/>
                <a:close/>
              </a:path>
              <a:path fill="darkenLess" w="21600" h="21600">
                <a:moveTo>
                  <a:pt x="0" y="21600"/>
                </a:moveTo>
                <a:arcTo wR="9163" hR="21600" stAng="10800000" swAng="5400000"/>
                <a:lnTo>
                  <a:pt x="9163" y="0"/>
                </a:lnTo>
                <a:arcTo wR="9163" hR="21600" stAng="-5400000" swAng="174731"/>
                <a:lnTo>
                  <a:pt x="10254" y="154"/>
                </a:lnTo>
                <a:arcTo wR="9163" hR="21600" stAng="-5574731" swAng="-5225269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57880" y="12859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Бород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29680" y="100008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Lucida Sans Unicode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8645760" cy="5072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1800" y="500040"/>
            <a:ext cx="27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Heavy"/>
              </a:rPr>
              <a:t>М.И. Куту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8180000">
            <a:off x="2462040" y="748800"/>
            <a:ext cx="382680" cy="20016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28880" y="571680"/>
            <a:ext cx="6497640" cy="578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71680" y="28584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Бородинское сраж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(26 августа 1812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2960" y="107172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Многие из сражавшихся побросали своё оружие, сцепляясь друг с другом, раздирали друг другу рты, душили один другого в тесных объятиях и вместе падали мертвыми.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6:29:24Z</dcterms:created>
  <dc:creator>user</dc:creator>
  <dc:description/>
  <dc:language>en-US</dc:language>
  <cp:lastModifiedBy>User</cp:lastModifiedBy>
  <dcterms:modified xsi:type="dcterms:W3CDTF">2009-11-16T07:03:39Z</dcterms:modified>
  <cp:revision>40</cp:revision>
  <dc:subject/>
  <dc:title>Слайд 1</dc:title>
</cp:coreProperties>
</file>