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F4E1-567F-4726-B30D-B4EF4650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CD66-3479-4EB7-95C4-8FBD6DB9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BD33-90D8-44D8-B75C-E68E6DC3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D882-A869-42F0-B82E-6F037B3C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A199-838C-4DB7-A542-7D09711D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7E6-FA10-4DBD-9B70-F122F910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AF6-CA62-4AA8-A9F7-236A217A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CF2E-CB80-4D10-B6AE-E55CA3C2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4644-C9E2-441A-BD71-060F8DB2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0924-8F7D-403C-8CA9-67510D73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8922-4CC2-4916-B0EE-BF6A4AF3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DB53-D9F2-4DF3-B39C-AC00F877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FA00-185A-461A-B0A1-D3EF80ACD3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0253f"/>
                </a:solidFill>
                <a:latin typeface="Calibri"/>
              </a:rPr>
              <a:t>Тема: «Эффективные механизмы неформального образования педагогов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285800" y="2928600"/>
            <a:ext cx="45435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Подготовил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Пензенская Е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Учитель высшей категор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Гимназия №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роимае.jpg"/>
          <p:cNvPicPr/>
          <p:nvPr/>
        </p:nvPicPr>
        <p:blipFill>
          <a:blip r:embed="rId1"/>
          <a:stretch/>
        </p:blipFill>
        <p:spPr>
          <a:xfrm>
            <a:off x="285840" y="3614760"/>
            <a:ext cx="4357440" cy="3243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3" descr="obuchenie-1200x480.jpg"/>
          <p:cNvPicPr/>
          <p:nvPr/>
        </p:nvPicPr>
        <p:blipFill>
          <a:blip r:embed="rId1"/>
          <a:stretch/>
        </p:blipFill>
        <p:spPr>
          <a:xfrm>
            <a:off x="500040" y="2643120"/>
            <a:ext cx="8229600" cy="32925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1643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Для повышения квалификации педагога можно использовать методы неформального образования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Эффективные механизмы  неформального образования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- конфер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- семина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- кур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- тренин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- круглые сто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- сетевые общества уч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- образовательные интернет-порта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- образовательные С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- система дистанционного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- курсы повышения квалифик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- разработка дополнительных профессиональны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образовательных программ по соответствующим направлени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-подготовка методических пособ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-разработка и внедрение новых технологий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4" descr="щшше.jpg"/>
          <p:cNvPicPr/>
          <p:nvPr/>
        </p:nvPicPr>
        <p:blipFill>
          <a:blip r:embed="rId1"/>
          <a:stretch/>
        </p:blipFill>
        <p:spPr>
          <a:xfrm>
            <a:off x="-571680" y="1500120"/>
            <a:ext cx="4857840" cy="39369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253f"/>
                </a:solidFill>
                <a:latin typeface="Calibri"/>
              </a:rPr>
              <a:t>«Мобильный педагог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143240" y="1571760"/>
            <a:ext cx="468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сновные принципы проекта – это взаимодействие наиболее успешных и прогрессивных педагогов с остальными членами педагогического сообщества, сокращение разрыва между образовательными организациями, постоянное совершенствование качества образования и повышение престижа профессии педагог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«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Актуальность использования методик морфофункционального расслабления на уроках ФК с детьми младшего школьного возраст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492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Суть эксперимента сводилась к следующему:</a:t>
            </a:r>
            <a:br>
              <a:rPr sz="2400"/>
            </a:b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 упражнения из программы «Азбука здоровья» внедрялись в течение года  в качестве элементов упражнений  на уроке ФК и как дополнительная тренировка 4 часом ФК предусмотренным программой дополнительного образования. Занятия  со школьниками проводили учителя ФК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4" descr=""/>
          <p:cNvPicPr/>
          <p:nvPr/>
        </p:nvPicPr>
        <p:blipFill>
          <a:blip r:embed="rId1"/>
          <a:stretch/>
        </p:blipFill>
        <p:spPr>
          <a:xfrm>
            <a:off x="1285920" y="1000080"/>
            <a:ext cx="6572160" cy="328608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1643040" y="5000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ниторинг состояния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Содержимое 3" descr="6786.jpg"/>
          <p:cNvPicPr/>
          <p:nvPr/>
        </p:nvPicPr>
        <p:blipFill>
          <a:blip r:embed="rId1"/>
          <a:stretch/>
        </p:blipFill>
        <p:spPr>
          <a:xfrm>
            <a:off x="1143000" y="2786040"/>
            <a:ext cx="6858000" cy="3733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-28584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«Физические упражнения могут заменить лекарство, но ни одно лекарство в мире не может заменить физические упражнения» </a:t>
            </a:r>
            <a:br>
              <a:rPr sz="3200"/>
            </a:b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Альфред де Мюсс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4" descr="Irvine-Orange-County-California-Tutoring.jpg"/>
          <p:cNvPicPr/>
          <p:nvPr/>
        </p:nvPicPr>
        <p:blipFill>
          <a:blip r:embed="rId1"/>
          <a:stretch/>
        </p:blipFill>
        <p:spPr>
          <a:xfrm>
            <a:off x="5572080" y="2357280"/>
            <a:ext cx="2624040" cy="3497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« Учитель живет до тех пор, пока учится, как только он перестает учится, в нем умирает учитель»</a:t>
            </a:r>
            <a:br>
              <a:rPr sz="3200"/>
            </a:b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  К.Д. Ушинский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00040" y="2642760"/>
            <a:ext cx="4038480" cy="31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Каждому учителю необходимо выстроить новые ориентиры по работе, направленные на введение ФГО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0253f"/>
                </a:solidFill>
                <a:latin typeface="Calibri"/>
              </a:rPr>
              <a:t>«Эффективные механизмы неформального образования педагогов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285800" y="2928600"/>
            <a:ext cx="45435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Подготовил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Пензенская Е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Учитель высшей категор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Гимназия №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253f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depositphotos_36459981-High-education-icons.jpg"/>
          <p:cNvPicPr/>
          <p:nvPr/>
        </p:nvPicPr>
        <p:blipFill>
          <a:blip r:embed="rId1"/>
          <a:stretch/>
        </p:blipFill>
        <p:spPr>
          <a:xfrm>
            <a:off x="2428920" y="1728720"/>
            <a:ext cx="4286160" cy="4267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page_content_5824447b58b58.jpg"/>
          <p:cNvPicPr/>
          <p:nvPr/>
        </p:nvPicPr>
        <p:blipFill>
          <a:blip r:embed="rId1"/>
          <a:stretch/>
        </p:blipFill>
        <p:spPr>
          <a:xfrm>
            <a:off x="2428920" y="2203560"/>
            <a:ext cx="6715080" cy="3840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00040" y="5000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«Формальное образование поможет вам выжить. Самообразование приведет вас к успех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Джим Р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0253f"/>
                </a:solidFill>
                <a:latin typeface="Calibri"/>
              </a:rPr>
              <a:t>Проблема </a:t>
            </a:r>
            <a:br>
              <a:rPr sz="4000"/>
            </a:br>
            <a:r>
              <a:rPr b="0" lang="ru-RU" sz="4000" spc="-1" strike="noStrike">
                <a:solidFill>
                  <a:srgbClr val="10253f"/>
                </a:solidFill>
                <a:latin typeface="Calibri"/>
              </a:rPr>
              <a:t> Ухудшение карты здоров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4" descr="Illustration-kids-playing-with-gadgets.jpg"/>
          <p:cNvPicPr/>
          <p:nvPr/>
        </p:nvPicPr>
        <p:blipFill>
          <a:blip r:embed="rId1"/>
          <a:stretch/>
        </p:blipFill>
        <p:spPr>
          <a:xfrm>
            <a:off x="571680" y="2357280"/>
            <a:ext cx="3676320" cy="2600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Современные дети ведут малоподвижный образ жизни, особенно дети городов-миллионников. Уже сложно представить их играющими во дворе в подвижные игры. Их внимание занимают современные гаджеты. Все чаще они тренируют дух, а не тел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253f"/>
                </a:solidFill>
                <a:latin typeface="Calibri"/>
              </a:rPr>
              <a:t>Реш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4" descr="666.jpg"/>
          <p:cNvPicPr/>
          <p:nvPr/>
        </p:nvPicPr>
        <p:blipFill>
          <a:blip r:embed="rId1"/>
          <a:stretch/>
        </p:blipFill>
        <p:spPr>
          <a:xfrm>
            <a:off x="878040" y="1600200"/>
            <a:ext cx="319716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- можно  оставить все как есть, и пусть с каждым годом ухудшается школьная карта здоровья и родители спохватившись бегут в фитнес-клуб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-  можно продолжать вести уроки традиционными способами, вкладывая в них столько сколько выделяет на это государств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-  можно попытаться увлечь учеников и воспитать в них потребность в красивом и здоровом тел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253f"/>
                </a:solidFill>
                <a:latin typeface="Calibri"/>
              </a:rPr>
              <a:t>Сравни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Формальное образ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6" descr="ролдло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Неформальное образ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7" descr="ироььбл.jpg"/>
          <p:cNvPicPr/>
          <p:nvPr/>
        </p:nvPicPr>
        <p:blipFill>
          <a:blip r:embed="rId2"/>
          <a:stretch/>
        </p:blipFill>
        <p:spPr>
          <a:xfrm>
            <a:off x="4645080" y="3090960"/>
            <a:ext cx="4041720" cy="2119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253f"/>
                </a:solidFill>
                <a:latin typeface="Calibri"/>
              </a:rPr>
              <a:t>Формальное образов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наличие учреждений, специально предназначенных для осуществления обучения; наличие персонала, профессионально подготовленного для осуществления обучения; наличие системы и систематичности в осуществлении педагогического процесса; наличие чётко обозначенной цели образовательного процесса в виде представлений о его результате; наличие документа об образовании, признаваемого на государственном уров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clg_school_IMG_985.png"/>
          <p:cNvPicPr/>
          <p:nvPr/>
        </p:nvPicPr>
        <p:blipFill>
          <a:blip r:embed="rId1"/>
          <a:stretch/>
        </p:blipFill>
        <p:spPr>
          <a:xfrm>
            <a:off x="2143080" y="4429080"/>
            <a:ext cx="5040360" cy="2212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253f"/>
                </a:solidFill>
                <a:latin typeface="Calibri"/>
              </a:rPr>
              <a:t>Зачем надо учится, учится и еще раз учится?!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1428480"/>
            <a:ext cx="847224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Главной проблемой формальной системы образования является её несоответствие запросам общества, разрыв между теорией и практикой. Официальные системы образования не успевают оперативно учитывать быстрые и существенные перемены в общественной сфе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7691398.jpg"/>
          <p:cNvPicPr/>
          <p:nvPr/>
        </p:nvPicPr>
        <p:blipFill>
          <a:blip r:embed="rId1"/>
          <a:stretch/>
        </p:blipFill>
        <p:spPr>
          <a:xfrm>
            <a:off x="2714760" y="3714840"/>
            <a:ext cx="4071960" cy="2852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253f"/>
                </a:solidFill>
                <a:latin typeface="Calibri"/>
              </a:rPr>
              <a:t>Неформальное образов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71680" y="1071720"/>
            <a:ext cx="79293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это любая организованная учебная деятельность за пределами установленной формальной системы образования. Это может быть отдельная деятельность или значительная часть более широкой деятельности, призванная удовлетворять образовательные потребности субъектов обучения, что и является целью данного вида образов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6" descr="kursy-2.jpg"/>
          <p:cNvPicPr/>
          <p:nvPr/>
        </p:nvPicPr>
        <p:blipFill>
          <a:blip r:embed="rId1"/>
          <a:stretch/>
        </p:blipFill>
        <p:spPr>
          <a:xfrm>
            <a:off x="2571840" y="3784680"/>
            <a:ext cx="4041720" cy="3073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Неформальное образование имеет большой внутренний потенциал и ряд значимых преимуществ, способствующих развитию и повышению компетентности у специалистов разных профессиональных сфер.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Преимущества в сфере экономики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Преимущества в сфере образов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Социальные преимущест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Психологические преимущест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рнпоио.jpg"/>
          <p:cNvPicPr/>
          <p:nvPr/>
        </p:nvPicPr>
        <p:blipFill>
          <a:blip r:embed="rId1"/>
          <a:stretch/>
        </p:blipFill>
        <p:spPr>
          <a:xfrm>
            <a:off x="6500880" y="4357800"/>
            <a:ext cx="2119320" cy="2239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2T19:45:21Z</dcterms:created>
  <dc:creator>Светлана</dc:creator>
  <dc:description/>
  <dc:language>en-US</dc:language>
  <cp:lastModifiedBy>Светлана</cp:lastModifiedBy>
  <dcterms:modified xsi:type="dcterms:W3CDTF">2017-08-22T18:52:42Z</dcterms:modified>
  <cp:revision>21</cp:revision>
  <dc:subject/>
  <dc:title>Тема: «Эффективные механизмы неформального образования педагогов»</dc:title>
</cp:coreProperties>
</file>