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2DF-350C-4624-B520-B89718D6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383-47F2-424B-8989-330F2B2E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79A-29F0-46B6-A78C-4DCD7811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9B3-03D1-4DBC-B9A3-19619596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663-1D07-407E-8DC9-7899C63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578-7984-40F9-9789-6B132128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0B5-217C-40A6-9A48-A487F9F1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929-89E9-4385-BDB6-E1ABC4B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84E-8DAF-4480-A454-DABA2F2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9F7-C003-43D6-B898-CA7E495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874-2B1E-4148-8548-6821D57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AD7-8E61-47D3-A72D-F2EC0D5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48A6-0885-4FF7-A3AD-6EE30014F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Тема: «Эффективные механизмы неформального образования педагог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5800" y="2928600"/>
            <a:ext cx="4543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ензенская Е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Учитель высшей катег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Гимназия №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роимае.jpg"/>
          <p:cNvPicPr/>
          <p:nvPr/>
        </p:nvPicPr>
        <p:blipFill>
          <a:blip r:embed="rId1"/>
          <a:stretch/>
        </p:blipFill>
        <p:spPr>
          <a:xfrm>
            <a:off x="285840" y="3614760"/>
            <a:ext cx="4357440" cy="3243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obuchenie-1200x480.jpg"/>
          <p:cNvPicPr/>
          <p:nvPr/>
        </p:nvPicPr>
        <p:blipFill>
          <a:blip r:embed="rId1"/>
          <a:stretch/>
        </p:blipFill>
        <p:spPr>
          <a:xfrm>
            <a:off x="500040" y="2643120"/>
            <a:ext cx="8229600" cy="3292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1643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Для повышения квалификации педагога можно использовать методы неформального образовани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Эффективные механизмы  неформального образования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конфер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семина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кур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трени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круглые ст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сетевые общества уч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образовательные интернет-порт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образовательные С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система дистанционн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разработка дополнительных профессиональ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образовательных программ по соответствующим направлен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подготовка методических пособ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разработка и внедрение новых технологий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4" descr="щшше.jpg"/>
          <p:cNvPicPr/>
          <p:nvPr/>
        </p:nvPicPr>
        <p:blipFill>
          <a:blip r:embed="rId1"/>
          <a:stretch/>
        </p:blipFill>
        <p:spPr>
          <a:xfrm>
            <a:off x="-571680" y="1500120"/>
            <a:ext cx="4857840" cy="3936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«Мобильный педаго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143240" y="157176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сновные принципы проекта – это взаимодействие наиболее успешных и прогрессивных педагогов с остальными членами педагогического сообщества, сокращение разрыва между образовательными организациями, постоянное совершенствование качества образования и повышение престижа профессии педаго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Актуальность использования методик морфофункционального расслабления на уроках ФК с детьми младшего школьного возрас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Суть эксперимента сводилась к следующему: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упражнения из программы «Азбука здоровья» внедрялись в течение года  в качестве элементов упражнений  на уроке ФК и как дополнительная тренировка 4 часом ФК предусмотренным программой дополнительного образования. Занятия  со школьниками проводили учителя ФК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6572160" cy="3286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1643040" y="500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иторинг состояния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6786.jpg"/>
          <p:cNvPicPr/>
          <p:nvPr/>
        </p:nvPicPr>
        <p:blipFill>
          <a:blip r:embed="rId1"/>
          <a:stretch/>
        </p:blipFill>
        <p:spPr>
          <a:xfrm>
            <a:off x="1143000" y="2786040"/>
            <a:ext cx="685800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-28584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«Физические упражнения могут заменить лекарство, но ни одно лекарство в мире не может заменить физические упражнения» </a:t>
            </a:r>
            <a:br>
              <a:rPr sz="3200"/>
            </a:b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Альфред де Мю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4" descr="Irvine-Orange-County-California-Tutoring.jpg"/>
          <p:cNvPicPr/>
          <p:nvPr/>
        </p:nvPicPr>
        <p:blipFill>
          <a:blip r:embed="rId1"/>
          <a:stretch/>
        </p:blipFill>
        <p:spPr>
          <a:xfrm>
            <a:off x="5572080" y="2357280"/>
            <a:ext cx="2624040" cy="349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« Учитель живет до тех пор, пока учится, как только он перестает учится, в нем умирает учитель»</a:t>
            </a:r>
            <a:br>
              <a:rPr sz="3200"/>
            </a:b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 К.Д. Ушинск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" y="2642760"/>
            <a:ext cx="403848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Каждому учителю необходимо выстроить новые ориентиры по работе, направленные на введение ФГО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«Эффективные механизмы неформального образования педагог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5800" y="2928600"/>
            <a:ext cx="4543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ензенская Е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Учитель высшей катег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Гимназия №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depositphotos_36459981-High-education-icons.jpg"/>
          <p:cNvPicPr/>
          <p:nvPr/>
        </p:nvPicPr>
        <p:blipFill>
          <a:blip r:embed="rId1"/>
          <a:stretch/>
        </p:blipFill>
        <p:spPr>
          <a:xfrm>
            <a:off x="2428920" y="1728720"/>
            <a:ext cx="4286160" cy="4267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page_content_5824447b58b58.jpg"/>
          <p:cNvPicPr/>
          <p:nvPr/>
        </p:nvPicPr>
        <p:blipFill>
          <a:blip r:embed="rId1"/>
          <a:stretch/>
        </p:blipFill>
        <p:spPr>
          <a:xfrm>
            <a:off x="2428920" y="2203560"/>
            <a:ext cx="6715080" cy="38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0004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«Формальное образование поможет вам выжить. Самообразование приведет вас к успех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Джим 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Проблема </a:t>
            </a:r>
            <a:br>
              <a:rPr sz="4000"/>
            </a:b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 Ухудшение карты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" descr="Illustration-kids-playing-with-gadgets.jpg"/>
          <p:cNvPicPr/>
          <p:nvPr/>
        </p:nvPicPr>
        <p:blipFill>
          <a:blip r:embed="rId1"/>
          <a:stretch/>
        </p:blipFill>
        <p:spPr>
          <a:xfrm>
            <a:off x="571680" y="2357280"/>
            <a:ext cx="3676320" cy="26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Современные дети ведут малоподвижный образ жизни, особенно дети городов-миллионников. Уже сложно представить их играющими во дворе в подвижные игры. Их внимание занимают современные гаджеты. Все чаще они тренируют дух, а не тел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Реш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666.jpg"/>
          <p:cNvPicPr/>
          <p:nvPr/>
        </p:nvPicPr>
        <p:blipFill>
          <a:blip r:embed="rId1"/>
          <a:stretch/>
        </p:blipFill>
        <p:spPr>
          <a:xfrm>
            <a:off x="878040" y="1600200"/>
            <a:ext cx="319716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- можно  оставить все как есть, и пусть с каждым годом ухудшается школьная карта здоровья и родители спохватившись бегут в фитнес-клуб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-  можно продолжать вести уроки традиционными способами, вкладывая в них столько сколько выделяет на это государств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-  можно попытаться увлечь учеников и воспитать в них потребность в красивом и здоровом те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Сравни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Форм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ролдло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еформ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7" descr="ироььбл.jpg"/>
          <p:cNvPicPr/>
          <p:nvPr/>
        </p:nvPicPr>
        <p:blipFill>
          <a:blip r:embed="rId2"/>
          <a:stretch/>
        </p:blipFill>
        <p:spPr>
          <a:xfrm>
            <a:off x="4645080" y="3090960"/>
            <a:ext cx="4041720" cy="211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Формальное 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личие учреждений, специально предназначенных для осуществления обучения; наличие персонала, профессионально подготовленного для осуществления обучения; наличие системы и систематичности в осуществлении педагогического процесса; наличие чётко обозначенной цели образовательного процесса в виде представлений о его результате; наличие документа об образовании, признаваемого на государственном уров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clg_school_IMG_985.png"/>
          <p:cNvPicPr/>
          <p:nvPr/>
        </p:nvPicPr>
        <p:blipFill>
          <a:blip r:embed="rId1"/>
          <a:stretch/>
        </p:blipFill>
        <p:spPr>
          <a:xfrm>
            <a:off x="2143080" y="4429080"/>
            <a:ext cx="5040360" cy="2212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Зачем надо учится, учится и еще раз учится?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428480"/>
            <a:ext cx="84722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Главной проблемой формальной системы образования является её несоответствие запросам общества, разрыв между теорией и практикой. Официальные системы образования не успевают оперативно учитывать быстрые и существенные перемены в общественной сф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7691398.jpg"/>
          <p:cNvPicPr/>
          <p:nvPr/>
        </p:nvPicPr>
        <p:blipFill>
          <a:blip r:embed="rId1"/>
          <a:stretch/>
        </p:blipFill>
        <p:spPr>
          <a:xfrm>
            <a:off x="2714760" y="3714840"/>
            <a:ext cx="4071960" cy="2852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Неформальное 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1680" y="1071720"/>
            <a:ext cx="79293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это любая организованная учебная деятельность за пределами установленной формальной системы образования. Это может быть отдельная деятельность или значительная часть более широкой деятельности, призванная удовлетворять образовательные потребности субъектов обучения, что и является целью данного вида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6" descr="kursy-2.jpg"/>
          <p:cNvPicPr/>
          <p:nvPr/>
        </p:nvPicPr>
        <p:blipFill>
          <a:blip r:embed="rId1"/>
          <a:stretch/>
        </p:blipFill>
        <p:spPr>
          <a:xfrm>
            <a:off x="2571840" y="3784680"/>
            <a:ext cx="4041720" cy="3073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Неформальное образование имеет большой внутренний потенциал и ряд значимых преимуществ, способствующих развитию и повышению компетентности у специалистов разных профессиональных сфер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реимущества в сфере экономики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реимущества в сфере образ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Социальные преиму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сихологические преиму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рнпоио.jpg"/>
          <p:cNvPicPr/>
          <p:nvPr/>
        </p:nvPicPr>
        <p:blipFill>
          <a:blip r:embed="rId1"/>
          <a:stretch/>
        </p:blipFill>
        <p:spPr>
          <a:xfrm>
            <a:off x="6500880" y="4357800"/>
            <a:ext cx="2119320" cy="2239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2T19:45:21Z</dcterms:created>
  <dc:creator>Светлана</dc:creator>
  <dc:description/>
  <dc:language>en-US</dc:language>
  <cp:lastModifiedBy>Светлана</cp:lastModifiedBy>
  <dcterms:modified xsi:type="dcterms:W3CDTF">2017-08-22T18:52:42Z</dcterms:modified>
  <cp:revision>21</cp:revision>
  <dc:subject/>
  <dc:title>Тема: «Эффективные механизмы неформального образования педагогов»</dc:title>
</cp:coreProperties>
</file>