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DD3-ED39-411A-876C-B441EF89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EF0-DD10-4F0A-BF33-46B9D097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60D-B1E4-471E-AA5A-D254CD12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576-C109-4497-9C0D-9FBAA5A8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248-517F-488D-AA9E-607F1761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ED1-8DE0-49FE-8E40-1A0A510E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BE4-7500-4A6B-99DF-4F7A37BA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0E4-6A7C-434A-A6B3-81CA3CE0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DDC-C0A1-4652-B71B-C651524C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CC0-44D3-4A48-A25E-3EB8190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C66-10A6-4125-BD25-9E072BDF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995-AEF3-46DE-A4C3-36DADFEA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439A-A9FB-4BE1-A4F5-4443861AD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979640" y="4508640"/>
            <a:ext cx="66103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в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шково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7" descr="1932133000b16c99ae66673de71bde090b677845a1"/>
          <p:cNvPicPr/>
          <p:nvPr/>
        </p:nvPicPr>
        <p:blipFill>
          <a:blip r:embed="rId1"/>
          <a:stretch/>
        </p:blipFill>
        <p:spPr>
          <a:xfrm>
            <a:off x="1908000" y="0"/>
            <a:ext cx="58327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только заглавных букв осуществляется с помощью клав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67" name="Picture 5" descr="computer_key_Caps_Lock"/>
          <p:cNvPicPr/>
          <p:nvPr/>
        </p:nvPicPr>
        <p:blipFill>
          <a:blip r:embed="rId1"/>
          <a:stretch/>
        </p:blipFill>
        <p:spPr>
          <a:xfrm>
            <a:off x="2987640" y="3068640"/>
            <a:ext cx="3168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вода курсора в начало строки используют клавиш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70" name="Picture 4" descr="computer_key_ home"/>
          <p:cNvPicPr/>
          <p:nvPr/>
        </p:nvPicPr>
        <p:blipFill>
          <a:blip r:embed="rId1"/>
          <a:stretch/>
        </p:blipFill>
        <p:spPr>
          <a:xfrm>
            <a:off x="3708360" y="2924280"/>
            <a:ext cx="22320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вода курсора в конец строки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73" name="Picture 5" descr="computer_key_End"/>
          <p:cNvPicPr/>
          <p:nvPr/>
        </p:nvPicPr>
        <p:blipFill>
          <a:blip r:embed="rId1"/>
          <a:stretch/>
        </p:blipFill>
        <p:spPr>
          <a:xfrm>
            <a:off x="3708360" y="2852640"/>
            <a:ext cx="230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ход из текущего режима осуществляется нажатием на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76" name="Picture 5" descr="computer_key_Esc"/>
          <p:cNvPicPr/>
          <p:nvPr/>
        </p:nvPicPr>
        <p:blipFill>
          <a:blip r:embed="rId1"/>
          <a:stretch/>
        </p:blipFill>
        <p:spPr>
          <a:xfrm>
            <a:off x="3635280" y="3284640"/>
            <a:ext cx="223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мещения курсора на экранную страницу вверх необходимо нажать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79" name="Picture 5" descr="computer_key_Page_Up"/>
          <p:cNvPicPr/>
          <p:nvPr/>
        </p:nvPicPr>
        <p:blipFill>
          <a:blip r:embed="rId1"/>
          <a:stretch/>
        </p:blipFill>
        <p:spPr>
          <a:xfrm>
            <a:off x="3635280" y="3284640"/>
            <a:ext cx="2374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мещения курсора на экранную страницу вниз необходимо нажать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82" name="Picture 5" descr="KeyPageDown"/>
          <p:cNvPicPr/>
          <p:nvPr/>
        </p:nvPicPr>
        <p:blipFill>
          <a:blip r:embed="rId1"/>
          <a:stretch/>
        </p:blipFill>
        <p:spPr>
          <a:xfrm>
            <a:off x="3635280" y="3284640"/>
            <a:ext cx="20163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омашково2.wmv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715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4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Вокзал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2340000" y="3429000"/>
            <a:ext cx="39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Кодов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веденных текстах некоторые идущие подряд буквы нескольких слов образуют термины, связанные с устройством компьютера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окумен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Office Writer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и термины и выделите их Полужирным начертанием, Цвет шрифта установите по цвету Вашей ком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исутствии начальника По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 робе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реб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2700360" y="115920"/>
            <a:ext cx="39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Кодов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946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цесс 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ологии называют мигр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сс 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ологии называют мигр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цесс 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ологии называют мигр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91" name="Picture 5" descr="procesor-core-2-quad-q9550-2-83ghz-lga775-box_0_b"/>
          <p:cNvPicPr/>
          <p:nvPr/>
        </p:nvPicPr>
        <p:blipFill>
          <a:blip r:embed="rId1"/>
          <a:stretch/>
        </p:blipFill>
        <p:spPr>
          <a:xfrm>
            <a:off x="5435640" y="3984480"/>
            <a:ext cx="3708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14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1619280" y="2349360"/>
            <a:ext cx="66103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каком виде транспорт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правимся в дальнее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?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295960" y="4437000"/>
            <a:ext cx="3848040" cy="2190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7188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4600440"/>
            <a:ext cx="3343320" cy="225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tretch/>
        </p:blipFill>
        <p:spPr>
          <a:xfrm>
            <a:off x="6276960" y="0"/>
            <a:ext cx="2867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 они 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вовали и радовались, как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 они 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вовали и радовались, как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 они 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вовали и радовались, как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evprk-1298364782-d_pic"/>
          <p:cNvPicPr/>
          <p:nvPr/>
        </p:nvPicPr>
        <p:blipFill>
          <a:blip r:embed="rId1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7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мотря на это, его ф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а не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 падала с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мотря на это, его фе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ка не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 падала с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мотря на это, его ф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а не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 падала с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97" name="Picture 6" descr="1327402858_hp-scanjet-g2410"/>
          <p:cNvPicPr/>
          <p:nvPr/>
        </p:nvPicPr>
        <p:blipFill>
          <a:blip r:embed="rId1"/>
          <a:stretch/>
        </p:blipFill>
        <p:spPr>
          <a:xfrm>
            <a:off x="5776920" y="2924280"/>
            <a:ext cx="3367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Д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 инт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на тем, что на ней имеются несколько гидроэлектроста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Дне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 инт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на тем, что на ней имеются несколько гидроэлектроста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Дн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 инт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на тем, что на ней имеются несколько гидроэлектроста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00" name="Picture 6" descr="MO_0TIF_ML-2240_2007121420071214133509"/>
          <p:cNvPicPr/>
          <p:nvPr/>
        </p:nvPicPr>
        <p:blipFill>
          <a:blip r:embed="rId1"/>
          <a:stretch/>
        </p:blipFill>
        <p:spPr>
          <a:xfrm>
            <a:off x="5148360" y="3546360"/>
            <a:ext cx="3995640" cy="3311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18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сьбе хозяина квартир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 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 сдвинули в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сьбе хозяина квартиры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ы 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 сдвинули в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сьбе хозяина квартиры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ы 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 сдвинули в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04" name="Picture 7" descr="чистка-компьютерной-мышки"/>
          <p:cNvPicPr/>
          <p:nvPr/>
        </p:nvPicPr>
        <p:blipFill>
          <a:blip r:embed="rId1"/>
          <a:stretch/>
        </p:blipFill>
        <p:spPr>
          <a:xfrm>
            <a:off x="4859280" y="3998880"/>
            <a:ext cx="4284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аринный к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д 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стался в наследство от бабуш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аринный ко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од 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стался в наследство от бабуш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аринный к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од 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стался в наследство от бабуш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07" name="Picture 6" descr="huawei880"/>
          <p:cNvPicPr/>
          <p:nvPr/>
        </p:nvPicPr>
        <p:blipFill>
          <a:blip r:embed="rId1"/>
          <a:stretch/>
        </p:blipFill>
        <p:spPr>
          <a:xfrm rot="1342800">
            <a:off x="5003280" y="3716280"/>
            <a:ext cx="370872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4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омашково3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" dur="521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Вокзал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1" name="WordArt 3"/>
          <p:cNvSpPr txBox="1"/>
          <p:nvPr/>
        </p:nvSpPr>
        <p:spPr>
          <a:xfrm>
            <a:off x="2340000" y="3429000"/>
            <a:ext cx="417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Логическ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закономерности и заполните пустые кл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афическом редакто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Pa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я инструмент Текст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а нуж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лнить пустые клетки по диагонали (цветные), а затем в строк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Числа в клетки вписывать по цвету кома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11280" y="333360"/>
            <a:ext cx="417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Логическ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Логическая для Красных ОТВЕТЫ"/>
          <p:cNvPicPr/>
          <p:nvPr/>
        </p:nvPicPr>
        <p:blipFill>
          <a:blip r:embed="rId1"/>
          <a:stretch/>
        </p:blipFill>
        <p:spPr>
          <a:xfrm>
            <a:off x="1476360" y="1341360"/>
            <a:ext cx="7667640" cy="4068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2411280" y="333360"/>
            <a:ext cx="417528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17" name="Picture 5" descr="C:\Users\Ламова Елена\Desktop\Путешествие\МОЙ УРОК\Логическая для Зелёных ОТВЕТЫ.bmp"/>
          <p:cNvPicPr/>
          <p:nvPr/>
        </p:nvPicPr>
        <p:blipFill>
          <a:blip r:embed="rId1"/>
          <a:stretch/>
        </p:blipFill>
        <p:spPr>
          <a:xfrm>
            <a:off x="1403280" y="1052640"/>
            <a:ext cx="7740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_805d4_9cd1c178_XL"/>
          <p:cNvPicPr/>
          <p:nvPr/>
        </p:nvPicPr>
        <p:blipFill>
          <a:blip r:embed="rId1"/>
          <a:stretch/>
        </p:blipFill>
        <p:spPr>
          <a:xfrm>
            <a:off x="2340000" y="1773360"/>
            <a:ext cx="430200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403280" y="260280"/>
            <a:ext cx="633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аровозике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19" name="Picture 4" descr="Логическая для Синих ОТВЕТЫ"/>
          <p:cNvPicPr/>
          <p:nvPr/>
        </p:nvPicPr>
        <p:blipFill>
          <a:blip r:embed="rId1"/>
          <a:stretch/>
        </p:blipFill>
        <p:spPr>
          <a:xfrm>
            <a:off x="1476360" y="1268280"/>
            <a:ext cx="76676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омашково4.wmv" descr=""/>
          <p:cNvPicPr/>
          <p:nvPr/>
        </p:nvPicPr>
        <p:blipFill>
          <a:blip r:embed="rId1"/>
          <a:stretch/>
        </p:blipFill>
        <p:spPr>
          <a:xfrm>
            <a:off x="8443800" y="6357960"/>
            <a:ext cx="700200" cy="527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Вокзал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>
            <a:off x="928800" y="3357720"/>
            <a:ext cx="7500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Информашково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722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0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Паровизик Рефлекс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6"/>
          <p:cNvSpPr txBox="1"/>
          <p:nvPr/>
        </p:nvSpPr>
        <p:spPr>
          <a:xfrm>
            <a:off x="214200" y="260280"/>
            <a:ext cx="850104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Оцени путешествие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омашково1.wmv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18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Вокзал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WordArt 6"/>
          <p:cNvSpPr txBox="1"/>
          <p:nvPr/>
        </p:nvSpPr>
        <p:spPr>
          <a:xfrm>
            <a:off x="2340000" y="3429000"/>
            <a:ext cx="417528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Служебн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записи заглавных букв и знаков над цифрами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55" name="Picture 6" descr="shift_key"/>
          <p:cNvPicPr/>
          <p:nvPr/>
        </p:nvPicPr>
        <p:blipFill>
          <a:blip r:embed="rId1"/>
          <a:stretch/>
        </p:blipFill>
        <p:spPr>
          <a:xfrm>
            <a:off x="2195640" y="2997360"/>
            <a:ext cx="48974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хода на новую строку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58" name="Picture 4" descr="computer_key_Enter_T"/>
          <p:cNvPicPr/>
          <p:nvPr/>
        </p:nvPicPr>
        <p:blipFill>
          <a:blip r:embed="rId1"/>
          <a:stretch/>
        </p:blipFill>
        <p:spPr>
          <a:xfrm>
            <a:off x="2987640" y="2997360"/>
            <a:ext cx="338472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даления символа слева от курсора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61" name="Picture 4" descr="computer_key_Backspace"/>
          <p:cNvPicPr/>
          <p:nvPr/>
        </p:nvPicPr>
        <p:blipFill>
          <a:blip r:embed="rId1"/>
          <a:stretch/>
        </p:blipFill>
        <p:spPr>
          <a:xfrm>
            <a:off x="2627280" y="2781360"/>
            <a:ext cx="41418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даления символа справа от курсора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64" name="Picture 4" descr="computer_key_Delete_T"/>
          <p:cNvPicPr/>
          <p:nvPr/>
        </p:nvPicPr>
        <p:blipFill>
          <a:blip r:embed="rId1"/>
          <a:stretch/>
        </p:blipFill>
        <p:spPr>
          <a:xfrm>
            <a:off x="3564000" y="2852640"/>
            <a:ext cx="16556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4:14:21Z</dcterms:created>
  <dc:creator>Ламова Елена</dc:creator>
  <dc:description/>
  <dc:language>en-US</dc:language>
  <cp:lastModifiedBy>Ламова Елена</cp:lastModifiedBy>
  <dcterms:modified xsi:type="dcterms:W3CDTF">2012-07-01T16:24:03Z</dcterms:modified>
  <cp:revision>40</cp:revision>
  <dc:subject/>
  <dc:title>Слайд 1</dc:title>
</cp:coreProperties>
</file>