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04F6-DD29-49AD-9FA2-F0F94941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660B-3552-4415-A155-8932BC0E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22A2-4D9E-49F4-9649-76EF6614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A035-A9E7-4D27-9C32-7CAB0AFA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139B-80AB-4A40-8DAE-01D51B6F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6ED-D7E3-4493-8AA0-8C4B7688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164A-2773-4E7C-8EE6-542AF3D9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94E4-951A-4A69-93F5-C5642565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9440-86F3-4985-9181-133DB202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A9B-3B24-44F7-AE3B-5BBC671A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869E-F0F7-4C12-B5BE-30794EB2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AFB1-BF97-423C-A3A2-CEE8531B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5A64-EA8C-4EE7-9DB4-CAB4EFDB1D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979640" y="4508640"/>
            <a:ext cx="66103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утешествие в 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формашково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7" descr="1932133000b16c99ae66673de71bde090b677845a1"/>
          <p:cNvPicPr/>
          <p:nvPr/>
        </p:nvPicPr>
        <p:blipFill>
          <a:blip r:embed="rId1"/>
          <a:stretch/>
        </p:blipFill>
        <p:spPr>
          <a:xfrm>
            <a:off x="1908000" y="0"/>
            <a:ext cx="583272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чать только заглавных букв осуществляется с помощью клави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Вопрос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67" name="Picture 5" descr="computer_key_Caps_Lock"/>
          <p:cNvPicPr/>
          <p:nvPr/>
        </p:nvPicPr>
        <p:blipFill>
          <a:blip r:embed="rId1"/>
          <a:stretch/>
        </p:blipFill>
        <p:spPr>
          <a:xfrm>
            <a:off x="2987640" y="3068640"/>
            <a:ext cx="3168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перевода курсора в начало строки используют клавиш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Вопрос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70" name="Picture 4" descr="computer_key_ home"/>
          <p:cNvPicPr/>
          <p:nvPr/>
        </p:nvPicPr>
        <p:blipFill>
          <a:blip r:embed="rId1"/>
          <a:stretch/>
        </p:blipFill>
        <p:spPr>
          <a:xfrm>
            <a:off x="3708360" y="2924280"/>
            <a:ext cx="223200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перевода курсора в конец строки используют клави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3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Вопрос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73" name="Picture 5" descr="computer_key_End"/>
          <p:cNvPicPr/>
          <p:nvPr/>
        </p:nvPicPr>
        <p:blipFill>
          <a:blip r:embed="rId1"/>
          <a:stretch/>
        </p:blipFill>
        <p:spPr>
          <a:xfrm>
            <a:off x="3708360" y="2852640"/>
            <a:ext cx="2305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ход из текущего режима осуществляется нажатием на клави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3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Вопрос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76" name="Picture 5" descr="computer_key_Esc"/>
          <p:cNvPicPr/>
          <p:nvPr/>
        </p:nvPicPr>
        <p:blipFill>
          <a:blip r:embed="rId1"/>
          <a:stretch/>
        </p:blipFill>
        <p:spPr>
          <a:xfrm>
            <a:off x="3635280" y="3284640"/>
            <a:ext cx="223200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перемещения курсора на экранную страницу вверх необходимо нажать клави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3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Вопрос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79" name="Picture 5" descr="computer_key_Page_Up"/>
          <p:cNvPicPr/>
          <p:nvPr/>
        </p:nvPicPr>
        <p:blipFill>
          <a:blip r:embed="rId1"/>
          <a:stretch/>
        </p:blipFill>
        <p:spPr>
          <a:xfrm>
            <a:off x="3635280" y="3284640"/>
            <a:ext cx="23749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перемещения курсора на экранную страницу вниз необходимо нажать клави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3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Вопрос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82" name="Picture 5" descr="KeyPageDown"/>
          <p:cNvPicPr/>
          <p:nvPr/>
        </p:nvPicPr>
        <p:blipFill>
          <a:blip r:embed="rId1"/>
          <a:stretch/>
        </p:blipFill>
        <p:spPr>
          <a:xfrm>
            <a:off x="3635280" y="3284640"/>
            <a:ext cx="201636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омашково2.wmv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715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4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Вокзал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6" name="WordArt 3"/>
          <p:cNvSpPr txBox="1"/>
          <p:nvPr/>
        </p:nvSpPr>
        <p:spPr>
          <a:xfrm>
            <a:off x="2340000" y="3429000"/>
            <a:ext cx="396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Кодовая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иведенных текстах некоторые идущие подряд буквы нескольких слов образуют термины, связанные с устройством компьютера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т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окумент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Office Writer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и термины и выделите их Полужирным начертанием, Цвет шрифта установите по цвету Вашей коман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присутствии начальника Пот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 робе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ребе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2700360" y="115920"/>
            <a:ext cx="396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Кодовая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946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цесс 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тологии называют мигр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оцесс 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тологии называют мигр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оцесс 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тологии называют мигр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Проверим?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91" name="Picture 5" descr="procesor-core-2-quad-q9550-2-83ghz-lga775-box_0_b"/>
          <p:cNvPicPr/>
          <p:nvPr/>
        </p:nvPicPr>
        <p:blipFill>
          <a:blip r:embed="rId1"/>
          <a:stretch/>
        </p:blipFill>
        <p:spPr>
          <a:xfrm>
            <a:off x="5435640" y="3984480"/>
            <a:ext cx="370836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14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5"/>
          <p:cNvSpPr txBox="1"/>
          <p:nvPr/>
        </p:nvSpPr>
        <p:spPr>
          <a:xfrm>
            <a:off x="1619280" y="2349360"/>
            <a:ext cx="661032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 каком виде транспорта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правимся в дальнее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утешествие?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5295960" y="4437000"/>
            <a:ext cx="3848040" cy="2190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71880" cy="224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0" y="4600440"/>
            <a:ext cx="3343320" cy="2257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4"/>
          <a:stretch/>
        </p:blipFill>
        <p:spPr>
          <a:xfrm>
            <a:off x="6276960" y="0"/>
            <a:ext cx="28670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о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 они т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ствовали и радовались, как д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о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м они т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ствовали и радовались, как д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о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 они т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ствовали и радовались, как д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sevprk-1298364782-d_pic"/>
          <p:cNvPicPr/>
          <p:nvPr/>
        </p:nvPicPr>
        <p:blipFill>
          <a:blip r:embed="rId1"/>
          <a:stretch/>
        </p:blipFill>
        <p:spPr>
          <a:xfrm>
            <a:off x="4356000" y="3267000"/>
            <a:ext cx="4788000" cy="3591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7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Проверим?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18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8000" y="16002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мотря на это, его ф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ка не 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з падала с гол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мотря на это, его фе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ска не 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з падала с гол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мотря на это, его ф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ка не 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з падала с гол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Проверим?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97" name="Picture 6" descr="1327402858_hp-scanjet-g2410"/>
          <p:cNvPicPr/>
          <p:nvPr/>
        </p:nvPicPr>
        <p:blipFill>
          <a:blip r:embed="rId1"/>
          <a:stretch/>
        </p:blipFill>
        <p:spPr>
          <a:xfrm>
            <a:off x="5776920" y="2924280"/>
            <a:ext cx="33670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18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а Дн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 инт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на тем, что на ней имеются несколько гидроэлектростан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а Дне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 инт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на тем, что на ней имеются несколько гидроэлектростан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а Дн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 инт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на тем, что на ней имеются несколько гидроэлектростан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Проверим?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100" name="Picture 6" descr="MO_0TIF_ML-2240_2007121420071214133509"/>
          <p:cNvPicPr/>
          <p:nvPr/>
        </p:nvPicPr>
        <p:blipFill>
          <a:blip r:embed="rId1"/>
          <a:stretch/>
        </p:blipFill>
        <p:spPr>
          <a:xfrm>
            <a:off x="5148360" y="3546360"/>
            <a:ext cx="3995640" cy="3311640"/>
          </a:xfrm>
          <a:prstGeom prst="rect">
            <a:avLst/>
          </a:prstGeom>
          <a:ln w="0">
            <a:noFill/>
          </a:ln>
        </p:spPr>
      </p:pic>
      <p:sp>
        <p:nvSpPr>
          <p:cNvPr id="101" name="WordArt 7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Проверим?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18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785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просьбе хозяина квартиры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ы ш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 сдвинули в уг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просьбе хозяина квартиры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мы ш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 сдвинули в уг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просьбе хозяина квартиры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ы ш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 сдвинули в уг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Проверим?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104" name="Picture 7" descr="чистка-компьютерной-мышки"/>
          <p:cNvPicPr/>
          <p:nvPr/>
        </p:nvPicPr>
        <p:blipFill>
          <a:blip r:embed="rId1"/>
          <a:stretch/>
        </p:blipFill>
        <p:spPr>
          <a:xfrm>
            <a:off x="4859280" y="3998880"/>
            <a:ext cx="42847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9280" y="907560"/>
            <a:ext cx="8785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таринный ко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од 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достался в наследство от бабушки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таринный ко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мод 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достался в наследство от бабушки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таринный ко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од 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достался в наследство от бабушки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Проверим?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107" name="Picture 6" descr="huawei880"/>
          <p:cNvPicPr/>
          <p:nvPr/>
        </p:nvPicPr>
        <p:blipFill>
          <a:blip r:embed="rId1"/>
          <a:stretch/>
        </p:blipFill>
        <p:spPr>
          <a:xfrm rot="1342800">
            <a:off x="5003280" y="3716280"/>
            <a:ext cx="370872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54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омашково3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1" dur="5212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Вокзал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1" name="WordArt 3"/>
          <p:cNvSpPr txBox="1"/>
          <p:nvPr/>
        </p:nvSpPr>
        <p:spPr>
          <a:xfrm>
            <a:off x="2340000" y="3429000"/>
            <a:ext cx="417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Логическая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закономерности и заполните пустые кле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рафическом редактор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Pain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ьзуя инструмент Текст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ала нуж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олнить пустые клетки по диагонали (цветные), а затем в строка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Числа в клетки вписывать по цвету коман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2411280" y="333360"/>
            <a:ext cx="417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Логическая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Логическая для Красных ОТВЕТЫ"/>
          <p:cNvPicPr/>
          <p:nvPr/>
        </p:nvPicPr>
        <p:blipFill>
          <a:blip r:embed="rId1"/>
          <a:stretch/>
        </p:blipFill>
        <p:spPr>
          <a:xfrm>
            <a:off x="1476360" y="1341360"/>
            <a:ext cx="7667640" cy="4068720"/>
          </a:xfrm>
          <a:prstGeom prst="rect">
            <a:avLst/>
          </a:prstGeom>
          <a:ln w="0">
            <a:noFill/>
          </a:ln>
        </p:spPr>
      </p:pic>
      <p:sp>
        <p:nvSpPr>
          <p:cNvPr id="115" name="WordArt 5"/>
          <p:cNvSpPr txBox="1"/>
          <p:nvPr/>
        </p:nvSpPr>
        <p:spPr>
          <a:xfrm>
            <a:off x="2411280" y="333360"/>
            <a:ext cx="417528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Проверим?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Проверим?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117" name="Picture 5" descr="C:\Users\Ламова Елена\Desktop\Путешествие\МОЙ УРОК\Логическая для Зелёных ОТВЕТЫ.bmp"/>
          <p:cNvPicPr/>
          <p:nvPr/>
        </p:nvPicPr>
        <p:blipFill>
          <a:blip r:embed="rId1"/>
          <a:stretch/>
        </p:blipFill>
        <p:spPr>
          <a:xfrm>
            <a:off x="1403280" y="1052640"/>
            <a:ext cx="774072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_805d4_9cd1c178_XL"/>
          <p:cNvPicPr/>
          <p:nvPr/>
        </p:nvPicPr>
        <p:blipFill>
          <a:blip r:embed="rId1"/>
          <a:stretch/>
        </p:blipFill>
        <p:spPr>
          <a:xfrm>
            <a:off x="2340000" y="1773360"/>
            <a:ext cx="4302000" cy="48243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403280" y="260280"/>
            <a:ext cx="6337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 Паровозике!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Проверим?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119" name="Picture 4" descr="Логическая для Синих ОТВЕТЫ"/>
          <p:cNvPicPr/>
          <p:nvPr/>
        </p:nvPicPr>
        <p:blipFill>
          <a:blip r:embed="rId1"/>
          <a:stretch/>
        </p:blipFill>
        <p:spPr>
          <a:xfrm>
            <a:off x="1476360" y="1268280"/>
            <a:ext cx="766764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омашково4.wmv" descr=""/>
          <p:cNvPicPr/>
          <p:nvPr/>
        </p:nvPicPr>
        <p:blipFill>
          <a:blip r:embed="rId1"/>
          <a:stretch/>
        </p:blipFill>
        <p:spPr>
          <a:xfrm>
            <a:off x="8443800" y="6357960"/>
            <a:ext cx="700200" cy="527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Вокзал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2" name="WordArt 3"/>
          <p:cNvSpPr txBox="1"/>
          <p:nvPr/>
        </p:nvSpPr>
        <p:spPr>
          <a:xfrm>
            <a:off x="928800" y="3357720"/>
            <a:ext cx="75009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Информашково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5" dur="17229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27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0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Паровизик Рефлекс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6"/>
          <p:cNvSpPr txBox="1"/>
          <p:nvPr/>
        </p:nvSpPr>
        <p:spPr>
          <a:xfrm>
            <a:off x="214200" y="260280"/>
            <a:ext cx="850104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Оцени путешествие!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омашково1.wmv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6188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Вокзал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WordArt 6"/>
          <p:cNvSpPr txBox="1"/>
          <p:nvPr/>
        </p:nvSpPr>
        <p:spPr>
          <a:xfrm>
            <a:off x="2340000" y="3429000"/>
            <a:ext cx="417528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Служебная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записи заглавных букв и знаков над цифрами используют клави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Вопрос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55" name="Picture 6" descr="shift_key"/>
          <p:cNvPicPr/>
          <p:nvPr/>
        </p:nvPicPr>
        <p:blipFill>
          <a:blip r:embed="rId1"/>
          <a:stretch/>
        </p:blipFill>
        <p:spPr>
          <a:xfrm>
            <a:off x="2195640" y="2997360"/>
            <a:ext cx="489744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перехода на новую строку используют клави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3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Вопрос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58" name="Picture 4" descr="computer_key_Enter_T"/>
          <p:cNvPicPr/>
          <p:nvPr/>
        </p:nvPicPr>
        <p:blipFill>
          <a:blip r:embed="rId1"/>
          <a:stretch/>
        </p:blipFill>
        <p:spPr>
          <a:xfrm>
            <a:off x="2987640" y="2997360"/>
            <a:ext cx="338472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удаления символа слева от курсора используют клави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3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Вопрос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61" name="Picture 4" descr="computer_key_Backspace"/>
          <p:cNvPicPr/>
          <p:nvPr/>
        </p:nvPicPr>
        <p:blipFill>
          <a:blip r:embed="rId1"/>
          <a:stretch/>
        </p:blipFill>
        <p:spPr>
          <a:xfrm>
            <a:off x="2627280" y="2781360"/>
            <a:ext cx="414180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удаления символа справа от курсора используют клави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2340000" y="189000"/>
            <a:ext cx="41752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ook Antiqua"/>
              </a:rPr>
              <a:t>Вопрос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ook Antiqua"/>
              <a:ea typeface="Book Antiqua"/>
            </a:endParaRPr>
          </a:p>
        </p:txBody>
      </p:sp>
      <p:pic>
        <p:nvPicPr>
          <p:cNvPr id="64" name="Picture 4" descr="computer_key_Delete_T"/>
          <p:cNvPicPr/>
          <p:nvPr/>
        </p:nvPicPr>
        <p:blipFill>
          <a:blip r:embed="rId1"/>
          <a:stretch/>
        </p:blipFill>
        <p:spPr>
          <a:xfrm>
            <a:off x="3564000" y="2852640"/>
            <a:ext cx="16556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4:14:21Z</dcterms:created>
  <dc:creator>Ламова Елена</dc:creator>
  <dc:description/>
  <dc:language>en-US</dc:language>
  <cp:lastModifiedBy>Ламова Елена</cp:lastModifiedBy>
  <dcterms:modified xsi:type="dcterms:W3CDTF">2012-07-01T16:24:03Z</dcterms:modified>
  <cp:revision>40</cp:revision>
  <dc:subject/>
  <dc:title>Слайд 1</dc:title>
</cp:coreProperties>
</file>