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8E5-C6E5-4BEB-B4E0-21AB5F2C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B85-292B-4862-98AF-28EDA502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A76-2808-4880-BF4A-9633AC85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CF0-BFB4-46AB-AB98-067283E9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C95D-7FA4-4B4E-A055-3DD12C49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7DE7-733F-45FB-98F4-4DD3D68A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194A-59DD-4EF6-8D57-0656CA33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1672-C949-422E-95FA-E8630313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26B8-29B2-42D3-A2A1-19EF5A0C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061E-49DE-4FA3-BEB4-D51EB8D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84EB-56BB-44E5-9C63-DF5CC00B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0E8-12B7-4F74-8B2F-351F4ED0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E7F8-575E-4FC6-8258-125D39E8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0F6E-00DE-43C5-8AB7-CE846823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6366-C5E3-466D-934A-7D7BE9E9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9F94-069A-4954-AE3B-CB797EFC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FE63-D089-432A-921E-1A4FB0BE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F81D-E184-4BA6-953A-47CAB020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F7BA-20EB-45C5-8930-AA2CF46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A2B9-9725-4810-9AA2-C2C5ED2A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19F6-2B75-40FB-B4D8-697EFF01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440BA-4213-4C6F-8294-770B261A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932-7C61-41BB-8434-6530659D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8BB5-B492-4D50-A7C6-09F93117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D8CC-2885-4C2E-9F10-E79CB17A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CEA9-74A0-4ACC-81E6-4E4C69B0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AA27-4CB0-445F-A0BE-2E193301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3728-0732-4FCF-A21B-61D387D3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470A-2B39-4641-A0AE-B91E9725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FAA7-2E12-47E2-94B7-F8756B9B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53D7-EA61-461E-A37C-B5D772DA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39116-414A-4AA7-A519-6BF774EA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FCAE7-474A-4FB3-82FD-C43CD7FA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0DC-36EB-443C-B59C-7034C74C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56422-7C97-45F5-A398-F9CA2DDF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D1377-CBD9-49B4-81A5-3C1BDCC7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2B89-4D45-4B5F-9EA5-D6496063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26F5-B538-4CBD-B38B-95FFD8EE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0C2B-52ED-430D-AAB5-7B7EBEC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BD35-66E9-4187-ADED-BF09248A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E479-48E4-4A39-AAAA-7EEE799C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848A8-0C24-4416-BFC0-3FD4BF8B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1867-4A59-420C-A614-C458AE8C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87DA9-5E36-408D-AAD7-CE0826AC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1C0-0925-4AE1-AC29-E6BD8E15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07C8-76A2-48EC-985D-F907FFFC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BC828-9B0A-45E9-9AEB-164886A3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6F1D-2E62-46CA-98CD-75A7EBBF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8FA9-88A5-463A-9A49-8AA59A18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AD74-5620-4077-BE72-AAB4CE7B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7F74-679C-47F9-B52C-4F8E030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623A-7E61-4165-BA5E-91D8A1E4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A059-7BDF-4E0E-B40A-AD26F2B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31F1-0135-4F0E-8D57-98922357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EFC57-A66A-4292-9CFB-2F794EE1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75C-CF17-4997-B1F5-40026052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9BFD-BF48-4758-BBB6-24DA4921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E3B-443C-4A4E-A99F-CC02484A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730-4EA3-4743-99D7-B0A294E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522-ABD0-4E09-9001-00367263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C067-D955-4934-908E-7819AD93EC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EB96-7C47-4B62-B687-AC39DE3E1F1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74A0-F5D2-44D7-A0BD-96AD6A1C13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BA51-2618-4062-80F7-6C38539A65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E327-4BD3-480E-9641-C18EAC3385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атирические образы человека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Карикат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Шарж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5" descr="picture.jpg"/>
          <p:cNvPicPr/>
          <p:nvPr/>
        </p:nvPicPr>
        <p:blipFill>
          <a:blip r:embed="rId1"/>
          <a:stretch/>
        </p:blipFill>
        <p:spPr>
          <a:xfrm>
            <a:off x="1214280" y="3786120"/>
            <a:ext cx="31086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укрынис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Рисунок 2" descr="31170258.jpg"/>
          <p:cNvPicPr/>
          <p:nvPr/>
        </p:nvPicPr>
        <p:blipFill>
          <a:blip r:embed="rId1"/>
          <a:stretch/>
        </p:blipFill>
        <p:spPr>
          <a:xfrm>
            <a:off x="1000080" y="785880"/>
            <a:ext cx="2705040" cy="4581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" descr="1942Ubijtsa.jpg"/>
          <p:cNvPicPr/>
          <p:nvPr/>
        </p:nvPicPr>
        <p:blipFill>
          <a:blip r:embed="rId2"/>
          <a:stretch/>
        </p:blipFill>
        <p:spPr>
          <a:xfrm>
            <a:off x="4572000" y="677880"/>
            <a:ext cx="35719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укрынис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Рисунок 2" descr="1941Ljudoed.jpg"/>
          <p:cNvPicPr/>
          <p:nvPr/>
        </p:nvPicPr>
        <p:blipFill>
          <a:blip r:embed="rId1"/>
          <a:stretch/>
        </p:blipFill>
        <p:spPr>
          <a:xfrm>
            <a:off x="857160" y="642960"/>
            <a:ext cx="3349800" cy="47862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tn_+1.jpg"/>
          <p:cNvPicPr/>
          <p:nvPr/>
        </p:nvPicPr>
        <p:blipFill>
          <a:blip r:embed="rId2"/>
          <a:stretch/>
        </p:blipFill>
        <p:spPr>
          <a:xfrm>
            <a:off x="4292640" y="1214280"/>
            <a:ext cx="410688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.Е.Ефим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Рисунок 2" descr="p0000003.jpg"/>
          <p:cNvPicPr/>
          <p:nvPr/>
        </p:nvPicPr>
        <p:blipFill>
          <a:blip r:embed="rId1"/>
          <a:stretch/>
        </p:blipFill>
        <p:spPr>
          <a:xfrm>
            <a:off x="3000240" y="647640"/>
            <a:ext cx="371484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.Е.Ефим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1" name="Рисунок 2" descr="792440_1127900332.jpg"/>
          <p:cNvPicPr/>
          <p:nvPr/>
        </p:nvPicPr>
        <p:blipFill>
          <a:blip r:embed="rId1"/>
          <a:stretch/>
        </p:blipFill>
        <p:spPr>
          <a:xfrm>
            <a:off x="1857240" y="1071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ак нарисовать карикатуру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Рисунок 2" descr="picture.jpg"/>
          <p:cNvPicPr/>
          <p:nvPr/>
        </p:nvPicPr>
        <p:blipFill>
          <a:blip r:embed="rId1"/>
          <a:stretch/>
        </p:blipFill>
        <p:spPr>
          <a:xfrm>
            <a:off x="928800" y="85716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w1.jpg"/>
          <p:cNvPicPr/>
          <p:nvPr/>
        </p:nvPicPr>
        <p:blipFill>
          <a:blip r:embed="rId2"/>
          <a:stretch/>
        </p:blipFill>
        <p:spPr>
          <a:xfrm>
            <a:off x="5072040" y="1143000"/>
            <a:ext cx="3110040" cy="4255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_41043940_efimov203.jpg"/>
          <p:cNvPicPr/>
          <p:nvPr/>
        </p:nvPicPr>
        <p:blipFill>
          <a:blip r:embed="rId3"/>
          <a:stretch/>
        </p:blipFill>
        <p:spPr>
          <a:xfrm>
            <a:off x="1906560" y="3429000"/>
            <a:ext cx="2384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дачи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дметить в человеке  то, что для него характерно, отличает особенности его лица и фигуры, мимики и осанки и делает их более заметны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дмеченные особенности человека при изображении преувеличи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рисовании карикатуры или шаржа  необходимо соблюдать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чувство меры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а главное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чувство правды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ак бы вы назвали это изображение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Содержимое 5" descr="395px-WwI_agitka2.jpg"/>
          <p:cNvPicPr/>
          <p:nvPr/>
        </p:nvPicPr>
        <p:blipFill>
          <a:blip r:embed="rId1"/>
          <a:stretch/>
        </p:blipFill>
        <p:spPr>
          <a:xfrm>
            <a:off x="3286080" y="571680"/>
            <a:ext cx="29671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арикату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тирическое или юмористическое изображение, в котором комический эффект создаётся преувеличением и заострением характерных черт, неожиданными сопоставлениями и уподобле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нр изобразительного искусства (обычно графики, но необязательно), являющийся основной формой изобразительной сатиры, в сатирической или юмористической форме изображает какие-либо социальные, общественно-политические, бытовые явления, реальные лица или характерные типы люд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Шарж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5520" y="642600"/>
            <a:ext cx="7280280" cy="2266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новидность карикатуры; сатирическое или добродушно-юмористическое изображение (обычно портрет), в котором при соблюдении внешнего сходства изменены и выделены наиболее характерные черты моде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472px-Chaplin_caricature.jpg"/>
          <p:cNvPicPr/>
          <p:nvPr/>
        </p:nvPicPr>
        <p:blipFill>
          <a:blip r:embed="rId1"/>
          <a:stretch/>
        </p:blipFill>
        <p:spPr>
          <a:xfrm>
            <a:off x="6000840" y="2857680"/>
            <a:ext cx="2714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Леонардо да Винчи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Гротесковые рисунки голов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3" descr="010.jpg"/>
          <p:cNvPicPr/>
          <p:nvPr/>
        </p:nvPicPr>
        <p:blipFill>
          <a:blip r:embed="rId1"/>
          <a:stretch/>
        </p:blipFill>
        <p:spPr>
          <a:xfrm>
            <a:off x="3000240" y="642960"/>
            <a:ext cx="3221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36712169_Grotesque_Head.jpg"/>
          <p:cNvPicPr/>
          <p:nvPr/>
        </p:nvPicPr>
        <p:blipFill>
          <a:blip r:embed="rId1"/>
          <a:stretch/>
        </p:blipFill>
        <p:spPr>
          <a:xfrm>
            <a:off x="1000080" y="857160"/>
            <a:ext cx="3387600" cy="41022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онардо да Вин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Рисунок 5" descr="Безымянный.bmp"/>
          <p:cNvPicPr/>
          <p:nvPr/>
        </p:nvPicPr>
        <p:blipFill>
          <a:blip r:embed="rId2"/>
          <a:stretch/>
        </p:blipFill>
        <p:spPr>
          <a:xfrm>
            <a:off x="5000760" y="847800"/>
            <a:ext cx="29368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норе Домье. Законодательное чрев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Рисунок 2" descr="p48.jpg"/>
          <p:cNvPicPr/>
          <p:nvPr/>
        </p:nvPicPr>
        <p:blipFill>
          <a:blip r:embed="rId1"/>
          <a:stretch/>
        </p:blipFill>
        <p:spPr>
          <a:xfrm>
            <a:off x="1487520" y="714240"/>
            <a:ext cx="6356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норе Домь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Рисунок 2" descr="philipon_metamorphose.jpg"/>
          <p:cNvPicPr/>
          <p:nvPr/>
        </p:nvPicPr>
        <p:blipFill>
          <a:blip r:embed="rId1"/>
          <a:stretch/>
        </p:blipFill>
        <p:spPr>
          <a:xfrm>
            <a:off x="642960" y="642960"/>
            <a:ext cx="3429000" cy="36511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02-befcar_300.jpg"/>
          <p:cNvPicPr/>
          <p:nvPr/>
        </p:nvPicPr>
        <p:blipFill>
          <a:blip r:embed="rId2"/>
          <a:stretch/>
        </p:blipFill>
        <p:spPr>
          <a:xfrm>
            <a:off x="4429080" y="2357280"/>
            <a:ext cx="4143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укрынис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Рисунок 3" descr="129003.jpg"/>
          <p:cNvPicPr/>
          <p:nvPr/>
        </p:nvPicPr>
        <p:blipFill>
          <a:blip r:embed="rId1"/>
          <a:stretch/>
        </p:blipFill>
        <p:spPr>
          <a:xfrm>
            <a:off x="2714760" y="571680"/>
            <a:ext cx="371448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5:30:12Z</dcterms:created>
  <dc:creator>FuckYouBill</dc:creator>
  <dc:description/>
  <dc:language>en-US</dc:language>
  <cp:lastModifiedBy>FuckYouBill</cp:lastModifiedBy>
  <dcterms:modified xsi:type="dcterms:W3CDTF">2010-04-20T16:50:20Z</dcterms:modified>
  <cp:revision>13</cp:revision>
  <dc:subject/>
  <dc:title>Сатирические образы человека</dc:title>
</cp:coreProperties>
</file>