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0D3-7229-4504-A54B-E8FFEA86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A15-A1BE-4392-AA88-2D0845E0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C0E-977D-4B89-9543-ECF3EBD0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6AA-BCF3-4357-9274-3E614322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BCEA-CFBB-4437-910D-25CEFA2D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F041-7865-4706-9441-02998AD3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1EE4-D067-4BA6-A42B-A62569F7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C4B7-3BB6-4CFF-A088-13FB224C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5303-87EB-47C9-8C82-E5096CA0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011E-3094-450D-BC77-DC409CEC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D3B7-B365-4902-9BCA-FB17465B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361-8101-4BDE-83AF-5A74B2E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0CE3-36F9-452C-9C5D-310397AB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A9A0-F318-4C6D-BBD7-95D06108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C21A-756D-4B5D-8F63-58A54004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7676-6B14-4C1A-85A4-D3E705A6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1A33-7E48-4422-9957-F43D51BE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CD89-F2EB-47A1-9600-857DEE8C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F8010-9068-4D01-B4AA-65919C9F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AC80-C8D9-4516-BF6A-951B6118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FDB1-FD8F-4DF2-A5F0-5650CADA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5AF2-1EE6-496D-8745-9D5175B0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4ED-602F-40F3-A8DC-9FCA2116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7664-AB77-4FA8-9307-067C91EC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BD7F-C239-498B-BEAF-CC5A233C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33A2-D933-49FF-992E-72142A6D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FF65-BA62-4A9A-8D25-3C93EC3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D76A-7B30-48D4-B968-F43CF6ED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4C29-0193-47EE-8824-295D266B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3FFD-3DF0-4F80-8481-4460BC07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EF3C-F67D-4916-AFC9-FD19C5E0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B8E0-2431-4CCB-B696-3AF1D154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AA03-3ED2-4F07-9BA7-97B3D274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69D-7418-40FF-8362-4E7C2589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3F1E-D496-40A1-84FC-E30F8BAB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ED38-4740-43EA-92D0-085AA655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547F-AC71-42C7-A94E-2AA1787A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17761-DCA1-4A39-B9A9-B4ECC6C7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517E-4BEB-46E3-804E-ADD7185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14875-4F9C-4E51-B3BB-A17FE98C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386BA-845A-4552-B229-59FBC667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443D-EF00-4941-8B8C-6F03656A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6F6A9-937D-4B2B-8339-D0818FA7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087A6-8828-467C-99C1-0D779EF2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06D-B2D0-4EB5-B7C8-103F2D6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34C5A-67E9-4397-8714-7DF8AAB8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25D07-B1CB-4E28-9D5C-BB3CED22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89EC3-A896-41DD-B12C-B70B4E8C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25B45-F565-415F-8F23-77299EAF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69C6-72CF-4266-B9B4-F1AF248F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86903-85CD-4209-BC79-5023C90C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33C2-8DF2-4BAD-9C52-7E01FDF8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8B5F6-45EB-4C39-A666-F6A83412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AED5F-FDD0-48CC-A5D5-D8D93887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74D80-EE08-40AE-885C-2F523514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E3A-F326-4B97-9F9E-EACD7D10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B27F5-E382-4CE8-B76F-9B953D28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86C-3FB8-43E5-AF38-3EDCD7D1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E0D-BB55-441F-8C31-EC7E047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720-C1E1-45D7-8271-3D3DA7FF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977-330D-4EF0-A2E6-70451AF3E3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F1AC-9C95-4915-8C69-D1BF25AA285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FA1A-81A2-4253-9EE2-B31AEC06A84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3689-2ABA-404A-9178-AA7D3B18B12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0C80-703A-4A76-94AA-478FEB99DEA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атирические образы человека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Карикат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Шарж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5" descr="picture.jpg"/>
          <p:cNvPicPr/>
          <p:nvPr/>
        </p:nvPicPr>
        <p:blipFill>
          <a:blip r:embed="rId1"/>
          <a:stretch/>
        </p:blipFill>
        <p:spPr>
          <a:xfrm>
            <a:off x="1214280" y="3786120"/>
            <a:ext cx="31086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укрынис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Рисунок 2" descr="31170258.jpg"/>
          <p:cNvPicPr/>
          <p:nvPr/>
        </p:nvPicPr>
        <p:blipFill>
          <a:blip r:embed="rId1"/>
          <a:stretch/>
        </p:blipFill>
        <p:spPr>
          <a:xfrm>
            <a:off x="1000080" y="785880"/>
            <a:ext cx="2705040" cy="4581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" descr="1942Ubijtsa.jpg"/>
          <p:cNvPicPr/>
          <p:nvPr/>
        </p:nvPicPr>
        <p:blipFill>
          <a:blip r:embed="rId2"/>
          <a:stretch/>
        </p:blipFill>
        <p:spPr>
          <a:xfrm>
            <a:off x="4572000" y="677880"/>
            <a:ext cx="35719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укрынис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Рисунок 2" descr="1941Ljudoed.jpg"/>
          <p:cNvPicPr/>
          <p:nvPr/>
        </p:nvPicPr>
        <p:blipFill>
          <a:blip r:embed="rId1"/>
          <a:stretch/>
        </p:blipFill>
        <p:spPr>
          <a:xfrm>
            <a:off x="857160" y="642960"/>
            <a:ext cx="3349800" cy="47862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" descr="tn_+1.jpg"/>
          <p:cNvPicPr/>
          <p:nvPr/>
        </p:nvPicPr>
        <p:blipFill>
          <a:blip r:embed="rId2"/>
          <a:stretch/>
        </p:blipFill>
        <p:spPr>
          <a:xfrm>
            <a:off x="4292640" y="1214280"/>
            <a:ext cx="410688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.Е.Ефим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Рисунок 2" descr="p0000003.jpg"/>
          <p:cNvPicPr/>
          <p:nvPr/>
        </p:nvPicPr>
        <p:blipFill>
          <a:blip r:embed="rId1"/>
          <a:stretch/>
        </p:blipFill>
        <p:spPr>
          <a:xfrm>
            <a:off x="3000240" y="647640"/>
            <a:ext cx="371484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.Е.Ефим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1" name="Рисунок 2" descr="792440_1127900332.jpg"/>
          <p:cNvPicPr/>
          <p:nvPr/>
        </p:nvPicPr>
        <p:blipFill>
          <a:blip r:embed="rId1"/>
          <a:stretch/>
        </p:blipFill>
        <p:spPr>
          <a:xfrm>
            <a:off x="1857240" y="1071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ак нарисовать карикатуру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3" name="Рисунок 2" descr="picture.jpg"/>
          <p:cNvPicPr/>
          <p:nvPr/>
        </p:nvPicPr>
        <p:blipFill>
          <a:blip r:embed="rId1"/>
          <a:stretch/>
        </p:blipFill>
        <p:spPr>
          <a:xfrm>
            <a:off x="928800" y="85716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w1.jpg"/>
          <p:cNvPicPr/>
          <p:nvPr/>
        </p:nvPicPr>
        <p:blipFill>
          <a:blip r:embed="rId2"/>
          <a:stretch/>
        </p:blipFill>
        <p:spPr>
          <a:xfrm>
            <a:off x="5072040" y="1143000"/>
            <a:ext cx="3110040" cy="42559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_41043940_efimov203.jpg"/>
          <p:cNvPicPr/>
          <p:nvPr/>
        </p:nvPicPr>
        <p:blipFill>
          <a:blip r:embed="rId3"/>
          <a:stretch/>
        </p:blipFill>
        <p:spPr>
          <a:xfrm>
            <a:off x="1906560" y="3429000"/>
            <a:ext cx="2384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дачи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дметить в человеке  то, что для него характерно, отличает особенности его лица и фигуры, мимики и осанки и делает их более заметны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дмеченные особенности человека при изображении преувеличи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рисовании карикатуры или шаржа  необходимо соблюдать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чувство меры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а главное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чувство правды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ак бы вы назвали это изображение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Содержимое 5" descr="395px-WwI_agitka2.jpg"/>
          <p:cNvPicPr/>
          <p:nvPr/>
        </p:nvPicPr>
        <p:blipFill>
          <a:blip r:embed="rId1"/>
          <a:stretch/>
        </p:blipFill>
        <p:spPr>
          <a:xfrm>
            <a:off x="3286080" y="571680"/>
            <a:ext cx="29671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арикату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тирическое или юмористическое изображение, в котором комический эффект создаётся преувеличением и заострением характерных черт, неожиданными сопоставлениями и уподобле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нр изобразительного искусства (обычно графики, но необязательно), являющийся основной формой изобразительной сатиры, в сатирической или юмористической форме изображает какие-либо социальные, общественно-политические, бытовые явления, реальные лица или характерные типы люде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Шарж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5520" y="642600"/>
            <a:ext cx="7280280" cy="2266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новидность карикатуры; сатирическое или добродушно-юмористическое изображение (обычно портрет), в котором при соблюдении внешнего сходства изменены и выделены наиболее характерные черты моде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3" descr="472px-Chaplin_caricature.jpg"/>
          <p:cNvPicPr/>
          <p:nvPr/>
        </p:nvPicPr>
        <p:blipFill>
          <a:blip r:embed="rId1"/>
          <a:stretch/>
        </p:blipFill>
        <p:spPr>
          <a:xfrm>
            <a:off x="6000840" y="2857680"/>
            <a:ext cx="2714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Леонардо да Винчи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Гротесковые рисунки голов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3" descr="010.jpg"/>
          <p:cNvPicPr/>
          <p:nvPr/>
        </p:nvPicPr>
        <p:blipFill>
          <a:blip r:embed="rId1"/>
          <a:stretch/>
        </p:blipFill>
        <p:spPr>
          <a:xfrm>
            <a:off x="3000240" y="642960"/>
            <a:ext cx="3221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36712169_Grotesque_Head.jpg"/>
          <p:cNvPicPr/>
          <p:nvPr/>
        </p:nvPicPr>
        <p:blipFill>
          <a:blip r:embed="rId1"/>
          <a:stretch/>
        </p:blipFill>
        <p:spPr>
          <a:xfrm>
            <a:off x="1000080" y="857160"/>
            <a:ext cx="3387600" cy="41022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онардо да Вин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Рисунок 5" descr="Безымянный.bmp"/>
          <p:cNvPicPr/>
          <p:nvPr/>
        </p:nvPicPr>
        <p:blipFill>
          <a:blip r:embed="rId2"/>
          <a:stretch/>
        </p:blipFill>
        <p:spPr>
          <a:xfrm>
            <a:off x="5000760" y="847800"/>
            <a:ext cx="29368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норе Домье. Законодательное чрев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Рисунок 2" descr="p48.jpg"/>
          <p:cNvPicPr/>
          <p:nvPr/>
        </p:nvPicPr>
        <p:blipFill>
          <a:blip r:embed="rId1"/>
          <a:stretch/>
        </p:blipFill>
        <p:spPr>
          <a:xfrm>
            <a:off x="1487520" y="714240"/>
            <a:ext cx="63561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норе Домь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Рисунок 2" descr="philipon_metamorphose.jpg"/>
          <p:cNvPicPr/>
          <p:nvPr/>
        </p:nvPicPr>
        <p:blipFill>
          <a:blip r:embed="rId1"/>
          <a:stretch/>
        </p:blipFill>
        <p:spPr>
          <a:xfrm>
            <a:off x="642960" y="642960"/>
            <a:ext cx="3429000" cy="36511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02-befcar_300.jpg"/>
          <p:cNvPicPr/>
          <p:nvPr/>
        </p:nvPicPr>
        <p:blipFill>
          <a:blip r:embed="rId2"/>
          <a:stretch/>
        </p:blipFill>
        <p:spPr>
          <a:xfrm>
            <a:off x="4429080" y="2357280"/>
            <a:ext cx="4143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укрынис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Рисунок 3" descr="129003.jpg"/>
          <p:cNvPicPr/>
          <p:nvPr/>
        </p:nvPicPr>
        <p:blipFill>
          <a:blip r:embed="rId1"/>
          <a:stretch/>
        </p:blipFill>
        <p:spPr>
          <a:xfrm>
            <a:off x="2714760" y="571680"/>
            <a:ext cx="371448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5:30:12Z</dcterms:created>
  <dc:creator>FuckYouBill</dc:creator>
  <dc:description/>
  <dc:language>en-US</dc:language>
  <cp:lastModifiedBy>FuckYouBill</cp:lastModifiedBy>
  <dcterms:modified xsi:type="dcterms:W3CDTF">2010-04-20T16:50:20Z</dcterms:modified>
  <cp:revision>13</cp:revision>
  <dc:subject/>
  <dc:title>Сатирические образы человека</dc:title>
</cp:coreProperties>
</file>