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DB0C-307E-4AA2-BE43-3A7A5546F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C9DB-5C38-4AFD-BCD4-12DCE454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C90A-0973-4A5E-92FA-C288D79EF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0A89-BE17-4437-9B1B-0C7706B61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7E2C-2EEF-41D7-B589-95EA00F09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D9FD-6C66-4A1A-8FFA-D4E3B822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97800-5A64-482F-BF18-1839770E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10D71-F60B-4347-A150-D72148E8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535E-C4CA-4461-B657-29C8F2A0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0F80-C540-471B-AC34-7B30F8BE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C445-3F06-41C3-BA89-4B328FBD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162E-E42D-4FB3-AE5E-7BBED41F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04EF-CDB8-46DB-B5C3-A46A76A1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B521-79DD-45FC-A25D-F01A06D9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3DBE-3D1B-4591-95FC-C36BDF59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5602-5D19-48A1-8109-BFFE1CFC9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15C9-EE3E-4EF1-BD78-762EC5142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BA4C-D0D2-4755-938D-18A678E7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E5BD-72D6-4208-84E1-8275987D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4585-C2A7-48F2-ADF5-96F885DA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80E7-81A2-4B9B-95DC-C0790C9D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EB9D-430E-46AD-B0BA-9AF45746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933B-1A52-44AB-B5EF-181E2E95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2444-35C7-49C2-80F3-66590DE6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44B9-9657-4B05-B257-B3B5A7A8EF9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F035-1098-45B4-94A7-760CF522715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720720" y="260280"/>
            <a:ext cx="734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йонная учебно-исследовательск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ференции «Поиск и творчество-2017»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2713680" y="3684600"/>
            <a:ext cx="581328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р работы: Сайдаров Мурат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ащийся 10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сто выполнения: МБОУ Лагутнинская СОШ, х. Лагутн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ководитель: учитель русского языка и литерату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.А. Борис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4178520" y="567576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7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"/>
          <p:cNvSpPr/>
          <p:nvPr/>
        </p:nvSpPr>
        <p:spPr>
          <a:xfrm>
            <a:off x="539640" y="1397160"/>
            <a:ext cx="770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минация: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аучные искания молодых «Гуманитарное направлен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БНО-ИССЛЕДОВАТЕЛЬСКАЯ (ТВОРЧЕСКАЯ)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теме: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рудности изучения русского языка как неродног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вязанные с особенностями турецкого язы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люч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: Сопоставив особенности двух языков, можно сделать вывод, что данные языки имеют как сходства, так и значительные различия, которые вызывают особые затруднения, а иногда и полное непонимание у детей турецкой национальности. Но русский язык является государственным, и знать его должен каждый гражданин нашей страны. Возможно, нижеперечисленные мероприятия помогут детям турецкой национальности овладеть русским языком в совершенств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рганизация дополнительных занятий, на которых трудные правила русского языка рассматривались бы в сопоставлении с турецк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пуск  вспомогательной дополнительной литературы, которая помогала бы совершенствовать навыки правописания дома без посторонней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рганизация курсов русского языка для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Спасиб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за внимание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3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нашей школе обучаются ребята, для которых русский язык не является родным (40 %). В основном это дети турецкой националь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Актуальность темы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зкая грамотность, неумение правильно сформулировать мысль — именно об этом  говорят сейчас в нашем государстве на всех уровнях. Возможно, результаты нашего исследования помогут в обучении ребят, для которых русский язык не является родным, но является нужным и важны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Цель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исследования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явление имеющихся особенностей и закономерностей турецкого языка в сопоставлении с особенностями и закономерностями русского язы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Задачи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фактическом материале выявить особенности, имеющиеся в турецком языке в сопоставлении с данными русского язык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казать сходства и различия фонетической системы турецкого и русского язы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смотреть особенности словообразования в турецком язык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смотреть грамматические особенности образования новых форм в турецком язык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анализировать трудности, связанные с порядком слов в предложе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Предмет исследования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фонетика, словообразование, морфология, синтаксис турецкого и русского язы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Методы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сследование, сопоставительно-сравнительный анали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Значимость и ценность полученных результатов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актическая значимость работы заключается в том, что результаты исследования могут быть использованы при составлении пособий для детей турецкой национальности по русскому язы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обенности русского и турецкого язы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усский язы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урецкий язы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7"/>
          <p:cNvSpPr/>
          <p:nvPr/>
        </p:nvSpPr>
        <p:spPr>
          <a:xfrm>
            <a:off x="2268360" y="2133720"/>
            <a:ext cx="216000" cy="718920"/>
          </a:xfrm>
          <a:prstGeom prst="downArrow">
            <a:avLst>
              <a:gd name="adj1" fmla="val 50000"/>
              <a:gd name="adj2" fmla="val 8320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8"/>
          <p:cNvSpPr/>
          <p:nvPr/>
        </p:nvSpPr>
        <p:spPr>
          <a:xfrm>
            <a:off x="6588000" y="2133720"/>
            <a:ext cx="216000" cy="718920"/>
          </a:xfrm>
          <a:prstGeom prst="downArrow">
            <a:avLst>
              <a:gd name="adj1" fmla="val 50000"/>
              <a:gd name="adj2" fmla="val 8320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685440" y="3507480"/>
            <a:ext cx="3373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котором доминиру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овоизменение при помощ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лексий — оконча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четающих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ра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сколько знач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1403640" y="2996280"/>
            <a:ext cx="19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лектив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5365080" y="299628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гглютинатив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4933440" y="3645000"/>
            <a:ext cx="3355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котором доминирующ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пом словоизмен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яется агглютин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«приклеивание») различ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нтов (суффикс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чём каждый из них несё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олько одно знач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ходства и различия фонетической системы турецкого и русского языков, их влияние на орфографи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В турецком языке восемь гласных букв: a, ı, o, u, e, i, ö, ü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и делятся на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твёрдые (kalın): a, ı, o, u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мягкие (ince): e, i, ö, 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В турецком языке отсутствует шипящая согласная «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щ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) По правилам турецкого языка, если слово из нескольких слогов кончается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на глухую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огласную p, ç, t, k и после неё стоит окончание или приставка следующего слова, начинающаяся с гласной, тогда эта глухая согласная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меняется на звонкую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русском языке 10 гласных букв, они не бывают твёрдыми или мягкими, это уже признаки соглас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А значит звук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  <a:ea typeface="Arial"/>
              </a:rPr>
              <a:t>щ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приводит к затруднениям в произношении, буква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  <a:ea typeface="Arial"/>
              </a:rPr>
              <a:t>Щ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часто заменяется буквой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  <a:ea typeface="Arial"/>
              </a:rPr>
              <a:t>Ш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) В русском языке такое недопустимо,  мы знаем орфограмму правописания парных звонких и глухих согласных на конце слов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у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ду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у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лу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у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тру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691920" y="5274360"/>
            <a:ext cx="4092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ola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ящик) - dola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ı (этот ящик)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toka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кулак) - toka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ı (этот кулак)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çocu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ребёнок) - çocu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ğ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u (этого ребёнка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обенности словообраз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9480" y="1600200"/>
            <a:ext cx="7707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ффиксы, которые служат для образования уменьшительно-ласкательных прилагательны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421000"/>
            <a:ext cx="79250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усском языке:          В турецком язы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нь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(бе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нь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й)                   -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cı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(-cık, -cik, -cuk, -cü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нь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(лёг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нь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й)                   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çık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-çık, -çik, -çuk, -çü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uf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cı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крошечный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min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ci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малютк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ой способ образования слов является общим для обоих языков, поэтому особых затруднений не вызывает.</a:t>
            </a:r>
            <a:r>
              <a:rPr b="0" lang="ru-RU" sz="2000" spc="-1" strike="noStrike">
                <a:solidFill>
                  <a:srgbClr val="00000a"/>
                </a:solidFill>
                <a:latin typeface="Arial"/>
                <a:ea typeface="DejaVu Sans"/>
              </a:rPr>
              <a:t> Но остальные способы образования (особенно приставочный) ввиду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DejaVu Sans"/>
              </a:rPr>
              <a:t>отсутствия аналогии в турецком языке </a:t>
            </a:r>
            <a:r>
              <a:rPr b="0" lang="ru-RU" sz="2000" spc="-1" strike="noStrike">
                <a:solidFill>
                  <a:srgbClr val="00000a"/>
                </a:solidFill>
                <a:latin typeface="Arial"/>
                <a:ea typeface="DejaVu Sans"/>
              </a:rPr>
              <a:t>требуют от учащихся максимальных усилий.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амматические особенности образования новых форм в турецком язы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412640"/>
            <a:ext cx="79250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турецком языке существуют более сложные правила присоединения аффиксов , причём это не только словообразовательные суффиксы, но и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предикативные суффикс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которые служат для образования новых форм слова (например,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для образования формы времени, для образования утвердительной, отрицательной, вопросительной формы слова или предложен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539640" y="2564280"/>
            <a:ext cx="77774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ьмём в качестве примера название филь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усть они не сбивают воздушного зме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турецком языке это будет звучать так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Uçurtmayı vurmasınla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685800" y="3934080"/>
            <a:ext cx="703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предложение можно разложить следующим образ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Uçurtma-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yı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vur-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ma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sın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la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ловно перевод будет выглядеть та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оздушный змей-его сбивать-не-пусть-он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ончание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yı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азывает на определённый винительный падеж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m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значает отрицан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sı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показатель повелительного наклон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la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аффикс сказуемости III лица мн.ч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собенности морфологи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0920" y="134100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Моя папа» или «мой мам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всех тюркских языках отсутствует грамматическая категория рода. </a:t>
            </a:r>
            <a:r>
              <a:rPr b="0" lang="ru-RU" sz="2000" spc="-1" strike="noStrike">
                <a:solidFill>
                  <a:srgbClr val="00000a"/>
                </a:solidFill>
                <a:latin typeface="Times New Roman"/>
                <a:ea typeface="DejaVu Sans"/>
              </a:rPr>
              <a:t>В турецком языке местоимений, указывающих на род  просто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DejaVu Sans"/>
              </a:rPr>
              <a:t>НЕТ</a:t>
            </a:r>
            <a:r>
              <a:rPr b="0" lang="ru-RU" sz="2000" spc="-1" strike="noStrike">
                <a:solidFill>
                  <a:srgbClr val="00000a"/>
                </a:solidFill>
                <a:latin typeface="Times New Roman"/>
                <a:ea typeface="DejaVu Sans"/>
              </a:rPr>
              <a:t>. Русские слова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DejaVu Sans"/>
              </a:rPr>
              <a:t>ОН, ОНА</a:t>
            </a:r>
            <a:r>
              <a:rPr b="0" lang="ru-RU" sz="2000" spc="-1" strike="noStrike">
                <a:solidFill>
                  <a:srgbClr val="00000a"/>
                </a:solidFill>
                <a:latin typeface="Times New Roman"/>
                <a:ea typeface="DejaVu Sans"/>
              </a:rPr>
              <a:t>,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DejaVu Sans"/>
              </a:rPr>
              <a:t>ОНО </a:t>
            </a:r>
            <a:r>
              <a:rPr b="0" lang="ru-RU" sz="2000" spc="-1" strike="noStrike">
                <a:solidFill>
                  <a:srgbClr val="00000a"/>
                </a:solidFill>
                <a:latin typeface="Times New Roman"/>
                <a:ea typeface="DejaVu Sans"/>
              </a:rPr>
              <a:t>на турецкий переводятся одним словом –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DejaVu Sans"/>
              </a:rPr>
              <a:t>О – он</a:t>
            </a:r>
            <a:r>
              <a:rPr b="0" lang="ru-RU" sz="2000" spc="-1" strike="noStrike">
                <a:solidFill>
                  <a:srgbClr val="00000a"/>
                </a:solidFill>
                <a:latin typeface="Times New Roman"/>
                <a:ea typeface="DejaVu San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 все же есть несколько способов определения пол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50000"/>
              </a:lnSpc>
              <a:spcBef>
                <a:spcPts val="349"/>
              </a:spcBef>
              <a:spcAft>
                <a:spcPts val="1001"/>
              </a:spcAft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. Лексический: </a:t>
            </a:r>
            <a:r>
              <a:rPr b="0" lang="ru-RU" sz="1400" spc="-1" strike="noStrike">
                <a:solidFill>
                  <a:srgbClr val="00000a"/>
                </a:solidFill>
                <a:latin typeface="Times New Roman"/>
                <a:ea typeface="DejaVu Sans"/>
              </a:rPr>
              <a:t>erkek — «мужчина»; kız — «дочь», «девушк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50000"/>
              </a:lnSpc>
              <a:spcBef>
                <a:spcPts val="349"/>
              </a:spcBef>
              <a:spcAft>
                <a:spcPts val="1001"/>
              </a:spcAft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a"/>
                </a:solidFill>
                <a:latin typeface="Times New Roman"/>
                <a:ea typeface="DejaVu Sans"/>
              </a:rPr>
              <a:t>2. Синтаксический способ реализуется в словосочетаниях, состоящих из общевидового слова (названия) и определяющего слова, указывающего на принадлежность к определенному полу, например: erkek </a:t>
            </a:r>
            <a:r>
              <a:rPr b="0" lang="ru-RU" sz="1400" spc="-1" strike="noStrike">
                <a:solidFill>
                  <a:srgbClr val="ff0000"/>
                </a:solidFill>
                <a:latin typeface="Times New Roman"/>
                <a:ea typeface="DejaVu Sans"/>
              </a:rPr>
              <a:t>inek</a:t>
            </a:r>
            <a:r>
              <a:rPr b="0" lang="ru-RU" sz="1400" spc="-1" strike="noStrike">
                <a:solidFill>
                  <a:srgbClr val="00000a"/>
                </a:solidFill>
                <a:latin typeface="Times New Roman"/>
                <a:ea typeface="DejaVu Sans"/>
              </a:rPr>
              <a:t> — «бык», dişi  </a:t>
            </a:r>
            <a:r>
              <a:rPr b="0" lang="ru-RU" sz="1400" spc="-1" strike="noStrike">
                <a:solidFill>
                  <a:srgbClr val="ff0000"/>
                </a:solidFill>
                <a:latin typeface="Times New Roman"/>
                <a:ea typeface="DejaVu Sans"/>
              </a:rPr>
              <a:t>inek</a:t>
            </a:r>
            <a:r>
              <a:rPr b="0" lang="ru-RU" sz="1400" spc="-1" strike="noStrike">
                <a:solidFill>
                  <a:srgbClr val="00000a"/>
                </a:solidFill>
                <a:latin typeface="Times New Roman"/>
                <a:ea typeface="DejaVu Sans"/>
              </a:rPr>
              <a:t> — «корова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50000"/>
              </a:lnSpc>
              <a:spcBef>
                <a:spcPts val="139"/>
              </a:spcBef>
              <a:spcAft>
                <a:spcPts val="139"/>
              </a:spcAft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a"/>
                </a:solidFill>
                <a:latin typeface="Arial"/>
                <a:ea typeface="Times New Roman"/>
              </a:rPr>
              <a:t>Отсутствие предлогов. </a:t>
            </a:r>
            <a:r>
              <a:rPr b="0" lang="ru-RU" sz="1600" spc="-1" strike="noStrike">
                <a:solidFill>
                  <a:srgbClr val="00000a"/>
                </a:solidFill>
                <a:latin typeface="Times New Roman"/>
                <a:ea typeface="DejaVu Sans"/>
              </a:rPr>
              <a:t>В турецком языке нет предлогов, </a:t>
            </a:r>
            <a:r>
              <a:rPr b="0" lang="ru-RU" sz="1400" spc="-1" strike="noStrike">
                <a:solidFill>
                  <a:srgbClr val="00000a"/>
                </a:solidFill>
                <a:latin typeface="Times New Roman"/>
                <a:ea typeface="DejaVu Sans"/>
              </a:rPr>
              <a:t>но есть пять падежей, которые их заменяют. Падежи образуются при помощи прибавления к существительным </a:t>
            </a:r>
            <a:r>
              <a:rPr b="0" lang="ru-RU" sz="1400" spc="-1" strike="noStrike">
                <a:solidFill>
                  <a:srgbClr val="ff0000"/>
                </a:solidFill>
                <a:latin typeface="Times New Roman"/>
                <a:ea typeface="DejaVu Sans"/>
              </a:rPr>
              <a:t>специальных окончаний </a:t>
            </a:r>
            <a:r>
              <a:rPr b="0" lang="ru-RU" sz="1400" spc="-1" strike="noStrike">
                <a:solidFill>
                  <a:srgbClr val="00000a"/>
                </a:solidFill>
                <a:latin typeface="Times New Roman"/>
                <a:ea typeface="DejaVu Sans"/>
              </a:rPr>
              <a:t>(аффиксов)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50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a"/>
                </a:solidFill>
                <a:latin typeface="Times New Roman"/>
                <a:ea typeface="DejaVu Sans"/>
              </a:rPr>
              <a:t>             </a:t>
            </a:r>
            <a:r>
              <a:rPr b="0" lang="ru-RU" sz="1600" spc="-1" strike="noStrike">
                <a:solidFill>
                  <a:srgbClr val="00000a"/>
                </a:solidFill>
                <a:latin typeface="Times New Roman"/>
                <a:ea typeface="DejaVu Sans"/>
              </a:rPr>
              <a:t>Например: </a:t>
            </a:r>
            <a:r>
              <a:rPr b="0" i="1" lang="en-US" sz="1600" spc="-1" strike="noStrike">
                <a:solidFill>
                  <a:srgbClr val="00000a"/>
                </a:solidFill>
                <a:latin typeface="Times New Roman"/>
                <a:ea typeface="DejaVu Sans"/>
              </a:rPr>
              <a:t>patron</a:t>
            </a:r>
            <a:r>
              <a:rPr b="0" lang="ru-RU" sz="1600" spc="-1" strike="noStrike">
                <a:solidFill>
                  <a:srgbClr val="00000a"/>
                </a:solidFill>
                <a:latin typeface="Times New Roman"/>
                <a:ea typeface="DejaVu Sans"/>
              </a:rPr>
              <a:t> – начальник    </a:t>
            </a:r>
            <a:r>
              <a:rPr b="0" i="1" lang="en-US" sz="1600" spc="-1" strike="noStrike">
                <a:solidFill>
                  <a:srgbClr val="00000a"/>
                </a:solidFill>
                <a:latin typeface="Times New Roman"/>
                <a:ea typeface="DejaVu Sans"/>
              </a:rPr>
              <a:t>patron</a:t>
            </a:r>
            <a:r>
              <a:rPr b="1" i="1" lang="en-US" sz="1600" spc="-1" strike="noStrike">
                <a:solidFill>
                  <a:srgbClr val="ff0000"/>
                </a:solidFill>
                <a:latin typeface="Times New Roman"/>
                <a:ea typeface="DejaVu Sans"/>
              </a:rPr>
              <a:t>da</a:t>
            </a:r>
            <a:r>
              <a:rPr b="1" lang="en-US" sz="1600" spc="-1" strike="noStrike">
                <a:solidFill>
                  <a:srgbClr val="00000a"/>
                </a:solidFill>
                <a:latin typeface="Times New Roman"/>
                <a:ea typeface="DejaVu Sans"/>
              </a:rPr>
              <a:t> </a:t>
            </a:r>
            <a:r>
              <a:rPr b="0" lang="ru-RU" sz="1600" spc="-1" strike="noStrike">
                <a:solidFill>
                  <a:srgbClr val="00000a"/>
                </a:solidFill>
                <a:latin typeface="Times New Roman"/>
                <a:ea typeface="DejaVu Sans"/>
              </a:rPr>
              <a:t>– у началь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рядок слов в предложе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енности образования различных грамматических форм в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урецком язык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лияют на построение целого предложения. По правилам турецкого языка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казуемое всегда стоит на последнем мес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одлежащее — дополнение — сказуемо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ма раму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ыл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усском язык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рядок слов гораздо подвижне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одлежащее — сказуемое — дополнение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ма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ыл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ра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му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ыл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ма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ыл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раму м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1" dur="20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6" dur="2000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1" dur="2000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5:21:58Z</dcterms:created>
  <dc:creator>Борисова Галина Алексеевна</dc:creator>
  <dc:description/>
  <dc:language>en-US</dc:language>
  <cp:lastModifiedBy>user</cp:lastModifiedBy>
  <dcterms:modified xsi:type="dcterms:W3CDTF">2017-04-25T09:39:03Z</dcterms:modified>
  <cp:revision>21</cp:revision>
  <dc:subject/>
  <dc:title>Слайд 1</dc:title>
</cp:coreProperties>
</file>