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7BC3-63DD-4627-B89A-DCF5F648DD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EAE1-2152-4289-B1E8-6C5158CCC3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B02E-92AD-4E41-AE14-B823290C19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00BC-BCDC-482A-85A9-B869DDB5A3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716B-C3D1-4CD1-9338-83E8EF2B04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72E8-42C4-4DD5-A5B7-40927CD3AC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7CB1-9F31-4AE6-AF63-7C57C06B95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841A-EB3C-49E6-A9C2-15895059F9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1D26-9A9F-4209-A1EA-D561410D14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4BB6-8AD6-46E1-A75C-347ECF31B9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4A0A-8401-4CC5-A365-EFF4366C61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54B2-7823-4509-A2DD-C4E144749F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8195-4C3B-40E9-A282-84ADAA3F5F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50B3-398C-4A42-B16A-76140BA1A6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9674-2493-4C9D-9B0A-6CB5DAB33C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105B-C939-4646-A3A0-B8D55EE5DF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5B08-75F2-4FB5-A4A2-17DEDEA20A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463D-10D4-4BE9-9BC8-79E030CB95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E82A-48F8-46BB-B092-FA2FE567CB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29F-F3F8-457C-A91B-29CD26DF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BFA-5622-412E-90F0-E9DA2CB5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337-C896-4646-A105-02B9A102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C7A-8A6C-4913-80F7-B43EBCDF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EF98-79D9-4485-95C0-0CFE89AA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FAC9-9F4E-43C3-BF0D-5B7600E4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F998-DAF6-4B98-8BA8-EA727C53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E724-C22D-4B36-BCC0-F2D61E33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94F7-D41B-4FF6-9986-A98D56DC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C9C7-B00D-43AE-B33C-916B5590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C8BB-3624-44AA-98CF-81EA56B4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ED4-DFD6-4220-946C-FE77FB44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475F-96CA-4D8D-B249-D9E65582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B258-CD59-4641-97F5-D1959C8F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6E8E-13CA-49EC-A10D-F0E69986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87EB-89B5-43B0-95FF-31B3E4F8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FAAB-0EE1-49F0-87BE-B498A4A5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CBD8-5106-4F5C-B2C3-DAE9C353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77E29-954D-4D04-917D-ECF61BF9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E2B6-F48A-41F9-B744-244CB390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CA169-260C-4CA8-BECB-CB5BC1EE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B22CA-B9E1-4619-810F-829AA0C3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1DA-6EF4-4EC2-949E-BE002EC9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CC5D8-1A85-41E5-9182-36E4E62D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24B6-5854-4E1F-9608-228903A2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3E3C-67F5-49E4-B453-9CEF114C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D797-5F53-4DE3-A85B-EE808D9D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E030F-4288-4078-9972-9F3DB6A2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21D95-19FA-4E53-B3A3-95976AF5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7F7A4-A850-431B-A3C4-C1D5BF03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A5084-6576-4532-82B7-53A88A5A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8BBAE-2F21-42D2-AB2F-8973FF8F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35282-ABC7-4769-9B07-2DC5502D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5B3-BD76-41BD-A15C-A628890B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1E798-F489-4938-967E-21770AE6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33792-4A41-44FC-A1AE-12DC9E56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F3461-88AE-43E7-957B-908F9304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ED67A-29FD-4DF3-900F-EFE469C7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CD28E-FE4C-4F99-9DB4-A0C9B386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5D747-266E-4DF0-AEA8-29F622C5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18654-6174-4528-B0C7-A2D670BF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D2285-D42C-4830-8297-2045F8E2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9BC5E-730B-429B-B8B8-7E5AF4B3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B53AD-3099-48BE-A44D-1E05C145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861-84B7-41CB-9248-749E5815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39676-AD85-405B-908F-64D8A825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AC196-5969-4B95-AD44-8D22B749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DBC7A-C599-45C1-A24C-487CE4B0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57F2D-A46B-40D8-82D2-CC03464B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B9961-2595-40DC-97C3-06C8D0F3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299D6-5493-49E6-BFA7-3F235577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4034A-C611-471C-B643-7008C4C4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2150B-7712-4853-B99C-306CFF28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FCE76-0E4F-4C10-A207-CB0B7413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52F12-B6AE-46A7-AD84-338FE8BF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6864-E62E-49F9-B585-35BB5C94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C1D10-9D1E-4AD2-9890-B6551DD4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8F3-820C-4BDD-9B77-214B6F94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0C4-3518-403D-A1E7-0E49BF4E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B2D-FE09-4F74-881F-3552490A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Маркина Елена Петровна  МОУ СОШ №7 г.Петропавловск-Камчат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6B97-E35B-4AB7-9E6F-01D7AFE3639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Маркина Елена Петровна  МОУ СОШ №7 г.Петропавловск-Камчат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5683-9606-4181-89B1-B8D9644198D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Маркина Елена Петровна  МОУ СОШ №7 г.Петропавловск-Камчат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8894-D78D-48F5-8EBA-EC5C6FADFA4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Маркина Елена Петровна  МОУ СОШ №7 г.Петропавловск-Камчат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4A19-02D1-4522-80A8-B8378E1B966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Маркина Елена Петровна  МОУ СОШ №7 г.Петропавловск-Камчат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4D66-FC37-4FBE-A969-2B012FFAF45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657600" y="3276360"/>
            <a:ext cx="518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9a8d1"/>
                </a:solidFill>
                <a:latin typeface="Trebuchet MS"/>
              </a:rPr>
              <a:t>5 «Г» класс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380880" y="5105520"/>
            <a:ext cx="3353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БОУ СОШ №2 г.Кызы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читель русского языка и литературы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унгаа Долана Николаев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51A1-F73B-44FE-8BC1-7BE7CC3660A0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493560" y="480960"/>
            <a:ext cx="8498160" cy="3116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CE8D-ACF4-4239-BEBE-862EB157EA55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689040" y="334800"/>
            <a:ext cx="7089840" cy="12924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830160" y="1982520"/>
            <a:ext cx="72662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 русском языке 10 знаков препинания. Они выполняют разную роль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Знаки завершения ставятся в конце предложений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Знаки разделения ставятся внутри предложения (они разделяют слова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Знаки выделения тоже ставятся внутри предложения, но они выделяют слов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ED33-5F79-40D9-B484-B82878C717F4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89040" y="334800"/>
            <a:ext cx="7089840" cy="1292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1219320" y="19807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Упр.118 стр.49. (устно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78880" indent="-57888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-Для чего нужны знаки препинания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78880" indent="-57888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-Читаем текст упражнения. Определите его основную мысль.(Знаки препинания необходимы для правильного чтения и понимания текста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78880" indent="-57888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-Сжато изложите содержание текста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78880" indent="-57888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B018-58B9-4207-B9E9-04E2E306A08F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1146240" y="244440"/>
            <a:ext cx="6778440" cy="14922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1066680" y="22093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«Раз» - поднять руки вверх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«Два» - нагнуться до земли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е сгибайте, дети, ноги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гда касаетесь вы пол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«Три-четыре» - прямо стать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Будем снова начина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Нижний колонтитул 1"/>
          <p:cNvSpPr/>
          <p:nvPr/>
        </p:nvSpPr>
        <p:spPr>
          <a:xfrm>
            <a:off x="990720" y="533520"/>
            <a:ext cx="58672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) Графический диктан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 Читаю стихотворение С.Маршака «Знаки препинания», дети записывают только знаки препинания, о которых рассказывается в стихотворени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.Я.МАРШАК «ЗНАКИ ПРЕПИНАНИЯ»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Номер слайда 2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C2B0-D4A6-467E-884A-BAFFBFF8BCBE}" type="slidenum">
              <a:rPr b="1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F4CC-8629-45B0-AF58-5FEA2139C29E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609480" y="60480"/>
            <a:ext cx="7998120" cy="19206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-360" y="2590920"/>
            <a:ext cx="3048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У последней ТОЧКИ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На последней строчке</a:t>
            </a: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Собралась компания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Знаков препинания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Прибежал Чудак-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ВОСКЛИЦАТЕЛЬНЫЙ ЗНАК.</a:t>
            </a: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!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Никогда он не молчит,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Оглушительно кричит: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-Ура! Долой! Караул! Разбой!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Притащился кривоносый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ВОПРОСИТЕЛЬНЫЙ ЗНАК:</a:t>
            </a: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-Кто? Кого? Откуда? Как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Явились ЗАПЯТЫЕ,  </a:t>
            </a: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,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Девицы завитые,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Живут они в диктовке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7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На каждой остановке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70480" y="2590560"/>
            <a:ext cx="3773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Прискакало ДВОЕТОЧИЕ,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Прикатило МНОГОТОЧИЕ,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…</a:t>
            </a:r>
            <a:br>
              <a:rPr sz="1500"/>
            </a:b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И прочие,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И прочие,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И прочие…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Заявили запятые: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-Мы- особы занятые,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Не обходится без нас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Ни диктовка, ни рассказ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Отозвалась с той же строчки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Тетя ТОЧКА С ЗАПЯТОЙ: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-Если нет над вами точки,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6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Запятая-знак пустой!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76D7-1468-4DB2-942B-BAE595AD8F65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СКОЛЬКО ВЫ ЗАПИСАЛИ ЗНАКОВ ПРЕПИНАНИЯ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7 знаков препина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А их 10.Каких знаков препинания не хватает в диктанте? Допишите и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(«…»    -       (    )  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3) Упр.117 стр.49.(Списать первый абзац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4)Проверка выполненного упражн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1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0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0126-A7EA-4435-AA13-DC10447897E7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689040" y="334800"/>
            <a:ext cx="7089840" cy="1292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143000" y="190476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Что нового вы узнали на уроке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Какой раздел науки о языке изучает словосочетание и предложение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Что изучает пунктуация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ДОМ.ЗАДАНИЕ: УПР.115 стр.47. Выучить определения Синтаксиса и Пунктуаци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1F05-AB03-4DC8-AA72-F01BD09D0684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0" name="Rectangle 4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6937200" cy="14986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83772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§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24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стр.47 Теория: СИНТАКСИ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§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25 стр.48 Теория: ПУНКТУАЦ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Каждая единица языка – звук, морфема, слово, словосочетание, предложение – выполняет свою роль в общении людей. Например, слова служат для наименования предметов, явлений деятельности (мира), их свойств. Но вот перед нами слова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листва, словно, золотой, в, вода, закружиться, на, звезда, пруд, бабочки, легкая, лететь, розоватый, стая, с, замиранье.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Каждое слово в отдельности понятно, но неясно, какая мысль сообщается с помощью этих слов. Чтобы выразить мысль, нужно соединить эти слова по законам предложения, связать их по смыслу. Вот такую картину нарисовал из этих слов известный русский поэт Сергей Есенин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Закружилась листва золота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В розоватой воде на пруду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Словно бабочек легкая ста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С замираньем летит на звезд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028F-0E36-4BF9-B14A-E0E82780BAD4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0" y="689040"/>
            <a:ext cx="7010280" cy="15001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Упражнение 118 стр. 49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       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А.П. Чехов писал: «Знаки препинания служат нотами при чтении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      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Убедимся в справедливости этого утверждения. Попробуем понять записанный без знаков, например, такой текст: «Утром мы отправились на охоту за детьми дома оставили присматривать тетю Дашу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       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Все ли ясно? А ведь когда-то в Древней Руси писали не только без знаков препинания, но и без пробелов между словами. Представляете, как трудно было читать и понимать такую запись? Древние рукописи прочитаны учеными, но, к сожалению, не все понятно. Много «темных мест» осталось как раз из-за отсутствия знаков препинани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         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Теперь поставим точку в  тексте, записанном без нее: «Утром мы отправились на охоту. За детьми дома оставили присматривать тетю Дашу». Страшно подумать, что получилось бы, если бы мы поставили точку после слов </a:t>
            </a:r>
            <a:r>
              <a:rPr b="1" lang="ru-RU" sz="16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за детьм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9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2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5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8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1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547F-742C-4E0C-B986-E466E918D4D2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пражнение 117 стр. 49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С каждым часом ночь холоде..т, к рассвету воздух уже обжига..т лицо легким морозом полотнища палатки чуть-чуть провиса..т, и трава седе..т от первого утренника пора вставать на востоке уже наливае..ся тихим светом заря уже виднею..ся огромные очертания ив, уже меркнут звезд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                               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(К.Г. Паустовский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12F6-7B20-4CD9-8E87-9199911C952A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7" name="Rectangle 4" descr=""/>
          <p:cNvPicPr/>
          <p:nvPr/>
        </p:nvPicPr>
        <p:blipFill>
          <a:blip r:embed="rId1"/>
          <a:stretch/>
        </p:blipFill>
        <p:spPr>
          <a:xfrm>
            <a:off x="2670120" y="182520"/>
            <a:ext cx="6729480" cy="21826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1066680" y="228564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ТЕМА: Синтаксис и пунктуац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ЦЕЛИ: Сформулировать понятия синтаксиса и пунктуации. Привить любовь и уважение к русскому языку. Пополнение словарного запаса учащихс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ОРУДОВАНИЕ: доска, таблица с определением синтаксиса и пунктуации, компьютер, мультимедийный проектор, экран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1F72-8DBD-4B14-A957-34906A3DD364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пражнение 115 стр. 47 (д.з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пишите, раскрывая скобки и соблюдая принятые в русском языке законы связи слов. Расставьте недостающие запяты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          </a:t>
            </a: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Я люблю осень даже (самая поздняя) но не ту, которую любят все, я люблю не (морозный, ветреный) дни; я люблю (теплый, серый, тихий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и, </a:t>
            </a: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пожалуй, дождливый) дн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             </a:t>
            </a: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Осень, (глубокий) осень! (Серый) небо (ни..кий, тяжелый, влажный) обл..ка; (гол и прозрачен) ст..новятся сады рощи и леса. Все видно насквозь в самой (глухая древесная) чащ.. , куда летом (не) проникал глаз ч...ловеческ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  </a:t>
            </a: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(С.Т. Аксаков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B278-DC8E-44FD-9525-2778B2A27516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0" name="Rectangle 6" descr=""/>
          <p:cNvPicPr/>
          <p:nvPr/>
        </p:nvPicPr>
        <p:blipFill>
          <a:blip r:embed="rId1"/>
          <a:stretch/>
        </p:blipFill>
        <p:spPr>
          <a:xfrm>
            <a:off x="2859120" y="182520"/>
            <a:ext cx="6553080" cy="21826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усский язык: учебник для 5 кл. ОУ / (Т.А. Ладыженская, М.Т. Баранов, Л.А. Тростенцова и др.) – 35-изд. – М. : Просвещение, 2008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анимательные материалы по русскому языку: учебное издание / (А.Т. Арсирий.) – М. : Просвещение, 1995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дсказки на каждый день: На уроке в 5 классе: Русский язык, тетрадь 1/ (Т.Ю. Угроватова.): Хабаровск: Изд-во РИОТИП краевой типографии № 1, 1994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0" dur="6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3" dur="6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6" dur="6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4C39-D7A9-4B25-9A60-4F30623D7F68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841320" y="244440"/>
            <a:ext cx="6778800" cy="1492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91404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ИНТАКСИС И ПУНКТУАЦ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ХОД УРОК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1. ПОВТОРЕН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ловар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ЭТО ИНТЕРЕСН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2. РАБОТА ПО УЧЕБНИ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3. СЛОВО УЧИТЕЛ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4. ЗАКРЕПЛЕ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5.ФИЗМИНУТК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6. ИТОГ УРОК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7. ПРИЛОЖЕН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3" dur="15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6" dur="15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15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2" dur="15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5" dur="15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8" dur="15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1" dur="15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4" dur="15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7" dur="15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0" dur="15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3" dur="150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DDFF-D6DE-4305-B4EA-340A1460BFE5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Rectangle 4" descr=""/>
          <p:cNvPicPr/>
          <p:nvPr/>
        </p:nvPicPr>
        <p:blipFill>
          <a:blip r:embed="rId1"/>
          <a:stretch/>
        </p:blipFill>
        <p:spPr>
          <a:xfrm>
            <a:off x="152280" y="92160"/>
            <a:ext cx="6778800" cy="1492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219320" y="19807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Здравствуйте, дети! Знатоки русского языка! Я приглашаю вас на турнир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ружие - мел и ручка. Победит тот, кто первым назовет раздел, который мы будем изучать в течение нескольких уроков, и первым напишет это название в своей тетради и на доск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ам надо правильно ответить на все вопросы по повторению, чтобы отгадать тему нашего уро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13" descr=""/>
          <p:cNvPicPr/>
          <p:nvPr/>
        </p:nvPicPr>
        <p:blipFill>
          <a:blip r:embed="rId1"/>
          <a:stretch/>
        </p:blipFill>
        <p:spPr>
          <a:xfrm>
            <a:off x="1371600" y="139680"/>
            <a:ext cx="5778360" cy="12873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85440" y="1371240"/>
            <a:ext cx="777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ервая буква в названии части речи, обозначающей предме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 какой буквы пишем название падежа, который узнаем по   вопросу КТО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 какой буквы пишем название неизменяемой части речи (один из вопросов к ней -КАК?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ервая буква в названии падежа, отвечающего на вопрос КЕМ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ья буква в названии части речи, обозначающей действ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уква, стоящая последней в названии изучаемого нами предмет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ервая буква в н6азвании части слова, стоящей между корнем и окончание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а буква -самый распространенный союз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вук, который мы слышим на конце слова ГРУЗ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ПИШИТЕ НАЗВАНИЕ НОВОГО РАЗДЕЛ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35388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  ПУНКТУАЦ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0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838080" y="4952880"/>
          <a:ext cx="7461360" cy="612720"/>
        </p:xfrm>
        <a:graphic>
          <a:graphicData uri="http://schemas.openxmlformats.org/drawingml/2006/table">
            <a:tbl>
              <a:tblPr/>
              <a:tblGrid>
                <a:gridCol w="830520"/>
                <a:gridCol w="826920"/>
                <a:gridCol w="830160"/>
                <a:gridCol w="830520"/>
                <a:gridCol w="825480"/>
                <a:gridCol w="830160"/>
                <a:gridCol w="830160"/>
                <a:gridCol w="827280"/>
                <a:gridCol w="830160"/>
              </a:tblGrid>
              <a:tr h="61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  <p:sp>
        <p:nvSpPr>
          <p:cNvPr id="285" name="Номер слайда 6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4FAF-B6FA-4AEE-89E0-5306BBD7545E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0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3145-A25E-4D3D-B35B-627F32FD7951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Rectangle 4" descr=""/>
          <p:cNvPicPr/>
          <p:nvPr/>
        </p:nvPicPr>
        <p:blipFill>
          <a:blip r:embed="rId1"/>
          <a:stretch/>
        </p:blipFill>
        <p:spPr>
          <a:xfrm>
            <a:off x="3200400" y="-212760"/>
            <a:ext cx="3962520" cy="1492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990360" y="1980720"/>
            <a:ext cx="7467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СИНТАКСИС – ( из др. – греч.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yntaxis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– составление, построение, порядок) это раздел науки о языке, в котором изучаются словосочетание и предложение, правила их постро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ПУНКТУАЦИЯ – ( от лат.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Punctum –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точка) это раздел науки о языке, в котором изучается система знаков препинания и правила их постановк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CAE7-009D-4017-B9A4-4A01A624D87C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0" name="Rectangle 4" descr=""/>
          <p:cNvPicPr/>
          <p:nvPr/>
        </p:nvPicPr>
        <p:blipFill>
          <a:blip r:embed="rId1"/>
          <a:stretch/>
        </p:blipFill>
        <p:spPr>
          <a:xfrm>
            <a:off x="993600" y="139680"/>
            <a:ext cx="7016760" cy="1287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До конца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XV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века текст писался или вообще без промежутков между словами, или делился на нерасчлененные отрезк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Раньше всех была введена ТОЧКА, затем ЗАПЯТА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- Сегодня мы с вами познакомимся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 новым разделом, который называется СИНТАКСИС и ПУНКТУАЦ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CE15-B32B-494D-B210-187AE891541D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3" name="Rectangle 4" descr=""/>
          <p:cNvPicPr/>
          <p:nvPr/>
        </p:nvPicPr>
        <p:blipFill>
          <a:blip r:embed="rId1"/>
          <a:stretch/>
        </p:blipFill>
        <p:spPr>
          <a:xfrm>
            <a:off x="585720" y="-60480"/>
            <a:ext cx="8796240" cy="14925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1219320" y="213336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6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авайте разберемся в значении слов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ИНТАКСИС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) Чтение параграфа 24 стр.47. (теори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Как переводится  с греческого язык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лово СИНТАКСИС? (составление, построение, порядок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Что изучает этот раздел науки о языке? (Словосочетание и предложение, правила их построени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Чему мы будем учиться, изучая этот раздел? (строить правильно словосочетания и предложения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1393-A70F-43EA-AD08-2378D9CD1CAA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2) – На доске разбросаны слова пословиц. Попробуем из них составить предложения так, чтобы получились пословицы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(птица, перо, красный, ум, а, человек); (не собьется,старый, с пути, конь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КРАСНА ПТИЦА ПЕРОМ, А ЧЕЛОВЕК  красен УМОМ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СТАРЫЙ КОНЬ НЕ СОБЬЕТСЯ С ПУТИ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-О чем эти пословицы? (О животных судят по внешности, а о человеке - по уму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-Получились прекрасные пословицы. В них можно выделить словосочетания. Какие?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        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(Красна пером, красен умом) (Старый конь, не собьется с пути)Перевод: (Куш чуглери-биле чараш, кижи – угааны-биле); (Кырган аът орук часпас)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-Итак, мы увидели, как слова связываются в цепочку, построили предложение, нашли словосочетания. Теперь запишите под мою диктовку начало предложения и завершите его самостоятельно: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Раздел науки о языке СИНТАКСИС изучает: (словосочетание и предложение, правила их построения)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20000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9678-989F-45BF-8989-98429D8B35E2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3) –Постойте-ка! В названии темы урока два слова. Что же означает второе слово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УНКТУАЦИЯ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Читаем параграф 25стр.48 (теор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Что изучает пунктуация?(знаки препинания и их постановку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ЗАПИСЬ НА ДОСКЕ: Я подошел к калитке с громким лаем, навстречу мне выбежал Барбос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Что вам не нравится  в этом предложении?(дети исправляют пунктуационную ошибку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Ошибкоопасные места в предложении называются пунктограммами.( Это слово записано на  карточке, прикрепленной к доске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wscom</cp:lastModifiedBy>
  <dcterms:modified xsi:type="dcterms:W3CDTF">2015-11-13T16:36:27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