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5CC5-57C4-4017-AE67-48C71B2C16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895C-5FFA-4189-B67E-D59CB010D1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66F3-48BF-492D-82E1-37AD288817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9133-706E-4CD8-8007-F1E30BE997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BC73-5C9E-46B2-AC8F-19143DFE55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EB75-93BB-4675-BADF-D0C36A5C6C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DDA8-04F8-4D4B-9DA9-9F976D6761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553B-443E-4272-BFDC-AB3ED11E1C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60DD-9C72-43DA-BE27-B206A56138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35C6-1F0A-495F-AEB1-ADB637B891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18D9-39BD-4494-8AFC-FEE21BCC24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CE1A-24B4-431E-970E-45C5A5D278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FB3F-D437-4AA9-AFE9-7D19F0A375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D36C-18BB-4C1C-844F-C8AD8EC08E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8C11-69D6-4DCA-A4FE-A68D3CC6C4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3F18-A77A-43AE-80EA-3D6784D076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8529-3333-4466-97B9-18372DD242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A09-2672-4E41-9944-083C32FC5C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9955-7955-494C-BD94-BA562C9D58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049-EF87-4FE7-96F5-9501F38A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2A8-754E-4BCD-B8E5-22344848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FE0-ABFA-4909-827C-64B301BE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555-AAFA-4C74-BDE6-E4625487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3398-2AFF-4C0A-8ACF-BDE48466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88DD-1E97-44E9-8380-578DD9FB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4511-8AFE-4DB5-9650-3FCDE06D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9CD6-6C8B-4C52-800D-6E42DFF7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62A7-DA93-4341-BD6F-D497C315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F647-83FC-482D-94DD-9050EA07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00EC-136B-4F0A-98EA-7B31D10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5C7-9BD2-4119-A01F-2093E6DD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B051-71AF-4EB3-9183-35D6D8A2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7801-4DE0-42D0-9040-657A6354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6B60-6EB0-4EE9-89EE-95E88FF4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648F-4460-4DC7-A71A-8C74CE8A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BD45-ACCE-4A9D-83B5-40E9A3ED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C8EB-2F79-41ED-8223-992B938B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C1CAA-8CE3-4B4D-BD9D-F93EC13C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8384-BD94-4B64-881B-90680085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C2781-A010-4C2F-A1B6-96FD12DB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46D4-D495-4F37-97F0-0BE250A9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8A2-42EA-474E-872C-7221F74B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759A-13F2-4193-B9D4-F06F66FF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6E85-0E83-4E1B-8C70-07A80149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696D-B1FA-431C-86C5-9E641F4B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C2DE-6492-4984-ACA9-3456BFA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4407-4E09-4D24-8FAE-A2FEA89B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41A7-58EE-43FC-A95C-825D7DE9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AB5DC-1C02-45E9-AD74-B1E765BE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1F4A-024A-41C0-92AB-0DC4B3D7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32DE1-3CE7-4412-BA19-DD8992C4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2E64-1ACE-4B73-96F1-A69791CF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BAE-A84E-413E-B363-8B21518B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1D88-BDDF-46B2-9A2C-12A21DDE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AF1A7-45AB-4571-B203-202D6BBD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B9BC8-C317-4159-B3E1-224D3AC7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7003-98C1-48E7-96A2-8270F235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A4290-1CC0-4B94-B2CA-39A47EB6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A76A-C8ED-4C98-8675-348DCD98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E4CF-65C8-48F2-A63D-5052D36C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F544-C20B-41BF-A40E-CA79D9A2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7F310-CD0E-47BA-8A94-395A49DA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6CF66-2FE3-494E-B87D-17F0AEFB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450-6114-4CCE-A7B7-44F19DED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28FE2-3706-4CC3-BA5B-A0DE43D0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33E4-C9BF-430C-8F44-479754E0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0C8AB-2EAB-4E0D-A319-31947B8B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390CC-F06F-4B30-9577-2ACC64C1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8189B-7216-4C9B-93FA-67C47F68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EAAAA-38A1-4427-BC0F-567B67CB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D56A8-2D17-4CAB-BB73-38704FB8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A7D77-D65D-4953-9EE4-02C6C84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2366-CB29-443C-898F-950AFBD6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E545-969A-47AC-A4DF-EA8108B9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4DD-8882-4382-BC41-A9F34A34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4A00-03E2-4FA5-9678-3EB52996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188-183F-4CB4-BC54-1A32255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1E8-05EF-456D-8635-46C464DA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350-CA60-4D9B-AEDF-CD265925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Маркина Елена Петровна  МОУ СОШ №7 г.Петропавловск-Камчат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4A4B-BDC9-4CB4-AF23-7F7EFB2FB1B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Маркина Елена Петровна  МОУ СОШ №7 г.Петропавловск-Камчат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36DC-9526-432D-B527-5EDE976C0DE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Маркина Елена Петровна  МОУ СОШ №7 г.Петропавловск-Камчат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62D4-0B41-44BC-86A5-D692DB41A54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Маркина Елена Петровна  МОУ СОШ №7 г.Петропавловск-Камчат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20C-E2B4-48EF-9FEF-796671CA096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Маркина Елена Петровна  МОУ СОШ №7 г.Петропавловск-Камчат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9CB6-CE8B-46C9-BCBD-0E549C76BDA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657600" y="3276360"/>
            <a:ext cx="518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a8d1"/>
                </a:solidFill>
                <a:latin typeface="Trebuchet MS"/>
              </a:rPr>
              <a:t>5 «Г» класс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380880" y="5105520"/>
            <a:ext cx="3353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БОУ СОШ №2 г.Кызы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унгаа Долана Николаев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9815-28D8-47C0-B6B5-A82AC65D1139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493560" y="480960"/>
            <a:ext cx="8498160" cy="311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5D01-6A36-494D-B54D-378FB5F3B1D1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689040" y="334800"/>
            <a:ext cx="7089840" cy="12924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830160" y="1982520"/>
            <a:ext cx="72662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русском языке 10 знаков препинания. Они выполняют разную рол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Знаки завершения ставятся в конце предложений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Знаки разделения ставятся внутри предложения (они разделяют слова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Знаки выделения тоже ставятся внутри предложения, но они выделяют слов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5723-E9B7-40C1-848D-5438901EC333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89040" y="334800"/>
            <a:ext cx="7089840" cy="1292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1219320" y="1980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Упр.118 стр.49. (устно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-Для чего нужны знаки препинания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-Читаем текст упражнения. Определите его основную мысль.(Знаки препинания необходимы для правильного чтения и понимания текста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-Сжато изложите содержание текст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D187-7681-4817-9467-D98F0E5499E6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1146240" y="244440"/>
            <a:ext cx="6778440" cy="1492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1066680" y="22093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«Раз» - поднять руки вверх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«Два» - нагнуться до земли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е сгибайте, дети, ноги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гда касаетесь вы пол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«Три-четыре» - прямо стать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удем снова начин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ижний колонтитул 1"/>
          <p:cNvSpPr/>
          <p:nvPr/>
        </p:nvSpPr>
        <p:spPr>
          <a:xfrm>
            <a:off x="990720" y="533520"/>
            <a:ext cx="58672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) Графический диктан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Читаю стихотворение С.Маршака «Знаки препинания», дети записывают только знаки препинания, о которых рассказывается в стихотворени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.Я.МАРШАК «ЗНАКИ ПРЕПИНАНИЯ»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Номер слайда 2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D43-3F21-4570-8740-00A617C5F316}" type="slidenum"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10FA-FC43-4B2C-B365-9BE15D392BE6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7998120" cy="19206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-360" y="259092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У последней ТОЧКИ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На последней строчке</a:t>
            </a: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Собралась компания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Знаков препинания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Прибежал Чудак-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ВОСКЛИЦАТЕЛЬНЫЙ ЗНАК.</a:t>
            </a: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Никогда он не молчит,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Оглушительно кричит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-Ура! Долой! Караул! Разбой!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Притащился кривоносый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ВОПРОСИТЕЛЬНЫЙ ЗНАК:</a:t>
            </a: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-Кто? Кого? Откуда? Как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Явились ЗАПЯТЫЕ,  </a:t>
            </a: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,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Девицы завитые,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Живут они в диктовке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На каждой остановке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70480" y="2590560"/>
            <a:ext cx="3773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Прискакало ДВОЕТОЧИЕ,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Прикатило МНОГОТОЧИЕ,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…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И прочие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И прочие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И прочие…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Заявили запятые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-Мы- особы занятые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Не обходится без нас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Ни диктовка, ни рассказ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Отозвалась с той же строчки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Тетя ТОЧКА С ЗАПЯТОЙ: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-Если нет над вами точки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Запятая-знак пустой!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D1CC-CE19-4817-B0DF-F560B26A452B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СКОЛЬКО ВЫ ЗАПИСАЛИ ЗНАКОВ ПРЕПИНАНИЯ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7 знаков препина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А их 10.Каких знаков препинания не хватает в диктанте? Допишите и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(«…»    -       (    )  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) Упр.117 стр.49.(Списать первый абзац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4)Проверка выполненного упражн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1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0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C0C5-9CD8-46C8-BD5C-F292E1021318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689040" y="334800"/>
            <a:ext cx="7089840" cy="1292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143000" y="190476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Что нового вы узнали на уроке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акой раздел науки о языке изучает словосочетание и предложение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Что изучает пунктуация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ДОМ.ЗАДАНИЕ: УПР.115 стр.47. Выучить определения Синтаксиса и Пунктуаци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9C3A-C0CF-4FC6-A1D7-4128403DDD21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0" name="Rectangle 4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6937200" cy="14986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8377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§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24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стр.47 Теория: СИНТАКСИ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§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25 стр.48 Теория: ПУНКТУАЦ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Каждая единица языка – звук, морфема, слово, словосочетание, предложение – выполняет свою роль в общении людей. Например, слова служат для наименования предметов, явлений деятельности (мира), их свойств. Но вот перед нами слова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листва, словно, золотой, в, вода, закружиться, на, звезда, пруд, бабочки, легкая, лететь, розоватый, стая, с, замиранье.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Каждое слово в отдельности понятно, но неясно, какая мысль сообщается с помощью этих слов. Чтобы выразить мысль, нужно соединить эти слова по законам предложения, связать их по смыслу. Вот такую картину нарисовал из этих слов известный русский поэт Сергей Есенин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Закружилась листва золота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В розоватой воде на пруду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Словно бабочек легкая ста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С замираньем летит на звезд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8696-DCBD-4D2C-8AE0-089AFD2E8F2A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0" y="689040"/>
            <a:ext cx="7010280" cy="15001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Упражнение 118 стр. 49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А.П. Чехов писал: «Знаки препинания служат нотами при чтении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     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Убедимся в справедливости этого утверждения. Попробуем понять записанный без знаков, например, такой текст: «Утром мы отправились на охоту за детьми дома оставили присматривать тетю Дашу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Все ли ясно? А ведь когда-то в Древней Руси писали не только без знаков препинания, но и без пробелов между словами. Представляете, как трудно было читать и понимать такую запись? Древние рукописи прочитаны учеными, но, к сожалению, не все понятно. Много «темных мест» осталось как раз из-за отсутствия знаков препинани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     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Теперь поставим точку в  тексте, записанном без нее: «Утром мы отправились на охоту. За детьми дома оставили присматривать тетю Дашу». Страшно подумать, что получилось бы, если бы мы поставили точку после слов </a:t>
            </a:r>
            <a:r>
              <a:rPr b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за детьм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2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F3C5-9071-4A23-A2F8-FE482B275799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пражнение 117 стр. 49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С каждым часом ночь холоде..т, к рассвету воздух уже обжига..т лицо легким морозом полотнища палатки чуть-чуть провиса..т, и трава седе..т от первого утренника пора вставать на востоке уже наливае..ся тихим светом заря уже виднею..ся огромные очертания ив, уже меркнут звезд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                             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(К.Г. Паустовский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12B9-1BDC-4898-98A0-C23F891EBA38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7" name="Rectangle 4" descr=""/>
          <p:cNvPicPr/>
          <p:nvPr/>
        </p:nvPicPr>
        <p:blipFill>
          <a:blip r:embed="rId1"/>
          <a:stretch/>
        </p:blipFill>
        <p:spPr>
          <a:xfrm>
            <a:off x="2670120" y="182520"/>
            <a:ext cx="6729480" cy="2182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066680" y="22856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ЕМА: Синтаксис и пунктуац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ЦЕЛИ: Сформулировать понятия синтаксиса и пунктуации. Привить любовь и уважение к русскому языку. Пополнение словарного запаса учащихс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ОРУДОВАНИЕ: доска, таблица с определением синтаксиса и пунктуации, компьютер, мультимедийный проектор, экра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2B76-6535-4B3F-8E03-71759B8FF445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пражнение 115 стр. 47 (д.з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пишите, раскрывая скобки и соблюдая принятые в русском языке законы связи слов. Расставьте недостающие запяты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        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Я люблю осень даже (самая поздняя) но не ту, которую любят все, я люблю не (морозный, ветреный) дни; я люблю (теплый, серый, тихи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и,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пожалуй, дождливый) дн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            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Осень, (глубокий) осень! (Серый) небо (ни..кий, тяжелый, влажный) обл..ка; (гол и прозрачен) ст..новятся сады рощи и леса. Все видно насквозь в самой (глухая древесная) чащ.. , куда летом (не) проникал глаз ч...ловеческ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(С.Т. Аксаков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1E16-A4C1-4C59-B423-2670B001F333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0" name="Rectangle 6" descr=""/>
          <p:cNvPicPr/>
          <p:nvPr/>
        </p:nvPicPr>
        <p:blipFill>
          <a:blip r:embed="rId1"/>
          <a:stretch/>
        </p:blipFill>
        <p:spPr>
          <a:xfrm>
            <a:off x="2859120" y="182520"/>
            <a:ext cx="6553080" cy="21826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усский язык: учебник для 5 кл. ОУ / (Т.А. Ладыженская, М.Т. Баранов, Л.А. Тростенцова и др.) – 35-изд. – М. : Просвещение, 2008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нимательные материалы по русскому языку: учебное издание / (А.Т. Арсирий.) – М. : Просвещение, 1995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дсказки на каждый день: На уроке в 5 классе: Русский язык, тетрадь 1/ (Т.Ю. Угроватова.): Хабаровск: Изд-во РИОТИП краевой типографии № 1, 1994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0" dur="6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3" dur="6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6" dur="6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E773-F594-4128-B66F-4FBE3369657C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841320" y="244440"/>
            <a:ext cx="6778800" cy="1492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91404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НТАКСИС И ПУНКТУАЦ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ХОД УРО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. ПОВТОРЕН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ловар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ЭТО ИНТЕРЕСН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2. РАБОТА ПО УЧЕБНИ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. СЛОВО УЧИТЕЛ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4. ЗАКРЕПЛ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5.ФИЗМИНУТ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6. ИТОГ УРО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7. ПРИЛОЖЕ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3" dur="15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6" dur="15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15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2" dur="15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5" dur="15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8" dur="15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1" dur="15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4" dur="15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7" dur="15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0" dur="15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3" dur="15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F112-0E87-4A1B-B149-7BED52047BD1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Rectangle 4" descr=""/>
          <p:cNvPicPr/>
          <p:nvPr/>
        </p:nvPicPr>
        <p:blipFill>
          <a:blip r:embed="rId1"/>
          <a:stretch/>
        </p:blipFill>
        <p:spPr>
          <a:xfrm>
            <a:off x="152280" y="92160"/>
            <a:ext cx="6778800" cy="1492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19320" y="1980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Здравствуйте, дети! Знатоки русского языка! Я приглашаю вас на турнир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ружие - мел и ручка. Победит тот, кто первым назовет раздел, который мы будем изучать в течение нескольких уроков, и первым напишет это название в своей тетради и на доск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ам надо правильно ответить на все вопросы по повторению, чтобы отгадать тему нашего уро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13" descr=""/>
          <p:cNvPicPr/>
          <p:nvPr/>
        </p:nvPicPr>
        <p:blipFill>
          <a:blip r:embed="rId1"/>
          <a:stretch/>
        </p:blipFill>
        <p:spPr>
          <a:xfrm>
            <a:off x="1371600" y="139680"/>
            <a:ext cx="5778360" cy="12873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777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вая буква в названии части речи, обозначающей предм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 какой буквы пишем название падежа, который узнаем по   вопросу КТО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 какой буквы пишем название неизменяемой части речи (один из вопросов к ней -КАК?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вая буква в названии падежа, отвечающего на вопрос КЕМ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ья буква в названии части речи, обозначающей действ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уква, стоящая последней в названии изучаемого нами предмет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вая буква в н6азвании части слова, стоящей между корнем и окончание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а буква -самый распространенный союз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вук, который мы слышим на конце слова ГРУЗ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ПИШИТЕ НАЗВАНИЕ НОВОГО РАЗДЕЛ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  ПУНКТУАЦ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838080" y="4952880"/>
          <a:ext cx="7461360" cy="612720"/>
        </p:xfrm>
        <a:graphic>
          <a:graphicData uri="http://schemas.openxmlformats.org/drawingml/2006/table">
            <a:tbl>
              <a:tblPr/>
              <a:tblGrid>
                <a:gridCol w="830520"/>
                <a:gridCol w="826920"/>
                <a:gridCol w="830160"/>
                <a:gridCol w="830520"/>
                <a:gridCol w="825480"/>
                <a:gridCol w="830160"/>
                <a:gridCol w="830160"/>
                <a:gridCol w="827280"/>
                <a:gridCol w="830160"/>
              </a:tblGrid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sp>
        <p:nvSpPr>
          <p:cNvPr id="285" name="Номер слайда 6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980D-3967-43B6-A954-F140619C83F9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0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0BFD-4695-4B2E-AC7A-7D1661223782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Rectangle 4" descr=""/>
          <p:cNvPicPr/>
          <p:nvPr/>
        </p:nvPicPr>
        <p:blipFill>
          <a:blip r:embed="rId1"/>
          <a:stretch/>
        </p:blipFill>
        <p:spPr>
          <a:xfrm>
            <a:off x="3200400" y="-212760"/>
            <a:ext cx="3962520" cy="1492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990360" y="1980720"/>
            <a:ext cx="7467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СИНТАКСИС – ( из др. – греч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yntaxis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– составление, построение, порядок) это раздел науки о языке, в котором изучаются словосочетание и предложение, правила их постро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ПУНКТУАЦИЯ – ( от лат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Punctum –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точка) это раздел науки о языке, в котором изучается система знаков препинания и правила их постановк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8161-A5D5-43FF-9D12-40FAD14C215E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Rectangle 4" descr=""/>
          <p:cNvPicPr/>
          <p:nvPr/>
        </p:nvPicPr>
        <p:blipFill>
          <a:blip r:embed="rId1"/>
          <a:stretch/>
        </p:blipFill>
        <p:spPr>
          <a:xfrm>
            <a:off x="993600" y="139680"/>
            <a:ext cx="7016760" cy="1287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До конца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XV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века текст писался или вообще без промежутков между словами, или делился на нерасчлененные отрезк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Раньше всех была введена ТОЧКА, затем ЗАПЯТА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- Сегодня мы с вами познакомимся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 новым разделом, который называется СИНТАКСИС и ПУНКТУАЦ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BF7E-1DB2-4395-9235-0FAC15978455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3" name="Rectangle 4" descr=""/>
          <p:cNvPicPr/>
          <p:nvPr/>
        </p:nvPicPr>
        <p:blipFill>
          <a:blip r:embed="rId1"/>
          <a:stretch/>
        </p:blipFill>
        <p:spPr>
          <a:xfrm>
            <a:off x="585720" y="-60480"/>
            <a:ext cx="8796240" cy="14925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1219320" y="213336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авайте разберемся в значении слов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НТАКСИС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) Чтение параграфа 24 стр.47. (теори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Как переводится  с греческого язык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ово СИНТАКСИС? (составление, построение, порядок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Что изучает этот раздел науки о языке? (Словосочетание и предложение, правила их построени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Чему мы будем учиться, изучая этот раздел? (строить правильно словосочетания и предложения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0B58-C62D-4710-AF87-DDB3CA163043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) – На доске разбросаны слова пословиц. Попробуем из них составить предложения так, чтобы получились пословицы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(птица, перо, красный, ум, а, человек); (не собьется,старый, с пути, конь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КРАСНА ПТИЦА ПЕРОМ, А ЧЕЛОВЕК  красен УМО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СТАРЫЙ КОНЬ НЕ СОБЬЕТСЯ С ПУТИ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-О чем эти пословицы? (О животных судят по внешности, а о человеке - по уму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-Получились прекрасные пословицы. В них можно выделить словосочетания. Какие?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        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(Красна пером, красен умом) (Старый конь, не собьется с пути)Перевод: (Куш чуглери-биле чараш, кижи – угааны-биле); (Кырган аът орук часпас)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-Итак, мы увидели, как слова связываются в цепочку, построили предложение, нашли словосочетания. Теперь запишите под мою диктовку начало предложения и завершите его самостоятельно: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Раздел науки о языке СИНТАКСИС изучает: (словосочетание и предложение, правила их построения)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0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22A9-E1A9-4A1B-B6AE-999699795FE9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) –Постойте-ка! В названии темы урока два слова. Что же означает второе слово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УНКТУАЦИЯ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Читаем параграф 25стр.48 (теор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Что изучает пунктуация?(знаки препинания и их постановку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ЗАПИСЬ НА ДОСКЕ: Я подошел к калитке с громким лаем, навстречу мне выбежал Барбос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Что вам не нравится  в этом предложении?(дети исправляют пунктуационную ошибку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Ошибкоопасные места в предложении называются пунктограммами.( Это слово записано на  карточке, прикрепленной к доске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wscom</cp:lastModifiedBy>
  <dcterms:modified xsi:type="dcterms:W3CDTF">2015-11-13T16:36:2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