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0D52F-0C4D-4C72-BBEA-387BCA0125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26C5C-930D-4821-A53E-103D766E94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AAB9D-603B-4E1A-A26C-4A2CCC77A7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D33D0-A47B-47F2-9E51-A74DD33BC32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023C3-141E-4815-B2F0-A6BC9BE4B0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8FF3C-B114-4236-A56E-DB83383CCA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DB54-DC3B-4111-B597-690E61435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44E6-B95C-4C94-86BA-2F26DBC8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F0AD-C557-4A08-BD77-3FE89E505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F7FF-A4D9-4ED5-A1DF-4F737B05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45B3-F7C2-4D2D-BA8B-FCCB6FF1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D6F1-8A66-4874-A3A9-A5856C77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ECAF-2ACE-4585-A6BB-207DB4C2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381D-66CF-4C85-B30C-449FED0B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0F9B-B4E4-4EED-A11C-BDAAB08A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5BCF-75CE-4FDC-BF1D-73A95823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8BE1-D9D1-4724-B5E2-8F159317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13E3-1C11-4545-A171-B4BD5EDB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AFE746E-C8B7-473F-81C3-DB0F1D6D82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1111320" y="1728720"/>
            <a:ext cx="83916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9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500" spc="-1" strike="noStrike">
                <a:solidFill>
                  <a:srgbClr val="000000"/>
                </a:solidFill>
                <a:latin typeface="Arial"/>
              </a:rPr>
              <a:t>Улица, на которой я живу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386400" y="6710400"/>
            <a:ext cx="3476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: Кучумов Даниил 9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7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9440" y="1800360"/>
            <a:ext cx="4354560" cy="50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82000"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живу в Рязани. Десять лет моя семья живет на улице Урицкого. Улица расположена недалеко от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атральной площад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ица была названа в честь член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вистк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артии Урицкого Моисея Саоломоновича. Но наша улица знаменита совсем другими челове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4392720" y="2087640"/>
            <a:ext cx="5729040" cy="38163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4319640" y="2016000"/>
            <a:ext cx="532764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л.Театра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Александра Солженицы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1080" y="1655640"/>
            <a:ext cx="4427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том 1957 на этой улицы в доме №17 поселился со своей женой Нобелевский лауреат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олженицы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лександр Исаевич и жил там до середины 1960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4608360" y="1944720"/>
            <a:ext cx="547236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ександр Солженицы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87000"/>
          </a:bodyPr>
          <a:p>
            <a:pPr marL="375480" indent="-281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нно в Рязани он написал «Один день Ивана Денисовича», «Матренин двор», «Случай на станции Кочетовка», «Для пользы дела», отдельные главы романа «В круге первом» и «Архипелаг ГУЛАГ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2680" y="1768320"/>
            <a:ext cx="4427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5616720" y="2160720"/>
            <a:ext cx="3671640" cy="38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белевский  лауре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3000"/>
          </a:bodyPr>
          <a:p>
            <a:pPr marL="401400" indent="-3009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 на улице Урицкого внесен в свод памятников культуры, существует проект открытия мемориалального музея Нобелевского лауреата и почетного гражданина Ряза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768320"/>
            <a:ext cx="4427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5145120" y="2448000"/>
            <a:ext cx="4435560" cy="293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7T20:53:00Z</dcterms:created>
  <dc:creator/>
  <dc:description/>
  <cp:keywords/>
  <dc:language>en-US</dc:language>
  <cp:lastModifiedBy>Лариса</cp:lastModifiedBy>
  <dcterms:modified xsi:type="dcterms:W3CDTF">2017-05-23T06:23:56Z</dcterms:modified>
  <cp:revision>3</cp:revision>
  <dc:subject/>
  <dc:title>Слайд 1</dc:title>
</cp:coreProperties>
</file>