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9DD81-2AE7-4CF7-BE30-270A73EED0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AD7D-D44E-4FD2-9469-B89AD136F4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47A78-9B12-4121-BE7F-5B8541216C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97B7F-21E0-487D-830C-C9103DD97E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5A865-AC46-4AE0-80F9-416C0E3472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B10A6-9D5C-40DE-96B4-A5970929D6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171-F419-4BBC-8EEB-84E9DEF7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175-BCBA-44DF-9E85-FF023C11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B79-10A3-4D8D-9086-7A8B1DE4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5DD-5101-49F5-966F-A5501F14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663-9028-475A-A419-4F5BAA5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BBB-CE07-4533-BEDC-3EF390F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F7E-2EC1-4752-8D50-E541DFFE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A6F-E460-486E-8106-F8A463CA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62D-9E87-46AB-A34B-B0A3619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0B6-E3E0-4E48-8FFC-747E824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C02-1AC9-43CD-A74D-630E5B2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A62-D4AB-4ED6-99C4-41B63D9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E33D83-7C7D-496E-95C6-C391872BB9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111320" y="1728720"/>
            <a:ext cx="8391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9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Arial"/>
              </a:rPr>
              <a:t>Улица, на которой я жив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6400" y="6710400"/>
            <a:ext cx="3476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Кучумов Даниил 9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440" y="1800360"/>
            <a:ext cx="43545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2000"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иву в Рязани. Десять лет моя семья живет на улице Урицкого. Улица расположена недалеко о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атральной площа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ица была названа в честь чле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ст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тии Урицкого Моисея Саоломоновича. Но наша улица знаменита совсем другими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392720" y="2087640"/>
            <a:ext cx="5729040" cy="3816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319640" y="2016000"/>
            <a:ext cx="53276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л.Театр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Александра Солженицы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1080" y="165564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1957 на этой улицы в доме №17 поселился со своей женой Нобелевский лауреат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лженицы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лександр Исаевич и жил там до середины 196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608360" y="194472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Солжениц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7000"/>
          </a:bodyPr>
          <a:p>
            <a:pPr marL="375480" indent="-281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в Рязани он написал «Один день Ивана Денисовича», «Матренин двор», «Случай на станции Кочетовка», «Для пользы дела», отдельные главы романа «В круге первом» и «Архипелаг ГУЛА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616720" y="2160720"/>
            <a:ext cx="367164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белевский  лауре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401400" indent="-3009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на улице Урицкого внесен в свод памятников культуры, существует проект открытия мемориалального музея Нобелевского лауреата и почетного гражданина Ряз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45120" y="2448000"/>
            <a:ext cx="44355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20:53:00Z</dcterms:created>
  <dc:creator/>
  <dc:description/>
  <cp:keywords/>
  <dc:language>en-US</dc:language>
  <cp:lastModifiedBy>Лариса</cp:lastModifiedBy>
  <dcterms:modified xsi:type="dcterms:W3CDTF">2017-05-23T06:23:56Z</dcterms:modified>
  <cp:revision>3</cp:revision>
  <dc:subject/>
  <dc:title>Слайд 1</dc:title>
</cp:coreProperties>
</file>