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A30-F328-4797-961D-0A31C6E7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241-2774-4B77-B592-468D09A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DCC-F091-43CB-A068-35A2BE74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980-4295-48E8-A94F-A174EFF5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A70E-95C2-4E75-B8FA-980C7CB0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96FA-E72F-4018-B62F-F076EB65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CE4E-C60E-4CCF-88A3-F81F4F40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A4C6-5343-4B40-8D8D-40DEDF1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1FC7-A69E-403A-B854-86C9A843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94DD-3827-4E95-9161-662465A7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6F84-FAA4-4D67-9FA0-BCB5464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4B7-A6DA-4D16-BD6D-B23EF88F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932A-47FD-4FAA-BE3B-C78C63A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3E2F-A4E6-4A3A-B28A-BF4F075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31B9-3AEC-498F-98B8-7024C37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FF0C-43FA-4C80-8079-3D41FD34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CC25-096D-4263-820A-73CF76E0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831-6D0F-4728-A7A8-C39370C4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1C1-1E51-4EC2-985F-E54E3061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052-4A62-4F28-9A29-DD38254B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623-8D98-40BC-B349-C97B0A88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A1E-669C-4C49-8786-FBBE7D6D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566-F5A5-443E-8AF1-67C843E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E9F-42B8-486F-A7B9-483DF760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ilano LET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ilano LET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lano LE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lano LE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1ED-8BAA-4B93-A443-1E3D56D472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ilano LET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ilano LET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lano LE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lano LE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D99F-BB0E-48E1-83E6-E398CC8E30A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ес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. Перейти Рубикон, означа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ерейти место вплав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 рискнуть всем ради поставленной цел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 пойти на хитрость и ков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. Какое пожизненное звание даровал сенат Цезар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дикт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сен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импер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1. Какое решение приняли враги Цезаря по отношению к н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решили его сместить с занимаемой дол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решили заточить его в тюрь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решили его уби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2. Когда был убит Юлий Цезар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в 44 г. до н.э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в 42 г. до н.э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в 40 г. до н.э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3. Кто принимал участие в убийстве Цеза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омп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 Бр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Анто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cc"/>
                </a:solidFill>
                <a:latin typeface="Garamond"/>
              </a:rPr>
              <a:t>Установление империи в Риме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Garamond"/>
              </a:rPr>
              <a:t>Задача урока: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выяснить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изменилась ли форм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равления в Риме после смерти Цезаря?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4">
            <a:hlinkClick r:id="rId1" action="ppaction://hlinksldjump"/>
          </p:cNvPr>
          <p:cNvSpPr/>
          <p:nvPr/>
        </p:nvSpPr>
        <p:spPr>
          <a:xfrm>
            <a:off x="8532720" y="6093000"/>
            <a:ext cx="466920" cy="504720"/>
          </a:xfrm>
          <a:custGeom>
            <a:avLst/>
            <a:gdLst>
              <a:gd name="textAreaLeft" fmla="*/ 30240 w 466920"/>
              <a:gd name="textAreaRight" fmla="*/ 436680 w 46692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47">
                <a:moveTo>
                  <a:pt x="0" y="0"/>
                </a:moveTo>
                <a:lnTo>
                  <a:pt x="21600" y="0"/>
                </a:lnTo>
                <a:lnTo>
                  <a:pt x="21600" y="23347"/>
                </a:lnTo>
                <a:lnTo>
                  <a:pt x="0" y="23347"/>
                </a:lnTo>
                <a:close/>
              </a:path>
              <a:path fill="lightenLess" w="21600" h="233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7">
                <a:moveTo>
                  <a:pt x="21600" y="0"/>
                </a:moveTo>
                <a:lnTo>
                  <a:pt x="21600" y="23347"/>
                </a:lnTo>
                <a:lnTo>
                  <a:pt x="20200" y="21947"/>
                </a:lnTo>
                <a:lnTo>
                  <a:pt x="20200" y="1400"/>
                </a:lnTo>
                <a:close/>
              </a:path>
              <a:path fill="darkenLess" w="21600" h="23347">
                <a:moveTo>
                  <a:pt x="21600" y="23347"/>
                </a:moveTo>
                <a:lnTo>
                  <a:pt x="0" y="23347"/>
                </a:lnTo>
                <a:lnTo>
                  <a:pt x="1400" y="21947"/>
                </a:lnTo>
                <a:lnTo>
                  <a:pt x="20200" y="21947"/>
                </a:lnTo>
                <a:close/>
              </a:path>
              <a:path fill="lighten" w="21600" h="23347">
                <a:moveTo>
                  <a:pt x="0" y="233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7"/>
                </a:lnTo>
                <a:close/>
              </a:path>
              <a:path fill="darken" w="21600" h="23347">
                <a:moveTo>
                  <a:pt x="3794" y="4667"/>
                </a:moveTo>
                <a:lnTo>
                  <a:pt x="17806" y="11674"/>
                </a:lnTo>
                <a:lnTo>
                  <a:pt x="3794" y="1868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lano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Garamond"/>
              </a:rPr>
              <a:t>План  изучения новой т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Обстановка в стране после смерти Цезар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Борьба Антония и Октавиана за вла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становление импер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Garamond"/>
              </a:rPr>
              <a:t>Борьба за власт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ТОНИЙ              ИЛИ         ОКТАВИАН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рим 006"/>
          <p:cNvPicPr/>
          <p:nvPr/>
        </p:nvPicPr>
        <p:blipFill>
          <a:blip r:embed="rId1"/>
          <a:stretch/>
        </p:blipFill>
        <p:spPr>
          <a:xfrm>
            <a:off x="826920" y="1341360"/>
            <a:ext cx="2737080" cy="316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рим 034"/>
          <p:cNvPicPr/>
          <p:nvPr/>
        </p:nvPicPr>
        <p:blipFill>
          <a:blip r:embed="rId2"/>
          <a:stretch/>
        </p:blipFill>
        <p:spPr>
          <a:xfrm>
            <a:off x="5651640" y="1341360"/>
            <a:ext cx="2520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АНТОНИЙ   И   КЛЕОПАТ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6" descr="рим 006"/>
          <p:cNvPicPr/>
          <p:nvPr/>
        </p:nvPicPr>
        <p:blipFill>
          <a:blip r:embed="rId1"/>
          <a:stretch/>
        </p:blipFill>
        <p:spPr>
          <a:xfrm>
            <a:off x="900000" y="1628640"/>
            <a:ext cx="3167280" cy="446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рим 012"/>
          <p:cNvPicPr/>
          <p:nvPr/>
        </p:nvPicPr>
        <p:blipFill>
          <a:blip r:embed="rId2"/>
          <a:stretch/>
        </p:blipFill>
        <p:spPr>
          <a:xfrm>
            <a:off x="4981680" y="160020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Каковы были особенности римской армии в 1 веке до н.э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состояла из чужеземных наём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набиралась из неимущих гражд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состояла только из добровольц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ПОСЛЕДНЯЯ ЦАРИЦА ЕГИП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8" descr="рим 005"/>
          <p:cNvPicPr/>
          <p:nvPr/>
        </p:nvPicPr>
        <p:blipFill>
          <a:blip r:embed="rId1"/>
          <a:stretch/>
        </p:blipFill>
        <p:spPr>
          <a:xfrm>
            <a:off x="250920" y="2565360"/>
            <a:ext cx="3960720" cy="324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рим 023"/>
          <p:cNvPicPr/>
          <p:nvPr/>
        </p:nvPicPr>
        <p:blipFill>
          <a:blip r:embed="rId2"/>
          <a:stretch/>
        </p:blipFill>
        <p:spPr>
          <a:xfrm>
            <a:off x="4859280" y="1557360"/>
            <a:ext cx="3889440" cy="238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рим 027"/>
          <p:cNvPicPr/>
          <p:nvPr/>
        </p:nvPicPr>
        <p:blipFill>
          <a:blip r:embed="rId3"/>
          <a:stretch/>
        </p:blipFill>
        <p:spPr>
          <a:xfrm>
            <a:off x="4932360" y="4221000"/>
            <a:ext cx="381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Garamond"/>
              </a:rPr>
              <a:t>Сражение у мыса Акц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31 год до н.э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ражение Антон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ибель Антония и          Клеопатр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Египет – римская прови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рим 026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Garamond"/>
              </a:rPr>
              <a:t>Единовластие Октавиан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30 г. до н.э.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4 г. до   н.э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тавиан объявил о прекращении гражданских войн и установлении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7" descr="рим 045"/>
          <p:cNvPicPr/>
          <p:nvPr/>
        </p:nvPicPr>
        <p:blipFill>
          <a:blip r:embed="rId1"/>
          <a:stretch/>
        </p:blipFill>
        <p:spPr>
          <a:xfrm>
            <a:off x="5076720" y="1268280"/>
            <a:ext cx="34624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Garamond"/>
              </a:rPr>
              <a:t>Октавиан Август</a:t>
            </a:r>
            <a:r>
              <a:rPr b="0" lang="ru-RU" sz="44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8" descr="рим 044"/>
          <p:cNvPicPr/>
          <p:nvPr/>
        </p:nvPicPr>
        <p:blipFill>
          <a:blip r:embed="rId1"/>
          <a:stretch/>
        </p:blipFill>
        <p:spPr>
          <a:xfrm>
            <a:off x="611280" y="1268280"/>
            <a:ext cx="3529080" cy="5589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мперия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государство, состоящее из территорий, лишенных экономической и политической самостоятельности и управляемых их одного цен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мператор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титул человека, управлявшего импер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Garamond"/>
              </a:rPr>
              <a:t>Власть Октавиан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вание импера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андование всеми римскими войс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жизненный народный трибу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рховный жр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ого раз избирался консу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правление провин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торианцы –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чн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жа императо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Garamond"/>
              </a:rPr>
              <a:t>Цицерон: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Тиран убит,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а власть его жив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4">
            <a:hlinkClick r:id="rId1" action="ppaction://hlinksldjump"/>
          </p:cNvPr>
          <p:cNvSpPr/>
          <p:nvPr/>
        </p:nvSpPr>
        <p:spPr>
          <a:xfrm>
            <a:off x="8532720" y="6237360"/>
            <a:ext cx="432000" cy="4302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10800"/>
                </a:moveTo>
                <a:lnTo>
                  <a:pt x="17852" y="3794"/>
                </a:lnTo>
                <a:lnTo>
                  <a:pt x="1785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lano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Garamond"/>
              </a:rPr>
              <a:t>Домашнее зад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араграф 5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ерми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опросы к параграф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очему люди шли служить в арми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им платили деньги за служ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им давали землю за служ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снабжали деньгами и давали раб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Между какими полководцами развернулась борьба за влас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Цезарь и Помп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Красс и Цезар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Красс и Помп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очему полководцы не считали своим соперником Цеза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он был боль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у него не было выдающихся засл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не был достаточно денег, чтобы стать сенато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Почему Цезарь смог стать консул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его поддержал нар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его выдвинули народные трибу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он убил своих соперников и завладел их титул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Военачальник, военный вождь в Древнем Риме называл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е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сен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олковод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Кто был опорой Цеза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леги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сенат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нар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В каком году Цезарь перешёл реку Рубико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50 г. до н.э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49 г. до н.э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46 г. до н.э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7:39:55Z</dcterms:created>
  <dc:creator>User</dc:creator>
  <dc:description/>
  <dc:language>en-US</dc:language>
  <cp:lastModifiedBy>Пользователь Windows</cp:lastModifiedBy>
  <dcterms:modified xsi:type="dcterms:W3CDTF">2017-04-27T15:28:42Z</dcterms:modified>
  <cp:revision>8</cp:revision>
  <dc:subject/>
  <dc:title>Установление империи в Риме</dc:title>
</cp:coreProperties>
</file>