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499-9BFB-4689-8FB9-E453CA59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A25-5895-44A5-B873-47DBF656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807-6AD0-47E0-8359-0FE29BAA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4C1-75B0-46F7-9952-628EF3AF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E082-F116-437E-BE2C-686A4EEE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8702-CB15-4764-94FC-58BB2DE4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1D0A-B85F-4EAF-B722-1AE2F1AE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31C4-DBB2-4E68-8DCA-4FB6F4F8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B012-C617-41D4-8775-5A0036C1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7DA7-ED80-4CD3-9B3F-FA01C2BB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8C83-016C-4E9E-9858-753B3FFA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2CC-5128-4506-8CC9-0F047E32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B6E2-9CE7-4308-B9B2-6001F426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4454-5A61-4E3A-A868-7718A7ED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4A2A-CD15-4824-9B74-B219F971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CC9F-DE97-4787-B82F-C0BAF889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FD5A-E5AB-4846-937A-B2C8EA80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F8D6-3F58-4ECA-A331-6064DCEE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102C-EDE1-417E-A96B-8931F6A9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A2B4-F527-4F00-B77E-16C3518F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BC62-09C4-4E84-916D-603176EB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45EE-CA28-429D-A4FF-A04FDDC4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0A7-A066-4053-A16B-814F763F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B7B0-0D75-41B9-B133-CF9F215F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508D-0757-4011-B739-EE7A4FBD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E478-7256-4C55-9EE9-EEE2BE4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74E9-C999-4EEE-9D3E-78F9277C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05C4-5360-491C-97EF-11AE2E2A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DEA4-53F9-4BC8-8343-50D8B98E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D651A-953D-43B9-BBD2-9F78509A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79DB-3142-41C4-B200-D49390CD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BD873-AE90-49DE-8968-67625E88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0C1C-36AB-4631-A9DA-8B8A75BD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359-78C2-4F87-B2B1-B2A815A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F666-7744-4B75-A1FA-72DAA485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E5685-A5A4-46BB-9669-5FF73B89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AB467-4487-4211-8304-2AE9D18F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DA38-2CC8-4E97-8F79-58AC6CA1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8BC0-49DD-4892-AD8F-9F9EC0E1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E6E4C-0D8C-488E-AD76-C71D6CF6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92BEE-89AB-4D9B-886C-3364C1C3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A551-FDED-4E0B-9BFC-7F5686B0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24B38-8BAE-47AD-A5E0-61A0BDE5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299-6B56-4955-9A74-C45E89E1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6E9-1561-4692-A49A-BD24B0AE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604-E51E-4F71-B0C4-249B20B7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87A-3B9F-4E9E-90AA-10876A68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D4C-F250-45AA-9998-B75AC9ED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70A-A095-43A1-B4A3-4CC4133A510E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2759-808B-477B-95BD-F16E4FF92CFB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3FE5-B58D-4223-BA84-DCC59B949DCE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B4E0-B7B6-4B20-BE88-E0EFDDC5BA4C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3" descr=""/>
          <p:cNvPicPr/>
          <p:nvPr/>
        </p:nvPicPr>
        <p:blipFill>
          <a:blip r:embed="rId1"/>
          <a:stretch/>
        </p:blipFill>
        <p:spPr>
          <a:xfrm>
            <a:off x="901800" y="360360"/>
            <a:ext cx="7967520" cy="2809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28400" y="2714760"/>
            <a:ext cx="7894440" cy="3946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Monotype Corsiva"/>
              </a:rPr>
              <a:t>«Разделяй и властвуй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Monotype Corsiva"/>
              </a:rPr>
              <a:t>мудрое правило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b0f0"/>
                </a:solidFill>
                <a:latin typeface="Monotype Corsiva"/>
              </a:rPr>
              <a:t>но «объединяй и направля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buClr>
                <a:srgbClr val="9bbb59"/>
              </a:buClr>
              <a:buSzPct val="95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b0f0"/>
                </a:solidFill>
                <a:latin typeface="Monotype Corsiva"/>
              </a:rPr>
              <a:t>еще лучше</a:t>
            </a:r>
            <a:r>
              <a:rPr b="1" lang="ru-RU" sz="4400" spc="-1" strike="noStrike">
                <a:solidFill>
                  <a:srgbClr val="00b0f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medodist\Pictures\фото\фото конкурс\день семьи 8 июля\IMG_1587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medodist\Pictures\библиотека А.Н. Корольковой\IMG_39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medodist\Pictures\библиотека А.Н. Корольковой\Юбилей Корольковой 15.02.2017 года\IMG_56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medodist\Pictures\утренник 9 мая\IMG_2217.JPG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medodist\Pictures\фото\фото конкурс\профсоюз конкурс\DSCN0464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medodist\Pictures\фото\фото конкурс\папа мама я спорт семья\IMG_0904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medodist\Pictures\фото\фото конкурс\рмо\DSC_0246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medodist\Pictures\фото\фото конкурс\25 января школа 2\IMG_1404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Constantia"/>
              </a:rPr>
              <a:t>Никогда не нужно стыдиться самой неудачи, стыдиться нужно страха перед неудачей 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Constantia"/>
              </a:rPr>
              <a:t>Илья Шевелев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onstanti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Мое профессиональное кредо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5796000" y="2276640"/>
            <a:ext cx="3073320" cy="4267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medodist\Pictures\фото\фото конкурс\рмо\DSC_0246.JPG"/>
          <p:cNvPicPr/>
          <p:nvPr/>
        </p:nvPicPr>
        <p:blipFill>
          <a:blip r:embed="rId2"/>
          <a:stretch/>
        </p:blipFill>
        <p:spPr>
          <a:xfrm>
            <a:off x="179280" y="2590920"/>
            <a:ext cx="5435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Создать свою теорию  взаимодействия с коллективом мне помогли следующие качества 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Креатив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Коммуникабель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целеустремленность и преданность дел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умение организовать себя и люд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забота о людях и о деле одновремен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Ориентация на конечный результа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entury Schoolbook"/>
              </a:rPr>
              <a:t>Управленческая команда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Century Schoolbook"/>
              </a:rPr>
              <a:t>« Звезда»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5" descr="C:\Users\medodist\Pictures\сад мы танцуем\DSC_0226.JPG"/>
          <p:cNvPicPr/>
          <p:nvPr/>
        </p:nvPicPr>
        <p:blipFill>
          <a:blip r:embed="rId1"/>
          <a:stretch/>
        </p:blipFill>
        <p:spPr>
          <a:xfrm>
            <a:off x="755640" y="1812960"/>
            <a:ext cx="74376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000"/>
                </a:solidFill>
                <a:latin typeface="Century Schoolbook"/>
              </a:rPr>
              <a:t>ЗВЕЗДА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onstantia"/>
              </a:rPr>
              <a:t>Завод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onstantia"/>
              </a:rPr>
              <a:t>Воспитан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onstantia"/>
              </a:rPr>
              <a:t>Единомышленник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onstantia"/>
              </a:rPr>
              <a:t>Заботлив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onstantia"/>
              </a:rPr>
              <a:t>Добр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onstantia"/>
              </a:rPr>
              <a:t>Амбициоз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Содержимое 3" descr=""/>
          <p:cNvPicPr/>
          <p:nvPr/>
        </p:nvPicPr>
        <p:blipFill>
          <a:blip r:embed="rId1"/>
          <a:stretch/>
        </p:blipFill>
        <p:spPr>
          <a:xfrm>
            <a:off x="360360" y="1773360"/>
            <a:ext cx="8229600" cy="4414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entury Schoolbook"/>
              </a:rPr>
              <a:t>Взаимодействие  с   командой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cxnSp>
        <p:nvCxnSpPr>
          <p:cNvPr id="219" name="Прямая со стрелкой 31"/>
          <p:cNvCxnSpPr/>
          <p:nvPr/>
        </p:nvCxnSpPr>
        <p:spPr>
          <a:xfrm flipH="1" flipV="1">
            <a:off x="4428720" y="3071520"/>
            <a:ext cx="38880" cy="4291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0" name="Прямая со стрелкой 33"/>
          <p:cNvCxnSpPr/>
          <p:nvPr/>
        </p:nvCxnSpPr>
        <p:spPr>
          <a:xfrm flipH="1" flipV="1">
            <a:off x="2856960" y="3714480"/>
            <a:ext cx="929160" cy="357840"/>
          </a:xfrm>
          <a:prstGeom prst="straightConnector1">
            <a:avLst/>
          </a:prstGeom>
          <a:ln w="38160">
            <a:solidFill>
              <a:srgbClr val="9bbb5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1" name="Прямая со стрелкой 37"/>
          <p:cNvCxnSpPr/>
          <p:nvPr/>
        </p:nvCxnSpPr>
        <p:spPr>
          <a:xfrm flipV="1">
            <a:off x="5143680" y="3785760"/>
            <a:ext cx="1072080" cy="357840"/>
          </a:xfrm>
          <a:prstGeom prst="straightConnector1">
            <a:avLst/>
          </a:prstGeom>
          <a:ln w="38160">
            <a:solidFill>
              <a:srgbClr val="9bbb5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2" name="Прямая со стрелкой 39"/>
          <p:cNvCxnSpPr/>
          <p:nvPr/>
        </p:nvCxnSpPr>
        <p:spPr>
          <a:xfrm flipH="1">
            <a:off x="3285360" y="4642200"/>
            <a:ext cx="500760" cy="3582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3" name="Прямая со стрелкой 41"/>
          <p:cNvCxnSpPr/>
          <p:nvPr/>
        </p:nvCxnSpPr>
        <p:spPr>
          <a:xfrm>
            <a:off x="5143320" y="4714920"/>
            <a:ext cx="572040" cy="357840"/>
          </a:xfrm>
          <a:prstGeom prst="straightConnector1">
            <a:avLst/>
          </a:prstGeom>
          <a:ln w="38160">
            <a:solidFill>
              <a:srgbClr val="9bbb59"/>
            </a:solidFill>
            <a:miter/>
            <a:headEnd len="med" type="arrow" w="med"/>
            <a:tailEnd len="med" type="arrow" w="med"/>
          </a:ln>
        </p:spPr>
      </p:cxnSp>
      <p:pic>
        <p:nvPicPr>
          <p:cNvPr id="224" name="Picture 11" descr=""/>
          <p:cNvPicPr/>
          <p:nvPr/>
        </p:nvPicPr>
        <p:blipFill>
          <a:blip r:embed="rId2"/>
          <a:stretch/>
        </p:blipFill>
        <p:spPr>
          <a:xfrm>
            <a:off x="3833640" y="3502080"/>
            <a:ext cx="12668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Schoolbook"/>
              </a:rPr>
              <a:t>Результаты взаимодействия с педагогами    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Целеустремлённость и преданность дел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Способность принимать  нестандартные реш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Умение организовывать себя и други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Забота о людях , детях и о деле одновремен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Справедлив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Умение анализировать и видеть перспектив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Мышление  «победителей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9680" y="1125360"/>
            <a:ext cx="81867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tantia"/>
              </a:rPr>
              <a:t>В качестве квинтэссенции моего профессионального  опыта предлагаю просмотреть  фото фрагменты  из мероприятий организованных в нашем детском саду, нашей командо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Users\medodist\Pictures\фото\фото конкурс\23 февраля\IMG_1124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2:54:19Z</dcterms:created>
  <dc:creator>ПК</dc:creator>
  <dc:description/>
  <dc:language>en-US</dc:language>
  <cp:lastModifiedBy>medodist</cp:lastModifiedBy>
  <dcterms:modified xsi:type="dcterms:W3CDTF">2017-09-13T12:12:02Z</dcterms:modified>
  <cp:revision>173</cp:revision>
  <dc:subject/>
  <dc:title>Слайд 1</dc:title>
</cp:coreProperties>
</file>