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F7B-A2B5-42B0-BDF6-3CB743B0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7CA-78AC-4933-86D8-D090A64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943-7BF0-4501-9ADD-26231087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37E-E8C2-4A30-AE59-4E4F97B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7700-4913-43F7-B125-4334965A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B683-826D-4E16-90F4-682BE387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667-A2B6-4103-8E02-C077F97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6D4C-EA74-4513-8C3B-9218EDC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E276-AE8B-46DA-8AF8-121C36F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657F-9F54-4DC7-8D23-63959BE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C15-4155-440D-9191-84692E1A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D90-9F65-4429-8229-2FCC4BE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DEF-BD93-45F8-A82C-8696B74B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CF2-2B3F-42E6-804E-6BB561A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D199-CBAA-475A-BF4F-00BE078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4CBC-A057-47FA-A586-B966103B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792-C7DB-46A5-ADD4-06C0EE5C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7BBB-4B4F-4F0F-8A70-AC2F8B7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F8A6-EB3D-420F-9445-49B2CAB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8043-9503-4E0B-BF35-19DDE9D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0F25-ED83-4C25-984A-5EC1FEAD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2373-80EA-4D75-926A-7F104BAF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41F-8EE2-4294-8D84-4AAFFDC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F24E-DB9C-4E1F-A0F2-E720CA5A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27A8-5A12-4BD6-AFDC-CB7D49E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FAB9-80C9-4981-9ADC-C30D995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21D5-A559-48C2-AB10-1AA3FEE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72BE-53E7-4A9A-9B73-BE86E3B1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41CA-CC64-4F30-9EBD-D3593811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47B0-C3DC-46FC-8C01-D8F39884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A9A-50A8-461C-A831-B27C8F19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809-C846-4CD1-985F-3338DFC0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DF7-FB86-48A4-BE78-7FBE44F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C9E-DE19-4E56-949C-BA6608E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3F1-BD71-418F-A424-0F80338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9E8-27FA-47AB-84E6-2DB3EB8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7949-10CA-4E25-BEBA-7A53F6EB3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F19C-AD57-4EF4-9670-5C776FA79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5C85-ECB6-40E9-8619-52AF2F926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0253f"/>
                </a:solidFill>
                <a:latin typeface="Segoe Script"/>
              </a:rPr>
              <a:t>Исконно русские и заимствован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4"/>
          <p:cNvSpPr/>
          <p:nvPr/>
        </p:nvSpPr>
        <p:spPr>
          <a:xfrm>
            <a:off x="857160" y="714240"/>
            <a:ext cx="7286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лебарда(фр.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hallebarde)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таринное холодное оружие в виде длинного копья с топориком или секирой различной формы на кон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14436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4436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5" descr="index.jpg"/>
          <p:cNvPicPr/>
          <p:nvPr/>
        </p:nvPicPr>
        <p:blipFill>
          <a:blip r:embed="rId1"/>
          <a:stretch/>
        </p:blipFill>
        <p:spPr>
          <a:xfrm>
            <a:off x="4429080" y="4429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142920" y="150012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очный вывоз людей из местности, представляющей для них опас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стирание тела в лечебных ц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ыпускник средней школы, претендующий на поступление в высшее учебное заве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стройство, предназначенное для прыжков с самол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мещение для стрельбы в ц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ывоз товаров за гра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00040" y="50004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Замените данные русские наименования заимствованными. Придумайте с ними предло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TextBox 4"/>
          <p:cNvGrpSpPr/>
          <p:nvPr/>
        </p:nvGrpSpPr>
        <p:grpSpPr>
          <a:xfrm>
            <a:off x="6351480" y="4065480"/>
            <a:ext cx="1835280" cy="750960"/>
            <a:chOff x="6351480" y="4065480"/>
            <a:chExt cx="1835280" cy="750960"/>
          </a:xfrm>
        </p:grpSpPr>
        <p:pic>
          <p:nvPicPr>
            <p:cNvPr id="169" name="TextBox 4" descr=""/>
            <p:cNvPicPr/>
            <p:nvPr/>
          </p:nvPicPr>
          <p:blipFill>
            <a:blip r:embed="rId1"/>
            <a:stretch/>
          </p:blipFill>
          <p:spPr>
            <a:xfrm>
              <a:off x="6351480" y="4065480"/>
              <a:ext cx="18352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507720" y="41432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парашю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TextBox 5"/>
          <p:cNvGrpSpPr/>
          <p:nvPr/>
        </p:nvGrpSpPr>
        <p:grpSpPr>
          <a:xfrm>
            <a:off x="6877080" y="1663560"/>
            <a:ext cx="1865160" cy="750960"/>
            <a:chOff x="6877080" y="1663560"/>
            <a:chExt cx="1865160" cy="750960"/>
          </a:xfrm>
        </p:grpSpPr>
        <p:pic>
          <p:nvPicPr>
            <p:cNvPr id="172" name="TextBox 5" descr=""/>
            <p:cNvPicPr/>
            <p:nvPr/>
          </p:nvPicPr>
          <p:blipFill>
            <a:blip r:embed="rId2"/>
            <a:stretch/>
          </p:blipFill>
          <p:spPr>
            <a:xfrm>
              <a:off x="6877080" y="1663560"/>
              <a:ext cx="18651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031880" y="173988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эвакуац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TextBox 6"/>
          <p:cNvGrpSpPr/>
          <p:nvPr/>
        </p:nvGrpSpPr>
        <p:grpSpPr>
          <a:xfrm>
            <a:off x="6918480" y="2273400"/>
            <a:ext cx="1566720" cy="787320"/>
            <a:chOff x="6918480" y="2273400"/>
            <a:chExt cx="1566720" cy="787320"/>
          </a:xfrm>
        </p:grpSpPr>
        <p:pic>
          <p:nvPicPr>
            <p:cNvPr id="175" name="TextBox 6" descr=""/>
            <p:cNvPicPr/>
            <p:nvPr/>
          </p:nvPicPr>
          <p:blipFill>
            <a:blip r:embed="rId3"/>
            <a:stretch/>
          </p:blipFill>
          <p:spPr>
            <a:xfrm>
              <a:off x="6918480" y="2273400"/>
              <a:ext cx="1566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72200" y="235728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масса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TextBox 7"/>
          <p:cNvGrpSpPr/>
          <p:nvPr/>
        </p:nvGrpSpPr>
        <p:grpSpPr>
          <a:xfrm>
            <a:off x="7047000" y="3206880"/>
            <a:ext cx="2225520" cy="749160"/>
            <a:chOff x="7047000" y="3206880"/>
            <a:chExt cx="2225520" cy="749160"/>
          </a:xfrm>
        </p:grpSpPr>
        <p:pic>
          <p:nvPicPr>
            <p:cNvPr id="178" name="TextBox 7" descr=""/>
            <p:cNvPicPr/>
            <p:nvPr/>
          </p:nvPicPr>
          <p:blipFill>
            <a:blip r:embed="rId4"/>
            <a:stretch/>
          </p:blipFill>
          <p:spPr>
            <a:xfrm>
              <a:off x="7047000" y="3206880"/>
              <a:ext cx="22255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201800" y="328608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абитуриен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TextBox 8"/>
          <p:cNvGrpSpPr/>
          <p:nvPr/>
        </p:nvGrpSpPr>
        <p:grpSpPr>
          <a:xfrm>
            <a:off x="6138720" y="4565520"/>
            <a:ext cx="1036800" cy="749520"/>
            <a:chOff x="6138720" y="4565520"/>
            <a:chExt cx="1036800" cy="749520"/>
          </a:xfrm>
        </p:grpSpPr>
        <p:pic>
          <p:nvPicPr>
            <p:cNvPr id="181" name="TextBox 8" descr=""/>
            <p:cNvPicPr/>
            <p:nvPr/>
          </p:nvPicPr>
          <p:blipFill>
            <a:blip r:embed="rId5"/>
            <a:stretch/>
          </p:blipFill>
          <p:spPr>
            <a:xfrm>
              <a:off x="6138720" y="4565520"/>
              <a:ext cx="10368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290640" y="464328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ти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TextBox 9"/>
          <p:cNvGrpSpPr/>
          <p:nvPr/>
        </p:nvGrpSpPr>
        <p:grpSpPr>
          <a:xfrm>
            <a:off x="4998960" y="5065560"/>
            <a:ext cx="1609920" cy="749520"/>
            <a:chOff x="4998960" y="5065560"/>
            <a:chExt cx="1609920" cy="749520"/>
          </a:xfrm>
        </p:grpSpPr>
        <p:pic>
          <p:nvPicPr>
            <p:cNvPr id="184" name="TextBox 9" descr=""/>
            <p:cNvPicPr/>
            <p:nvPr/>
          </p:nvPicPr>
          <p:blipFill>
            <a:blip r:embed="rId6"/>
            <a:stretch/>
          </p:blipFill>
          <p:spPr>
            <a:xfrm>
              <a:off x="4998960" y="5065560"/>
              <a:ext cx="1609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149080" y="5143680"/>
              <a:ext cx="13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экспор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С данными словами, заимствованными из английского и французского языков, придумайте и запишите словосочет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99840" y="178560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й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Ж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нс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и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мок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115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Подберите синонимы к заимствованным слов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81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увен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ели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йз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иску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бсу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ф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нцид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85840" y="1714680"/>
            <a:ext cx="4038840" cy="47815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эро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исп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иквид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ф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бр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Шо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ргумент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297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Monotype Corsiva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Прочитайте предложения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Попробуйте заменить иноязычные слова  синонимами исконно русского происхождения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Какой вариант текста вам больше нравится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Содержимое 7"/>
          <p:cNvGrpSpPr/>
          <p:nvPr/>
        </p:nvGrpSpPr>
        <p:grpSpPr>
          <a:xfrm>
            <a:off x="268200" y="1914480"/>
            <a:ext cx="4419720" cy="4389480"/>
            <a:chOff x="268200" y="1914480"/>
            <a:chExt cx="4419720" cy="4389480"/>
          </a:xfrm>
        </p:grpSpPr>
        <p:pic>
          <p:nvPicPr>
            <p:cNvPr id="193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268200" y="1914480"/>
              <a:ext cx="441972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4"/>
            <p:cNvSpPr/>
            <p:nvPr/>
          </p:nvSpPr>
          <p:spPr>
            <a:xfrm>
              <a:off x="500040" y="2143080"/>
              <a:ext cx="39578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Консенсус, который достигнут в ходе переговоров, привел к позитивным результатам в области политики и культур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Содержимое 8"/>
          <p:cNvGrpSpPr/>
          <p:nvPr/>
        </p:nvGrpSpPr>
        <p:grpSpPr>
          <a:xfrm>
            <a:off x="4376880" y="1914480"/>
            <a:ext cx="4572000" cy="4389480"/>
            <a:chOff x="4376880" y="1914480"/>
            <a:chExt cx="4572000" cy="4389480"/>
          </a:xfrm>
        </p:grpSpPr>
        <p:pic>
          <p:nvPicPr>
            <p:cNvPr id="196" name="Содержимое 8" descr=""/>
            <p:cNvPicPr/>
            <p:nvPr/>
          </p:nvPicPr>
          <p:blipFill>
            <a:blip r:embed="rId2"/>
            <a:stretch/>
          </p:blipFill>
          <p:spPr>
            <a:xfrm>
              <a:off x="4376880" y="1914480"/>
              <a:ext cx="457200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/>
            <p:cNvSpPr/>
            <p:nvPr/>
          </p:nvSpPr>
          <p:spPr>
            <a:xfrm>
              <a:off x="4610160" y="2143080"/>
              <a:ext cx="410508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Коммуникабельный ведущий шоу на телевидении предстал в новом имидже, и это вызвало позитивный отклик у зрителей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2" descr=""/>
          <p:cNvPicPr/>
          <p:nvPr/>
        </p:nvPicPr>
        <p:blipFill>
          <a:blip r:embed="rId1"/>
          <a:srcRect l="2899" t="9653" r="3310" b="22745"/>
          <a:stretch/>
        </p:blipFill>
        <p:spPr>
          <a:xfrm>
            <a:off x="1000080" y="214200"/>
            <a:ext cx="6929640" cy="1500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2928960" y="17859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ждое слово живо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 особой, своей судьбо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ежали столетья и го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-разному жили наро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рговлю вели, воева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ранились, а после – мирилис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ить в добром соседстве училис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вот результат их общенья - 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лшебное слов превращень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ак, в языке зародившись одн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лово потом оказалось в друго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мало прошло испытаний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 смысл поменяв, то звучань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лово по вкусу пришлось язы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Буду жить у тебя, никуда не уйд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57120" y="57168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e4e2c"/>
                </a:solidFill>
                <a:latin typeface="Calibri"/>
              </a:rPr>
              <a:t>Слова  (по происхождени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трелка углом вверх 2"/>
          <p:cNvSpPr/>
          <p:nvPr/>
        </p:nvSpPr>
        <p:spPr>
          <a:xfrm rot="10800000">
            <a:off x="1571400" y="1428480"/>
            <a:ext cx="1214280" cy="571320"/>
          </a:xfrm>
          <a:custGeom>
            <a:avLst/>
            <a:gdLst/>
            <a:ahLst/>
            <a:rect l="l" t="t" r="r" b="b"/>
            <a:pathLst>
              <a:path w="1214438" h="571500">
                <a:moveTo>
                  <a:pt x="0" y="428625"/>
                </a:moveTo>
                <a:lnTo>
                  <a:pt x="1000126" y="428625"/>
                </a:lnTo>
                <a:lnTo>
                  <a:pt x="1000126" y="142875"/>
                </a:lnTo>
                <a:lnTo>
                  <a:pt x="928688" y="142875"/>
                </a:lnTo>
                <a:lnTo>
                  <a:pt x="1071563" y="0"/>
                </a:lnTo>
                <a:lnTo>
                  <a:pt x="1214438" y="142875"/>
                </a:lnTo>
                <a:lnTo>
                  <a:pt x="1143001" y="142875"/>
                </a:lnTo>
                <a:lnTo>
                  <a:pt x="1143001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b05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55440" y="2000160"/>
            <a:ext cx="4303800" cy="895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142920" y="271476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, которые возникли в русском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углом вверх 5"/>
          <p:cNvSpPr/>
          <p:nvPr/>
        </p:nvSpPr>
        <p:spPr>
          <a:xfrm flipH="1" rot="10800000">
            <a:off x="6642720" y="1357200"/>
            <a:ext cx="1143000" cy="571680"/>
          </a:xfrm>
          <a:custGeom>
            <a:avLst/>
            <a:gdLst/>
            <a:ahLst/>
            <a:rect l="l" t="t" r="r" b="b"/>
            <a:pathLst>
              <a:path w="1143000" h="571500">
                <a:moveTo>
                  <a:pt x="0" y="428625"/>
                </a:moveTo>
                <a:lnTo>
                  <a:pt x="928688" y="428625"/>
                </a:lnTo>
                <a:lnTo>
                  <a:pt x="928688" y="142875"/>
                </a:lnTo>
                <a:lnTo>
                  <a:pt x="857250" y="142875"/>
                </a:lnTo>
                <a:lnTo>
                  <a:pt x="1000125" y="0"/>
                </a:lnTo>
                <a:lnTo>
                  <a:pt x="1143000" y="142875"/>
                </a:lnTo>
                <a:lnTo>
                  <a:pt x="1071563" y="142875"/>
                </a:lnTo>
                <a:lnTo>
                  <a:pt x="1071563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b05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Прямоугольник 6" descr=""/>
          <p:cNvPicPr/>
          <p:nvPr/>
        </p:nvPicPr>
        <p:blipFill>
          <a:blip r:embed="rId2"/>
          <a:stretch/>
        </p:blipFill>
        <p:spPr>
          <a:xfrm>
            <a:off x="4681440" y="1914480"/>
            <a:ext cx="4462560" cy="901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4857840" y="27147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, пришедшие из других язы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5" descr="Безымянный.bmp"/>
          <p:cNvPicPr/>
          <p:nvPr/>
        </p:nvPicPr>
        <p:blipFill>
          <a:blip r:embed="rId3"/>
          <a:stretch/>
        </p:blipFill>
        <p:spPr>
          <a:xfrm>
            <a:off x="3713040" y="4359240"/>
            <a:ext cx="1571760" cy="1498680"/>
          </a:xfrm>
          <a:prstGeom prst="rect">
            <a:avLst/>
          </a:prstGeom>
          <a:ln w="0">
            <a:noFill/>
          </a:ln>
        </p:spPr>
      </p:pic>
      <p:pic>
        <p:nvPicPr>
          <p:cNvPr id="134" name="Стрелка влево 14" descr=""/>
          <p:cNvPicPr/>
          <p:nvPr/>
        </p:nvPicPr>
        <p:blipFill>
          <a:blip r:embed="rId4"/>
          <a:stretch/>
        </p:blipFill>
        <p:spPr>
          <a:xfrm>
            <a:off x="857160" y="4500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Стрелка вправо 12" descr=""/>
          <p:cNvPicPr/>
          <p:nvPr/>
        </p:nvPicPr>
        <p:blipFill>
          <a:blip r:embed="rId5"/>
          <a:stretch/>
        </p:blipFill>
        <p:spPr>
          <a:xfrm rot="21149400">
            <a:off x="5437080" y="3962160"/>
            <a:ext cx="27799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7152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Иностранные слова входят в язык прежде всего вместе с проникновением новых предметов, по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928440"/>
            <a:ext cx="8053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пель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к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916360" y="81720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 скандина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32000" y="1504440"/>
            <a:ext cx="17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о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фиц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ф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р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шт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435640" y="178704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немец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06360" y="2647440"/>
            <a:ext cx="17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верфь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гава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лоц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43080" y="28587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голланд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43240" y="32032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с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ду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карна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651640" y="3573000"/>
            <a:ext cx="27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тальян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33360" y="4219200"/>
            <a:ext cx="17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костю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режис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124000" y="4573080"/>
            <a:ext cx="29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француз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471840" y="522144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конвей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трамв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чемпи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фини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651640" y="5644800"/>
            <a:ext cx="27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англий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71680" y="428760"/>
            <a:ext cx="7543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7030a0"/>
                </a:solidFill>
                <a:latin typeface="Monotype Corsiva"/>
              </a:rPr>
              <a:t>Говоря по-русски – говорим на иностранном языке. Верите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2143080" y="185724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За завтрако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чай (китайск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фе (франц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екс (англ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акао (америк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мармелад (португал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бутерброд (немецк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ахар (индийск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543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С заимствованными словами происходят изме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99760" y="2142720"/>
            <a:ext cx="547236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eting (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нгл.) – ми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letot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(франц.) – п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ccaroni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(итал.) - макар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01"/>
          <p:cNvPicPr/>
          <p:nvPr/>
        </p:nvPicPr>
        <p:blipFill>
          <a:blip r:embed="rId1"/>
          <a:stretch/>
        </p:blipFill>
        <p:spPr>
          <a:xfrm>
            <a:off x="8072280" y="442908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Monotype Corsiva"/>
              </a:rPr>
              <a:t>Меняется лексическое значение заимствован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лово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лоун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шло к нам из английского языка. Так назывался шут в английской комедии.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лоун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исходит от латинского слова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олонус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– «сельский житель». Горожане постоянно смеялись над            неловкостью и наивностью «деревенщин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лово </a:t>
            </a:r>
            <a:r>
              <a:rPr b="1" i="1" lang="ru-RU" sz="3200" spc="-1" strike="noStrike">
                <a:solidFill>
                  <a:srgbClr val="3333ff"/>
                </a:solidFill>
                <a:latin typeface="Arial Narrow"/>
              </a:rPr>
              <a:t>костюм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явилось у нас в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веке. В переводе с итальянского костюм означает «привычка, обыча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715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Иногда заимствуется не целое слово, а лишь его часть, морф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49976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Пристав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-, архи,-дез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итичный,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рх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ажно,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ез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нфек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уффикс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–ист, -ер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очерк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ист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хаж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ер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рн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кв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лат.) – в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гидр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в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екор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франц.) – украш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терр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лат.) – зем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микр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ма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тел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вто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греч.) – 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Этимологический словарь</a:t>
            </a:r>
            <a:br>
              <a:rPr sz="2800"/>
            </a:br>
            <a:r>
              <a:rPr b="0" i="1" lang="ru-RU" sz="2800" spc="-1" strike="noStrike">
                <a:solidFill>
                  <a:srgbClr val="0e4e2c"/>
                </a:solidFill>
                <a:latin typeface="Arial Narrow"/>
              </a:rPr>
              <a:t>сведения о происхождении слова, его пути в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Клип 5" descr="этимол.jpg"/>
          <p:cNvPicPr/>
          <p:nvPr/>
        </p:nvPicPr>
        <p:blipFill>
          <a:blip r:embed="rId1"/>
          <a:stretch/>
        </p:blipFill>
        <p:spPr>
          <a:xfrm>
            <a:off x="357120" y="1928880"/>
            <a:ext cx="3286080" cy="442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71960" y="1676520"/>
            <a:ext cx="4929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бориген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 Заимств. Из франц. яз. в конце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. Франц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borigenes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- из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borigenes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коренные жители страны». Лат. слово возникло в результате слияния предлога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«от» и существительного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origo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род.п.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originis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начало»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боригены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уквально – «(живущие здесь) с самого начала». См. оригин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Админ</cp:lastModifiedBy>
  <dcterms:modified xsi:type="dcterms:W3CDTF">2016-09-28T18:24:50Z</dcterms:modified>
  <cp:revision>23</cp:revision>
  <dc:subject/>
  <dc:title>Презентация PowerPoint</dc:title>
</cp:coreProperties>
</file>