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15E-D283-4265-A0B5-1F02626A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B79-B565-42F9-B1C9-BFA4D04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CF1-DFA2-4C17-9F3A-0C56D70D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350-9701-4E0C-96F4-6387C168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23B-E6D2-46B9-841D-AEE81AC6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ED5E-86A8-46A8-BA76-00DDFA8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E62-C274-41E2-96E1-3F811FF0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1145-EF5A-4A89-9168-2105064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095D-D2CB-4298-8C2B-360AD869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421-4BBF-49EE-AEE2-7A8B743F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793-54CB-420B-9080-E30E315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B12-DD80-4BB2-8F75-8AE3515C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2514-E837-4571-9D62-4E8EF39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C3E-84D9-4ED1-9551-1B8DC5C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B4D9-9B82-4CCE-8A78-987F5CC8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9DD-9F44-4C51-90B7-1A5CCE2F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5DEF-AB5C-461D-BD44-1E45A12D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19C3-A10B-424C-AB7C-8350AE36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B929-00E4-40F5-9FAE-6C139A06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5308-C0D2-4152-8DD5-CFC7D7FB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EB12-ADB7-4589-8B01-393ADF67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DEA9-C59F-4396-8DC6-0B08BB4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4C5-32AF-48C6-AD84-F7588053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CD5A-E38F-4B4E-A6C2-D546300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F178-2DB2-4957-ACB1-8FF1813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1D66-EF8E-4297-8765-4005D67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B1D5-E885-4EAF-97FF-68CF0C1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3E00-3448-44E4-A6D5-354E9009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527C-66C6-405A-9901-C13E1CB2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8674-5641-44E6-8272-72457BDE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192-D49F-4CAE-BC86-A2BE787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132-DCD5-46D0-A42F-B3651082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7BC-A90A-4010-9404-B810002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2BC-403F-426A-BB04-E08F2CD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4AA-8A2C-4A89-B95E-9B81CA0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849-67FB-4A11-9EE2-B229AAA1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C04-18F2-49F9-80C8-180196FA6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30DE-D26F-45F6-B18E-23A0927E2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2CD-B08E-40DF-9563-F5337F945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0253f"/>
                </a:solidFill>
                <a:latin typeface="Segoe Script"/>
              </a:rPr>
              <a:t>Исконно русские и заимствован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4"/>
          <p:cNvSpPr/>
          <p:nvPr/>
        </p:nvSpPr>
        <p:spPr>
          <a:xfrm>
            <a:off x="857160" y="714240"/>
            <a:ext cx="7286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лебарда(фр.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hallebarde)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таринное холодное оружие в виде длинного копья с топориком или секирой различной формы на кон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14436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4436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5" descr="index.jpg"/>
          <p:cNvPicPr/>
          <p:nvPr/>
        </p:nvPicPr>
        <p:blipFill>
          <a:blip r:embed="rId1"/>
          <a:stretch/>
        </p:blipFill>
        <p:spPr>
          <a:xfrm>
            <a:off x="4429080" y="4429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142920" y="1500120"/>
            <a:ext cx="88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очный вывоз людей из местности, представляющей для них опас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астирание тела в лечебных це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ыпускник средней школы, претендующий на поступление в высшее учебное заве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стройство, предназначенное для прыжков с самол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мещение для стрельбы в ц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ывоз товаров за гран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00040" y="50004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Замените данные русские наименования заимствованными. Придумайте с ними предло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TextBox 4"/>
          <p:cNvGrpSpPr/>
          <p:nvPr/>
        </p:nvGrpSpPr>
        <p:grpSpPr>
          <a:xfrm>
            <a:off x="6351480" y="4065480"/>
            <a:ext cx="1835280" cy="750960"/>
            <a:chOff x="6351480" y="4065480"/>
            <a:chExt cx="1835280" cy="750960"/>
          </a:xfrm>
        </p:grpSpPr>
        <p:pic>
          <p:nvPicPr>
            <p:cNvPr id="169" name="TextBox 4" descr=""/>
            <p:cNvPicPr/>
            <p:nvPr/>
          </p:nvPicPr>
          <p:blipFill>
            <a:blip r:embed="rId1"/>
            <a:stretch/>
          </p:blipFill>
          <p:spPr>
            <a:xfrm>
              <a:off x="6351480" y="4065480"/>
              <a:ext cx="18352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507720" y="414324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парашю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TextBox 5"/>
          <p:cNvGrpSpPr/>
          <p:nvPr/>
        </p:nvGrpSpPr>
        <p:grpSpPr>
          <a:xfrm>
            <a:off x="6877080" y="1663560"/>
            <a:ext cx="1865160" cy="750960"/>
            <a:chOff x="6877080" y="1663560"/>
            <a:chExt cx="1865160" cy="750960"/>
          </a:xfrm>
        </p:grpSpPr>
        <p:pic>
          <p:nvPicPr>
            <p:cNvPr id="172" name="TextBox 5" descr=""/>
            <p:cNvPicPr/>
            <p:nvPr/>
          </p:nvPicPr>
          <p:blipFill>
            <a:blip r:embed="rId2"/>
            <a:stretch/>
          </p:blipFill>
          <p:spPr>
            <a:xfrm>
              <a:off x="6877080" y="1663560"/>
              <a:ext cx="18651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031880" y="173988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эвакуац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TextBox 6"/>
          <p:cNvGrpSpPr/>
          <p:nvPr/>
        </p:nvGrpSpPr>
        <p:grpSpPr>
          <a:xfrm>
            <a:off x="6918480" y="2273400"/>
            <a:ext cx="1566720" cy="787320"/>
            <a:chOff x="6918480" y="2273400"/>
            <a:chExt cx="1566720" cy="787320"/>
          </a:xfrm>
        </p:grpSpPr>
        <p:pic>
          <p:nvPicPr>
            <p:cNvPr id="175" name="TextBox 6" descr=""/>
            <p:cNvPicPr/>
            <p:nvPr/>
          </p:nvPicPr>
          <p:blipFill>
            <a:blip r:embed="rId3"/>
            <a:stretch/>
          </p:blipFill>
          <p:spPr>
            <a:xfrm>
              <a:off x="6918480" y="2273400"/>
              <a:ext cx="15667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72200" y="235728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масса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TextBox 7"/>
          <p:cNvGrpSpPr/>
          <p:nvPr/>
        </p:nvGrpSpPr>
        <p:grpSpPr>
          <a:xfrm>
            <a:off x="7047000" y="3206880"/>
            <a:ext cx="2225520" cy="749160"/>
            <a:chOff x="7047000" y="3206880"/>
            <a:chExt cx="2225520" cy="749160"/>
          </a:xfrm>
        </p:grpSpPr>
        <p:pic>
          <p:nvPicPr>
            <p:cNvPr id="178" name="TextBox 7" descr=""/>
            <p:cNvPicPr/>
            <p:nvPr/>
          </p:nvPicPr>
          <p:blipFill>
            <a:blip r:embed="rId4"/>
            <a:stretch/>
          </p:blipFill>
          <p:spPr>
            <a:xfrm>
              <a:off x="7047000" y="3206880"/>
              <a:ext cx="22255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201800" y="3286080"/>
              <a:ext cx="19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абитуриен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TextBox 8"/>
          <p:cNvGrpSpPr/>
          <p:nvPr/>
        </p:nvGrpSpPr>
        <p:grpSpPr>
          <a:xfrm>
            <a:off x="6138720" y="4565520"/>
            <a:ext cx="1036800" cy="749520"/>
            <a:chOff x="6138720" y="4565520"/>
            <a:chExt cx="1036800" cy="749520"/>
          </a:xfrm>
        </p:grpSpPr>
        <p:pic>
          <p:nvPicPr>
            <p:cNvPr id="181" name="TextBox 8" descr=""/>
            <p:cNvPicPr/>
            <p:nvPr/>
          </p:nvPicPr>
          <p:blipFill>
            <a:blip r:embed="rId5"/>
            <a:stretch/>
          </p:blipFill>
          <p:spPr>
            <a:xfrm>
              <a:off x="6138720" y="4565520"/>
              <a:ext cx="10368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290640" y="464328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ти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TextBox 9"/>
          <p:cNvGrpSpPr/>
          <p:nvPr/>
        </p:nvGrpSpPr>
        <p:grpSpPr>
          <a:xfrm>
            <a:off x="4998960" y="5065560"/>
            <a:ext cx="1609920" cy="749520"/>
            <a:chOff x="4998960" y="5065560"/>
            <a:chExt cx="1609920" cy="749520"/>
          </a:xfrm>
        </p:grpSpPr>
        <p:pic>
          <p:nvPicPr>
            <p:cNvPr id="184" name="TextBox 9" descr=""/>
            <p:cNvPicPr/>
            <p:nvPr/>
          </p:nvPicPr>
          <p:blipFill>
            <a:blip r:embed="rId6"/>
            <a:stretch/>
          </p:blipFill>
          <p:spPr>
            <a:xfrm>
              <a:off x="4998960" y="5065560"/>
              <a:ext cx="1609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149080" y="5143680"/>
              <a:ext cx="13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</a:rPr>
                <a:t>экспор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С данными словами, заимствованными из английского и французского языков, придумайте и запишите словосочет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99840" y="178560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й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Ж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нс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и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мок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най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115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Подберите синонимы к заимствованным слов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81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увен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ели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йз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иску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бсу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еф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нцид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85840" y="1714680"/>
            <a:ext cx="4038840" cy="47815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эро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исп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Ликвид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ф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бр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Шо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ргумент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297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Monotype Corsiva"/>
              <a:buChar char="•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Прочитайте предложения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Попробуйте заменить иноязычные слова  синонимами исконно русского происхождения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Какой вариант текста вам больше нравится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Содержимое 7"/>
          <p:cNvGrpSpPr/>
          <p:nvPr/>
        </p:nvGrpSpPr>
        <p:grpSpPr>
          <a:xfrm>
            <a:off x="268200" y="1914480"/>
            <a:ext cx="4419720" cy="4389480"/>
            <a:chOff x="268200" y="1914480"/>
            <a:chExt cx="4419720" cy="4389480"/>
          </a:xfrm>
        </p:grpSpPr>
        <p:pic>
          <p:nvPicPr>
            <p:cNvPr id="193" name="Содержимое 7" descr=""/>
            <p:cNvPicPr/>
            <p:nvPr/>
          </p:nvPicPr>
          <p:blipFill>
            <a:blip r:embed="rId1"/>
            <a:stretch/>
          </p:blipFill>
          <p:spPr>
            <a:xfrm>
              <a:off x="268200" y="1914480"/>
              <a:ext cx="441972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4"/>
            <p:cNvSpPr/>
            <p:nvPr/>
          </p:nvSpPr>
          <p:spPr>
            <a:xfrm>
              <a:off x="500040" y="2143080"/>
              <a:ext cx="39578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Консенсус, который достигнут в ходе переговоров, привел к позитивным результатам в области политики и культур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Содержимое 8"/>
          <p:cNvGrpSpPr/>
          <p:nvPr/>
        </p:nvGrpSpPr>
        <p:grpSpPr>
          <a:xfrm>
            <a:off x="4376880" y="1914480"/>
            <a:ext cx="4572000" cy="4389480"/>
            <a:chOff x="4376880" y="1914480"/>
            <a:chExt cx="4572000" cy="4389480"/>
          </a:xfrm>
        </p:grpSpPr>
        <p:pic>
          <p:nvPicPr>
            <p:cNvPr id="196" name="Содержимое 8" descr=""/>
            <p:cNvPicPr/>
            <p:nvPr/>
          </p:nvPicPr>
          <p:blipFill>
            <a:blip r:embed="rId2"/>
            <a:stretch/>
          </p:blipFill>
          <p:spPr>
            <a:xfrm>
              <a:off x="4376880" y="1914480"/>
              <a:ext cx="457200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/>
            <p:cNvSpPr/>
            <p:nvPr/>
          </p:nvSpPr>
          <p:spPr>
            <a:xfrm>
              <a:off x="4610160" y="2143080"/>
              <a:ext cx="410508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Коммуникабельный ведущий шоу на телевидении предстал в новом имидже, и это вызвало позитивный отклик у зрителей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2" descr=""/>
          <p:cNvPicPr/>
          <p:nvPr/>
        </p:nvPicPr>
        <p:blipFill>
          <a:blip r:embed="rId1"/>
          <a:srcRect l="2899" t="9653" r="3310" b="22745"/>
          <a:stretch/>
        </p:blipFill>
        <p:spPr>
          <a:xfrm>
            <a:off x="1000080" y="214200"/>
            <a:ext cx="6929640" cy="1500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2928960" y="17859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аждое слово живо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 особой, своей судьбо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ежали столетья и го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-разному жили наро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рговлю вели, воевал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ранились, а после – мирилис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Жить в добром соседстве училис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вот результат их общенья - 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лшебное слов превращень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ак, в языке зародившись одн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лово потом оказалось в друго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мало прошло испытаний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 смысл поменяв, то звучань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лово по вкусу пришлось язык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 Буду жить у тебя, никуда не уйд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57120" y="57168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e4e2c"/>
                </a:solidFill>
                <a:latin typeface="Calibri"/>
              </a:rPr>
              <a:t>Слова  (по происхождени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трелка углом вверх 2"/>
          <p:cNvSpPr/>
          <p:nvPr/>
        </p:nvSpPr>
        <p:spPr>
          <a:xfrm rot="10800000">
            <a:off x="1571400" y="1428480"/>
            <a:ext cx="1214280" cy="571320"/>
          </a:xfrm>
          <a:custGeom>
            <a:avLst/>
            <a:gdLst/>
            <a:ahLst/>
            <a:rect l="l" t="t" r="r" b="b"/>
            <a:pathLst>
              <a:path w="1214438" h="571500">
                <a:moveTo>
                  <a:pt x="0" y="428625"/>
                </a:moveTo>
                <a:lnTo>
                  <a:pt x="1000126" y="428625"/>
                </a:lnTo>
                <a:lnTo>
                  <a:pt x="1000126" y="142875"/>
                </a:lnTo>
                <a:lnTo>
                  <a:pt x="928688" y="142875"/>
                </a:lnTo>
                <a:lnTo>
                  <a:pt x="1071563" y="0"/>
                </a:lnTo>
                <a:lnTo>
                  <a:pt x="1214438" y="142875"/>
                </a:lnTo>
                <a:lnTo>
                  <a:pt x="1143001" y="142875"/>
                </a:lnTo>
                <a:lnTo>
                  <a:pt x="1143001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b05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55440" y="2000160"/>
            <a:ext cx="4303800" cy="895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142920" y="271476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, которые возникли в русском я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трелка углом вверх 5"/>
          <p:cNvSpPr/>
          <p:nvPr/>
        </p:nvSpPr>
        <p:spPr>
          <a:xfrm flipH="1" rot="10800000">
            <a:off x="6642720" y="1357200"/>
            <a:ext cx="1143000" cy="571680"/>
          </a:xfrm>
          <a:custGeom>
            <a:avLst/>
            <a:gdLst/>
            <a:ahLst/>
            <a:rect l="l" t="t" r="r" b="b"/>
            <a:pathLst>
              <a:path w="1143000" h="571500">
                <a:moveTo>
                  <a:pt x="0" y="428625"/>
                </a:moveTo>
                <a:lnTo>
                  <a:pt x="928688" y="428625"/>
                </a:lnTo>
                <a:lnTo>
                  <a:pt x="928688" y="142875"/>
                </a:lnTo>
                <a:lnTo>
                  <a:pt x="857250" y="142875"/>
                </a:lnTo>
                <a:lnTo>
                  <a:pt x="1000125" y="0"/>
                </a:lnTo>
                <a:lnTo>
                  <a:pt x="1143000" y="142875"/>
                </a:lnTo>
                <a:lnTo>
                  <a:pt x="1071563" y="142875"/>
                </a:lnTo>
                <a:lnTo>
                  <a:pt x="1071563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b05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Прямоугольник 6" descr=""/>
          <p:cNvPicPr/>
          <p:nvPr/>
        </p:nvPicPr>
        <p:blipFill>
          <a:blip r:embed="rId2"/>
          <a:stretch/>
        </p:blipFill>
        <p:spPr>
          <a:xfrm>
            <a:off x="4681440" y="1914480"/>
            <a:ext cx="4462560" cy="901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4857840" y="27147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, пришедшие из других язы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5" descr="Безымянный.bmp"/>
          <p:cNvPicPr/>
          <p:nvPr/>
        </p:nvPicPr>
        <p:blipFill>
          <a:blip r:embed="rId3"/>
          <a:stretch/>
        </p:blipFill>
        <p:spPr>
          <a:xfrm>
            <a:off x="3713040" y="4359240"/>
            <a:ext cx="1571760" cy="1498680"/>
          </a:xfrm>
          <a:prstGeom prst="rect">
            <a:avLst/>
          </a:prstGeom>
          <a:ln w="0">
            <a:noFill/>
          </a:ln>
        </p:spPr>
      </p:pic>
      <p:pic>
        <p:nvPicPr>
          <p:cNvPr id="134" name="Стрелка влево 14" descr=""/>
          <p:cNvPicPr/>
          <p:nvPr/>
        </p:nvPicPr>
        <p:blipFill>
          <a:blip r:embed="rId4"/>
          <a:stretch/>
        </p:blipFill>
        <p:spPr>
          <a:xfrm>
            <a:off x="857160" y="4500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Стрелка вправо 12" descr=""/>
          <p:cNvPicPr/>
          <p:nvPr/>
        </p:nvPicPr>
        <p:blipFill>
          <a:blip r:embed="rId5"/>
          <a:stretch/>
        </p:blipFill>
        <p:spPr>
          <a:xfrm rot="21149400">
            <a:off x="5437080" y="3962160"/>
            <a:ext cx="27799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7152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Иностранные слова входят в язык прежде всего вместе с проникновением новых предметов, по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928440"/>
            <a:ext cx="8053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аку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пель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к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916360" y="81720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 скандина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32000" y="1504440"/>
            <a:ext cx="17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о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фиц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ф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ро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шт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435640" y="1787040"/>
            <a:ext cx="22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немец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06360" y="2647440"/>
            <a:ext cx="17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верфь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гава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лоц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143080" y="28587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голланд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143240" y="32032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с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ду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карна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651640" y="3573000"/>
            <a:ext cx="27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тальян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33360" y="4219200"/>
            <a:ext cx="17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костю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паль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режис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124000" y="4573080"/>
            <a:ext cx="29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и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француз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471840" y="522144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конвей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трамв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чемпи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фини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651640" y="5644800"/>
            <a:ext cx="27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з</a:t>
            </a:r>
            <a:r>
              <a:rPr b="1" lang="en-US" sz="2400" spc="-1" strike="noStrike">
                <a:solidFill>
                  <a:srgbClr val="eeece1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англий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71680" y="428760"/>
            <a:ext cx="7543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7030a0"/>
                </a:solidFill>
                <a:latin typeface="Monotype Corsiva"/>
              </a:rPr>
              <a:t>Говоря по-русски – говорим на иностранном языке. Верите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2143080" y="185724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За завтрако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чай (китайск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офе (франц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екс (англ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акао (америк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мармелад (португал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бутерброд (немецк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сахар (индийск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7543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С заимствованными словами происходят изме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99760" y="2142720"/>
            <a:ext cx="547236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eeting (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нгл.) – ми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letot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(франц.) – паль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ccaroni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(итал.) - макар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01"/>
          <p:cNvPicPr/>
          <p:nvPr/>
        </p:nvPicPr>
        <p:blipFill>
          <a:blip r:embed="rId1"/>
          <a:stretch/>
        </p:blipFill>
        <p:spPr>
          <a:xfrm>
            <a:off x="8072280" y="442908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Monotype Corsiva"/>
              </a:rPr>
              <a:t>Меняется лексическое значение заимствованного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лово </a:t>
            </a:r>
            <a:r>
              <a:rPr b="1" i="1" lang="ru-RU" sz="2400" spc="-1" strike="noStrike">
                <a:solidFill>
                  <a:srgbClr val="3333ff"/>
                </a:solidFill>
                <a:latin typeface="Arial Narrow"/>
              </a:rPr>
              <a:t>клоун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шло к нам из английского языка. Так назывался шут в английской комедии. </a:t>
            </a:r>
            <a:r>
              <a:rPr b="1" i="1" lang="ru-RU" sz="2400" spc="-1" strike="noStrike">
                <a:solidFill>
                  <a:srgbClr val="3333ff"/>
                </a:solidFill>
                <a:latin typeface="Arial Narrow"/>
              </a:rPr>
              <a:t>Клоун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исходит от латинского слова </a:t>
            </a:r>
            <a:r>
              <a:rPr b="1" i="1" lang="ru-RU" sz="2400" spc="-1" strike="noStrike">
                <a:solidFill>
                  <a:srgbClr val="3333ff"/>
                </a:solidFill>
                <a:latin typeface="Arial Narrow"/>
              </a:rPr>
              <a:t>колонус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– «сельский житель». Горожане постоянно смеялись над            неловкостью и наивностью «деревенщин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лово </a:t>
            </a:r>
            <a:r>
              <a:rPr b="1" i="1" lang="ru-RU" sz="3200" spc="-1" strike="noStrike">
                <a:solidFill>
                  <a:srgbClr val="3333ff"/>
                </a:solidFill>
                <a:latin typeface="Arial Narrow"/>
              </a:rPr>
              <a:t>костюм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явилось у нас в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веке. В переводе с итальянского костюм означает «привычка, обыча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715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Иногда заимствуется не целое слово, а лишь его часть, морф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49976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Пристав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-, архи,-дез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итичный,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рх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ажно,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ез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нфек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Суффикс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–ист, -ер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очерк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ист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хаж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ер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орн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кв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лат.) – в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гидр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греч.) – в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екор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франц.) – украш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терр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лат.) – зем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микр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греч.) – ма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тел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греч.) – дале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авто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греч.) – 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Этимологический словарь</a:t>
            </a:r>
            <a:br>
              <a:rPr sz="2800"/>
            </a:br>
            <a:r>
              <a:rPr b="0" i="1" lang="ru-RU" sz="2800" spc="-1" strike="noStrike">
                <a:solidFill>
                  <a:srgbClr val="0e4e2c"/>
                </a:solidFill>
                <a:latin typeface="Arial Narrow"/>
              </a:rPr>
              <a:t>сведения о происхождении слова, его пути в я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Клип 5" descr="этимол.jpg"/>
          <p:cNvPicPr/>
          <p:nvPr/>
        </p:nvPicPr>
        <p:blipFill>
          <a:blip r:embed="rId1"/>
          <a:stretch/>
        </p:blipFill>
        <p:spPr>
          <a:xfrm>
            <a:off x="357120" y="1928880"/>
            <a:ext cx="3286080" cy="442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71960" y="1676520"/>
            <a:ext cx="4929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боригены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. Заимств. Из франц. яз. в конце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. Франц.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borigenes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- из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borigenes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коренные жители страны». Лат. слово возникло в результате слияния предлога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«от» и существительного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origo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род.п.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originis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«начало».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боригены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уквально – «(живущие здесь) с самого начала». См. оригин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Админ</cp:lastModifiedBy>
  <dcterms:modified xsi:type="dcterms:W3CDTF">2016-09-28T18:24:50Z</dcterms:modified>
  <cp:revision>23</cp:revision>
  <dc:subject/>
  <dc:title>Презентация PowerPoint</dc:title>
</cp:coreProperties>
</file>