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media/image27.png" ContentType="image/png"/>
  <Override PartName="/ppt/media/image26.wmf" ContentType="image/x-wmf"/>
  <Override PartName="/ppt/media/image25.wmf" ContentType="image/x-wmf"/>
  <Override PartName="/ppt/media/image24.png" ContentType="image/png"/>
  <Override PartName="/ppt/media/image23.wmf" ContentType="image/x-wmf"/>
  <Override PartName="/ppt/media/image22.png" ContentType="image/png"/>
  <Override PartName="/ppt/media/image6.png" ContentType="image/png"/>
  <Override PartName="/ppt/media/image29.png" ContentType="image/png"/>
  <Override PartName="/ppt/media/image32.wmf" ContentType="image/x-wmf"/>
  <Override PartName="/ppt/media/image12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7.wmf" ContentType="image/x-wmf"/>
  <Override PartName="/ppt/media/image9.png" ContentType="image/png"/>
  <Override PartName="/ppt/media/image34.png" ContentType="image/png"/>
  <Override PartName="/ppt/media/image31.wmf" ContentType="image/x-wmf"/>
  <Override PartName="/ppt/media/image11.png" ContentType="image/png"/>
  <Override PartName="/ppt/media/image35.png" ContentType="image/png"/>
  <Override PartName="/ppt/media/image5.jpeg" ContentType="image/jpeg"/>
  <Override PartName="/ppt/media/image33.png" ContentType="image/png"/>
  <Override PartName="/ppt/media/image3.png" ContentType="image/png"/>
  <Override PartName="/ppt/media/image2.png" ContentType="image/png"/>
  <Override PartName="/ppt/media/image1.jpeg" ContentType="image/jpeg"/>
  <Override PartName="/ppt/media/image10.png" ContentType="image/png"/>
  <Override PartName="/ppt/media/image28.wmf" ContentType="image/x-wmf"/>
  <Override PartName="/ppt/media/image30.png" ContentType="image/png"/>
  <Override PartName="/ppt/media/image4.wmf" ContentType="image/x-wmf"/>
  <Override PartName="/ppt/media/image14.png" ContentType="image/png"/>
  <Override PartName="/ppt/media/image15.png" ContentType="image/png"/>
  <Override PartName="/ppt/media/image16.png" ContentType="image/png"/>
  <Override PartName="/ppt/media/image19.png" ContentType="image/png"/>
  <Override PartName="/ppt/media/image21.png" ContentType="image/png"/>
  <Override PartName="/ppt/media/image20.png" ContentType="image/png"/>
  <Override PartName="/ppt/media/image18.wmf" ContentType="image/x-wmf"/>
  <Override PartName="/ppt/media/image36.jpeg" ContentType="image/jpe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notesMasterIdLst>
    <p:notesMasterId r:id="rId12"/>
  </p:notes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  <p:sldId id="275" r:id="rId32"/>
    <p:sldId id="276" r:id="rId33"/>
    <p:sldId id="277" r:id="rId34"/>
    <p:sldId id="278" r:id="rId35"/>
    <p:sldId id="279" r:id="rId36"/>
    <p:sldId id="280" r:id="rId37"/>
    <p:sldId id="281" r:id="rId38"/>
    <p:sldId id="282" r:id="rId39"/>
    <p:sldId id="283" r:id="rId40"/>
    <p:sldId id="284" r:id="rId41"/>
    <p:sldId id="285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notesMaster" Target="notesMasters/notesMaster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slide" Target="slides/slide20.xml"/><Relationship Id="rId33" Type="http://schemas.openxmlformats.org/officeDocument/2006/relationships/slide" Target="slides/slide21.xml"/><Relationship Id="rId34" Type="http://schemas.openxmlformats.org/officeDocument/2006/relationships/slide" Target="slides/slide22.xml"/><Relationship Id="rId35" Type="http://schemas.openxmlformats.org/officeDocument/2006/relationships/slide" Target="slides/slide23.xml"/><Relationship Id="rId36" Type="http://schemas.openxmlformats.org/officeDocument/2006/relationships/slide" Target="slides/slide24.xml"/><Relationship Id="rId37" Type="http://schemas.openxmlformats.org/officeDocument/2006/relationships/slide" Target="slides/slide25.xml"/><Relationship Id="rId38" Type="http://schemas.openxmlformats.org/officeDocument/2006/relationships/slide" Target="slides/slide26.xml"/><Relationship Id="rId39" Type="http://schemas.openxmlformats.org/officeDocument/2006/relationships/slide" Target="slides/slide27.xml"/><Relationship Id="rId40" Type="http://schemas.openxmlformats.org/officeDocument/2006/relationships/slide" Target="slides/slide28.xml"/><Relationship Id="rId41" Type="http://schemas.openxmlformats.org/officeDocument/2006/relationships/slide" Target="slides/slide29.xml"/><Relationship Id="rId42" Type="http://schemas.openxmlformats.org/officeDocument/2006/relationships/slide" Target="slides/slide30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652320" y="770040"/>
            <a:ext cx="5538960" cy="29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52320" y="4001760"/>
            <a:ext cx="553896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0" y="0"/>
            <a:ext cx="297036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881520" y="0"/>
            <a:ext cx="297000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0" y="8686800"/>
            <a:ext cx="297036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sldNum" idx="10"/>
          </p:nvPr>
        </p:nvSpPr>
        <p:spPr>
          <a:xfrm>
            <a:off x="3881520" y="8686440"/>
            <a:ext cx="296208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7C4A94-5E54-490C-8DDE-24634702CD1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"/>
          <p:cNvSpPr/>
          <p:nvPr/>
        </p:nvSpPr>
        <p:spPr>
          <a:xfrm>
            <a:off x="3881520" y="8686800"/>
            <a:ext cx="296388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652038-8B7A-4D97-9783-987BE614912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3881520" y="8686800"/>
            <a:ext cx="29653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D72FC5-8DF5-4257-9C7C-5B72CFDBA54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3881520" y="8686800"/>
            <a:ext cx="29671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7EAF29-3957-489A-B60B-2BCE7D9F3BE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3881520" y="8686800"/>
            <a:ext cx="297000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D754BB-7843-4046-BD40-01051A91B1F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7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"/>
          <p:cNvSpPr/>
          <p:nvPr/>
        </p:nvSpPr>
        <p:spPr>
          <a:xfrm>
            <a:off x="3881520" y="8686800"/>
            <a:ext cx="296388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6C67EF-45B5-4FED-94DF-420D2F957A7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3881520" y="8686800"/>
            <a:ext cx="29653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D0F530-2F63-4DAE-BC78-D56435B2FA3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3881520" y="8686800"/>
            <a:ext cx="29671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E3C9B1-B9C8-41AC-9BE0-CAA1FCA99DD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sldImg"/>
          </p:nvPr>
        </p:nvSpPr>
        <p:spPr>
          <a:xfrm>
            <a:off x="1467000" y="770040"/>
            <a:ext cx="3916080" cy="2936880"/>
          </a:xfrm>
          <a:prstGeom prst="rect">
            <a:avLst/>
          </a:prstGeom>
          <a:ln w="0">
            <a:noFill/>
          </a:ln>
        </p:spPr>
      </p:sp>
      <p:sp>
        <p:nvSpPr>
          <p:cNvPr id="825" name=""/>
          <p:cNvSpPr/>
          <p:nvPr/>
        </p:nvSpPr>
        <p:spPr>
          <a:xfrm>
            <a:off x="652320" y="4002120"/>
            <a:ext cx="5545440" cy="43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"/>
          <p:cNvSpPr/>
          <p:nvPr/>
        </p:nvSpPr>
        <p:spPr>
          <a:xfrm>
            <a:off x="3881520" y="8686800"/>
            <a:ext cx="296388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8A7982-4C95-4DC8-A596-B3A1F162D7C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3881520" y="8686800"/>
            <a:ext cx="29653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FAF03D-C157-43BD-953D-24DEE337DC2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3881520" y="8686800"/>
            <a:ext cx="29671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80539F-7C0B-473D-9357-6B2AB063D58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PlaceHolder 1"/>
          <p:cNvSpPr>
            <a:spLocks noGrp="1"/>
          </p:cNvSpPr>
          <p:nvPr>
            <p:ph type="sldImg"/>
          </p:nvPr>
        </p:nvSpPr>
        <p:spPr>
          <a:xfrm>
            <a:off x="1467000" y="770040"/>
            <a:ext cx="3916080" cy="2936880"/>
          </a:xfrm>
          <a:prstGeom prst="rect">
            <a:avLst/>
          </a:prstGeom>
          <a:ln w="0">
            <a:noFill/>
          </a:ln>
        </p:spPr>
      </p:sp>
      <p:sp>
        <p:nvSpPr>
          <p:cNvPr id="830" name=""/>
          <p:cNvSpPr/>
          <p:nvPr/>
        </p:nvSpPr>
        <p:spPr>
          <a:xfrm>
            <a:off x="652320" y="4002120"/>
            <a:ext cx="5545440" cy="43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"/>
          <p:cNvSpPr/>
          <p:nvPr/>
        </p:nvSpPr>
        <p:spPr>
          <a:xfrm>
            <a:off x="3881520" y="8686800"/>
            <a:ext cx="296388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CA42ED-41C0-4BA6-A972-29D7DC1AE86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3881520" y="8686800"/>
            <a:ext cx="29653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DC82F9-1C5D-4E1D-8670-3F50D18F1D5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3881520" y="8686800"/>
            <a:ext cx="29671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37BC27-19E5-4BFE-933B-4DF05D981BC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4" name="PlaceHolder 1"/>
          <p:cNvSpPr>
            <a:spLocks noGrp="1"/>
          </p:cNvSpPr>
          <p:nvPr>
            <p:ph type="sldImg"/>
          </p:nvPr>
        </p:nvSpPr>
        <p:spPr>
          <a:xfrm>
            <a:off x="1467000" y="770040"/>
            <a:ext cx="3916080" cy="2936880"/>
          </a:xfrm>
          <a:prstGeom prst="rect">
            <a:avLst/>
          </a:prstGeom>
          <a:ln w="0">
            <a:noFill/>
          </a:ln>
        </p:spPr>
      </p:sp>
      <p:sp>
        <p:nvSpPr>
          <p:cNvPr id="835" name=""/>
          <p:cNvSpPr/>
          <p:nvPr/>
        </p:nvSpPr>
        <p:spPr>
          <a:xfrm>
            <a:off x="652320" y="4002120"/>
            <a:ext cx="5545440" cy="43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"/>
          <p:cNvSpPr/>
          <p:nvPr/>
        </p:nvSpPr>
        <p:spPr>
          <a:xfrm>
            <a:off x="3881520" y="8686800"/>
            <a:ext cx="296388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ED13AF-706B-42DB-807F-C83D983F655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3881520" y="8686800"/>
            <a:ext cx="29653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9EE6FC-7311-4A69-9694-80C2B8E256A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3881520" y="8686800"/>
            <a:ext cx="29671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C0DD46-2CAE-447C-9EA9-0DF01A0FB3F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3881520" y="8686800"/>
            <a:ext cx="297000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A65768-6291-4B7A-9A5C-503DE770345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841" name="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"/>
          <p:cNvSpPr/>
          <p:nvPr/>
        </p:nvSpPr>
        <p:spPr>
          <a:xfrm>
            <a:off x="3881520" y="8686800"/>
            <a:ext cx="296388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40024E-E245-4B48-BD20-CEB768926E6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3881520" y="8686800"/>
            <a:ext cx="29653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70362C-92AA-4FAD-912A-D193D247780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3881520" y="8686800"/>
            <a:ext cx="29671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9A7212-5DD4-460D-9C81-09918E38DAB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3881520" y="8686800"/>
            <a:ext cx="297000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8E6E16-577C-4C7A-B3B1-63B8D4ECD69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847" name="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"/>
          <p:cNvSpPr/>
          <p:nvPr/>
        </p:nvSpPr>
        <p:spPr>
          <a:xfrm>
            <a:off x="3881520" y="8686800"/>
            <a:ext cx="296388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127C50-DA22-4580-9BD7-B0F5D4B34C7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3881520" y="8686800"/>
            <a:ext cx="29653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28E58E-D142-47AA-B994-574BD495A20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3881520" y="8686800"/>
            <a:ext cx="29671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962E04-C112-4E48-B87B-16E65AE9B23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3881520" y="8686800"/>
            <a:ext cx="297000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E3F7B7-B170-4136-8135-8E267DB6F3E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853" name="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"/>
          <p:cNvSpPr/>
          <p:nvPr/>
        </p:nvSpPr>
        <p:spPr>
          <a:xfrm>
            <a:off x="3881520" y="8686800"/>
            <a:ext cx="296388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35CA05-5E30-4DD4-ADFD-5CC8E4FF71B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3881520" y="8686800"/>
            <a:ext cx="29653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110236-A911-4D50-8F22-A37348B4F65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3881520" y="8686800"/>
            <a:ext cx="29671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66CEDD-42AD-422E-A245-E200D9662D9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3881520" y="8686800"/>
            <a:ext cx="297000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AF2544-2909-45A7-A01C-DCA76DF4024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859" name="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"/>
          <p:cNvSpPr/>
          <p:nvPr/>
        </p:nvSpPr>
        <p:spPr>
          <a:xfrm>
            <a:off x="3881520" y="8686800"/>
            <a:ext cx="296388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A7E85F-69FD-49AA-B9D4-FDC7186D46E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3881520" y="8686800"/>
            <a:ext cx="29653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341689-9F60-45F4-A1A2-51E8E46C04D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3881520" y="8686800"/>
            <a:ext cx="29671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E8514D-35A4-4D3B-A4B0-DA8373C2689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3881520" y="8686800"/>
            <a:ext cx="297000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B38D0C-C1F1-47EC-944E-8E0EA4890CA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865" name="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"/>
          <p:cNvSpPr/>
          <p:nvPr/>
        </p:nvSpPr>
        <p:spPr>
          <a:xfrm>
            <a:off x="3881520" y="8686800"/>
            <a:ext cx="296388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519185-954F-475E-88C2-48544507930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3881520" y="8686800"/>
            <a:ext cx="29653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664EDC-C2DC-4566-850B-FE9EC10E33E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3881520" y="8686800"/>
            <a:ext cx="29671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9287E9-E7D2-44AE-BB98-07E0EFB2DF4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3881520" y="8686800"/>
            <a:ext cx="297000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1BF991-E113-4E53-879F-EF3C4F6DAA9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871" name="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"/>
          <p:cNvSpPr/>
          <p:nvPr/>
        </p:nvSpPr>
        <p:spPr>
          <a:xfrm>
            <a:off x="3881520" y="8686800"/>
            <a:ext cx="296388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6F2418-82E5-4F60-A7E0-6B7160B7B66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3881520" y="8686800"/>
            <a:ext cx="29653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C356AF-4D54-4A92-B769-8FF40945CF9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3881520" y="8686800"/>
            <a:ext cx="29671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2E4871-EF09-476B-881B-1D58F39AE0A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>
            <a:off x="3881520" y="8686800"/>
            <a:ext cx="297000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7DF582-1E9F-43A3-9564-24DCFF0E5DE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877" name="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"/>
          <p:cNvSpPr/>
          <p:nvPr/>
        </p:nvSpPr>
        <p:spPr>
          <a:xfrm>
            <a:off x="3881520" y="8686800"/>
            <a:ext cx="296388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DD83CC-2AE2-47A8-8767-60BC30514ED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3881520" y="8686800"/>
            <a:ext cx="29653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0BA463-BD4E-4E3B-9C4E-04A0AC25669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3881520" y="8686800"/>
            <a:ext cx="29671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E826C4-0A04-4AC7-95E5-831E4DBF358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3881520" y="8686800"/>
            <a:ext cx="297000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AA1BB4-55A6-4AD7-98E8-D241A9CA14D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3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"/>
          <p:cNvSpPr/>
          <p:nvPr/>
        </p:nvSpPr>
        <p:spPr>
          <a:xfrm>
            <a:off x="3881520" y="8686800"/>
            <a:ext cx="296388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B2AEB7-C02F-4C6E-BC06-93DA14AF8B3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3881520" y="8686800"/>
            <a:ext cx="29653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C1AB06-4213-4C36-B1AE-21CDC5348A9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3881520" y="8686800"/>
            <a:ext cx="29671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21B1CD-2D7D-4385-B77F-E143F9F14C8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3881520" y="8686800"/>
            <a:ext cx="297000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0C59CC-745F-4AFC-93B5-25D1F459D95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883" name="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"/>
          <p:cNvSpPr/>
          <p:nvPr/>
        </p:nvSpPr>
        <p:spPr>
          <a:xfrm>
            <a:off x="3881520" y="8686800"/>
            <a:ext cx="296388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E671CF-E911-48E1-B853-1C799EB8DE3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3881520" y="8686800"/>
            <a:ext cx="29653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DF2342-0B8C-4D48-A073-AE005F9FA6A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3881520" y="8686800"/>
            <a:ext cx="29671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04EA04-CBC6-452D-B2D1-B99D7CAD1FA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3881520" y="8686800"/>
            <a:ext cx="297000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15E1AC-720B-494C-AB29-4CB61EEF061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889" name="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"/>
          <p:cNvSpPr/>
          <p:nvPr/>
        </p:nvSpPr>
        <p:spPr>
          <a:xfrm>
            <a:off x="3881520" y="8686800"/>
            <a:ext cx="296388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F2B988-3C47-4677-B8EB-3E5BA12F025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3881520" y="8686800"/>
            <a:ext cx="29653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99485D-2526-4DF7-A804-F2BC29F9004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3881520" y="8686800"/>
            <a:ext cx="29671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6F4975-0DE7-4FE6-9D5E-BEDE6515405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3" name="PlaceHolder 1"/>
          <p:cNvSpPr>
            <a:spLocks noGrp="1"/>
          </p:cNvSpPr>
          <p:nvPr>
            <p:ph type="sldImg"/>
          </p:nvPr>
        </p:nvSpPr>
        <p:spPr>
          <a:xfrm>
            <a:off x="1467000" y="770040"/>
            <a:ext cx="3916080" cy="2936880"/>
          </a:xfrm>
          <a:prstGeom prst="rect">
            <a:avLst/>
          </a:prstGeom>
          <a:ln w="0">
            <a:noFill/>
          </a:ln>
        </p:spPr>
      </p:sp>
      <p:sp>
        <p:nvSpPr>
          <p:cNvPr id="894" name=""/>
          <p:cNvSpPr/>
          <p:nvPr/>
        </p:nvSpPr>
        <p:spPr>
          <a:xfrm>
            <a:off x="652320" y="4002120"/>
            <a:ext cx="5545440" cy="43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"/>
          <p:cNvSpPr/>
          <p:nvPr/>
        </p:nvSpPr>
        <p:spPr>
          <a:xfrm>
            <a:off x="3881520" y="8686800"/>
            <a:ext cx="296388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7B1A86-22B8-4A6D-BB5A-A2DE59B71D9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3881520" y="8686800"/>
            <a:ext cx="29653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DF1598-0A8F-46D7-97E0-F85228ED82F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3881520" y="8686800"/>
            <a:ext cx="29671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76E9A5-DEE9-467D-BD91-F7BF007E30E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PlaceHolder 1"/>
          <p:cNvSpPr>
            <a:spLocks noGrp="1"/>
          </p:cNvSpPr>
          <p:nvPr>
            <p:ph type="sldImg"/>
          </p:nvPr>
        </p:nvSpPr>
        <p:spPr>
          <a:xfrm>
            <a:off x="1467000" y="770040"/>
            <a:ext cx="3916080" cy="2936880"/>
          </a:xfrm>
          <a:prstGeom prst="rect">
            <a:avLst/>
          </a:prstGeom>
          <a:ln w="0">
            <a:noFill/>
          </a:ln>
        </p:spPr>
      </p:sp>
      <p:sp>
        <p:nvSpPr>
          <p:cNvPr id="899" name=""/>
          <p:cNvSpPr/>
          <p:nvPr/>
        </p:nvSpPr>
        <p:spPr>
          <a:xfrm>
            <a:off x="652320" y="4002120"/>
            <a:ext cx="5545440" cy="43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"/>
          <p:cNvSpPr/>
          <p:nvPr/>
        </p:nvSpPr>
        <p:spPr>
          <a:xfrm>
            <a:off x="3881520" y="8686800"/>
            <a:ext cx="296388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0DC6D6-DCDB-4110-9AF0-C5983DA1931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3881520" y="8686800"/>
            <a:ext cx="29653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93811C-C3F6-4668-B583-97C26D3DA10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3881520" y="8686800"/>
            <a:ext cx="29671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B0EE70-7B6D-470E-B468-A4946A59023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PlaceHolder 1"/>
          <p:cNvSpPr>
            <a:spLocks noGrp="1"/>
          </p:cNvSpPr>
          <p:nvPr>
            <p:ph type="sldImg"/>
          </p:nvPr>
        </p:nvSpPr>
        <p:spPr>
          <a:xfrm>
            <a:off x="1467000" y="770040"/>
            <a:ext cx="3916080" cy="2936880"/>
          </a:xfrm>
          <a:prstGeom prst="rect">
            <a:avLst/>
          </a:prstGeom>
          <a:ln w="0">
            <a:noFill/>
          </a:ln>
        </p:spPr>
      </p:sp>
      <p:sp>
        <p:nvSpPr>
          <p:cNvPr id="904" name=""/>
          <p:cNvSpPr/>
          <p:nvPr/>
        </p:nvSpPr>
        <p:spPr>
          <a:xfrm>
            <a:off x="652320" y="4002120"/>
            <a:ext cx="5545440" cy="43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"/>
          <p:cNvSpPr/>
          <p:nvPr/>
        </p:nvSpPr>
        <p:spPr>
          <a:xfrm>
            <a:off x="3881520" y="8686800"/>
            <a:ext cx="296388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A985AB-C0B3-4BAB-BE43-FE2ACFA472C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6" name="PlaceHolder 1"/>
          <p:cNvSpPr>
            <a:spLocks noGrp="1"/>
          </p:cNvSpPr>
          <p:nvPr>
            <p:ph type="sldImg"/>
          </p:nvPr>
        </p:nvSpPr>
        <p:spPr>
          <a:xfrm>
            <a:off x="1467000" y="770040"/>
            <a:ext cx="3913200" cy="2933640"/>
          </a:xfrm>
          <a:prstGeom prst="rect">
            <a:avLst/>
          </a:prstGeom>
          <a:ln w="0">
            <a:noFill/>
          </a:ln>
        </p:spPr>
      </p:sp>
      <p:sp>
        <p:nvSpPr>
          <p:cNvPr id="907" name=""/>
          <p:cNvSpPr/>
          <p:nvPr/>
        </p:nvSpPr>
        <p:spPr>
          <a:xfrm>
            <a:off x="652320" y="4002120"/>
            <a:ext cx="5542200" cy="43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"/>
          <p:cNvSpPr/>
          <p:nvPr/>
        </p:nvSpPr>
        <p:spPr>
          <a:xfrm>
            <a:off x="3881520" y="8686800"/>
            <a:ext cx="296388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5784BC-D41C-48BA-8990-3D4C00D9723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3881520" y="8686800"/>
            <a:ext cx="29653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B76EAD-A77B-4BF8-899F-76DB10F7E03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3881520" y="8686800"/>
            <a:ext cx="29671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D88DF1-6918-4AFD-8153-2DF88999C23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3881520" y="8686800"/>
            <a:ext cx="297000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BCA6BA-210B-4344-A55C-191E7C08DCD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913" name="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"/>
          <p:cNvSpPr/>
          <p:nvPr/>
        </p:nvSpPr>
        <p:spPr>
          <a:xfrm>
            <a:off x="3881520" y="8686800"/>
            <a:ext cx="296388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0DF0AB-CD00-4254-892A-D52D6D23ED2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>
            <a:off x="3881520" y="8686800"/>
            <a:ext cx="29653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72B22D-87A6-4732-A049-CAAA17EF985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>
            <a:off x="3881520" y="8686800"/>
            <a:ext cx="29671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5FDAA2-8D39-49FC-9C38-781CAC9B7F1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7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8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"/>
          <p:cNvSpPr/>
          <p:nvPr/>
        </p:nvSpPr>
        <p:spPr>
          <a:xfrm>
            <a:off x="3881520" y="8686800"/>
            <a:ext cx="296388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1DB1BD-8287-4D42-B86C-CC915D3AA08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3881520" y="8686800"/>
            <a:ext cx="29653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D0AEA6-49C2-40DE-B681-2E88A1ADC86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3881520" y="8686800"/>
            <a:ext cx="29671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21B45D-ADA8-49D7-8B25-8B11F42DDA6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2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3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"/>
          <p:cNvSpPr/>
          <p:nvPr/>
        </p:nvSpPr>
        <p:spPr>
          <a:xfrm>
            <a:off x="3881520" y="8686800"/>
            <a:ext cx="296388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AC65D9-7AEF-4F56-A201-811A3C038E3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3881520" y="8686800"/>
            <a:ext cx="29653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320228-2D83-410C-A0F1-87EDBB1241C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>
            <a:off x="3881520" y="8686800"/>
            <a:ext cx="29671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46C3C4-C196-487C-AD96-B57C237F1CB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7" name="PlaceHolder 1"/>
          <p:cNvSpPr>
            <a:spLocks noGrp="1"/>
          </p:cNvSpPr>
          <p:nvPr>
            <p:ph type="sldImg"/>
          </p:nvPr>
        </p:nvSpPr>
        <p:spPr>
          <a:xfrm>
            <a:off x="1467000" y="770040"/>
            <a:ext cx="3916080" cy="2936880"/>
          </a:xfrm>
          <a:prstGeom prst="rect">
            <a:avLst/>
          </a:prstGeom>
          <a:ln w="0">
            <a:noFill/>
          </a:ln>
        </p:spPr>
      </p:sp>
      <p:sp>
        <p:nvSpPr>
          <p:cNvPr id="928" name=""/>
          <p:cNvSpPr/>
          <p:nvPr/>
        </p:nvSpPr>
        <p:spPr>
          <a:xfrm>
            <a:off x="652320" y="4002120"/>
            <a:ext cx="5545440" cy="43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"/>
          <p:cNvSpPr/>
          <p:nvPr/>
        </p:nvSpPr>
        <p:spPr>
          <a:xfrm>
            <a:off x="3881520" y="8686800"/>
            <a:ext cx="296388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E03999-A1C8-45BC-942F-0F8C0E9571A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3881520" y="8686800"/>
            <a:ext cx="29653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69C26A-4969-4B9C-8F6F-AA1F26A4615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3881520" y="8686800"/>
            <a:ext cx="29671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E418BD-85C7-4DBD-81ED-EE2BC2927FC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3881520" y="8686800"/>
            <a:ext cx="297000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37E056-07AA-492D-82B4-BCAF6434A61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789" name="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"/>
          <p:cNvSpPr/>
          <p:nvPr/>
        </p:nvSpPr>
        <p:spPr>
          <a:xfrm>
            <a:off x="3881520" y="8686800"/>
            <a:ext cx="296388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633FD6-476C-4D61-B8EA-FC6F78437AD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>
            <a:off x="3881520" y="8686800"/>
            <a:ext cx="29653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0DB1CB-F7EA-4CFE-8483-E9A29D83601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PlaceHolder 1"/>
          <p:cNvSpPr>
            <a:spLocks noGrp="1"/>
          </p:cNvSpPr>
          <p:nvPr>
            <p:ph type="sldImg"/>
          </p:nvPr>
        </p:nvSpPr>
        <p:spPr>
          <a:xfrm>
            <a:off x="1467000" y="770040"/>
            <a:ext cx="3914640" cy="2935080"/>
          </a:xfrm>
          <a:prstGeom prst="rect">
            <a:avLst/>
          </a:prstGeom>
          <a:ln w="0">
            <a:noFill/>
          </a:ln>
        </p:spPr>
      </p:sp>
      <p:sp>
        <p:nvSpPr>
          <p:cNvPr id="932" name=""/>
          <p:cNvSpPr/>
          <p:nvPr/>
        </p:nvSpPr>
        <p:spPr>
          <a:xfrm>
            <a:off x="652320" y="4002120"/>
            <a:ext cx="5543640" cy="43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"/>
          <p:cNvSpPr/>
          <p:nvPr/>
        </p:nvSpPr>
        <p:spPr>
          <a:xfrm>
            <a:off x="3881520" y="8686800"/>
            <a:ext cx="296388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232671-C44B-4F2F-89FB-ED79C6130B5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3881520" y="8686800"/>
            <a:ext cx="29653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BA765F-4204-4A99-83D1-0AA5A82BBC4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3881520" y="8686800"/>
            <a:ext cx="29671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F2C0FF-7FC3-4897-97C5-55BB1565B10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3881520" y="8686800"/>
            <a:ext cx="297000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BB1A5A-347F-41C4-95FC-9F89A6319F9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795" name="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"/>
          <p:cNvSpPr/>
          <p:nvPr/>
        </p:nvSpPr>
        <p:spPr>
          <a:xfrm>
            <a:off x="3881520" y="8686800"/>
            <a:ext cx="296388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2B9A96-0798-4970-9F1B-73B2574C1BF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3881520" y="8686800"/>
            <a:ext cx="29653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C8B334-331A-45E5-A73D-6D3F0AED3B3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3881520" y="8686800"/>
            <a:ext cx="29671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8F5453-56A7-4487-9194-B32BD4446F8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PlaceHolder 1"/>
          <p:cNvSpPr>
            <a:spLocks noGrp="1"/>
          </p:cNvSpPr>
          <p:nvPr>
            <p:ph type="sldImg"/>
          </p:nvPr>
        </p:nvSpPr>
        <p:spPr>
          <a:xfrm>
            <a:off x="1467000" y="770040"/>
            <a:ext cx="3916080" cy="2936880"/>
          </a:xfrm>
          <a:prstGeom prst="rect">
            <a:avLst/>
          </a:prstGeom>
          <a:ln w="0">
            <a:noFill/>
          </a:ln>
        </p:spPr>
      </p:sp>
      <p:sp>
        <p:nvSpPr>
          <p:cNvPr id="800" name=""/>
          <p:cNvSpPr/>
          <p:nvPr/>
        </p:nvSpPr>
        <p:spPr>
          <a:xfrm>
            <a:off x="652320" y="4002120"/>
            <a:ext cx="5545440" cy="43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"/>
          <p:cNvSpPr/>
          <p:nvPr/>
        </p:nvSpPr>
        <p:spPr>
          <a:xfrm>
            <a:off x="3881520" y="8686800"/>
            <a:ext cx="296388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72B5F8-4FB7-4FD9-A434-3EA9CA40F3F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3881520" y="8686800"/>
            <a:ext cx="29653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4BA703-0708-4500-B3CA-AF93EA1E9E7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3881520" y="8686800"/>
            <a:ext cx="29671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963041-A4B6-4573-A1B2-BF018F61D46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PlaceHolder 1"/>
          <p:cNvSpPr>
            <a:spLocks noGrp="1"/>
          </p:cNvSpPr>
          <p:nvPr>
            <p:ph type="sldImg"/>
          </p:nvPr>
        </p:nvSpPr>
        <p:spPr>
          <a:xfrm>
            <a:off x="1467000" y="770040"/>
            <a:ext cx="3916080" cy="2936880"/>
          </a:xfrm>
          <a:prstGeom prst="rect">
            <a:avLst/>
          </a:prstGeom>
          <a:ln w="0">
            <a:noFill/>
          </a:ln>
        </p:spPr>
      </p:sp>
      <p:sp>
        <p:nvSpPr>
          <p:cNvPr id="805" name=""/>
          <p:cNvSpPr/>
          <p:nvPr/>
        </p:nvSpPr>
        <p:spPr>
          <a:xfrm>
            <a:off x="652320" y="4002120"/>
            <a:ext cx="5545440" cy="43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"/>
          <p:cNvSpPr/>
          <p:nvPr/>
        </p:nvSpPr>
        <p:spPr>
          <a:xfrm>
            <a:off x="3881520" y="8686800"/>
            <a:ext cx="296388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8C70F3-EE06-4BC1-BD39-A857F640851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3881520" y="8686800"/>
            <a:ext cx="29653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F163D8-3AD0-4FAE-9266-21BEB875C8A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3881520" y="8686800"/>
            <a:ext cx="29671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271FA6-89E3-429A-B9B1-E29A668894F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PlaceHolder 1"/>
          <p:cNvSpPr>
            <a:spLocks noGrp="1"/>
          </p:cNvSpPr>
          <p:nvPr>
            <p:ph type="sldImg"/>
          </p:nvPr>
        </p:nvSpPr>
        <p:spPr>
          <a:xfrm>
            <a:off x="1467000" y="770040"/>
            <a:ext cx="3916080" cy="2936880"/>
          </a:xfrm>
          <a:prstGeom prst="rect">
            <a:avLst/>
          </a:prstGeom>
          <a:ln w="0">
            <a:noFill/>
          </a:ln>
        </p:spPr>
      </p:sp>
      <p:sp>
        <p:nvSpPr>
          <p:cNvPr id="810" name=""/>
          <p:cNvSpPr/>
          <p:nvPr/>
        </p:nvSpPr>
        <p:spPr>
          <a:xfrm>
            <a:off x="652320" y="4002120"/>
            <a:ext cx="5545440" cy="43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"/>
          <p:cNvSpPr/>
          <p:nvPr/>
        </p:nvSpPr>
        <p:spPr>
          <a:xfrm>
            <a:off x="3881520" y="8686800"/>
            <a:ext cx="296388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4A5A9D-5FC0-4870-884F-21E64EA9C0F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3881520" y="8686800"/>
            <a:ext cx="29653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4BEA0C-2ED1-4433-9B16-1F9F29FB21F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3881520" y="8686800"/>
            <a:ext cx="29671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C4BCBC-C740-4769-B091-EF76B6840E7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PlaceHolder 1"/>
          <p:cNvSpPr>
            <a:spLocks noGrp="1"/>
          </p:cNvSpPr>
          <p:nvPr>
            <p:ph type="sldImg"/>
          </p:nvPr>
        </p:nvSpPr>
        <p:spPr>
          <a:xfrm>
            <a:off x="1467000" y="770040"/>
            <a:ext cx="3916080" cy="2936880"/>
          </a:xfrm>
          <a:prstGeom prst="rect">
            <a:avLst/>
          </a:prstGeom>
          <a:ln w="0">
            <a:noFill/>
          </a:ln>
        </p:spPr>
      </p:sp>
      <p:sp>
        <p:nvSpPr>
          <p:cNvPr id="815" name=""/>
          <p:cNvSpPr/>
          <p:nvPr/>
        </p:nvSpPr>
        <p:spPr>
          <a:xfrm>
            <a:off x="652320" y="4002120"/>
            <a:ext cx="5545440" cy="43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"/>
          <p:cNvSpPr/>
          <p:nvPr/>
        </p:nvSpPr>
        <p:spPr>
          <a:xfrm>
            <a:off x="3881520" y="8686800"/>
            <a:ext cx="296388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7F6EBA-BBE9-4FC7-A4DD-A7341201A57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3881520" y="8686800"/>
            <a:ext cx="29653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C6734D-D218-4C67-8699-FCAB1C9DD0E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3881520" y="8686800"/>
            <a:ext cx="29671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FAB995-1E70-4219-B086-FD07123CD89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PlaceHolder 1"/>
          <p:cNvSpPr>
            <a:spLocks noGrp="1"/>
          </p:cNvSpPr>
          <p:nvPr>
            <p:ph type="sldImg"/>
          </p:nvPr>
        </p:nvSpPr>
        <p:spPr>
          <a:xfrm>
            <a:off x="1467000" y="770040"/>
            <a:ext cx="3916080" cy="2936880"/>
          </a:xfrm>
          <a:prstGeom prst="rect">
            <a:avLst/>
          </a:prstGeom>
          <a:ln w="0">
            <a:noFill/>
          </a:ln>
        </p:spPr>
      </p:sp>
      <p:sp>
        <p:nvSpPr>
          <p:cNvPr id="820" name=""/>
          <p:cNvSpPr/>
          <p:nvPr/>
        </p:nvSpPr>
        <p:spPr>
          <a:xfrm>
            <a:off x="652320" y="4002120"/>
            <a:ext cx="5545440" cy="43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1520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1520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74520"/>
            <a:ext cx="821520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1520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0896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7040" y="1604520"/>
            <a:ext cx="400896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1EB97CB-E6ED-4246-ADBF-0C182DEECD91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1520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13CE816-4AC0-4718-9446-98182088D5C4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457200" y="272880"/>
            <a:ext cx="8215200" cy="524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102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A3AC841-B0FA-41CB-9ECB-289E411B87C5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1520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0896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67040" y="1604520"/>
            <a:ext cx="400896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674520"/>
            <a:ext cx="400896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8C3A000-9FD3-4E98-9AFA-0B6659E496C0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1520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0896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67040" y="1604520"/>
            <a:ext cx="400896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667040" y="3674520"/>
            <a:ext cx="400896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9F501A-19C9-4E47-A087-413F73501CBE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1520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0896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67040" y="1604520"/>
            <a:ext cx="400896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674520"/>
            <a:ext cx="821520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AE26395-A2C0-4167-9555-A2BCF81CE7A8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1520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1520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57200" y="3674520"/>
            <a:ext cx="821520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7F602D3-9D1C-45D8-BADB-0AF828598BB6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1520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0896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67040" y="1604520"/>
            <a:ext cx="400896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674520"/>
            <a:ext cx="400896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667040" y="3674520"/>
            <a:ext cx="400896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F88FF4-71C0-4FE2-A282-F279563931F4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1520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492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234600" y="1604520"/>
            <a:ext cx="264492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012360" y="1604520"/>
            <a:ext cx="264492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57200" y="3674520"/>
            <a:ext cx="264492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234600" y="3674520"/>
            <a:ext cx="264492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6012360" y="3674520"/>
            <a:ext cx="264492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CEF7C52-35D6-4DC5-9ECC-00CC9E22BBC3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33775F-F77C-4E36-B351-2E12580D62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1520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0896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7040" y="1604520"/>
            <a:ext cx="400896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74520"/>
            <a:ext cx="400896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7040" y="3674520"/>
            <a:ext cx="400896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1520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152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D621AC-5C27-46D9-A6FD-42E9BF8B0790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1520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152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7D92B5-A366-4211-BE9E-2E0ADA60EB2F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1520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0896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67040" y="1604520"/>
            <a:ext cx="400896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8CE767-D05C-4960-BB44-F851DF154280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1520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0F085D-B48B-481E-B716-411A1B47AE3F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ubTitle"/>
          </p:nvPr>
        </p:nvSpPr>
        <p:spPr>
          <a:xfrm>
            <a:off x="457200" y="272880"/>
            <a:ext cx="8215200" cy="524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102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280155-58B7-4BFA-A0BF-752826179537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1520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0896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67040" y="1604520"/>
            <a:ext cx="400896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57200" y="3674520"/>
            <a:ext cx="400896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016231-8791-4929-B817-341C3AC37D53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1520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0896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67040" y="1604520"/>
            <a:ext cx="400896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667040" y="3674520"/>
            <a:ext cx="400896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E36BDD-5850-41A9-ADE0-7AC00F4ED08B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1520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0896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67040" y="1604520"/>
            <a:ext cx="400896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674520"/>
            <a:ext cx="821520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9002FD-F6C3-4860-9DD1-BAE7B9321A7F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1520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1520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57200" y="3674520"/>
            <a:ext cx="821520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2E9A88-1755-4997-B53A-59ECF8304FB7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1520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0896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67040" y="1604520"/>
            <a:ext cx="400896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3674520"/>
            <a:ext cx="400896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4667040" y="3674520"/>
            <a:ext cx="400896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C5F2C6-FED0-4CF8-A369-3E4ED46390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1520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492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4600" y="1604520"/>
            <a:ext cx="264492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12360" y="1604520"/>
            <a:ext cx="264492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74520"/>
            <a:ext cx="264492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4600" y="3674520"/>
            <a:ext cx="264492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12360" y="3674520"/>
            <a:ext cx="264492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1520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492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3234600" y="1604520"/>
            <a:ext cx="264492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6012360" y="1604520"/>
            <a:ext cx="264492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457200" y="3674520"/>
            <a:ext cx="264492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6"/>
          <p:cNvSpPr>
            <a:spLocks noGrp="1"/>
          </p:cNvSpPr>
          <p:nvPr>
            <p:ph/>
          </p:nvPr>
        </p:nvSpPr>
        <p:spPr>
          <a:xfrm>
            <a:off x="3234600" y="3674520"/>
            <a:ext cx="264492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7"/>
          <p:cNvSpPr>
            <a:spLocks noGrp="1"/>
          </p:cNvSpPr>
          <p:nvPr>
            <p:ph/>
          </p:nvPr>
        </p:nvSpPr>
        <p:spPr>
          <a:xfrm>
            <a:off x="6012360" y="3674520"/>
            <a:ext cx="264492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44E29C-3D16-4C45-AAEE-28D82562A8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4C247A-BEAF-4880-AF1D-769F4E13B5C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1520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152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E83406-0251-42A9-A01C-CD2EFC139E5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1520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152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4C4A60-0B71-418C-81E7-10D2A278F48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1520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0896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7040" y="1604520"/>
            <a:ext cx="400896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A43A33-BB3E-4490-A651-F4719551DA3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1520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372840-439D-42C3-80D6-001EE6E578C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2880"/>
            <a:ext cx="8215200" cy="524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102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9C651F-7715-4C6D-9151-AB465745F44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1520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0896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7040" y="1604520"/>
            <a:ext cx="400896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74520"/>
            <a:ext cx="400896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245370-BA7C-4B94-B73D-D880441A253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1520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152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1520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0896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7040" y="1604520"/>
            <a:ext cx="400896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7040" y="3674520"/>
            <a:ext cx="400896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5D2E8E-F0B8-4869-BF63-A398A09BDBD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1520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0896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7040" y="1604520"/>
            <a:ext cx="400896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74520"/>
            <a:ext cx="821520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29B9A7-E72D-4760-B364-E135686D789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1520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1520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74520"/>
            <a:ext cx="821520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FD6DC0-B9D7-4768-8324-79808682FAF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1520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0896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7040" y="1604520"/>
            <a:ext cx="400896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74520"/>
            <a:ext cx="400896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7040" y="3674520"/>
            <a:ext cx="400896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F0000F-458F-4791-B4DE-D857E19CFF9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1520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492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4600" y="1604520"/>
            <a:ext cx="264492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12360" y="1604520"/>
            <a:ext cx="264492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74520"/>
            <a:ext cx="264492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4600" y="3674520"/>
            <a:ext cx="264492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12360" y="3674520"/>
            <a:ext cx="264492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FBA710-F328-40C3-8DA4-E62421B61BCD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78BAC3-71E0-4817-AE0E-39590392ED7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1520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152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CFAFFD-8273-4BCE-98F7-FD65C2D08D5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1520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152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7F81B9-1521-407D-85C5-6323658EA26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1520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0896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7040" y="1604520"/>
            <a:ext cx="400896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113E98-DFCB-4742-8324-20A88E9C1FB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1520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C2BFCF-D7AF-49C0-A880-7A498FC5915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1520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152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2880"/>
            <a:ext cx="8215200" cy="524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102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806F74-D36B-4133-9354-46277A845C7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1520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0896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7040" y="1604520"/>
            <a:ext cx="400896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74520"/>
            <a:ext cx="400896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134596-2D2C-45B2-B596-95FFF9F00F3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1520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0896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7040" y="1604520"/>
            <a:ext cx="400896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67040" y="3674520"/>
            <a:ext cx="400896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43CC6E-3D17-440E-BA3B-A5E15957D0A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1520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0896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7040" y="1604520"/>
            <a:ext cx="400896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674520"/>
            <a:ext cx="821520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67CEEE-32D7-461D-B4E1-011DBB0D8E1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1520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1520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674520"/>
            <a:ext cx="821520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F032E4-8569-4DDD-B598-F2C96B27866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1520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0896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7040" y="1604520"/>
            <a:ext cx="400896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674520"/>
            <a:ext cx="400896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67040" y="3674520"/>
            <a:ext cx="400896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345047-0F9F-43D0-A412-182B90B268E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1520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492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4600" y="1604520"/>
            <a:ext cx="264492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12360" y="1604520"/>
            <a:ext cx="264492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674520"/>
            <a:ext cx="264492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4600" y="3674520"/>
            <a:ext cx="264492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12360" y="3674520"/>
            <a:ext cx="264492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1ADEF3-D2C0-48EA-9D8E-DC3DE00FC888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7ECB7-1BBB-4523-8F4A-641EE6360090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1520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152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FA04D-12BB-4AC5-912E-D6573BDE7086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1520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152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EED05-0F65-44BB-A58E-1FAE33FF69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1520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0896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7040" y="1604520"/>
            <a:ext cx="400896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1520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0896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67040" y="1604520"/>
            <a:ext cx="400896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47F78-1734-4F92-BA6D-701F9BD564CE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1520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CB68F-50B9-4627-93B0-3C67E9A213B1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7200" y="272880"/>
            <a:ext cx="8215200" cy="524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102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65F3F-154B-499E-90E7-EC61B4C8AF69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1520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0896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67040" y="1604520"/>
            <a:ext cx="400896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674520"/>
            <a:ext cx="400896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7B3B9-D80E-40D5-AB1A-7918D736B4EA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1520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0896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67040" y="1604520"/>
            <a:ext cx="400896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67040" y="3674520"/>
            <a:ext cx="400896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9B568-5B64-473F-BFFF-EE5B74153503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1520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0896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67040" y="1604520"/>
            <a:ext cx="400896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674520"/>
            <a:ext cx="821520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B067D-E6EF-4E5E-A788-FE2D47843602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1520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1520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674520"/>
            <a:ext cx="821520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F242F-DF9E-46E1-982D-6EC3D162091A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1520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0896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67040" y="1604520"/>
            <a:ext cx="400896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674520"/>
            <a:ext cx="400896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67040" y="3674520"/>
            <a:ext cx="400896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BF67B-D800-459B-A54D-6315D6917299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1520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492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4600" y="1604520"/>
            <a:ext cx="264492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12360" y="1604520"/>
            <a:ext cx="264492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674520"/>
            <a:ext cx="264492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4600" y="3674520"/>
            <a:ext cx="264492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12360" y="3674520"/>
            <a:ext cx="264492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06EF9-AB61-4118-B719-0EED4615D823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739C8D-22F9-43F3-B59D-E795A542E2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1520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1520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152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90C13B-9221-42D5-B283-C418B1D61AEC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1520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152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0A718E-1228-4AF5-B687-5DC96E9934C3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1520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0896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67040" y="1604520"/>
            <a:ext cx="400896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BBEFD3-35BD-43C2-8DE6-91F90A1B8CD6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1520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91E766-84F2-4B5B-95C0-80936CC62229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2880"/>
            <a:ext cx="8215200" cy="524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102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FF50CC-8741-48FD-8928-8F66E21718AD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1520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0896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7040" y="1604520"/>
            <a:ext cx="400896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74520"/>
            <a:ext cx="400896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4BE5E9-1647-4028-AE53-78C1194473DF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1520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0896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7040" y="1604520"/>
            <a:ext cx="400896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67040" y="3674520"/>
            <a:ext cx="400896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4364B2-AD30-4273-A5F1-A05FBC922698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1520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0896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67040" y="1604520"/>
            <a:ext cx="400896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674520"/>
            <a:ext cx="821520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D3F311-D947-4998-A58B-9D57EF060AC1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1520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1520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674520"/>
            <a:ext cx="821520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760B2C-FDD0-48DC-BD75-4B0471FAFF77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1520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0896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67040" y="1604520"/>
            <a:ext cx="400896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674520"/>
            <a:ext cx="400896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67040" y="3674520"/>
            <a:ext cx="400896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89FE80-22E1-4EBF-9F0F-44E047322A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2880"/>
            <a:ext cx="8215200" cy="524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102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1520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492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4600" y="1604520"/>
            <a:ext cx="264492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12360" y="1604520"/>
            <a:ext cx="264492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674520"/>
            <a:ext cx="264492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4600" y="3674520"/>
            <a:ext cx="264492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12360" y="3674520"/>
            <a:ext cx="264492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E8F21B-4356-4E8A-A2EE-BEE6AC17426C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D9A2A-26C7-45C5-AB4F-5B0591A7020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1520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152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7CBE5-7E0A-41E8-B36B-B350066A5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1520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152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E4ADE-F22C-461B-90CE-55AE7C058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1520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0896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7040" y="1604520"/>
            <a:ext cx="400896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1C9B2-9352-435C-8680-C65D4D212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1520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9E362-0E95-4DDD-9A09-ABE97B657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272880"/>
            <a:ext cx="8215200" cy="524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102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217FD-AF41-48B3-893E-189AD2D3A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1520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0896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67040" y="1604520"/>
            <a:ext cx="400896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674520"/>
            <a:ext cx="400896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854CA-2899-4B3B-AE97-438F1948B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1520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0896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67040" y="1604520"/>
            <a:ext cx="400896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67040" y="3674520"/>
            <a:ext cx="400896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66605-70E8-43F8-8D3E-3EA016505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1520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0896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67040" y="1604520"/>
            <a:ext cx="400896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674520"/>
            <a:ext cx="821520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364A5-BE36-40DF-8A6C-250119CC4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1520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0896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7040" y="1604520"/>
            <a:ext cx="400896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74520"/>
            <a:ext cx="400896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1520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1520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674520"/>
            <a:ext cx="821520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2C365-EF27-4D56-989C-36000E5F1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1520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0896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67040" y="1604520"/>
            <a:ext cx="400896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674520"/>
            <a:ext cx="400896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67040" y="3674520"/>
            <a:ext cx="400896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E6FBB-2C36-417E-92E5-59458FE61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1520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492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4600" y="1604520"/>
            <a:ext cx="264492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12360" y="1604520"/>
            <a:ext cx="264492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674520"/>
            <a:ext cx="264492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4600" y="3674520"/>
            <a:ext cx="264492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12360" y="3674520"/>
            <a:ext cx="264492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357BC-7785-4D20-AC1D-271BAF042B5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1520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152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1520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152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1520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0896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7040" y="1604520"/>
            <a:ext cx="400896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1520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457200" y="272880"/>
            <a:ext cx="8215200" cy="524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102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1520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0896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67040" y="1604520"/>
            <a:ext cx="400896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674520"/>
            <a:ext cx="400896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1520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0896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7040" y="1604520"/>
            <a:ext cx="400896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7040" y="3674520"/>
            <a:ext cx="400896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1520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0896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67040" y="1604520"/>
            <a:ext cx="400896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667040" y="3674520"/>
            <a:ext cx="400896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1520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0896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67040" y="1604520"/>
            <a:ext cx="400896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674520"/>
            <a:ext cx="821520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1520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1520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57200" y="3674520"/>
            <a:ext cx="821520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1520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0896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67040" y="1604520"/>
            <a:ext cx="400896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674520"/>
            <a:ext cx="400896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667040" y="3674520"/>
            <a:ext cx="400896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1520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492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234600" y="1604520"/>
            <a:ext cx="264492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012360" y="1604520"/>
            <a:ext cx="264492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57200" y="3674520"/>
            <a:ext cx="264492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3234600" y="3674520"/>
            <a:ext cx="264492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6012360" y="3674520"/>
            <a:ext cx="264492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03EB8B6-F6FD-4C14-832F-7AB632C1DE6E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1520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152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2863B34-A84A-4437-9E62-717502969781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1520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152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0C0FB0C-F0EF-43A5-9555-ACCC3659EEE7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1520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0896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67040" y="1604520"/>
            <a:ext cx="400896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E571981-0057-422D-8F59-017C937CFB87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1520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A05949B-A1AB-4A42-BDC1-F7D4A6C351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1520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0896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7040" y="1604520"/>
            <a:ext cx="400896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74520"/>
            <a:ext cx="821520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2880"/>
            <a:ext cx="8215200" cy="524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102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8C56058-6660-4325-B814-D779C685818C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1520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0896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7040" y="1604520"/>
            <a:ext cx="400896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674520"/>
            <a:ext cx="400896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7B31973-A03C-4C97-B82D-F043DF57D0E9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1520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0896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67040" y="1604520"/>
            <a:ext cx="400896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67040" y="3674520"/>
            <a:ext cx="400896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411B0ED-42EA-42A7-9FF8-2B636D5F1F8F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1520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0896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7040" y="1604520"/>
            <a:ext cx="400896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74520"/>
            <a:ext cx="821520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CE381C4-F031-4245-A5A7-91F25B881B20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1520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1520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674520"/>
            <a:ext cx="821520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D6AA7E7-70E6-4B06-B475-C3154AA2354E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1520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0896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67040" y="1604520"/>
            <a:ext cx="400896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674520"/>
            <a:ext cx="400896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67040" y="3674520"/>
            <a:ext cx="400896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E122193-8329-488E-8C4E-859D35BCF4D6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1520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492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4600" y="1604520"/>
            <a:ext cx="264492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12360" y="1604520"/>
            <a:ext cx="264492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674520"/>
            <a:ext cx="264492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4600" y="3674520"/>
            <a:ext cx="264492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12360" y="3674520"/>
            <a:ext cx="264492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14B84E3-E54C-4418-8FED-7BC730B0CDC9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E1384EE-3EE8-4524-AFA5-964693D1B38B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1520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152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50B638D-DB36-4D63-BF41-C6B0D1839857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1520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152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BE286CC-CAE9-42D7-814C-2F42E2DB16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3"/>
          <a:stretch/>
        </p:blipFill>
        <p:spPr>
          <a:xfrm>
            <a:off x="6870600" y="182520"/>
            <a:ext cx="1992240" cy="150012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4"/>
          <a:stretch/>
        </p:blipFill>
        <p:spPr>
          <a:xfrm>
            <a:off x="0" y="5572080"/>
            <a:ext cx="961920" cy="1285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6840" y="259920"/>
            <a:ext cx="8217000" cy="11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456840" y="1653840"/>
            <a:ext cx="8217000" cy="3963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93000"/>
          </a:bodyPr>
          <a:p>
            <a:pPr marL="318960" indent="0">
              <a:lnSpc>
                <a:spcPct val="93000"/>
              </a:lnSpc>
              <a:spcAft>
                <a:spcPts val="138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8960" indent="-318960">
              <a:lnSpc>
                <a:spcPct val="93000"/>
              </a:lnSpc>
              <a:spcAft>
                <a:spcPts val="138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8960" indent="-318960">
              <a:lnSpc>
                <a:spcPct val="93000"/>
              </a:lnSpc>
              <a:spcAft>
                <a:spcPts val="138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8960" indent="-318960">
              <a:lnSpc>
                <a:spcPct val="93000"/>
              </a:lnSpc>
              <a:spcAft>
                <a:spcPts val="138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8960" indent="-318960">
              <a:lnSpc>
                <a:spcPct val="93000"/>
              </a:lnSpc>
              <a:spcAft>
                <a:spcPts val="138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8960" indent="-318960">
              <a:lnSpc>
                <a:spcPct val="93000"/>
              </a:lnSpc>
              <a:spcAft>
                <a:spcPts val="138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8960" indent="-318960">
              <a:lnSpc>
                <a:spcPct val="93000"/>
              </a:lnSpc>
              <a:spcAft>
                <a:spcPts val="138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457200" y="6246720"/>
            <a:ext cx="21258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127320" y="6246720"/>
            <a:ext cx="28940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 type="sldNum" idx="9"/>
          </p:nvPr>
        </p:nvSpPr>
        <p:spPr>
          <a:xfrm>
            <a:off x="6555960" y="6246360"/>
            <a:ext cx="211788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597CD5-4AC1-40C2-BEFE-F8363B9B09D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57200" y="6246720"/>
            <a:ext cx="212868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2"/>
          <a:stretch/>
        </p:blipFill>
        <p:spPr>
          <a:xfrm>
            <a:off x="-33480" y="0"/>
            <a:ext cx="9240840" cy="689292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35040" y="404280"/>
            <a:ext cx="7856640" cy="107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300" spc="-1" strike="noStrike">
                <a:solidFill>
                  <a:srgbClr val="333333"/>
                </a:solidFill>
                <a:latin typeface="DejaVu Sans"/>
              </a:rPr>
              <a:t>Click to edit the title text format</a:t>
            </a:r>
            <a:endParaRPr b="0" lang="en-US" sz="2300" spc="-1" strike="noStrike">
              <a:solidFill>
                <a:srgbClr val="333333"/>
              </a:solidFill>
              <a:latin typeface="DejaVu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35040" y="1669680"/>
            <a:ext cx="785664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720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28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666666"/>
                </a:solidFill>
                <a:latin typeface="DejaVu Sans"/>
              </a:rPr>
              <a:t>Click to edit the outline text format</a:t>
            </a:r>
            <a:endParaRPr b="0" lang="en-US" sz="2900" spc="-1" strike="noStrike">
              <a:solidFill>
                <a:srgbClr val="666666"/>
              </a:solidFill>
              <a:latin typeface="DejaVu Sans"/>
            </a:endParaRPr>
          </a:p>
          <a:p>
            <a:pPr lvl="1" marL="343080" indent="-343080">
              <a:lnSpc>
                <a:spcPct val="98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666666"/>
                </a:solidFill>
                <a:latin typeface="DejaVu Sans"/>
              </a:rPr>
              <a:t>Second Outline Level</a:t>
            </a:r>
            <a:endParaRPr b="0" lang="en-US" sz="2900" spc="-1" strike="noStrike">
              <a:solidFill>
                <a:srgbClr val="666666"/>
              </a:solidFill>
              <a:latin typeface="DejaVu Sans"/>
            </a:endParaRPr>
          </a:p>
          <a:p>
            <a:pPr lvl="2" marL="343080" indent="-343080">
              <a:lnSpc>
                <a:spcPct val="98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666666"/>
                </a:solidFill>
                <a:latin typeface="DejaVu Sans"/>
              </a:rPr>
              <a:t>Third Outline Level</a:t>
            </a:r>
            <a:endParaRPr b="0" lang="en-US" sz="2900" spc="-1" strike="noStrike">
              <a:solidFill>
                <a:srgbClr val="666666"/>
              </a:solidFill>
              <a:latin typeface="DejaVu Sans"/>
            </a:endParaRPr>
          </a:p>
          <a:p>
            <a:pPr lvl="3" marL="343080" indent="-343080">
              <a:lnSpc>
                <a:spcPct val="98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666666"/>
                </a:solidFill>
                <a:latin typeface="DejaVu Sans"/>
              </a:rPr>
              <a:t>Fourth Outline Level</a:t>
            </a:r>
            <a:endParaRPr b="0" lang="en-US" sz="2900" spc="-1" strike="noStrike">
              <a:solidFill>
                <a:srgbClr val="666666"/>
              </a:solidFill>
              <a:latin typeface="DejaVu Sans"/>
            </a:endParaRPr>
          </a:p>
          <a:p>
            <a:pPr lvl="4" marL="343080" indent="-343080">
              <a:lnSpc>
                <a:spcPct val="98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666666"/>
                </a:solidFill>
                <a:latin typeface="DejaVu Sans"/>
              </a:rPr>
              <a:t>Fifth Outline Level</a:t>
            </a:r>
            <a:endParaRPr b="0" lang="en-US" sz="2900" spc="-1" strike="noStrike">
              <a:solidFill>
                <a:srgbClr val="666666"/>
              </a:solidFill>
              <a:latin typeface="DejaVu Sans"/>
            </a:endParaRPr>
          </a:p>
          <a:p>
            <a:pPr lvl="5" marL="343080" indent="-343080">
              <a:lnSpc>
                <a:spcPct val="98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666666"/>
                </a:solidFill>
                <a:latin typeface="DejaVu Sans"/>
              </a:rPr>
              <a:t>Sixth Outline Level</a:t>
            </a:r>
            <a:endParaRPr b="0" lang="en-US" sz="2900" spc="-1" strike="noStrike">
              <a:solidFill>
                <a:srgbClr val="666666"/>
              </a:solidFill>
              <a:latin typeface="DejaVu Sans"/>
            </a:endParaRPr>
          </a:p>
          <a:p>
            <a:pPr lvl="6" marL="343080" indent="-343080">
              <a:lnSpc>
                <a:spcPct val="98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666666"/>
                </a:solidFill>
                <a:latin typeface="DejaVu Sans"/>
              </a:rPr>
              <a:t>Seventh Outline Level</a:t>
            </a:r>
            <a:endParaRPr b="0" lang="en-US" sz="2900" spc="-1" strike="noStrike">
              <a:solidFill>
                <a:srgbClr val="666666"/>
              </a:solidFill>
              <a:latin typeface="DejaVu Sans"/>
            </a:endParaRPr>
          </a:p>
        </p:txBody>
      </p:sp>
      <p:sp>
        <p:nvSpPr>
          <p:cNvPr id="43" name=""/>
          <p:cNvSpPr/>
          <p:nvPr/>
        </p:nvSpPr>
        <p:spPr>
          <a:xfrm>
            <a:off x="130320" y="6483240"/>
            <a:ext cx="21222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7320" y="6483240"/>
            <a:ext cx="2890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1"/>
          </p:nvPr>
        </p:nvSpPr>
        <p:spPr>
          <a:xfrm>
            <a:off x="6913440" y="6483240"/>
            <a:ext cx="2114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dddddd"/>
                </a:solidFill>
                <a:latin typeface="DejaVu Sans"/>
                <a:ea typeface="Segoe UI"/>
              </a:defRPr>
            </a:lvl1pPr>
          </a:lstStyle>
          <a:p>
            <a:pPr indent="0" algn="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DA87D3-95A4-4959-906D-3AD37069821B}" type="slidenum">
              <a:rPr b="0" lang="ru-RU" sz="1400" spc="-1" strike="noStrike">
                <a:solidFill>
                  <a:srgbClr val="dddddd"/>
                </a:solidFill>
                <a:latin typeface="DejaVu Sans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-33480" y="0"/>
            <a:ext cx="9240840" cy="689292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35040" y="404280"/>
            <a:ext cx="7856640" cy="107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300" spc="-1" strike="noStrike">
                <a:solidFill>
                  <a:srgbClr val="333333"/>
                </a:solidFill>
                <a:latin typeface="DejaVu Sans"/>
              </a:rPr>
              <a:t>Click to edit the title text format</a:t>
            </a:r>
            <a:endParaRPr b="0" lang="en-US" sz="2300" spc="-1" strike="noStrike">
              <a:solidFill>
                <a:srgbClr val="333333"/>
              </a:solidFill>
              <a:latin typeface="DejaVu San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35040" y="1669680"/>
            <a:ext cx="785664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720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28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666666"/>
                </a:solidFill>
                <a:latin typeface="DejaVu Sans"/>
              </a:rPr>
              <a:t>Click to edit the outline text format</a:t>
            </a:r>
            <a:endParaRPr b="0" lang="en-US" sz="2900" spc="-1" strike="noStrike">
              <a:solidFill>
                <a:srgbClr val="666666"/>
              </a:solidFill>
              <a:latin typeface="DejaVu Sans"/>
            </a:endParaRPr>
          </a:p>
          <a:p>
            <a:pPr lvl="1" marL="343080" indent="-343080">
              <a:lnSpc>
                <a:spcPct val="98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666666"/>
                </a:solidFill>
                <a:latin typeface="DejaVu Sans"/>
              </a:rPr>
              <a:t>Second Outline Level</a:t>
            </a:r>
            <a:endParaRPr b="0" lang="en-US" sz="2900" spc="-1" strike="noStrike">
              <a:solidFill>
                <a:srgbClr val="666666"/>
              </a:solidFill>
              <a:latin typeface="DejaVu Sans"/>
            </a:endParaRPr>
          </a:p>
          <a:p>
            <a:pPr lvl="2" marL="343080" indent="-343080">
              <a:lnSpc>
                <a:spcPct val="98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666666"/>
                </a:solidFill>
                <a:latin typeface="DejaVu Sans"/>
              </a:rPr>
              <a:t>Third Outline Level</a:t>
            </a:r>
            <a:endParaRPr b="0" lang="en-US" sz="2900" spc="-1" strike="noStrike">
              <a:solidFill>
                <a:srgbClr val="666666"/>
              </a:solidFill>
              <a:latin typeface="DejaVu Sans"/>
            </a:endParaRPr>
          </a:p>
          <a:p>
            <a:pPr lvl="3" marL="343080" indent="-343080">
              <a:lnSpc>
                <a:spcPct val="98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666666"/>
                </a:solidFill>
                <a:latin typeface="DejaVu Sans"/>
              </a:rPr>
              <a:t>Fourth Outline Level</a:t>
            </a:r>
            <a:endParaRPr b="0" lang="en-US" sz="2900" spc="-1" strike="noStrike">
              <a:solidFill>
                <a:srgbClr val="666666"/>
              </a:solidFill>
              <a:latin typeface="DejaVu Sans"/>
            </a:endParaRPr>
          </a:p>
          <a:p>
            <a:pPr lvl="4" marL="343080" indent="-343080">
              <a:lnSpc>
                <a:spcPct val="98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666666"/>
                </a:solidFill>
                <a:latin typeface="DejaVu Sans"/>
              </a:rPr>
              <a:t>Fifth Outline Level</a:t>
            </a:r>
            <a:endParaRPr b="0" lang="en-US" sz="2900" spc="-1" strike="noStrike">
              <a:solidFill>
                <a:srgbClr val="666666"/>
              </a:solidFill>
              <a:latin typeface="DejaVu Sans"/>
            </a:endParaRPr>
          </a:p>
          <a:p>
            <a:pPr lvl="5" marL="343080" indent="-343080">
              <a:lnSpc>
                <a:spcPct val="98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666666"/>
                </a:solidFill>
                <a:latin typeface="DejaVu Sans"/>
              </a:rPr>
              <a:t>Sixth Outline Level</a:t>
            </a:r>
            <a:endParaRPr b="0" lang="en-US" sz="2900" spc="-1" strike="noStrike">
              <a:solidFill>
                <a:srgbClr val="666666"/>
              </a:solidFill>
              <a:latin typeface="DejaVu Sans"/>
            </a:endParaRPr>
          </a:p>
          <a:p>
            <a:pPr lvl="6" marL="343080" indent="-343080">
              <a:lnSpc>
                <a:spcPct val="98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666666"/>
                </a:solidFill>
                <a:latin typeface="DejaVu Sans"/>
              </a:rPr>
              <a:t>Seventh Outline Level</a:t>
            </a:r>
            <a:endParaRPr b="0" lang="en-US" sz="2900" spc="-1" strike="noStrike">
              <a:solidFill>
                <a:srgbClr val="666666"/>
              </a:solidFill>
              <a:latin typeface="DejaVu Sans"/>
            </a:endParaRPr>
          </a:p>
        </p:txBody>
      </p:sp>
      <p:sp>
        <p:nvSpPr>
          <p:cNvPr id="85" name=""/>
          <p:cNvSpPr/>
          <p:nvPr/>
        </p:nvSpPr>
        <p:spPr>
          <a:xfrm>
            <a:off x="130320" y="6483240"/>
            <a:ext cx="21222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27320" y="6483240"/>
            <a:ext cx="2890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6913440" y="6483240"/>
            <a:ext cx="2114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dddddd"/>
                </a:solidFill>
                <a:latin typeface="DejaVu Sans"/>
                <a:ea typeface="Segoe UI"/>
              </a:defRPr>
            </a:lvl1pPr>
          </a:lstStyle>
          <a:p>
            <a:pPr indent="0" algn="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8626EF-E7C8-4197-AF09-82CA0DE9BD79}" type="slidenum">
              <a:rPr b="0" lang="ru-RU" sz="1400" spc="-1" strike="noStrike">
                <a:solidFill>
                  <a:srgbClr val="dddddd"/>
                </a:solidFill>
                <a:latin typeface="DejaVu Sans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-33480" y="0"/>
            <a:ext cx="9240840" cy="689292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35040" y="404280"/>
            <a:ext cx="7856640" cy="107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300" spc="-1" strike="noStrike">
                <a:solidFill>
                  <a:srgbClr val="333333"/>
                </a:solidFill>
                <a:latin typeface="DejaVu Sans"/>
              </a:rPr>
              <a:t>Click to edit the title text format</a:t>
            </a:r>
            <a:endParaRPr b="0" lang="en-US" sz="2300" spc="-1" strike="noStrike">
              <a:solidFill>
                <a:srgbClr val="333333"/>
              </a:solidFill>
              <a:latin typeface="DejaVu San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35040" y="1669680"/>
            <a:ext cx="785664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720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28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666666"/>
                </a:solidFill>
                <a:latin typeface="DejaVu Sans"/>
              </a:rPr>
              <a:t>Click to edit the outline text format</a:t>
            </a:r>
            <a:endParaRPr b="0" lang="en-US" sz="2900" spc="-1" strike="noStrike">
              <a:solidFill>
                <a:srgbClr val="666666"/>
              </a:solidFill>
              <a:latin typeface="DejaVu Sans"/>
            </a:endParaRPr>
          </a:p>
          <a:p>
            <a:pPr lvl="1" marL="343080" indent="-343080">
              <a:lnSpc>
                <a:spcPct val="98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666666"/>
                </a:solidFill>
                <a:latin typeface="DejaVu Sans"/>
              </a:rPr>
              <a:t>Second Outline Level</a:t>
            </a:r>
            <a:endParaRPr b="0" lang="en-US" sz="2900" spc="-1" strike="noStrike">
              <a:solidFill>
                <a:srgbClr val="666666"/>
              </a:solidFill>
              <a:latin typeface="DejaVu Sans"/>
            </a:endParaRPr>
          </a:p>
          <a:p>
            <a:pPr lvl="2" marL="343080" indent="-343080">
              <a:lnSpc>
                <a:spcPct val="98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666666"/>
                </a:solidFill>
                <a:latin typeface="DejaVu Sans"/>
              </a:rPr>
              <a:t>Third Outline Level</a:t>
            </a:r>
            <a:endParaRPr b="0" lang="en-US" sz="2900" spc="-1" strike="noStrike">
              <a:solidFill>
                <a:srgbClr val="666666"/>
              </a:solidFill>
              <a:latin typeface="DejaVu Sans"/>
            </a:endParaRPr>
          </a:p>
          <a:p>
            <a:pPr lvl="3" marL="343080" indent="-343080">
              <a:lnSpc>
                <a:spcPct val="98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666666"/>
                </a:solidFill>
                <a:latin typeface="DejaVu Sans"/>
              </a:rPr>
              <a:t>Fourth Outline Level</a:t>
            </a:r>
            <a:endParaRPr b="0" lang="en-US" sz="2900" spc="-1" strike="noStrike">
              <a:solidFill>
                <a:srgbClr val="666666"/>
              </a:solidFill>
              <a:latin typeface="DejaVu Sans"/>
            </a:endParaRPr>
          </a:p>
          <a:p>
            <a:pPr lvl="4" marL="343080" indent="-343080">
              <a:lnSpc>
                <a:spcPct val="98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666666"/>
                </a:solidFill>
                <a:latin typeface="DejaVu Sans"/>
              </a:rPr>
              <a:t>Fifth Outline Level</a:t>
            </a:r>
            <a:endParaRPr b="0" lang="en-US" sz="2900" spc="-1" strike="noStrike">
              <a:solidFill>
                <a:srgbClr val="666666"/>
              </a:solidFill>
              <a:latin typeface="DejaVu Sans"/>
            </a:endParaRPr>
          </a:p>
          <a:p>
            <a:pPr lvl="5" marL="343080" indent="-343080">
              <a:lnSpc>
                <a:spcPct val="98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666666"/>
                </a:solidFill>
                <a:latin typeface="DejaVu Sans"/>
              </a:rPr>
              <a:t>Sixth Outline Level</a:t>
            </a:r>
            <a:endParaRPr b="0" lang="en-US" sz="2900" spc="-1" strike="noStrike">
              <a:solidFill>
                <a:srgbClr val="666666"/>
              </a:solidFill>
              <a:latin typeface="DejaVu Sans"/>
            </a:endParaRPr>
          </a:p>
          <a:p>
            <a:pPr lvl="6" marL="343080" indent="-343080">
              <a:lnSpc>
                <a:spcPct val="98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666666"/>
                </a:solidFill>
                <a:latin typeface="DejaVu Sans"/>
              </a:rPr>
              <a:t>Seventh Outline Level</a:t>
            </a:r>
            <a:endParaRPr b="0" lang="en-US" sz="2900" spc="-1" strike="noStrike">
              <a:solidFill>
                <a:srgbClr val="666666"/>
              </a:solidFill>
              <a:latin typeface="DejaVu Sans"/>
            </a:endParaRPr>
          </a:p>
        </p:txBody>
      </p:sp>
      <p:sp>
        <p:nvSpPr>
          <p:cNvPr id="127" name=""/>
          <p:cNvSpPr/>
          <p:nvPr/>
        </p:nvSpPr>
        <p:spPr>
          <a:xfrm>
            <a:off x="130320" y="6483240"/>
            <a:ext cx="21222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127320" y="6483240"/>
            <a:ext cx="2890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sldNum" idx="3"/>
          </p:nvPr>
        </p:nvSpPr>
        <p:spPr>
          <a:xfrm>
            <a:off x="6913440" y="6483240"/>
            <a:ext cx="2114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dddddd"/>
                </a:solidFill>
                <a:latin typeface="DejaVu Sans"/>
                <a:ea typeface="Segoe UI"/>
              </a:defRPr>
            </a:lvl1pPr>
          </a:lstStyle>
          <a:p>
            <a:pPr indent="0" algn="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2773F0-3691-4ADE-88E9-865D4246FB89}" type="slidenum">
              <a:rPr b="0" lang="ru-RU" sz="1400" spc="-1" strike="noStrike">
                <a:solidFill>
                  <a:srgbClr val="dddddd"/>
                </a:solidFill>
                <a:latin typeface="DejaVu Sans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a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324000" y="404640"/>
            <a:ext cx="8496000" cy="612000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3"/>
          <a:stretch/>
        </p:blipFill>
        <p:spPr>
          <a:xfrm>
            <a:off x="0" y="5084640"/>
            <a:ext cx="1147680" cy="156852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1520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152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marL="294840" indent="0">
              <a:lnSpc>
                <a:spcPct val="102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294840" indent="-294840">
              <a:lnSpc>
                <a:spcPct val="10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294840" indent="-294840">
              <a:lnSpc>
                <a:spcPct val="10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294840" indent="-294840">
              <a:lnSpc>
                <a:spcPct val="10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94840" indent="-294840">
              <a:lnSpc>
                <a:spcPct val="10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94840" indent="-294840">
              <a:lnSpc>
                <a:spcPct val="10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94840" indent="-294840">
              <a:lnSpc>
                <a:spcPct val="10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"/>
          <p:cNvSpPr/>
          <p:nvPr/>
        </p:nvSpPr>
        <p:spPr>
          <a:xfrm>
            <a:off x="457200" y="6246720"/>
            <a:ext cx="21240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127320" y="6246720"/>
            <a:ext cx="28926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sldNum" idx="4"/>
          </p:nvPr>
        </p:nvSpPr>
        <p:spPr>
          <a:xfrm>
            <a:off x="6556320" y="6246360"/>
            <a:ext cx="2116080" cy="4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4A4B31-01A2-4E78-B1C7-E00219EDA83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a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324000" y="404640"/>
            <a:ext cx="8496000" cy="612000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3"/>
          <a:stretch/>
        </p:blipFill>
        <p:spPr>
          <a:xfrm>
            <a:off x="0" y="5084640"/>
            <a:ext cx="1147680" cy="156852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520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15200" cy="45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102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29040" indent="-329040">
              <a:lnSpc>
                <a:spcPct val="10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29040" indent="-329040">
              <a:lnSpc>
                <a:spcPct val="10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29040" indent="-329040">
              <a:lnSpc>
                <a:spcPct val="10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29040" indent="-329040">
              <a:lnSpc>
                <a:spcPct val="10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29040" indent="-329040">
              <a:lnSpc>
                <a:spcPct val="10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29040" indent="-329040">
              <a:lnSpc>
                <a:spcPct val="10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5"/>
          </p:nvPr>
        </p:nvSpPr>
        <p:spPr>
          <a:xfrm>
            <a:off x="456840" y="6356520"/>
            <a:ext cx="2119320" cy="3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Segoe UI"/>
              </a:rPr>
              <a:t>17.4.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19320" cy="3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7ACF44-E33E-4C65-B6DA-27E6D21539DA}" type="slidenum">
              <a:rPr b="0" lang="ru-RU" sz="24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a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324000" y="404640"/>
            <a:ext cx="8496000" cy="61200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3"/>
          <a:stretch/>
        </p:blipFill>
        <p:spPr>
          <a:xfrm>
            <a:off x="0" y="5084640"/>
            <a:ext cx="1147680" cy="1568520"/>
          </a:xfrm>
          <a:prstGeom prst="rect">
            <a:avLst/>
          </a:prstGeom>
          <a:ln w="0">
            <a:noFill/>
          </a:ln>
        </p:spPr>
      </p:pic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1520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152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marL="294840" indent="0">
              <a:lnSpc>
                <a:spcPct val="102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294840" indent="-294840">
              <a:lnSpc>
                <a:spcPct val="10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294840" indent="-294840">
              <a:lnSpc>
                <a:spcPct val="10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294840" indent="-294840">
              <a:lnSpc>
                <a:spcPct val="10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94840" indent="-294840">
              <a:lnSpc>
                <a:spcPct val="10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94840" indent="-294840">
              <a:lnSpc>
                <a:spcPct val="10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94840" indent="-294840">
              <a:lnSpc>
                <a:spcPct val="10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514440" y="1050840"/>
            <a:ext cx="8629560" cy="1800"/>
          </a:xfrm>
          <a:prstGeom prst="line">
            <a:avLst/>
          </a:prstGeom>
          <a:ln cap="sq" w="9360">
            <a:solidFill>
              <a:srgbClr val="f0a2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14440" y="1050840"/>
            <a:ext cx="8629560" cy="1800"/>
          </a:xfrm>
          <a:prstGeom prst="line">
            <a:avLst/>
          </a:prstGeom>
          <a:ln cap="sq" w="9360">
            <a:solidFill>
              <a:srgbClr val="f0a2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14440" y="1057320"/>
            <a:ext cx="8629560" cy="3240"/>
          </a:xfrm>
          <a:prstGeom prst="line">
            <a:avLst/>
          </a:prstGeom>
          <a:ln cap="sq" w="9360">
            <a:solidFill>
              <a:srgbClr val="f0a2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1520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152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92000"/>
          </a:bodyPr>
          <a:p>
            <a:pPr marL="315360" indent="0">
              <a:lnSpc>
                <a:spcPct val="93000"/>
              </a:lnSpc>
              <a:spcBef>
                <a:spcPts val="1412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3000"/>
              </a:lnSpc>
              <a:spcBef>
                <a:spcPts val="1412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3000"/>
              </a:lnSpc>
              <a:spcBef>
                <a:spcPts val="1412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3000"/>
              </a:lnSpc>
              <a:spcBef>
                <a:spcPts val="1412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3000"/>
              </a:lnSpc>
              <a:spcBef>
                <a:spcPts val="1412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3000"/>
              </a:lnSpc>
              <a:spcBef>
                <a:spcPts val="1412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3000"/>
              </a:lnSpc>
              <a:spcBef>
                <a:spcPts val="1412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57200" y="6246720"/>
            <a:ext cx="21240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127320" y="6246720"/>
            <a:ext cx="28926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sldNum" idx="7"/>
          </p:nvPr>
        </p:nvSpPr>
        <p:spPr>
          <a:xfrm>
            <a:off x="6556320" y="6246360"/>
            <a:ext cx="2116080" cy="4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8579B9-2073-4147-96C3-E53F455DD71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6840" y="259920"/>
            <a:ext cx="8217000" cy="11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456840" y="1653840"/>
            <a:ext cx="8217000" cy="3963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93000"/>
          </a:bodyPr>
          <a:p>
            <a:pPr marL="318960" indent="0">
              <a:lnSpc>
                <a:spcPct val="93000"/>
              </a:lnSpc>
              <a:spcAft>
                <a:spcPts val="138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8960" indent="-318960">
              <a:lnSpc>
                <a:spcPct val="93000"/>
              </a:lnSpc>
              <a:spcAft>
                <a:spcPts val="138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8960" indent="-318960">
              <a:lnSpc>
                <a:spcPct val="93000"/>
              </a:lnSpc>
              <a:spcAft>
                <a:spcPts val="138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8960" indent="-318960">
              <a:lnSpc>
                <a:spcPct val="93000"/>
              </a:lnSpc>
              <a:spcAft>
                <a:spcPts val="138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8960" indent="-318960">
              <a:lnSpc>
                <a:spcPct val="93000"/>
              </a:lnSpc>
              <a:spcAft>
                <a:spcPts val="138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8960" indent="-318960">
              <a:lnSpc>
                <a:spcPct val="93000"/>
              </a:lnSpc>
              <a:spcAft>
                <a:spcPts val="138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8960" indent="-318960">
              <a:lnSpc>
                <a:spcPct val="93000"/>
              </a:lnSpc>
              <a:spcAft>
                <a:spcPts val="138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457200" y="6246720"/>
            <a:ext cx="21258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3127320" y="6246720"/>
            <a:ext cx="28940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 type="sldNum" idx="8"/>
          </p:nvPr>
        </p:nvSpPr>
        <p:spPr>
          <a:xfrm>
            <a:off x="6555960" y="6246360"/>
            <a:ext cx="211788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72FAF8-1F32-4091-8DC6-37057353E89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49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6.png"/><Relationship Id="rId7" Type="http://schemas.openxmlformats.org/officeDocument/2006/relationships/image" Target="../media/image16.png"/><Relationship Id="rId8" Type="http://schemas.openxmlformats.org/officeDocument/2006/relationships/slideLayout" Target="../slideLayouts/slideLayout49.xml"/><Relationship Id="rId9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49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wmf"/><Relationship Id="rId3" Type="http://schemas.openxmlformats.org/officeDocument/2006/relationships/image" Target="../media/image27.png"/><Relationship Id="rId4" Type="http://schemas.openxmlformats.org/officeDocument/2006/relationships/image" Target="../media/image28.wmf"/><Relationship Id="rId5" Type="http://schemas.openxmlformats.org/officeDocument/2006/relationships/slideLayout" Target="../slideLayouts/slideLayout73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wmf"/><Relationship Id="rId4" Type="http://schemas.openxmlformats.org/officeDocument/2006/relationships/image" Target="../media/image32.wmf"/><Relationship Id="rId5" Type="http://schemas.openxmlformats.org/officeDocument/2006/relationships/slideLayout" Target="../slideLayouts/slideLayout49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4.png"/><Relationship Id="rId4" Type="http://schemas.openxmlformats.org/officeDocument/2006/relationships/image" Target="../media/image34.png"/><Relationship Id="rId5" Type="http://schemas.openxmlformats.org/officeDocument/2006/relationships/slideLayout" Target="../slideLayouts/slideLayout49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49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a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"/>
          <p:cNvSpPr/>
          <p:nvPr/>
        </p:nvSpPr>
        <p:spPr>
          <a:xfrm>
            <a:off x="439560" y="1484280"/>
            <a:ext cx="843444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ahoma"/>
              </a:rPr>
              <a:t>«Арифметические действи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ahoma"/>
              </a:rPr>
              <a:t>над числами»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a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"/>
          <p:cNvSpPr/>
          <p:nvPr/>
        </p:nvSpPr>
        <p:spPr>
          <a:xfrm>
            <a:off x="431640" y="1092240"/>
            <a:ext cx="5983560" cy="621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63000" bIns="63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 u="sng">
                <a:solidFill>
                  <a:srgbClr val="0d0d0d"/>
                </a:solidFill>
                <a:uFillTx/>
                <a:latin typeface="Tahoma"/>
              </a:rPr>
              <a:t> </a:t>
            </a:r>
            <a:r>
              <a:rPr b="1" lang="ru-RU" sz="4000" spc="-1" strike="noStrike" u="sng">
                <a:solidFill>
                  <a:srgbClr val="0d0d0d"/>
                </a:solidFill>
                <a:uFillTx/>
                <a:latin typeface="Tahoma"/>
              </a:rPr>
              <a:t>2754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d0d0d"/>
                </a:solidFill>
                <a:latin typeface="Tahoma"/>
              </a:rPr>
              <a:t> </a:t>
            </a:r>
            <a:r>
              <a:rPr b="1" lang="ru-RU" sz="4000" spc="-1" strike="noStrike" u="sng">
                <a:solidFill>
                  <a:srgbClr val="0d0d0d"/>
                </a:solidFill>
                <a:uFillTx/>
                <a:latin typeface="Tahoma"/>
              </a:rPr>
              <a:t>27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d0d0d"/>
                </a:solidFill>
                <a:latin typeface="Tahoma"/>
              </a:rPr>
              <a:t>    </a:t>
            </a:r>
            <a:r>
              <a:rPr b="1" lang="ru-RU" sz="4000" spc="-1" strike="noStrike" u="sng">
                <a:solidFill>
                  <a:srgbClr val="0d0d0d"/>
                </a:solidFill>
                <a:uFillTx/>
                <a:latin typeface="Tahoma"/>
              </a:rPr>
              <a:t> </a:t>
            </a:r>
            <a:r>
              <a:rPr b="1" lang="ru-RU" sz="4000" spc="-1" strike="noStrike" u="sng">
                <a:solidFill>
                  <a:srgbClr val="0d0d0d"/>
                </a:solidFill>
                <a:uFillTx/>
                <a:latin typeface="Tahoma"/>
              </a:rPr>
              <a:t>5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d0d0d"/>
                </a:solidFill>
                <a:latin typeface="Tahoma"/>
              </a:rPr>
              <a:t>     </a:t>
            </a:r>
            <a:r>
              <a:rPr b="1" lang="ru-RU" sz="4000" spc="-1" strike="noStrike" u="sng">
                <a:solidFill>
                  <a:srgbClr val="0d0d0d"/>
                </a:solidFill>
                <a:uFillTx/>
                <a:latin typeface="Tahoma"/>
              </a:rPr>
              <a:t>0</a:t>
            </a:r>
            <a:r>
              <a:rPr b="1" lang="en-US" sz="4000" spc="-1" strike="noStrike" u="sng">
                <a:solidFill>
                  <a:srgbClr val="0d0d0d"/>
                </a:solidFill>
                <a:uFillTx/>
                <a:latin typeface="Tahoma"/>
              </a:rPr>
              <a:t>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d0d0d"/>
                </a:solidFill>
                <a:latin typeface="Tahoma"/>
              </a:rPr>
              <a:t>      </a:t>
            </a:r>
            <a:r>
              <a:rPr b="1" lang="ru-RU" sz="4000" spc="-1" strike="noStrike">
                <a:solidFill>
                  <a:srgbClr val="0d0d0d"/>
                </a:solidFill>
                <a:latin typeface="Tahoma"/>
              </a:rPr>
              <a:t>54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d0d0d"/>
                </a:solidFill>
                <a:latin typeface="Tahoma"/>
              </a:rPr>
              <a:t>      </a:t>
            </a:r>
            <a:r>
              <a:rPr b="1" lang="ru-RU" sz="4000" spc="-1" strike="noStrike">
                <a:solidFill>
                  <a:srgbClr val="0d0d0d"/>
                </a:solidFill>
                <a:latin typeface="Tahoma"/>
              </a:rPr>
              <a:t>54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d0d0d"/>
                </a:solidFill>
                <a:latin typeface="Tahoma"/>
              </a:rPr>
              <a:t>        </a:t>
            </a:r>
            <a:r>
              <a:rPr b="1" lang="ru-RU" sz="4000" spc="-1" strike="noStrike">
                <a:solidFill>
                  <a:srgbClr val="0d0d0d"/>
                </a:solidFill>
                <a:latin typeface="Tahoma"/>
              </a:rPr>
              <a:t>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2030400" y="1065240"/>
            <a:ext cx="1670040" cy="195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63000" bIns="63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0d0d0d"/>
                </a:solidFill>
                <a:latin typeface="Tahoma"/>
              </a:rPr>
              <a:t>|2</a:t>
            </a:r>
            <a:r>
              <a:rPr b="1" lang="ru-RU" sz="4000" spc="-1" strike="noStrike" u="sng">
                <a:solidFill>
                  <a:srgbClr val="0d0d0d"/>
                </a:solidFill>
                <a:uFillTx/>
                <a:latin typeface="Tahoma"/>
              </a:rPr>
              <a:t>7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d0d0d"/>
                </a:solidFill>
                <a:latin typeface="Tahoma"/>
              </a:rPr>
              <a:t>  </a:t>
            </a:r>
            <a:r>
              <a:rPr b="1" lang="ru-RU" sz="4000" spc="-1" strike="noStrike">
                <a:solidFill>
                  <a:srgbClr val="0d0d0d"/>
                </a:solidFill>
                <a:latin typeface="Tahoma"/>
              </a:rPr>
              <a:t>10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4994280" y="1093680"/>
            <a:ext cx="1758960" cy="439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63000" bIns="63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 u="sng">
                <a:solidFill>
                  <a:srgbClr val="0d0d0d"/>
                </a:solidFill>
                <a:uFillTx/>
                <a:latin typeface="Tahoma"/>
              </a:rPr>
              <a:t> </a:t>
            </a:r>
            <a:r>
              <a:rPr b="1" lang="ru-RU" sz="4000" spc="-1" strike="noStrike" u="sng">
                <a:solidFill>
                  <a:srgbClr val="0d0d0d"/>
                </a:solidFill>
                <a:uFillTx/>
                <a:latin typeface="Tahoma"/>
              </a:rPr>
              <a:t>2754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d0d0d"/>
                </a:solidFill>
                <a:latin typeface="Tahoma"/>
              </a:rPr>
              <a:t> </a:t>
            </a:r>
            <a:r>
              <a:rPr b="1" lang="ru-RU" sz="4000" spc="-1" strike="noStrike" u="sng">
                <a:solidFill>
                  <a:srgbClr val="0d0d0d"/>
                </a:solidFill>
                <a:uFillTx/>
                <a:latin typeface="Tahoma"/>
              </a:rPr>
              <a:t>27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d0d0d"/>
                </a:solidFill>
                <a:latin typeface="Tahoma"/>
              </a:rPr>
              <a:t>    </a:t>
            </a:r>
            <a:r>
              <a:rPr b="1" lang="ru-RU" sz="4000" spc="-1" strike="noStrike" u="sng">
                <a:solidFill>
                  <a:srgbClr val="0d0d0d"/>
                </a:solidFill>
                <a:uFillTx/>
                <a:latin typeface="Tahoma"/>
              </a:rPr>
              <a:t> </a:t>
            </a:r>
            <a:r>
              <a:rPr b="1" lang="ru-RU" sz="4000" spc="-1" strike="noStrike" u="sng">
                <a:solidFill>
                  <a:srgbClr val="0d0d0d"/>
                </a:solidFill>
                <a:uFillTx/>
                <a:latin typeface="Tahoma"/>
              </a:rPr>
              <a:t>54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d0d0d"/>
                </a:solidFill>
                <a:latin typeface="Tahoma"/>
              </a:rPr>
              <a:t>     </a:t>
            </a:r>
            <a:r>
              <a:rPr b="1" lang="ru-RU" sz="4000" spc="-1" strike="noStrike">
                <a:solidFill>
                  <a:srgbClr val="0d0d0d"/>
                </a:solidFill>
                <a:latin typeface="Tahoma"/>
              </a:rPr>
              <a:t>54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d0d0d"/>
                </a:solidFill>
                <a:latin typeface="Tahoma"/>
              </a:rPr>
              <a:t>       </a:t>
            </a:r>
            <a:r>
              <a:rPr b="1" lang="ru-RU" sz="4000" spc="-1" strike="noStrike">
                <a:solidFill>
                  <a:srgbClr val="0d0d0d"/>
                </a:solidFill>
                <a:latin typeface="Tahoma"/>
              </a:rPr>
              <a:t>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d0d0d"/>
                </a:solidFill>
                <a:latin typeface="Tahoma"/>
              </a:rPr>
              <a:t>      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6507000" y="1079640"/>
            <a:ext cx="1484640" cy="13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63000" bIns="63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0d0d0d"/>
                </a:solidFill>
                <a:latin typeface="Tahoma"/>
              </a:rPr>
              <a:t>|2</a:t>
            </a:r>
            <a:r>
              <a:rPr b="1" lang="ru-RU" sz="4000" spc="-1" strike="noStrike" u="sng">
                <a:solidFill>
                  <a:srgbClr val="0d0d0d"/>
                </a:solidFill>
                <a:uFillTx/>
                <a:latin typeface="Tahoma"/>
              </a:rPr>
              <a:t>7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d0d0d"/>
                </a:solidFill>
                <a:latin typeface="Tahoma"/>
              </a:rPr>
              <a:t>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7" name="" descr=""/>
          <p:cNvPicPr/>
          <p:nvPr/>
        </p:nvPicPr>
        <p:blipFill>
          <a:blip r:embed="rId1"/>
          <a:stretch/>
        </p:blipFill>
        <p:spPr>
          <a:xfrm>
            <a:off x="-252360" y="1065240"/>
            <a:ext cx="1096920" cy="1279440"/>
          </a:xfrm>
          <a:prstGeom prst="rect">
            <a:avLst/>
          </a:prstGeom>
          <a:ln w="0">
            <a:noFill/>
          </a:ln>
        </p:spPr>
      </p:pic>
      <p:pic>
        <p:nvPicPr>
          <p:cNvPr id="508" name="" descr=""/>
          <p:cNvPicPr/>
          <p:nvPr/>
        </p:nvPicPr>
        <p:blipFill>
          <a:blip r:embed="rId2"/>
          <a:stretch/>
        </p:blipFill>
        <p:spPr>
          <a:xfrm>
            <a:off x="4284720" y="1065240"/>
            <a:ext cx="1096920" cy="1279440"/>
          </a:xfrm>
          <a:prstGeom prst="rect">
            <a:avLst/>
          </a:prstGeom>
          <a:ln w="0">
            <a:noFill/>
          </a:ln>
        </p:spPr>
      </p:pic>
      <p:pic>
        <p:nvPicPr>
          <p:cNvPr id="509" name="" descr=""/>
          <p:cNvPicPr/>
          <p:nvPr/>
        </p:nvPicPr>
        <p:blipFill>
          <a:blip r:embed="rId3"/>
          <a:stretch/>
        </p:blipFill>
        <p:spPr>
          <a:xfrm>
            <a:off x="295200" y="2338560"/>
            <a:ext cx="1096920" cy="1279440"/>
          </a:xfrm>
          <a:prstGeom prst="rect">
            <a:avLst/>
          </a:prstGeom>
          <a:ln w="0">
            <a:noFill/>
          </a:ln>
        </p:spPr>
      </p:pic>
      <p:pic>
        <p:nvPicPr>
          <p:cNvPr id="510" name="" descr=""/>
          <p:cNvPicPr/>
          <p:nvPr/>
        </p:nvPicPr>
        <p:blipFill>
          <a:blip r:embed="rId4"/>
          <a:stretch/>
        </p:blipFill>
        <p:spPr>
          <a:xfrm>
            <a:off x="611280" y="3560760"/>
            <a:ext cx="1096920" cy="1279440"/>
          </a:xfrm>
          <a:prstGeom prst="rect">
            <a:avLst/>
          </a:prstGeom>
          <a:ln w="0">
            <a:noFill/>
          </a:ln>
        </p:spPr>
      </p:pic>
      <p:pic>
        <p:nvPicPr>
          <p:cNvPr id="511" name="" descr=""/>
          <p:cNvPicPr/>
          <p:nvPr/>
        </p:nvPicPr>
        <p:blipFill>
          <a:blip r:embed="rId5"/>
          <a:stretch/>
        </p:blipFill>
        <p:spPr>
          <a:xfrm>
            <a:off x="4832280" y="2281320"/>
            <a:ext cx="1096920" cy="1279440"/>
          </a:xfrm>
          <a:prstGeom prst="rect">
            <a:avLst/>
          </a:prstGeom>
          <a:ln w="0">
            <a:noFill/>
          </a:ln>
        </p:spPr>
      </p:pic>
      <p:pic>
        <p:nvPicPr>
          <p:cNvPr id="512" name="" descr=""/>
          <p:cNvPicPr/>
          <p:nvPr/>
        </p:nvPicPr>
        <p:blipFill>
          <a:blip r:embed="rId6"/>
          <a:stretch/>
        </p:blipFill>
        <p:spPr>
          <a:xfrm>
            <a:off x="6507000" y="1509840"/>
            <a:ext cx="1579680" cy="1066680"/>
          </a:xfrm>
          <a:prstGeom prst="rect">
            <a:avLst/>
          </a:prstGeom>
          <a:ln w="0">
            <a:noFill/>
          </a:ln>
        </p:spPr>
      </p:pic>
      <p:sp>
        <p:nvSpPr>
          <p:cNvPr id="513" name=""/>
          <p:cNvSpPr/>
          <p:nvPr/>
        </p:nvSpPr>
        <p:spPr>
          <a:xfrm>
            <a:off x="6875640" y="1704960"/>
            <a:ext cx="421920" cy="144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873760" y="3560760"/>
            <a:ext cx="633240" cy="144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1392120" y="4840200"/>
            <a:ext cx="731880" cy="180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1708200" y="3560760"/>
            <a:ext cx="1440" cy="144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a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"/>
          <p:cNvSpPr/>
          <p:nvPr/>
        </p:nvSpPr>
        <p:spPr>
          <a:xfrm>
            <a:off x="647640" y="1079640"/>
            <a:ext cx="1758960" cy="43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63000" bIns="63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 u="sng">
                <a:solidFill>
                  <a:srgbClr val="0d0d0d"/>
                </a:solidFill>
                <a:uFillTx/>
                <a:latin typeface="Tahoma"/>
              </a:rPr>
              <a:t> </a:t>
            </a:r>
            <a:r>
              <a:rPr b="1" lang="ru-RU" sz="4000" spc="-1" strike="noStrike" u="sng">
                <a:solidFill>
                  <a:srgbClr val="0d0d0d"/>
                </a:solidFill>
                <a:uFillTx/>
                <a:latin typeface="Tahoma"/>
              </a:rPr>
              <a:t>324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d0d0d"/>
                </a:solidFill>
                <a:latin typeface="Tahoma"/>
              </a:rPr>
              <a:t> </a:t>
            </a:r>
            <a:r>
              <a:rPr b="1" lang="ru-RU" sz="4000" spc="-1" strike="noStrike" u="sng">
                <a:solidFill>
                  <a:srgbClr val="0d0d0d"/>
                </a:solidFill>
                <a:uFillTx/>
                <a:latin typeface="Tahoma"/>
              </a:rPr>
              <a:t>27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d0d0d"/>
                </a:solidFill>
                <a:latin typeface="Tahoma"/>
              </a:rPr>
              <a:t>    </a:t>
            </a:r>
            <a:r>
              <a:rPr b="1" lang="ru-RU" sz="4000" spc="-1" strike="noStrike" u="sng">
                <a:solidFill>
                  <a:srgbClr val="0d0d0d"/>
                </a:solidFill>
                <a:uFillTx/>
                <a:latin typeface="Tahoma"/>
              </a:rPr>
              <a:t>54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d0d0d"/>
                </a:solidFill>
                <a:latin typeface="Tahoma"/>
              </a:rPr>
              <a:t>    </a:t>
            </a:r>
            <a:r>
              <a:rPr b="1" lang="ru-RU" sz="4000" spc="-1" strike="noStrike">
                <a:solidFill>
                  <a:srgbClr val="0d0d0d"/>
                </a:solidFill>
                <a:latin typeface="Tahoma"/>
              </a:rPr>
              <a:t>54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d0d0d"/>
                </a:solidFill>
                <a:latin typeface="Tahoma"/>
              </a:rPr>
              <a:t>        </a:t>
            </a:r>
            <a:r>
              <a:rPr b="1" lang="ru-RU" sz="4000" spc="-1" strike="noStrike">
                <a:solidFill>
                  <a:srgbClr val="0d0d0d"/>
                </a:solidFill>
                <a:latin typeface="Tahoma"/>
              </a:rPr>
              <a:t>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d0d0d"/>
                </a:solidFill>
                <a:latin typeface="Tahoma"/>
              </a:rPr>
              <a:t>        </a:t>
            </a:r>
            <a:r>
              <a:rPr b="1" lang="ru-RU" sz="4000" spc="-1" strike="noStrike">
                <a:solidFill>
                  <a:srgbClr val="0d0d0d"/>
                </a:solidFill>
                <a:latin typeface="Tahoma"/>
              </a:rPr>
              <a:t>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d0d0d"/>
                </a:solidFill>
                <a:latin typeface="Tahoma"/>
              </a:rPr>
              <a:t>        </a:t>
            </a:r>
            <a:r>
              <a:rPr b="1" lang="ru-RU" sz="4000" spc="-1" strike="noStrike">
                <a:solidFill>
                  <a:srgbClr val="0d0d0d"/>
                </a:solidFill>
                <a:latin typeface="Tahoma"/>
              </a:rPr>
              <a:t>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2232000" y="1103400"/>
            <a:ext cx="1484280" cy="13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63000" bIns="63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0d0d0d"/>
                </a:solidFill>
                <a:latin typeface="Tahoma"/>
              </a:rPr>
              <a:t>|2</a:t>
            </a:r>
            <a:r>
              <a:rPr b="1" lang="ru-RU" sz="4000" spc="-1" strike="noStrike" u="sng">
                <a:solidFill>
                  <a:srgbClr val="0d0d0d"/>
                </a:solidFill>
                <a:uFillTx/>
                <a:latin typeface="Tahoma"/>
              </a:rPr>
              <a:t>7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d0d0d"/>
                </a:solidFill>
                <a:latin typeface="Tahoma"/>
              </a:rPr>
              <a:t>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5141880" y="1122480"/>
            <a:ext cx="1735200" cy="31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63000" bIns="63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 u="sng">
                <a:solidFill>
                  <a:srgbClr val="0d0d0d"/>
                </a:solidFill>
                <a:uFillTx/>
                <a:latin typeface="Tahoma"/>
              </a:rPr>
              <a:t> </a:t>
            </a:r>
            <a:r>
              <a:rPr b="1" lang="ru-RU" sz="4000" spc="-1" strike="noStrike" u="sng">
                <a:solidFill>
                  <a:srgbClr val="0d0d0d"/>
                </a:solidFill>
                <a:uFillTx/>
                <a:latin typeface="Tahoma"/>
              </a:rPr>
              <a:t>324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d0d0d"/>
                </a:solidFill>
                <a:latin typeface="Tahoma"/>
              </a:rPr>
              <a:t> </a:t>
            </a:r>
            <a:r>
              <a:rPr b="1" lang="ru-RU" sz="4000" spc="-1" strike="noStrike" u="sng">
                <a:solidFill>
                  <a:srgbClr val="0d0d0d"/>
                </a:solidFill>
                <a:uFillTx/>
                <a:latin typeface="Tahoma"/>
              </a:rPr>
              <a:t>27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d0d0d"/>
                </a:solidFill>
                <a:latin typeface="Tahoma"/>
              </a:rPr>
              <a:t>    </a:t>
            </a:r>
            <a:r>
              <a:rPr b="1" lang="ru-RU" sz="4000" spc="-1" strike="noStrike" u="sng">
                <a:solidFill>
                  <a:srgbClr val="0d0d0d"/>
                </a:solidFill>
                <a:uFillTx/>
                <a:latin typeface="Tahoma"/>
              </a:rPr>
              <a:t>54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d0d0d"/>
                </a:solidFill>
                <a:latin typeface="Tahoma"/>
              </a:rPr>
              <a:t>    </a:t>
            </a:r>
            <a:r>
              <a:rPr b="1" lang="ru-RU" sz="4000" spc="-1" strike="noStrike">
                <a:solidFill>
                  <a:srgbClr val="0d0d0d"/>
                </a:solidFill>
                <a:latin typeface="Tahoma"/>
              </a:rPr>
              <a:t>54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d0d0d"/>
                </a:solidFill>
                <a:latin typeface="Tahoma"/>
              </a:rPr>
              <a:t>      </a:t>
            </a:r>
            <a:r>
              <a:rPr b="1" lang="ru-RU" sz="4000" spc="-1" strike="noStrike">
                <a:solidFill>
                  <a:srgbClr val="0d0d0d"/>
                </a:solidFill>
                <a:latin typeface="Tahoma"/>
              </a:rPr>
              <a:t>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6696000" y="1122480"/>
            <a:ext cx="1484280" cy="13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63000" bIns="63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0d0d0d"/>
                </a:solidFill>
                <a:latin typeface="Tahoma"/>
              </a:rPr>
              <a:t>|2</a:t>
            </a:r>
            <a:r>
              <a:rPr b="1" lang="ru-RU" sz="4000" spc="-1" strike="noStrike" u="sng">
                <a:solidFill>
                  <a:srgbClr val="0d0d0d"/>
                </a:solidFill>
                <a:uFillTx/>
                <a:latin typeface="Tahoma"/>
              </a:rPr>
              <a:t>7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d0d0d"/>
                </a:solidFill>
                <a:latin typeface="Tahoma"/>
              </a:rPr>
              <a:t>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1" name="" descr=""/>
          <p:cNvPicPr/>
          <p:nvPr/>
        </p:nvPicPr>
        <p:blipFill>
          <a:blip r:embed="rId1"/>
          <a:stretch/>
        </p:blipFill>
        <p:spPr>
          <a:xfrm>
            <a:off x="-108000" y="1068480"/>
            <a:ext cx="1096920" cy="1279440"/>
          </a:xfrm>
          <a:prstGeom prst="rect">
            <a:avLst/>
          </a:prstGeom>
          <a:ln w="0">
            <a:noFill/>
          </a:ln>
        </p:spPr>
      </p:pic>
      <p:pic>
        <p:nvPicPr>
          <p:cNvPr id="522" name="" descr=""/>
          <p:cNvPicPr/>
          <p:nvPr/>
        </p:nvPicPr>
        <p:blipFill>
          <a:blip r:embed="rId2"/>
          <a:stretch/>
        </p:blipFill>
        <p:spPr>
          <a:xfrm>
            <a:off x="480960" y="2341440"/>
            <a:ext cx="1096920" cy="1279800"/>
          </a:xfrm>
          <a:prstGeom prst="rect">
            <a:avLst/>
          </a:prstGeom>
          <a:ln w="0">
            <a:noFill/>
          </a:ln>
        </p:spPr>
      </p:pic>
      <p:pic>
        <p:nvPicPr>
          <p:cNvPr id="523" name="" descr=""/>
          <p:cNvPicPr/>
          <p:nvPr/>
        </p:nvPicPr>
        <p:blipFill>
          <a:blip r:embed="rId3"/>
          <a:stretch/>
        </p:blipFill>
        <p:spPr>
          <a:xfrm>
            <a:off x="4427640" y="1135080"/>
            <a:ext cx="1096920" cy="1279440"/>
          </a:xfrm>
          <a:prstGeom prst="rect">
            <a:avLst/>
          </a:prstGeom>
          <a:ln w="0">
            <a:noFill/>
          </a:ln>
        </p:spPr>
      </p:pic>
      <p:pic>
        <p:nvPicPr>
          <p:cNvPr id="524" name="" descr=""/>
          <p:cNvPicPr/>
          <p:nvPr/>
        </p:nvPicPr>
        <p:blipFill>
          <a:blip r:embed="rId4"/>
          <a:stretch/>
        </p:blipFill>
        <p:spPr>
          <a:xfrm>
            <a:off x="4976640" y="2347920"/>
            <a:ext cx="1097280" cy="1279440"/>
          </a:xfrm>
          <a:prstGeom prst="rect">
            <a:avLst/>
          </a:prstGeom>
          <a:ln w="0">
            <a:noFill/>
          </a:ln>
        </p:spPr>
      </p:pic>
      <p:pic>
        <p:nvPicPr>
          <p:cNvPr id="525" name="" descr=""/>
          <p:cNvPicPr/>
          <p:nvPr/>
        </p:nvPicPr>
        <p:blipFill>
          <a:blip r:embed="rId5"/>
          <a:stretch/>
        </p:blipFill>
        <p:spPr>
          <a:xfrm>
            <a:off x="1254240" y="3598920"/>
            <a:ext cx="1096920" cy="1279440"/>
          </a:xfrm>
          <a:prstGeom prst="rect">
            <a:avLst/>
          </a:prstGeom>
          <a:ln w="0">
            <a:noFill/>
          </a:ln>
        </p:spPr>
      </p:pic>
      <p:pic>
        <p:nvPicPr>
          <p:cNvPr id="526" name="" descr=""/>
          <p:cNvPicPr/>
          <p:nvPr/>
        </p:nvPicPr>
        <p:blipFill>
          <a:blip r:embed="rId6"/>
          <a:stretch/>
        </p:blipFill>
        <p:spPr>
          <a:xfrm>
            <a:off x="2254320" y="1557360"/>
            <a:ext cx="1579320" cy="1066680"/>
          </a:xfrm>
          <a:prstGeom prst="rect">
            <a:avLst/>
          </a:prstGeom>
          <a:ln w="0">
            <a:noFill/>
          </a:ln>
        </p:spPr>
      </p:pic>
      <p:pic>
        <p:nvPicPr>
          <p:cNvPr id="527" name="" descr=""/>
          <p:cNvPicPr/>
          <p:nvPr/>
        </p:nvPicPr>
        <p:blipFill>
          <a:blip r:embed="rId7"/>
          <a:stretch/>
        </p:blipFill>
        <p:spPr>
          <a:xfrm>
            <a:off x="6738840" y="1641600"/>
            <a:ext cx="1579680" cy="1066680"/>
          </a:xfrm>
          <a:prstGeom prst="rect">
            <a:avLst/>
          </a:prstGeom>
          <a:ln w="0">
            <a:noFill/>
          </a:ln>
        </p:spPr>
      </p:pic>
      <p:sp>
        <p:nvSpPr>
          <p:cNvPr id="528" name=""/>
          <p:cNvSpPr/>
          <p:nvPr/>
        </p:nvSpPr>
        <p:spPr>
          <a:xfrm>
            <a:off x="5867280" y="3598920"/>
            <a:ext cx="720720" cy="144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1527120" y="3598920"/>
            <a:ext cx="704880" cy="144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801800" y="4878360"/>
            <a:ext cx="1440" cy="144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1879560" y="4724280"/>
            <a:ext cx="527040" cy="180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a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/>
          <p:nvPr/>
        </p:nvSpPr>
        <p:spPr>
          <a:xfrm>
            <a:off x="1882800" y="1077840"/>
            <a:ext cx="3832200" cy="46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63000" bIns="63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6000" spc="-1" strike="noStrike" u="sng">
                <a:solidFill>
                  <a:srgbClr val="0d0d0d"/>
                </a:solidFill>
                <a:uFillTx/>
                <a:latin typeface="Tahoma"/>
              </a:rPr>
              <a:t> </a:t>
            </a:r>
            <a:r>
              <a:rPr b="1" lang="ru-RU" sz="6000" spc="-1" strike="noStrike" u="sng">
                <a:solidFill>
                  <a:srgbClr val="0d0d0d"/>
                </a:solidFill>
                <a:uFillTx/>
                <a:latin typeface="Tahoma"/>
              </a:rPr>
              <a:t>3251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6000" spc="-1" strike="noStrike">
                <a:solidFill>
                  <a:srgbClr val="0d0d0d"/>
                </a:solidFill>
                <a:latin typeface="Tahoma"/>
              </a:rPr>
              <a:t> </a:t>
            </a:r>
            <a:r>
              <a:rPr b="1" lang="ru-RU" sz="6000" spc="-1" strike="noStrike" u="sng">
                <a:solidFill>
                  <a:srgbClr val="0d0d0d"/>
                </a:solidFill>
                <a:uFillTx/>
                <a:latin typeface="Tahoma"/>
              </a:rPr>
              <a:t>27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6000" spc="-1" strike="noStrike">
                <a:solidFill>
                  <a:srgbClr val="0d0d0d"/>
                </a:solidFill>
                <a:latin typeface="Tahoma"/>
              </a:rPr>
              <a:t>   </a:t>
            </a:r>
            <a:r>
              <a:rPr b="1" lang="ru-RU" sz="6000" spc="-1" strike="noStrike" u="sng">
                <a:solidFill>
                  <a:srgbClr val="0d0d0d"/>
                </a:solidFill>
                <a:uFillTx/>
                <a:latin typeface="Tahoma"/>
              </a:rPr>
              <a:t>55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6000" spc="-1" strike="noStrike">
                <a:solidFill>
                  <a:srgbClr val="0d0d0d"/>
                </a:solidFill>
                <a:latin typeface="Tahoma"/>
              </a:rPr>
              <a:t>   </a:t>
            </a:r>
            <a:r>
              <a:rPr b="1" lang="ru-RU" sz="6000" spc="-1" strike="noStrike" u="sng">
                <a:solidFill>
                  <a:srgbClr val="0d0d0d"/>
                </a:solidFill>
                <a:uFillTx/>
                <a:latin typeface="Tahoma"/>
              </a:rPr>
              <a:t>54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6000" spc="-1" strike="noStrike">
                <a:solidFill>
                  <a:srgbClr val="0d0d0d"/>
                </a:solidFill>
                <a:latin typeface="Tahoma"/>
              </a:rPr>
              <a:t>      </a:t>
            </a:r>
            <a:r>
              <a:rPr b="1" lang="ru-RU" sz="6000" spc="-1" strike="noStrike">
                <a:solidFill>
                  <a:srgbClr val="0d0d0d"/>
                </a:solidFill>
                <a:latin typeface="Tahoma"/>
              </a:rPr>
              <a:t>11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4135320" y="1092240"/>
            <a:ext cx="2344680" cy="195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63000" bIns="63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6000" spc="-1" strike="noStrike">
                <a:solidFill>
                  <a:srgbClr val="0d0d0d"/>
                </a:solidFill>
                <a:latin typeface="Tahoma"/>
              </a:rPr>
              <a:t>|2</a:t>
            </a:r>
            <a:r>
              <a:rPr b="1" lang="ru-RU" sz="6000" spc="-1" strike="noStrike" u="sng">
                <a:solidFill>
                  <a:srgbClr val="0d0d0d"/>
                </a:solidFill>
                <a:uFillTx/>
                <a:latin typeface="Tahoma"/>
              </a:rPr>
              <a:t>7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6000" spc="-1" strike="noStrike">
                <a:solidFill>
                  <a:srgbClr val="0d0d0d"/>
                </a:solidFill>
                <a:latin typeface="Tahoma"/>
              </a:rPr>
              <a:t>  </a:t>
            </a:r>
            <a:r>
              <a:rPr b="1" lang="ru-RU" sz="6000" spc="-1" strike="noStrike">
                <a:solidFill>
                  <a:srgbClr val="0d0d0d"/>
                </a:solidFill>
                <a:latin typeface="Tahoma"/>
              </a:rPr>
              <a:t>120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4680000" y="1230480"/>
            <a:ext cx="57312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63000" bIns="63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800" spc="-1" strike="noStrike" u="sng">
                <a:solidFill>
                  <a:srgbClr val="0d0d0d"/>
                </a:solidFill>
                <a:uFillTx/>
                <a:latin typeface="Tahoma"/>
              </a:rPr>
              <a:t> 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1057320" y="147600"/>
            <a:ext cx="639756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6" name="" descr=""/>
          <p:cNvPicPr/>
          <p:nvPr/>
        </p:nvPicPr>
        <p:blipFill>
          <a:blip r:embed="rId1"/>
          <a:stretch/>
        </p:blipFill>
        <p:spPr>
          <a:xfrm>
            <a:off x="1208160" y="1430280"/>
            <a:ext cx="1098360" cy="1279440"/>
          </a:xfrm>
          <a:prstGeom prst="rect">
            <a:avLst/>
          </a:prstGeom>
          <a:ln w="0">
            <a:noFill/>
          </a:ln>
        </p:spPr>
      </p:pic>
      <p:pic>
        <p:nvPicPr>
          <p:cNvPr id="537" name="" descr=""/>
          <p:cNvPicPr/>
          <p:nvPr/>
        </p:nvPicPr>
        <p:blipFill>
          <a:blip r:embed="rId2"/>
          <a:stretch/>
        </p:blipFill>
        <p:spPr>
          <a:xfrm>
            <a:off x="1782720" y="3184560"/>
            <a:ext cx="1096920" cy="1279440"/>
          </a:xfrm>
          <a:prstGeom prst="rect">
            <a:avLst/>
          </a:prstGeom>
          <a:ln w="0">
            <a:noFill/>
          </a:ln>
        </p:spPr>
      </p:pic>
      <p:sp>
        <p:nvSpPr>
          <p:cNvPr id="538" name=""/>
          <p:cNvSpPr/>
          <p:nvPr/>
        </p:nvSpPr>
        <p:spPr>
          <a:xfrm flipH="1">
            <a:off x="3271680" y="4724280"/>
            <a:ext cx="532080" cy="180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 flipH="1">
            <a:off x="3532320" y="4724280"/>
            <a:ext cx="728640" cy="180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a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"/>
          <p:cNvSpPr/>
          <p:nvPr/>
        </p:nvSpPr>
        <p:spPr>
          <a:xfrm>
            <a:off x="214200" y="500040"/>
            <a:ext cx="7856640" cy="164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1428840" indent="-498600" algn="ctr">
              <a:lnSpc>
                <a:spcPct val="100000"/>
              </a:lnSpc>
              <a:tabLst>
                <a:tab algn="l" pos="0"/>
                <a:tab algn="l" pos="1428840"/>
                <a:tab algn="l" pos="1876320"/>
                <a:tab algn="l" pos="2325600"/>
                <a:tab algn="l" pos="2774880"/>
                <a:tab algn="l" pos="3224160"/>
                <a:tab algn="l" pos="3673440"/>
                <a:tab algn="l" pos="4122720"/>
                <a:tab algn="l" pos="4572000"/>
                <a:tab algn="l" pos="5021280"/>
                <a:tab algn="l" pos="5470560"/>
                <a:tab algn="l" pos="5919840"/>
                <a:tab algn="l" pos="6369120"/>
                <a:tab algn="l" pos="6818400"/>
                <a:tab algn="l" pos="7267680"/>
                <a:tab algn="l" pos="7716960"/>
                <a:tab algn="l" pos="8166240"/>
                <a:tab algn="l" pos="8615520"/>
                <a:tab algn="l" pos="9064800"/>
                <a:tab algn="l" pos="9513720"/>
                <a:tab algn="l" pos="9963000"/>
                <a:tab algn="l" pos="10412280"/>
                <a:tab algn="l" pos="1078236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Как  называется  расстояние, на которое  </a:t>
            </a:r>
            <a:r>
              <a:rPr b="1" lang="ru-RU" sz="3200" spc="-1" strike="noStrike">
                <a:solidFill>
                  <a:srgbClr val="c00000"/>
                </a:solidFill>
                <a:latin typeface="Franklin Gothic Book"/>
              </a:rPr>
              <a:t>сближаются</a:t>
            </a:r>
            <a:r>
              <a:rPr b="1" lang="ru-RU" sz="3200" spc="-1" strike="noStrike">
                <a:solidFill>
                  <a:srgbClr val="ff3399"/>
                </a:solidFill>
                <a:latin typeface="Franklin Gothic Book"/>
              </a:rPr>
              <a:t>  </a:t>
            </a: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движущиеся объекты  за  единицу  времени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1428840" indent="-498600">
              <a:lnSpc>
                <a:spcPct val="100000"/>
              </a:lnSpc>
              <a:tabLst>
                <a:tab algn="l" pos="0"/>
                <a:tab algn="l" pos="1428840"/>
                <a:tab algn="l" pos="1876320"/>
                <a:tab algn="l" pos="2325600"/>
                <a:tab algn="l" pos="2774880"/>
                <a:tab algn="l" pos="3224160"/>
                <a:tab algn="l" pos="3673440"/>
                <a:tab algn="l" pos="4122720"/>
                <a:tab algn="l" pos="4572000"/>
                <a:tab algn="l" pos="5021280"/>
                <a:tab algn="l" pos="5470560"/>
                <a:tab algn="l" pos="5919840"/>
                <a:tab algn="l" pos="6369120"/>
                <a:tab algn="l" pos="6818400"/>
                <a:tab algn="l" pos="7267680"/>
                <a:tab algn="l" pos="7716960"/>
                <a:tab algn="l" pos="8166240"/>
                <a:tab algn="l" pos="8615520"/>
                <a:tab algn="l" pos="9064800"/>
                <a:tab algn="l" pos="9513720"/>
                <a:tab algn="l" pos="9963000"/>
                <a:tab algn="l" pos="104122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1428840" indent="-498600">
              <a:lnSpc>
                <a:spcPct val="100000"/>
              </a:lnSpc>
              <a:tabLst>
                <a:tab algn="l" pos="0"/>
                <a:tab algn="l" pos="1428840"/>
                <a:tab algn="l" pos="1876320"/>
                <a:tab algn="l" pos="2325600"/>
                <a:tab algn="l" pos="2774880"/>
                <a:tab algn="l" pos="3224160"/>
                <a:tab algn="l" pos="3673440"/>
                <a:tab algn="l" pos="4122720"/>
                <a:tab algn="l" pos="4572000"/>
                <a:tab algn="l" pos="5021280"/>
                <a:tab algn="l" pos="5470560"/>
                <a:tab algn="l" pos="5919840"/>
                <a:tab algn="l" pos="6369120"/>
                <a:tab algn="l" pos="6818400"/>
                <a:tab algn="l" pos="7267680"/>
                <a:tab algn="l" pos="7716960"/>
                <a:tab algn="l" pos="8166240"/>
                <a:tab algn="l" pos="8615520"/>
                <a:tab algn="l" pos="9064800"/>
                <a:tab algn="l" pos="9513720"/>
                <a:tab algn="l" pos="9963000"/>
                <a:tab algn="l" pos="104122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1428840" indent="-498600">
              <a:lnSpc>
                <a:spcPct val="100000"/>
              </a:lnSpc>
              <a:tabLst>
                <a:tab algn="l" pos="0"/>
                <a:tab algn="l" pos="1428840"/>
                <a:tab algn="l" pos="1876320"/>
                <a:tab algn="l" pos="2325600"/>
                <a:tab algn="l" pos="2774880"/>
                <a:tab algn="l" pos="3224160"/>
                <a:tab algn="l" pos="3673440"/>
                <a:tab algn="l" pos="4122720"/>
                <a:tab algn="l" pos="4572000"/>
                <a:tab algn="l" pos="5021280"/>
                <a:tab algn="l" pos="5470560"/>
                <a:tab algn="l" pos="5919840"/>
                <a:tab algn="l" pos="6369120"/>
                <a:tab algn="l" pos="6818400"/>
                <a:tab algn="l" pos="7267680"/>
                <a:tab algn="l" pos="7716960"/>
                <a:tab algn="l" pos="8166240"/>
                <a:tab algn="l" pos="8615520"/>
                <a:tab algn="l" pos="9064800"/>
                <a:tab algn="l" pos="9513720"/>
                <a:tab algn="l" pos="9963000"/>
                <a:tab algn="l" pos="104122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1" name="" descr=""/>
          <p:cNvPicPr/>
          <p:nvPr/>
        </p:nvPicPr>
        <p:blipFill>
          <a:blip r:embed="rId1"/>
          <a:stretch/>
        </p:blipFill>
        <p:spPr>
          <a:xfrm>
            <a:off x="998640" y="2735280"/>
            <a:ext cx="2673360" cy="2608200"/>
          </a:xfrm>
          <a:prstGeom prst="rect">
            <a:avLst/>
          </a:prstGeom>
          <a:ln w="0">
            <a:noFill/>
          </a:ln>
        </p:spPr>
      </p:pic>
      <p:pic>
        <p:nvPicPr>
          <p:cNvPr id="542" name="" descr=""/>
          <p:cNvPicPr/>
          <p:nvPr/>
        </p:nvPicPr>
        <p:blipFill>
          <a:blip r:embed="rId2"/>
          <a:stretch/>
        </p:blipFill>
        <p:spPr>
          <a:xfrm>
            <a:off x="5211720" y="3024360"/>
            <a:ext cx="3213000" cy="2219040"/>
          </a:xfrm>
          <a:prstGeom prst="rect">
            <a:avLst/>
          </a:prstGeom>
          <a:ln w="0">
            <a:noFill/>
          </a:ln>
        </p:spPr>
      </p:pic>
      <p:sp>
        <p:nvSpPr>
          <p:cNvPr id="543" name=""/>
          <p:cNvSpPr/>
          <p:nvPr/>
        </p:nvSpPr>
        <p:spPr>
          <a:xfrm>
            <a:off x="0" y="5286240"/>
            <a:ext cx="8499600" cy="13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1657440" indent="-727200">
              <a:lnSpc>
                <a:spcPct val="100000"/>
              </a:lnSpc>
              <a:tabLst>
                <a:tab algn="l" pos="0"/>
                <a:tab algn="l" pos="1657440"/>
                <a:tab algn="l" pos="2104920"/>
                <a:tab algn="l" pos="2554200"/>
                <a:tab algn="l" pos="3003480"/>
                <a:tab algn="l" pos="3452760"/>
                <a:tab algn="l" pos="3902040"/>
                <a:tab algn="l" pos="4351320"/>
                <a:tab algn="l" pos="4800600"/>
                <a:tab algn="l" pos="5249880"/>
                <a:tab algn="l" pos="5699160"/>
                <a:tab algn="l" pos="6148440"/>
                <a:tab algn="l" pos="6597720"/>
                <a:tab algn="l" pos="7047000"/>
                <a:tab algn="l" pos="7496280"/>
                <a:tab algn="l" pos="7945560"/>
                <a:tab algn="l" pos="8394840"/>
                <a:tab algn="l" pos="8844120"/>
                <a:tab algn="l" pos="9293400"/>
                <a:tab algn="l" pos="9742320"/>
                <a:tab algn="l" pos="10191600"/>
                <a:tab algn="l" pos="10640880"/>
                <a:tab algn="l" pos="1078236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Franklin Gothic Book"/>
              </a:rPr>
              <a:t>Скорость </a:t>
            </a:r>
            <a:r>
              <a:rPr b="1" i="1" lang="ru-RU" sz="4000" spc="-1" strike="noStrike">
                <a:solidFill>
                  <a:srgbClr val="c00000"/>
                </a:solidFill>
                <a:latin typeface="Franklin Gothic Book"/>
              </a:rPr>
              <a:t>сближения –  Vсбл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dur="indefinite" nodeType="clickEffect" fill="hold">
                      <p:stCondLst>
                        <p:cond delay="0"/>
                      </p:stCondLst>
                      <p:childTnLst>
                        <p:par>
                          <p:cTn id="201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out">
                                      <p:cBhvr additive="repl">
                                        <p:cTn id="208" dur="1000"/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dur="indefinite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2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14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7" dur="10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a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4" name="" descr=""/>
          <p:cNvPicPr/>
          <p:nvPr/>
        </p:nvPicPr>
        <p:blipFill>
          <a:blip r:embed="rId1"/>
          <a:stretch/>
        </p:blipFill>
        <p:spPr>
          <a:xfrm>
            <a:off x="4357800" y="2786040"/>
            <a:ext cx="2604960" cy="1700280"/>
          </a:xfrm>
          <a:prstGeom prst="rect">
            <a:avLst/>
          </a:prstGeom>
          <a:ln w="0">
            <a:noFill/>
          </a:ln>
        </p:spPr>
      </p:pic>
      <p:sp>
        <p:nvSpPr>
          <p:cNvPr id="545" name=""/>
          <p:cNvSpPr/>
          <p:nvPr/>
        </p:nvSpPr>
        <p:spPr>
          <a:xfrm>
            <a:off x="785880" y="642960"/>
            <a:ext cx="7770600" cy="17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27240" algn="ctr">
              <a:lnSpc>
                <a:spcPct val="8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Franklin Gothic Book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Franklin Gothic Book"/>
              </a:rPr>
              <a:t>Как  называется  расстояние, на которое  </a:t>
            </a:r>
            <a:r>
              <a:rPr b="1" lang="ru-RU" sz="3200" spc="-1" strike="noStrike">
                <a:solidFill>
                  <a:srgbClr val="c00000"/>
                </a:solidFill>
                <a:latin typeface="Franklin Gothic Book"/>
              </a:rPr>
              <a:t>удаляются</a:t>
            </a:r>
            <a:r>
              <a:rPr b="1" lang="ru-RU" sz="3200" spc="-1" strike="noStrike">
                <a:solidFill>
                  <a:srgbClr val="ff3399"/>
                </a:solidFill>
                <a:latin typeface="Franklin Gothic Book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Franklin Gothic Book"/>
              </a:rPr>
              <a:t>движущиеся объекты  за  единицу  времени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27240">
              <a:lnSpc>
                <a:spcPct val="8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27240" algn="ctr">
              <a:lnSpc>
                <a:spcPct val="8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00ff"/>
                </a:solidFill>
                <a:latin typeface="Franklin Gothic Book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27240">
              <a:lnSpc>
                <a:spcPct val="8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6" name="" descr=""/>
          <p:cNvPicPr/>
          <p:nvPr/>
        </p:nvPicPr>
        <p:blipFill>
          <a:blip r:embed="rId2"/>
          <a:srcRect l="0" t="0" r="59791" b="66502"/>
          <a:stretch/>
        </p:blipFill>
        <p:spPr>
          <a:xfrm>
            <a:off x="2214720" y="2857680"/>
            <a:ext cx="2195280" cy="1554120"/>
          </a:xfrm>
          <a:prstGeom prst="rect">
            <a:avLst/>
          </a:prstGeom>
          <a:ln w="0">
            <a:noFill/>
          </a:ln>
        </p:spPr>
      </p:pic>
      <p:sp>
        <p:nvSpPr>
          <p:cNvPr id="547" name=""/>
          <p:cNvSpPr/>
          <p:nvPr/>
        </p:nvSpPr>
        <p:spPr>
          <a:xfrm>
            <a:off x="65160" y="5143680"/>
            <a:ext cx="8642160" cy="7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Franklin Gothic Book"/>
              </a:rPr>
              <a:t>       </a:t>
            </a:r>
            <a:r>
              <a:rPr b="1" lang="ru-RU" sz="4400" spc="-1" strike="noStrike">
                <a:solidFill>
                  <a:srgbClr val="c00000"/>
                </a:solidFill>
                <a:latin typeface="Franklin Gothic Book"/>
              </a:rPr>
              <a:t>Скорость  удаления – V уд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dur="indefinite" nodeType="clickEffect" fill="hold">
                      <p:stCondLst>
                        <p:cond delay="0"/>
                      </p:stCondLst>
                      <p:childTnLst>
                        <p:par>
                          <p:cTn id="221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4" dur="1000"/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dur="indefinite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dur="indefinite" nodeType="click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9" dur="indefinite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1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36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9" dur="20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a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"/>
          <p:cNvSpPr/>
          <p:nvPr/>
        </p:nvSpPr>
        <p:spPr>
          <a:xfrm>
            <a:off x="209520" y="1989000"/>
            <a:ext cx="8274240" cy="157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27240" algn="ctr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500" spc="-1" strike="noStrike">
                <a:solidFill>
                  <a:srgbClr val="4e3b30"/>
                </a:solidFill>
                <a:latin typeface="Franklin Gothic Book"/>
              </a:rPr>
              <a:t>Что  происходит  с  расстоянием  между движущимися  объектами  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marL="343080" indent="-327240" algn="ctr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500" spc="-1" strike="noStrike">
                <a:solidFill>
                  <a:srgbClr val="4e3b30"/>
                </a:solidFill>
                <a:latin typeface="Franklin Gothic Book"/>
              </a:rPr>
              <a:t>при  </a:t>
            </a:r>
            <a:r>
              <a:rPr b="1" lang="ru-RU" sz="3500" spc="-1" strike="noStrike">
                <a:solidFill>
                  <a:srgbClr val="c00000"/>
                </a:solidFill>
                <a:latin typeface="Franklin Gothic Book"/>
              </a:rPr>
              <a:t>встречном</a:t>
            </a:r>
            <a:r>
              <a:rPr b="1" lang="ru-RU" sz="3500" spc="-1" strike="noStrike">
                <a:solidFill>
                  <a:srgbClr val="ff00ff"/>
                </a:solidFill>
                <a:latin typeface="Franklin Gothic Book"/>
              </a:rPr>
              <a:t> </a:t>
            </a:r>
            <a:r>
              <a:rPr b="1" lang="ru-RU" sz="3500" spc="-1" strike="noStrike">
                <a:solidFill>
                  <a:srgbClr val="4e3b30"/>
                </a:solidFill>
                <a:latin typeface="Franklin Gothic Book"/>
              </a:rPr>
              <a:t>движении  и  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marL="343080" indent="-327240" algn="ctr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500" spc="-1" strike="noStrike">
                <a:solidFill>
                  <a:srgbClr val="4e3b30"/>
                </a:solidFill>
                <a:latin typeface="Franklin Gothic Book"/>
              </a:rPr>
              <a:t>при  движении  </a:t>
            </a:r>
            <a:r>
              <a:rPr b="1" lang="ru-RU" sz="3500" spc="-1" strike="noStrike">
                <a:solidFill>
                  <a:srgbClr val="c00000"/>
                </a:solidFill>
                <a:latin typeface="Franklin Gothic Book"/>
              </a:rPr>
              <a:t>вдогонку?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9" name="" descr=""/>
          <p:cNvPicPr/>
          <p:nvPr/>
        </p:nvPicPr>
        <p:blipFill>
          <a:blip r:embed="rId1"/>
          <a:stretch/>
        </p:blipFill>
        <p:spPr>
          <a:xfrm>
            <a:off x="414360" y="341280"/>
            <a:ext cx="1419120" cy="1382760"/>
          </a:xfrm>
          <a:prstGeom prst="rect">
            <a:avLst/>
          </a:prstGeom>
          <a:ln w="0">
            <a:noFill/>
          </a:ln>
        </p:spPr>
      </p:pic>
      <p:pic>
        <p:nvPicPr>
          <p:cNvPr id="550" name="" descr=""/>
          <p:cNvPicPr/>
          <p:nvPr/>
        </p:nvPicPr>
        <p:blipFill>
          <a:blip r:embed="rId2"/>
          <a:stretch/>
        </p:blipFill>
        <p:spPr>
          <a:xfrm>
            <a:off x="1882800" y="4235400"/>
            <a:ext cx="2284560" cy="1674720"/>
          </a:xfrm>
          <a:prstGeom prst="rect">
            <a:avLst/>
          </a:prstGeom>
          <a:ln w="0">
            <a:noFill/>
          </a:ln>
        </p:spPr>
      </p:pic>
      <p:pic>
        <p:nvPicPr>
          <p:cNvPr id="551" name="" descr=""/>
          <p:cNvPicPr/>
          <p:nvPr/>
        </p:nvPicPr>
        <p:blipFill>
          <a:blip r:embed="rId3"/>
          <a:srcRect l="0" t="0" r="48049" b="54850"/>
          <a:stretch/>
        </p:blipFill>
        <p:spPr>
          <a:xfrm>
            <a:off x="5629320" y="4138560"/>
            <a:ext cx="3427200" cy="1927440"/>
          </a:xfrm>
          <a:prstGeom prst="rect">
            <a:avLst/>
          </a:prstGeom>
          <a:ln w="0">
            <a:noFill/>
          </a:ln>
        </p:spPr>
      </p:pic>
      <p:pic>
        <p:nvPicPr>
          <p:cNvPr id="552" name="" descr=""/>
          <p:cNvPicPr/>
          <p:nvPr/>
        </p:nvPicPr>
        <p:blipFill>
          <a:blip r:embed="rId4"/>
          <a:srcRect l="2687" t="2973" r="3461" b="2041"/>
          <a:stretch/>
        </p:blipFill>
        <p:spPr>
          <a:xfrm>
            <a:off x="7085160" y="187200"/>
            <a:ext cx="1842840" cy="1684440"/>
          </a:xfrm>
          <a:prstGeom prst="rect">
            <a:avLst/>
          </a:prstGeom>
          <a:ln w="0">
            <a:noFill/>
          </a:ln>
        </p:spPr>
      </p:pic>
      <p:sp>
        <p:nvSpPr>
          <p:cNvPr id="553" name=""/>
          <p:cNvSpPr/>
          <p:nvPr/>
        </p:nvSpPr>
        <p:spPr>
          <a:xfrm>
            <a:off x="428760" y="5786280"/>
            <a:ext cx="835632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Franklin Gothic Book"/>
              </a:rPr>
              <a:t>Расстояние  уменьш.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dur="indefinite" nodeType="clickEffect" fill="hold">
                      <p:stCondLst>
                        <p:cond delay="0"/>
                      </p:stCondLst>
                      <p:childTnLst>
                        <p:par>
                          <p:cTn id="243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dur="indefinite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6" dur="500"/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9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2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dur="indefinite" nodeType="click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4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str">
                                      <p:cBhvr additive="repl">
                                        <p:cTn id="256" dur="500" fill="hold"/>
                                        <p:tgtEl>
                                          <p:spTgt spid="550"/>
                                        </p:tgtEl>
                                      </p:cBhvr>
                                      <p:tavLst>
                                        <p:tav tm="100000">
                                          <p:val>
                                            <p:strVal val="width"/>
                                          </p:val>
                                        </p:tav>
                                      </p:tavLst>
                                    </p:anim>
                                    <p:anim calcmode="lin" valueType="str">
                                      <p:cBhvr additive="repl">
                                        <p:cTn id="257" dur="500" fill="hold"/>
                                        <p:tgtEl>
                                          <p:spTgt spid="550"/>
                                        </p:tgtEl>
                                      </p:cBhvr>
                                      <p:tavLst>
                                        <p:tav tm="100000">
                                          <p:val>
                                            <p:strVal val="height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dur="indefinite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str">
                                      <p:cBhvr additive="repl">
                                        <p:cTn id="261" dur="500" fill="hold"/>
                                        <p:tgtEl>
                                          <p:spTgt spid="551"/>
                                        </p:tgtEl>
                                      </p:cBhvr>
                                      <p:tavLst>
                                        <p:tav tm="100000">
                                          <p:val>
                                            <p:strVal val="width"/>
                                          </p:val>
                                        </p:tav>
                                      </p:tavLst>
                                    </p:anim>
                                    <p:anim calcmode="lin" valueType="str">
                                      <p:cBhvr additive="repl">
                                        <p:cTn id="262" dur="500" fill="hold"/>
                                        <p:tgtEl>
                                          <p:spTgt spid="551"/>
                                        </p:tgtEl>
                                      </p:cBhvr>
                                      <p:tavLst>
                                        <p:tav tm="100000">
                                          <p:val>
                                            <p:strVal val="height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65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dur="indefinite" nodeType="clickEffect" fill="hold" presetClass="entr" presetID="2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str">
                                      <p:cBhvr additive="repl">
                                        <p:cTn id="268" dur="80"/>
                                        <p:tgtEl>
                                          <p:spTgt spid="553"/>
                                        </p:tgtEl>
                                      </p:cBhvr>
                                      <p:tavLst>
                                        <p:tav tm="0">
                                          <p:val>
                                            <p:strVal val="rgb(78,100,-91)"/>
                                          </p:val>
                                        </p:tav>
                                        <p:tav tm="100000">
                                          <p:val>
                                            <p:strVal val="rgb(31,31,-83)"/>
                                          </p:val>
                                        </p:tav>
                                      </p:tavLst>
                                    </p:anim>
                                    <p:anim calcmode="discrete" valueType="str">
                                      <p:cBhvr additive="repl">
                                        <p:cTn id="269" dur="80"/>
                                        <p:tgtEl>
                                          <p:spTgt spid="553"/>
                                        </p:tgtEl>
                                      </p:cBhvr>
                                      <p:tavLst>
                                        <p:tav tm="0">
                                          <p:val>
                                            <p:strVal val="rgb(78,100,-91)"/>
                                          </p:val>
                                        </p:tav>
                                        <p:tav tm="100000">
                                          <p:val>
                                            <p:strVal val="rgb(31,31,-8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0" dur="80"/>
                                        <p:tgtEl>
                                          <p:spTgt spid="553"/>
                                        </p:tgtEl>
                                      </p:cBhvr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a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"/>
          <p:cNvSpPr/>
          <p:nvPr/>
        </p:nvSpPr>
        <p:spPr>
          <a:xfrm>
            <a:off x="428760" y="1928880"/>
            <a:ext cx="8273880" cy="21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27240" algn="ctr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Что происходит с расстоянием между движущимися объектами при движении</a:t>
            </a:r>
            <a:r>
              <a:rPr b="1" lang="ru-RU" sz="3200" spc="-1" strike="noStrike">
                <a:solidFill>
                  <a:srgbClr val="ffc42f"/>
                </a:solidFill>
                <a:latin typeface="Franklin Gothic Book"/>
              </a:rPr>
              <a:t> </a:t>
            </a: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в </a:t>
            </a:r>
            <a:r>
              <a:rPr b="1" lang="ru-RU" sz="3200" spc="-1" strike="noStrike">
                <a:solidFill>
                  <a:srgbClr val="c00000"/>
                </a:solidFill>
                <a:latin typeface="Franklin Gothic Book"/>
              </a:rPr>
              <a:t>противоположных направлениях </a:t>
            </a: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и при</a:t>
            </a:r>
            <a:r>
              <a:rPr b="1" lang="ru-RU" sz="3200" spc="-1" strike="noStrike">
                <a:solidFill>
                  <a:srgbClr val="ffc42f"/>
                </a:solidFill>
                <a:latin typeface="Franklin Gothic Book"/>
              </a:rPr>
              <a:t> </a:t>
            </a: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движении</a:t>
            </a:r>
            <a:r>
              <a:rPr b="1" lang="ru-RU" sz="3200" spc="-1" strike="noStrike">
                <a:solidFill>
                  <a:srgbClr val="ffc42f"/>
                </a:solidFill>
                <a:latin typeface="Franklin Gothic Book"/>
              </a:rPr>
              <a:t> </a:t>
            </a:r>
            <a:r>
              <a:rPr b="1" lang="ru-RU" sz="3200" spc="-1" strike="noStrike">
                <a:solidFill>
                  <a:srgbClr val="c00000"/>
                </a:solidFill>
                <a:latin typeface="Franklin Gothic Book"/>
              </a:rPr>
              <a:t>с отставанием</a:t>
            </a: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5" name="" descr=""/>
          <p:cNvPicPr/>
          <p:nvPr/>
        </p:nvPicPr>
        <p:blipFill>
          <a:blip r:embed="rId1"/>
          <a:stretch/>
        </p:blipFill>
        <p:spPr>
          <a:xfrm>
            <a:off x="6372360" y="4032360"/>
            <a:ext cx="1784160" cy="1650960"/>
          </a:xfrm>
          <a:prstGeom prst="rect">
            <a:avLst/>
          </a:prstGeom>
          <a:ln w="0">
            <a:noFill/>
          </a:ln>
        </p:spPr>
      </p:pic>
      <p:pic>
        <p:nvPicPr>
          <p:cNvPr id="556" name="" descr=""/>
          <p:cNvPicPr/>
          <p:nvPr/>
        </p:nvPicPr>
        <p:blipFill>
          <a:blip r:embed="rId2"/>
          <a:srcRect l="0" t="0" r="0" b="8478"/>
          <a:stretch/>
        </p:blipFill>
        <p:spPr>
          <a:xfrm>
            <a:off x="1258920" y="4002120"/>
            <a:ext cx="2427120" cy="1712880"/>
          </a:xfrm>
          <a:prstGeom prst="rect">
            <a:avLst/>
          </a:prstGeom>
          <a:ln w="0">
            <a:noFill/>
          </a:ln>
        </p:spPr>
      </p:pic>
      <p:pic>
        <p:nvPicPr>
          <p:cNvPr id="557" name="" descr=""/>
          <p:cNvPicPr/>
          <p:nvPr/>
        </p:nvPicPr>
        <p:blipFill>
          <a:blip r:embed="rId3"/>
          <a:srcRect l="3306" t="4519" r="4044" b="9552"/>
          <a:stretch/>
        </p:blipFill>
        <p:spPr>
          <a:xfrm>
            <a:off x="2232000" y="214200"/>
            <a:ext cx="2419200" cy="1641600"/>
          </a:xfrm>
          <a:prstGeom prst="rect">
            <a:avLst/>
          </a:prstGeom>
          <a:ln w="0">
            <a:noFill/>
          </a:ln>
        </p:spPr>
      </p:pic>
      <p:pic>
        <p:nvPicPr>
          <p:cNvPr id="558" name="" descr=""/>
          <p:cNvPicPr/>
          <p:nvPr/>
        </p:nvPicPr>
        <p:blipFill>
          <a:blip r:embed="rId4"/>
          <a:srcRect l="67226" t="52901" r="0" b="0"/>
          <a:stretch/>
        </p:blipFill>
        <p:spPr>
          <a:xfrm>
            <a:off x="5489640" y="74520"/>
            <a:ext cx="2141640" cy="1854360"/>
          </a:xfrm>
          <a:prstGeom prst="rect">
            <a:avLst/>
          </a:prstGeom>
          <a:ln w="0">
            <a:noFill/>
          </a:ln>
        </p:spPr>
      </p:pic>
      <p:sp>
        <p:nvSpPr>
          <p:cNvPr id="559" name=""/>
          <p:cNvSpPr/>
          <p:nvPr/>
        </p:nvSpPr>
        <p:spPr>
          <a:xfrm>
            <a:off x="-185760" y="5715000"/>
            <a:ext cx="9505800" cy="7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fc42f"/>
                </a:solidFill>
                <a:latin typeface="Franklin Gothic Book"/>
              </a:rPr>
              <a:t>          </a:t>
            </a:r>
            <a:r>
              <a:rPr b="1" lang="ru-RU" sz="4400" spc="-1" strike="noStrike">
                <a:solidFill>
                  <a:srgbClr val="c00000"/>
                </a:solidFill>
                <a:latin typeface="Franklin Gothic Book"/>
              </a:rPr>
              <a:t>Расстояние  увеличивается.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dur="indefinite" nodeType="clickEffect" fill="hold">
                      <p:stCondLst>
                        <p:cond delay="0"/>
                      </p:stCondLst>
                      <p:childTnLst>
                        <p:par>
                          <p:cTn id="274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str">
                                      <p:cBhvr additive="repl">
                                        <p:cTn id="277" dur="1000" fill="hold"/>
                                        <p:tgtEl>
                                          <p:spTgt spid="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avLst>
                                        <p:tav tm="100000">
                                          <p:val>
                                            <p:strVal val="width"/>
                                          </p:val>
                                        </p:tav>
                                      </p:tavLst>
                                    </p:anim>
                                    <p:anim calcmode="lin" valueType="str">
                                      <p:cBhvr additive="repl">
                                        <p:cTn id="278" dur="1000" fill="hold"/>
                                        <p:tgtEl>
                                          <p:spTgt spid="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avLst>
                                        <p:tav tm="100000">
                                          <p:val>
                                            <p:strVal val="height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dur="indefinite" nodeType="click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0" dur="indefinite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2" dur="10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dur="indefinite" nodeType="click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87" dur="indefinite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9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2" dur="10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94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dur="indefinite" nodeType="clickEffect" fill="hold" presetClass="entr" presetID="2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str">
                                      <p:cBhvr additive="repl">
                                        <p:cTn id="297" dur="80"/>
                                        <p:tgtEl>
                                          <p:spTgt spid="559"/>
                                        </p:tgtEl>
                                      </p:cBhvr>
                                      <p:tavLst>
                                        <p:tav tm="0">
                                          <p:val>
                                            <p:strVal val="rgb(78,100,-91)"/>
                                          </p:val>
                                        </p:tav>
                                        <p:tav tm="100000">
                                          <p:val>
                                            <p:strVal val="rgb(31,31,-83)"/>
                                          </p:val>
                                        </p:tav>
                                      </p:tavLst>
                                    </p:anim>
                                    <p:anim calcmode="discrete" valueType="str">
                                      <p:cBhvr additive="repl">
                                        <p:cTn id="298" dur="80"/>
                                        <p:tgtEl>
                                          <p:spTgt spid="559"/>
                                        </p:tgtEl>
                                      </p:cBhvr>
                                      <p:tavLst>
                                        <p:tav tm="0">
                                          <p:val>
                                            <p:strVal val="rgb(78,100,-91)"/>
                                          </p:val>
                                        </p:tav>
                                        <p:tav tm="100000">
                                          <p:val>
                                            <p:strVal val="rgb(31,31,-8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9" dur="80"/>
                                        <p:tgtEl>
                                          <p:spTgt spid="559"/>
                                        </p:tgtEl>
                                      </p:cBhvr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a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0" name="" descr=""/>
          <p:cNvPicPr/>
          <p:nvPr/>
        </p:nvPicPr>
        <p:blipFill>
          <a:blip r:embed="rId1"/>
          <a:stretch/>
        </p:blipFill>
        <p:spPr>
          <a:xfrm>
            <a:off x="2557440" y="812880"/>
            <a:ext cx="1474920" cy="1419120"/>
          </a:xfrm>
          <a:prstGeom prst="rect">
            <a:avLst/>
          </a:prstGeom>
          <a:ln w="0">
            <a:noFill/>
          </a:ln>
        </p:spPr>
      </p:pic>
      <p:pic>
        <p:nvPicPr>
          <p:cNvPr id="561" name="" descr=""/>
          <p:cNvPicPr/>
          <p:nvPr/>
        </p:nvPicPr>
        <p:blipFill>
          <a:blip r:embed="rId2"/>
          <a:stretch/>
        </p:blipFill>
        <p:spPr>
          <a:xfrm>
            <a:off x="6894360" y="984240"/>
            <a:ext cx="1617840" cy="1255680"/>
          </a:xfrm>
          <a:prstGeom prst="rect">
            <a:avLst/>
          </a:prstGeom>
          <a:ln w="0">
            <a:noFill/>
          </a:ln>
        </p:spPr>
      </p:pic>
      <p:pic>
        <p:nvPicPr>
          <p:cNvPr id="562" name="" descr=""/>
          <p:cNvPicPr/>
          <p:nvPr/>
        </p:nvPicPr>
        <p:blipFill>
          <a:blip r:embed="rId3"/>
          <a:stretch/>
        </p:blipFill>
        <p:spPr>
          <a:xfrm>
            <a:off x="785880" y="5327640"/>
            <a:ext cx="3173400" cy="1311120"/>
          </a:xfrm>
          <a:prstGeom prst="rect">
            <a:avLst/>
          </a:prstGeom>
          <a:ln w="0">
            <a:noFill/>
          </a:ln>
        </p:spPr>
      </p:pic>
      <p:pic>
        <p:nvPicPr>
          <p:cNvPr id="563" name="" descr=""/>
          <p:cNvPicPr/>
          <p:nvPr/>
        </p:nvPicPr>
        <p:blipFill>
          <a:blip r:embed="rId4"/>
          <a:stretch/>
        </p:blipFill>
        <p:spPr>
          <a:xfrm>
            <a:off x="5129280" y="5440320"/>
            <a:ext cx="2666880" cy="1230480"/>
          </a:xfrm>
          <a:prstGeom prst="rect">
            <a:avLst/>
          </a:prstGeom>
          <a:ln w="0">
            <a:noFill/>
          </a:ln>
        </p:spPr>
      </p:pic>
      <p:sp>
        <p:nvSpPr>
          <p:cNvPr id="564" name=""/>
          <p:cNvSpPr/>
          <p:nvPr/>
        </p:nvSpPr>
        <p:spPr>
          <a:xfrm>
            <a:off x="0" y="0"/>
            <a:ext cx="9142560" cy="11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Franklin Gothic Book"/>
              </a:rPr>
              <a:t>     </a:t>
            </a:r>
            <a:r>
              <a:rPr b="1" lang="ru-RU" sz="3600" spc="-1" strike="noStrike">
                <a:solidFill>
                  <a:srgbClr val="000000"/>
                </a:solidFill>
                <a:latin typeface="Franklin Gothic Book"/>
              </a:rPr>
              <a:t>В каких случаях произойдёт встреча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635040" y="4662360"/>
            <a:ext cx="3184560" cy="180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 flipV="1">
            <a:off x="625320" y="3974760"/>
            <a:ext cx="1800" cy="70164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625320" y="3989520"/>
            <a:ext cx="797040" cy="144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1900080" y="3974760"/>
            <a:ext cx="1800" cy="70164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1900080" y="3989520"/>
            <a:ext cx="681120" cy="144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 flipV="1">
            <a:off x="3303720" y="3998520"/>
            <a:ext cx="1440" cy="70164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3303720" y="4013280"/>
            <a:ext cx="699840" cy="431640"/>
          </a:xfrm>
          <a:prstGeom prst="rect">
            <a:avLst/>
          </a:prstGeom>
          <a:solidFill>
            <a:srgbClr val="ff00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706320" y="3220920"/>
            <a:ext cx="3440160" cy="180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 flipV="1">
            <a:off x="706320" y="2487240"/>
            <a:ext cx="1800" cy="74772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 flipV="1">
            <a:off x="4146480" y="2487240"/>
            <a:ext cx="1800" cy="74772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706320" y="2502000"/>
            <a:ext cx="687600" cy="144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2251080" y="2502000"/>
            <a:ext cx="701640" cy="430200"/>
          </a:xfrm>
          <a:prstGeom prst="rect">
            <a:avLst/>
          </a:prstGeom>
          <a:solidFill>
            <a:srgbClr val="0000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 flipH="1">
            <a:off x="3360240" y="2502000"/>
            <a:ext cx="800280" cy="144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2251080" y="2502000"/>
            <a:ext cx="1440" cy="71892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565200" y="3220920"/>
            <a:ext cx="379080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00ff"/>
                </a:solidFill>
                <a:latin typeface="Franklin Gothic Book"/>
              </a:rPr>
              <a:t>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204840" y="2357280"/>
            <a:ext cx="43344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1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204840" y="3556080"/>
            <a:ext cx="43344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2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5538960" y="3244680"/>
            <a:ext cx="2931840" cy="180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 flipV="1">
            <a:off x="6638760" y="2511000"/>
            <a:ext cx="1800" cy="74772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 flipV="1">
            <a:off x="7372440" y="2511000"/>
            <a:ext cx="1440" cy="74772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 flipH="1">
            <a:off x="5952600" y="2525760"/>
            <a:ext cx="700200" cy="144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7372440" y="2525760"/>
            <a:ext cx="549360" cy="144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5416560" y="4782960"/>
            <a:ext cx="3067200" cy="180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 flipV="1">
            <a:off x="5416560" y="4095360"/>
            <a:ext cx="1440" cy="70164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 flipV="1">
            <a:off x="6802560" y="4095360"/>
            <a:ext cx="1440" cy="70164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5416560" y="4110120"/>
            <a:ext cx="395280" cy="144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6802560" y="4110120"/>
            <a:ext cx="691920" cy="144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5013360" y="2428920"/>
            <a:ext cx="43344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3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4892760" y="3929040"/>
            <a:ext cx="43344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4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dur="indefinite" nodeType="clickEffect" fill="hold">
                      <p:stCondLst>
                        <p:cond delay="0"/>
                      </p:stCondLst>
                      <p:childTnLst>
                        <p:par>
                          <p:cTn id="303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dur="indefinite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out">
                                      <p:cBhvr additive="repl">
                                        <p:cTn id="306" dur="1000"/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dur="indefinite" nodeType="click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8" dur="indefinite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out">
                                      <p:cBhvr additive="repl">
                                        <p:cTn id="310" dur="10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dur="indefinite" nodeType="click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12" dur="indefinite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out">
                                      <p:cBhvr additive="repl">
                                        <p:cTn id="314" dur="10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dur="indefinite" nodeType="click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16" dur="indefinite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out">
                                      <p:cBhvr additive="repl">
                                        <p:cTn id="318" dur="10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out">
                                      <p:cBhvr additive="repl">
                                        <p:cTn id="321" dur="10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a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"/>
          <p:cNvSpPr/>
          <p:nvPr/>
        </p:nvSpPr>
        <p:spPr>
          <a:xfrm>
            <a:off x="684360" y="2766960"/>
            <a:ext cx="3528720" cy="324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693720" y="5929200"/>
            <a:ext cx="3267000" cy="180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 flipV="1">
            <a:off x="684360" y="4941360"/>
            <a:ext cx="1440" cy="100188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684360" y="4956120"/>
            <a:ext cx="817560" cy="180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 flipV="1">
            <a:off x="1990800" y="4941360"/>
            <a:ext cx="1440" cy="100188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1990800" y="4956120"/>
            <a:ext cx="698400" cy="180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4360" y="1711080"/>
            <a:ext cx="1440" cy="106812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4211640" y="1711080"/>
            <a:ext cx="1440" cy="106812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684360" y="1725480"/>
            <a:ext cx="704880" cy="180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 flipH="1">
            <a:off x="3405240" y="1725480"/>
            <a:ext cx="820800" cy="180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642960" y="214200"/>
            <a:ext cx="316548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206231"/>
                </a:solidFill>
                <a:latin typeface="Franklin Gothic Book"/>
              </a:rPr>
              <a:t> </a:t>
            </a:r>
            <a:r>
              <a:rPr b="1" lang="ru-RU" sz="2800" spc="-1" strike="noStrike">
                <a:solidFill>
                  <a:srgbClr val="002060"/>
                </a:solidFill>
                <a:latin typeface="Franklin Gothic Book"/>
              </a:rPr>
              <a:t>Встречное движени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684360" y="3809880"/>
            <a:ext cx="340200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Franklin Gothic Book"/>
              </a:rPr>
              <a:t>Движение вдогонк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174600" y="372960"/>
            <a:ext cx="43344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1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174600" y="3703680"/>
            <a:ext cx="43344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2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785880" y="1212840"/>
            <a:ext cx="450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3500280" y="1212840"/>
            <a:ext cx="451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826920" y="4500720"/>
            <a:ext cx="4510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2050920" y="4500720"/>
            <a:ext cx="4510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7308720" y="1754280"/>
            <a:ext cx="648000" cy="144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5003640" y="2782800"/>
            <a:ext cx="3456000" cy="180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 flipV="1">
            <a:off x="6443640" y="1738440"/>
            <a:ext cx="1440" cy="105552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 flipV="1">
            <a:off x="7308720" y="1738440"/>
            <a:ext cx="1800" cy="105552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 flipH="1">
            <a:off x="5637240" y="1754280"/>
            <a:ext cx="820800" cy="144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4716360" y="-1440"/>
            <a:ext cx="4426200" cy="11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Franklin Gothic Book"/>
              </a:rPr>
              <a:t>Движени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Franklin Gothic Book"/>
              </a:rPr>
              <a:t>в противоположны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Franklin Gothic Book"/>
              </a:rPr>
              <a:t>направлениях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5003640" y="5865840"/>
            <a:ext cx="3614760" cy="144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 flipV="1">
            <a:off x="5003640" y="4927320"/>
            <a:ext cx="1800" cy="98892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 flipV="1">
            <a:off x="6659640" y="4927320"/>
            <a:ext cx="1440" cy="98892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5003640" y="4941720"/>
            <a:ext cx="466920" cy="180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6659640" y="4941720"/>
            <a:ext cx="815760" cy="180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5148360" y="3706920"/>
            <a:ext cx="374148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Franklin Gothic Book"/>
              </a:rPr>
              <a:t>Движени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Franklin Gothic Book"/>
              </a:rPr>
              <a:t>с отставанием</a:t>
            </a:r>
            <a:r>
              <a:rPr b="1" lang="ru-RU" sz="2400" spc="-1" strike="noStrike">
                <a:solidFill>
                  <a:srgbClr val="002060"/>
                </a:solidFill>
                <a:latin typeface="Franklin Gothic Book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4206960" y="419040"/>
            <a:ext cx="43344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3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4351320" y="3706920"/>
            <a:ext cx="43344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4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5796000" y="1285920"/>
            <a:ext cx="450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7451640" y="1285920"/>
            <a:ext cx="451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5003640" y="4500720"/>
            <a:ext cx="4510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6732720" y="4500720"/>
            <a:ext cx="4507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1000080" y="2857680"/>
            <a:ext cx="2927520" cy="94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971640" y="6093000"/>
            <a:ext cx="33130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5214960" y="2928960"/>
            <a:ext cx="314172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5364000" y="6093000"/>
            <a:ext cx="270684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062680" y="4500720"/>
            <a:ext cx="48096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V</a:t>
            </a:r>
            <a:r>
              <a:rPr b="1" lang="ru-RU" sz="1200" spc="-1" strike="noStrike">
                <a:solidFill>
                  <a:srgbClr val="000000"/>
                </a:solidFill>
                <a:latin typeface="Franklin Gothic Boo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6767640" y="4514760"/>
            <a:ext cx="48096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V</a:t>
            </a:r>
            <a:r>
              <a:rPr b="1" lang="ru-RU" sz="1200" spc="-1" strike="noStrike">
                <a:solidFill>
                  <a:srgbClr val="000000"/>
                </a:solidFill>
                <a:latin typeface="Franklin Gothic Boo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685800" y="4562640"/>
            <a:ext cx="48096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V</a:t>
            </a:r>
            <a:r>
              <a:rPr b="1" lang="ru-RU" sz="1200" spc="-1" strike="noStrike">
                <a:solidFill>
                  <a:srgbClr val="000000"/>
                </a:solidFill>
                <a:latin typeface="Franklin Gothic Boo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2070000" y="4549680"/>
            <a:ext cx="255132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V</a:t>
            </a:r>
            <a:r>
              <a:rPr b="1" lang="ru-RU" sz="1200" spc="-1" strike="noStrike">
                <a:solidFill>
                  <a:srgbClr val="000000"/>
                </a:solidFill>
                <a:latin typeface="Franklin Gothic Boo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755640" y="1212840"/>
            <a:ext cx="48096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V</a:t>
            </a:r>
            <a:r>
              <a:rPr b="1" lang="ru-RU" sz="1200" spc="-1" strike="noStrike">
                <a:solidFill>
                  <a:srgbClr val="000000"/>
                </a:solidFill>
                <a:latin typeface="Franklin Gothic Boo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5796000" y="1285920"/>
            <a:ext cx="48096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V</a:t>
            </a:r>
            <a:r>
              <a:rPr b="1" lang="ru-RU" sz="1200" spc="-1" strike="noStrike">
                <a:solidFill>
                  <a:srgbClr val="000000"/>
                </a:solidFill>
                <a:latin typeface="Franklin Gothic Boo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7369200" y="1297080"/>
            <a:ext cx="48096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V</a:t>
            </a:r>
            <a:r>
              <a:rPr b="1" lang="ru-RU" sz="1200" spc="-1" strike="noStrike">
                <a:solidFill>
                  <a:srgbClr val="000000"/>
                </a:solidFill>
                <a:latin typeface="Franklin Gothic Boo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3622680" y="1260360"/>
            <a:ext cx="48096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V</a:t>
            </a:r>
            <a:r>
              <a:rPr b="1" lang="ru-RU" sz="1200" spc="-1" strike="noStrike">
                <a:solidFill>
                  <a:srgbClr val="000000"/>
                </a:solidFill>
                <a:latin typeface="Franklin Gothic Boo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a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"/>
          <p:cNvSpPr/>
          <p:nvPr/>
        </p:nvSpPr>
        <p:spPr>
          <a:xfrm>
            <a:off x="684360" y="2766960"/>
            <a:ext cx="3528720" cy="324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693720" y="5929200"/>
            <a:ext cx="3267000" cy="180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 flipV="1">
            <a:off x="684360" y="4941360"/>
            <a:ext cx="1440" cy="100188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684360" y="4956120"/>
            <a:ext cx="817560" cy="180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 flipV="1">
            <a:off x="1990800" y="4941360"/>
            <a:ext cx="1440" cy="100188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1990800" y="4956120"/>
            <a:ext cx="698400" cy="180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 flipV="1">
            <a:off x="684360" y="1711080"/>
            <a:ext cx="1440" cy="106812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 flipV="1">
            <a:off x="4211640" y="1711080"/>
            <a:ext cx="1440" cy="106812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684360" y="1725480"/>
            <a:ext cx="704880" cy="180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 flipH="1">
            <a:off x="3405240" y="1725480"/>
            <a:ext cx="820800" cy="180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642960" y="214200"/>
            <a:ext cx="316548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206231"/>
                </a:solidFill>
                <a:latin typeface="Franklin Gothic Book"/>
              </a:rPr>
              <a:t> </a:t>
            </a:r>
            <a:r>
              <a:rPr b="1" lang="ru-RU" sz="2800" spc="-1" strike="noStrike">
                <a:solidFill>
                  <a:srgbClr val="002060"/>
                </a:solidFill>
                <a:latin typeface="Franklin Gothic Book"/>
              </a:rPr>
              <a:t>Встречное движение</a:t>
            </a:r>
            <a:r>
              <a:rPr b="1" lang="ru-RU" sz="2400" spc="-1" strike="noStrike">
                <a:solidFill>
                  <a:srgbClr val="002060"/>
                </a:solidFill>
                <a:latin typeface="Franklin Gothic Book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684360" y="3809880"/>
            <a:ext cx="340200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Franklin Gothic Book"/>
              </a:rPr>
              <a:t>Движение вдогонк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174600" y="372960"/>
            <a:ext cx="43344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1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174600" y="3703680"/>
            <a:ext cx="43344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2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785880" y="1212840"/>
            <a:ext cx="450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3500280" y="1212840"/>
            <a:ext cx="451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826920" y="4500720"/>
            <a:ext cx="4510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2050920" y="4500720"/>
            <a:ext cx="4510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7308720" y="1754280"/>
            <a:ext cx="648000" cy="144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5003640" y="2782800"/>
            <a:ext cx="3456000" cy="180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 flipV="1">
            <a:off x="6443640" y="1738440"/>
            <a:ext cx="1440" cy="105552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 flipV="1">
            <a:off x="7308720" y="1738440"/>
            <a:ext cx="1800" cy="105552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637240" y="1754280"/>
            <a:ext cx="820800" cy="144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4716360" y="-1440"/>
            <a:ext cx="4426200" cy="11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Franklin Gothic Book"/>
              </a:rPr>
              <a:t>Движени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Franklin Gothic Book"/>
              </a:rPr>
              <a:t>в противоположны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Franklin Gothic Book"/>
              </a:rPr>
              <a:t>направлениях</a:t>
            </a:r>
            <a:r>
              <a:rPr b="1" lang="ru-RU" sz="2400" spc="-1" strike="noStrike">
                <a:solidFill>
                  <a:srgbClr val="002060"/>
                </a:solidFill>
                <a:latin typeface="Franklin Gothic Book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5003640" y="5865840"/>
            <a:ext cx="3614760" cy="144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 flipV="1">
            <a:off x="5003640" y="4927320"/>
            <a:ext cx="1800" cy="98892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 flipV="1">
            <a:off x="6659640" y="4927320"/>
            <a:ext cx="1440" cy="98892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5003640" y="4941720"/>
            <a:ext cx="466920" cy="180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6659640" y="4941720"/>
            <a:ext cx="815760" cy="180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5148360" y="3706920"/>
            <a:ext cx="374148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Franklin Gothic Book"/>
              </a:rPr>
              <a:t>Движени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Franklin Gothic Book"/>
              </a:rPr>
              <a:t>с отставанием</a:t>
            </a:r>
            <a:r>
              <a:rPr b="1" lang="ru-RU" sz="2400" spc="-1" strike="noStrike">
                <a:solidFill>
                  <a:srgbClr val="002060"/>
                </a:solidFill>
                <a:latin typeface="Franklin Gothic Book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4206960" y="419040"/>
            <a:ext cx="43344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3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4351320" y="3706920"/>
            <a:ext cx="43344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4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5796000" y="1285920"/>
            <a:ext cx="450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7451640" y="1285920"/>
            <a:ext cx="451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5003640" y="4500720"/>
            <a:ext cx="4510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6732720" y="4500720"/>
            <a:ext cx="4507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1000080" y="2857680"/>
            <a:ext cx="2927520" cy="94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971640" y="6093000"/>
            <a:ext cx="33130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5214960" y="2928960"/>
            <a:ext cx="314172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5364000" y="6093000"/>
            <a:ext cx="270684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5005440" y="4500720"/>
            <a:ext cx="48096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V</a:t>
            </a:r>
            <a:r>
              <a:rPr b="1" lang="ru-RU" sz="1200" spc="-1" strike="noStrike">
                <a:solidFill>
                  <a:srgbClr val="000000"/>
                </a:solidFill>
                <a:latin typeface="Franklin Gothic Boo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6767640" y="4514760"/>
            <a:ext cx="48096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V</a:t>
            </a:r>
            <a:r>
              <a:rPr b="1" lang="ru-RU" sz="1200" spc="-1" strike="noStrike">
                <a:solidFill>
                  <a:srgbClr val="000000"/>
                </a:solidFill>
                <a:latin typeface="Franklin Gothic Boo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685800" y="4562640"/>
            <a:ext cx="48096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V</a:t>
            </a:r>
            <a:r>
              <a:rPr b="1" lang="ru-RU" sz="1200" spc="-1" strike="noStrike">
                <a:solidFill>
                  <a:srgbClr val="000000"/>
                </a:solidFill>
                <a:latin typeface="Franklin Gothic Boo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2070000" y="4549680"/>
            <a:ext cx="255132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V</a:t>
            </a:r>
            <a:r>
              <a:rPr b="1" lang="ru-RU" sz="1200" spc="-1" strike="noStrike">
                <a:solidFill>
                  <a:srgbClr val="000000"/>
                </a:solidFill>
                <a:latin typeface="Franklin Gothic Boo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755640" y="1212840"/>
            <a:ext cx="48096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V</a:t>
            </a:r>
            <a:r>
              <a:rPr b="1" lang="ru-RU" sz="1200" spc="-1" strike="noStrike">
                <a:solidFill>
                  <a:srgbClr val="000000"/>
                </a:solidFill>
                <a:latin typeface="Franklin Gothic Boo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5796000" y="1285920"/>
            <a:ext cx="48096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V</a:t>
            </a:r>
            <a:r>
              <a:rPr b="1" lang="ru-RU" sz="1200" spc="-1" strike="noStrike">
                <a:solidFill>
                  <a:srgbClr val="000000"/>
                </a:solidFill>
                <a:latin typeface="Franklin Gothic Boo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7369200" y="1297080"/>
            <a:ext cx="48096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V</a:t>
            </a:r>
            <a:r>
              <a:rPr b="1" lang="ru-RU" sz="1200" spc="-1" strike="noStrike">
                <a:solidFill>
                  <a:srgbClr val="000000"/>
                </a:solidFill>
                <a:latin typeface="Franklin Gothic Boo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3622680" y="1260360"/>
            <a:ext cx="48096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V</a:t>
            </a:r>
            <a:r>
              <a:rPr b="1" lang="ru-RU" sz="1200" spc="-1" strike="noStrike">
                <a:solidFill>
                  <a:srgbClr val="000000"/>
                </a:solidFill>
                <a:latin typeface="Franklin Gothic Boo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792000" y="3024360"/>
            <a:ext cx="315288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Franklin Gothic Book"/>
              </a:rPr>
              <a:t>Vсбл.= V1 + V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5543640" y="3024360"/>
            <a:ext cx="287640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Franklin Gothic Book"/>
              </a:rPr>
              <a:t>Vуд.= V1 + V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708120" y="6119640"/>
            <a:ext cx="303696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Franklin Gothic Book"/>
              </a:rPr>
              <a:t>Vсбл.= V1 - V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5472000" y="6093000"/>
            <a:ext cx="252252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Franklin Gothic Book"/>
              </a:rPr>
              <a:t>Vуд.=V1 -V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a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/>
          <p:nvPr/>
        </p:nvSpPr>
        <p:spPr>
          <a:xfrm>
            <a:off x="2883240" y="0"/>
            <a:ext cx="3836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cc0000"/>
                </a:solidFill>
                <a:latin typeface="Tahoma"/>
              </a:rPr>
              <a:t>Устный счё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3692880" y="110664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Tahoma"/>
              </a:rPr>
              <a:t>1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9" name=""/>
          <p:cNvGrpSpPr/>
          <p:nvPr/>
        </p:nvGrpSpPr>
        <p:grpSpPr>
          <a:xfrm>
            <a:off x="3203640" y="1197000"/>
            <a:ext cx="1104840" cy="5243400"/>
            <a:chOff x="3203640" y="1197000"/>
            <a:chExt cx="1104840" cy="5243400"/>
          </a:xfrm>
        </p:grpSpPr>
        <p:sp>
          <p:nvSpPr>
            <p:cNvPr id="440" name=""/>
            <p:cNvSpPr/>
            <p:nvPr/>
          </p:nvSpPr>
          <p:spPr>
            <a:xfrm>
              <a:off x="3203640" y="1197000"/>
              <a:ext cx="168120" cy="56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3851280" y="3933720"/>
              <a:ext cx="168120" cy="56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3857400" y="5229360"/>
              <a:ext cx="285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3200" spc="-1" strike="noStrike">
                  <a:solidFill>
                    <a:srgbClr val="333333"/>
                  </a:solidFill>
                  <a:latin typeface="Tahoma"/>
                </a:rPr>
                <a:t> 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635280" y="1844640"/>
              <a:ext cx="168480" cy="56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3564000" y="2565360"/>
              <a:ext cx="168120" cy="56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3635280" y="5877000"/>
              <a:ext cx="168480" cy="56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140360" y="4581360"/>
              <a:ext cx="168120" cy="56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3924360" y="3213000"/>
              <a:ext cx="168120" cy="56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48" name=""/>
          <p:cNvGrpSpPr/>
          <p:nvPr/>
        </p:nvGrpSpPr>
        <p:grpSpPr>
          <a:xfrm>
            <a:off x="5337000" y="1198440"/>
            <a:ext cx="1063800" cy="5330880"/>
            <a:chOff x="5337000" y="1198440"/>
            <a:chExt cx="1063800" cy="5330880"/>
          </a:xfrm>
        </p:grpSpPr>
        <p:sp>
          <p:nvSpPr>
            <p:cNvPr id="449" name=""/>
            <p:cNvSpPr/>
            <p:nvPr/>
          </p:nvSpPr>
          <p:spPr>
            <a:xfrm>
              <a:off x="5337000" y="1198440"/>
              <a:ext cx="1749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226200" y="5229360"/>
              <a:ext cx="17460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940360" y="3860640"/>
              <a:ext cx="174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6226200" y="1773360"/>
              <a:ext cx="17460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6083280" y="2492280"/>
              <a:ext cx="174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083280" y="5950080"/>
              <a:ext cx="17460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226200" y="3111480"/>
              <a:ext cx="174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173640" y="4519440"/>
              <a:ext cx="174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57" name=""/>
          <p:cNvGrpSpPr/>
          <p:nvPr/>
        </p:nvGrpSpPr>
        <p:grpSpPr>
          <a:xfrm>
            <a:off x="1146960" y="1079640"/>
            <a:ext cx="1356480" cy="5261040"/>
            <a:chOff x="1146960" y="1079640"/>
            <a:chExt cx="1356480" cy="5261040"/>
          </a:xfrm>
        </p:grpSpPr>
        <p:sp>
          <p:nvSpPr>
            <p:cNvPr id="458" name=""/>
            <p:cNvSpPr/>
            <p:nvPr/>
          </p:nvSpPr>
          <p:spPr>
            <a:xfrm>
              <a:off x="1146960" y="1079640"/>
              <a:ext cx="1206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3200" spc="-1" strike="noStrike">
                  <a:solidFill>
                    <a:srgbClr val="333333"/>
                  </a:solidFill>
                  <a:latin typeface="Tahoma"/>
                </a:rPr>
                <a:t>84 : 6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541160" y="1798560"/>
              <a:ext cx="775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333333"/>
                  </a:solidFill>
                  <a:latin typeface="Tahoma"/>
                </a:rPr>
                <a:t>х</a:t>
              </a:r>
              <a:r>
                <a:rPr b="1" lang="ru-RU" sz="3200" spc="-1" strike="noStrike">
                  <a:solidFill>
                    <a:srgbClr val="333333"/>
                  </a:solidFill>
                  <a:latin typeface="Tahoma"/>
                </a:rPr>
                <a:t> 7</a:t>
              </a:r>
              <a:r>
                <a:rPr b="1" lang="ru-RU" sz="2400" spc="-1" strike="noStrike">
                  <a:solidFill>
                    <a:srgbClr val="333333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1402560" y="4464000"/>
              <a:ext cx="902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333333"/>
                  </a:solidFill>
                  <a:latin typeface="Tahoma"/>
                </a:rPr>
                <a:t>х </a:t>
              </a:r>
              <a:r>
                <a:rPr b="1" lang="ru-RU" sz="3200" spc="-1" strike="noStrike">
                  <a:solidFill>
                    <a:srgbClr val="333333"/>
                  </a:solidFill>
                  <a:latin typeface="Tahoma"/>
                </a:rPr>
                <a:t>20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535400" y="5759280"/>
              <a:ext cx="695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333333"/>
                  </a:solidFill>
                  <a:latin typeface="Tahoma"/>
                </a:rPr>
                <a:t>х</a:t>
              </a:r>
              <a:r>
                <a:rPr b="1" lang="ru-RU" sz="3200" spc="-1" strike="noStrike">
                  <a:solidFill>
                    <a:srgbClr val="333333"/>
                  </a:solidFill>
                  <a:latin typeface="Tahoma"/>
                </a:rPr>
                <a:t> 8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284480" y="2448000"/>
              <a:ext cx="988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3200" spc="-1" strike="noStrike">
                  <a:solidFill>
                    <a:srgbClr val="333333"/>
                  </a:solidFill>
                  <a:latin typeface="Tahoma"/>
                </a:rPr>
                <a:t>- 49 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1368360" y="3166920"/>
              <a:ext cx="1135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333333"/>
                  </a:solidFill>
                  <a:latin typeface="Tahoma"/>
                </a:rPr>
                <a:t>+</a:t>
              </a:r>
              <a:r>
                <a:rPr b="1" lang="ru-RU" sz="3200" spc="-1" strike="noStrike">
                  <a:solidFill>
                    <a:srgbClr val="333333"/>
                  </a:solidFill>
                  <a:latin typeface="Tahoma"/>
                </a:rPr>
                <a:t>15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365120" y="5111640"/>
              <a:ext cx="900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333333"/>
                  </a:solidFill>
                  <a:latin typeface="Tahoma"/>
                </a:rPr>
                <a:t>+ </a:t>
              </a:r>
              <a:r>
                <a:rPr b="1" lang="ru-RU" sz="3200" spc="-1" strike="noStrike">
                  <a:solidFill>
                    <a:srgbClr val="333333"/>
                  </a:solidFill>
                  <a:latin typeface="Tahoma"/>
                </a:rPr>
                <a:t>23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1482840" y="3816360"/>
              <a:ext cx="812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333333"/>
                  </a:solidFill>
                  <a:latin typeface="Tahoma"/>
                </a:rPr>
                <a:t>: </a:t>
              </a:r>
              <a:r>
                <a:rPr b="1" lang="ru-RU" sz="3200" spc="-1" strike="noStrike">
                  <a:solidFill>
                    <a:srgbClr val="333333"/>
                  </a:solidFill>
                  <a:latin typeface="Tahoma"/>
                </a:rPr>
                <a:t>16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66" name=""/>
          <p:cNvSpPr/>
          <p:nvPr/>
        </p:nvSpPr>
        <p:spPr>
          <a:xfrm>
            <a:off x="3672000" y="1793880"/>
            <a:ext cx="7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Tahoma"/>
              </a:rPr>
              <a:t>9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527280" y="2448000"/>
            <a:ext cx="20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cc0000"/>
                </a:solidFill>
                <a:latin typeface="Tahoma"/>
              </a:rPr>
              <a:t>4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3639960" y="3094200"/>
            <a:ext cx="10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Tahoma"/>
              </a:rPr>
              <a:t>6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3456000" y="3816360"/>
            <a:ext cx="93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Tahoma"/>
              </a:rPr>
              <a:t>  </a:t>
            </a:r>
            <a:r>
              <a:rPr b="1" lang="ru-RU" sz="3200" spc="-1" strike="noStrike">
                <a:solidFill>
                  <a:srgbClr val="cc0000"/>
                </a:solidFill>
                <a:latin typeface="Tahoma"/>
              </a:rPr>
              <a:t>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3600360" y="4464000"/>
            <a:ext cx="10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Tahoma"/>
              </a:rPr>
              <a:t>8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3562200" y="5122800"/>
            <a:ext cx="10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Tahoma"/>
              </a:rPr>
              <a:t>1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3384720" y="5759280"/>
            <a:ext cx="107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82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5076720" y="249228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5083920" y="3213000"/>
            <a:ext cx="28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8258040" y="3141720"/>
            <a:ext cx="39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8244000" y="4581360"/>
            <a:ext cx="4222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0"/>
                      </p:stCondLst>
                      <p:childTnLst>
                        <p:par>
                          <p:cTn id="4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5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2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9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6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3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50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57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64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71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78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5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53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92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99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06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13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a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4" name="" descr=""/>
          <p:cNvPicPr/>
          <p:nvPr/>
        </p:nvPicPr>
        <p:blipFill>
          <a:blip r:embed="rId1"/>
          <a:stretch/>
        </p:blipFill>
        <p:spPr>
          <a:xfrm>
            <a:off x="179280" y="476280"/>
            <a:ext cx="8690040" cy="3240000"/>
          </a:xfrm>
          <a:prstGeom prst="rect">
            <a:avLst/>
          </a:prstGeom>
          <a:ln w="0">
            <a:noFill/>
          </a:ln>
        </p:spPr>
      </p:pic>
      <p:sp>
        <p:nvSpPr>
          <p:cNvPr id="695" name=""/>
          <p:cNvSpPr/>
          <p:nvPr/>
        </p:nvSpPr>
        <p:spPr>
          <a:xfrm>
            <a:off x="1692360" y="981000"/>
            <a:ext cx="7010280" cy="264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Calibri"/>
              </a:rPr>
              <a:t>Аня и Оля вышли одновременно из своих домов и пошли в школу. Через 15 минут Аня догнала Олю. Какое расстояние между домами девочек, если Аня шла со скоростью 80 м/мин, а Оля — со скоростью  65 м/мин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96" name=""/>
          <p:cNvGrpSpPr/>
          <p:nvPr/>
        </p:nvGrpSpPr>
        <p:grpSpPr>
          <a:xfrm>
            <a:off x="1258920" y="3429000"/>
            <a:ext cx="2176560" cy="2119320"/>
            <a:chOff x="1258920" y="3429000"/>
            <a:chExt cx="2176560" cy="2119320"/>
          </a:xfrm>
        </p:grpSpPr>
        <p:pic>
          <p:nvPicPr>
            <p:cNvPr id="697" name="" descr=""/>
            <p:cNvPicPr/>
            <p:nvPr/>
          </p:nvPicPr>
          <p:blipFill>
            <a:blip r:embed="rId2"/>
            <a:stretch/>
          </p:blipFill>
          <p:spPr>
            <a:xfrm>
              <a:off x="1258920" y="3429000"/>
              <a:ext cx="217656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8" name=""/>
            <p:cNvSpPr/>
            <p:nvPr/>
          </p:nvSpPr>
          <p:spPr>
            <a:xfrm>
              <a:off x="2124000" y="4076640"/>
              <a:ext cx="366840" cy="81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99" name=""/>
          <p:cNvGrpSpPr/>
          <p:nvPr/>
        </p:nvGrpSpPr>
        <p:grpSpPr>
          <a:xfrm>
            <a:off x="6516720" y="3357720"/>
            <a:ext cx="2176560" cy="2119320"/>
            <a:chOff x="6516720" y="3357720"/>
            <a:chExt cx="2176560" cy="2119320"/>
          </a:xfrm>
        </p:grpSpPr>
        <p:pic>
          <p:nvPicPr>
            <p:cNvPr id="700" name="" descr=""/>
            <p:cNvPicPr/>
            <p:nvPr/>
          </p:nvPicPr>
          <p:blipFill>
            <a:blip r:embed="rId3"/>
            <a:stretch/>
          </p:blipFill>
          <p:spPr>
            <a:xfrm>
              <a:off x="6516720" y="3357720"/>
              <a:ext cx="217656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1" name=""/>
            <p:cNvSpPr/>
            <p:nvPr/>
          </p:nvSpPr>
          <p:spPr>
            <a:xfrm>
              <a:off x="7380360" y="3932280"/>
              <a:ext cx="507960" cy="81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02" name=""/>
          <p:cNvGrpSpPr/>
          <p:nvPr/>
        </p:nvGrpSpPr>
        <p:grpSpPr>
          <a:xfrm>
            <a:off x="3924360" y="4365720"/>
            <a:ext cx="2176560" cy="2119320"/>
            <a:chOff x="3924360" y="4365720"/>
            <a:chExt cx="2176560" cy="2119320"/>
          </a:xfrm>
        </p:grpSpPr>
        <p:pic>
          <p:nvPicPr>
            <p:cNvPr id="703" name="" descr=""/>
            <p:cNvPicPr/>
            <p:nvPr/>
          </p:nvPicPr>
          <p:blipFill>
            <a:blip r:embed="rId4"/>
            <a:stretch/>
          </p:blipFill>
          <p:spPr>
            <a:xfrm>
              <a:off x="3924360" y="4365720"/>
              <a:ext cx="217656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4" name=""/>
            <p:cNvSpPr/>
            <p:nvPr/>
          </p:nvSpPr>
          <p:spPr>
            <a:xfrm>
              <a:off x="4719600" y="5013360"/>
              <a:ext cx="484200" cy="81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05" name=""/>
          <p:cNvSpPr/>
          <p:nvPr/>
        </p:nvSpPr>
        <p:spPr>
          <a:xfrm>
            <a:off x="8101080" y="6093000"/>
            <a:ext cx="431640" cy="287280"/>
          </a:xfrm>
          <a:custGeom>
            <a:avLst/>
            <a:gdLst>
              <a:gd name="textAreaLeft" fmla="*/ 0 w 431640"/>
              <a:gd name="textAreaRight" fmla="*/ 432000 w 43164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431800" h="287338">
                <a:moveTo>
                  <a:pt x="0" y="400"/>
                </a:moveTo>
                <a:lnTo>
                  <a:pt x="1200" y="400"/>
                </a:lnTo>
                <a:lnTo>
                  <a:pt x="1200" y="0"/>
                </a:lnTo>
                <a:lnTo>
                  <a:pt x="1200" y="400"/>
                </a:lnTo>
                <a:lnTo>
                  <a:pt x="1200" y="800"/>
                </a:lnTo>
                <a:lnTo>
                  <a:pt x="1200" y="400"/>
                </a:lnTo>
                <a:lnTo>
                  <a:pt x="0" y="4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322" dur="indefinite" restart="never" nodeType="tmRoot">
          <p:childTnLst>
            <p:par>
              <p:cTn id="323" dur="indefinite" nodeType="interactiveSeq" fill="hold">
                <p:childTnLst>
                  <p:par>
                    <p:cTn id="324" dur="indefinite" nodeType="clickEffect" fill="hold">
                      <p:childTnLst>
                        <p:par>
                          <p:cTn id="325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47483648">
                                      <p:cBhvr>
                                        <p:cTn id="327" dur="20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</p:par>
            <p:par>
              <p:cTn id="328" dur="indefinite" nodeType="interactiveSeq" fill="hold">
                <p:childTnLst>
                  <p:par>
                    <p:cTn id="329" dur="indefinite" nodeType="clickEffect" fill="hold">
                      <p:childTnLst>
                        <p:par>
                          <p:cTn id="330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dur="indefinite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-2147483648">
                                      <p:cBhvr>
                                        <p:cTn id="332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147483648">
                                      <p:cBhvr>
                                        <p:cTn id="333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147483648">
                                      <p:cBhvr>
                                        <p:cTn id="334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147483648">
                                      <p:cBhvr>
                                        <p:cTn id="335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147483648">
                                      <p:cBhvr>
                                        <p:cTn id="33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</p:par>
            <p:par>
              <p:cTn id="337" dur="indefinite" nodeType="interactiveSeq" fill="hold">
                <p:childTnLst>
                  <p:par>
                    <p:cTn id="338" dur="indefinite" nodeType="clickEffect" fill="hold">
                      <p:childTnLst>
                        <p:par>
                          <p:cTn id="339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dur="indefinite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-2147483648">
                                      <p:cBhvr>
                                        <p:cTn id="341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147483648">
                                      <p:cBhvr>
                                        <p:cTn id="342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147483648">
                                      <p:cBhvr>
                                        <p:cTn id="343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147483648">
                                      <p:cBhvr>
                                        <p:cTn id="344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147483648">
                                      <p:cBhvr>
                                        <p:cTn id="34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</p:par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a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"/>
          <p:cNvSpPr/>
          <p:nvPr/>
        </p:nvSpPr>
        <p:spPr>
          <a:xfrm>
            <a:off x="647640" y="3917880"/>
            <a:ext cx="3529080" cy="324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3500280" y="1212840"/>
            <a:ext cx="451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4176720" y="3914640"/>
            <a:ext cx="3456000" cy="180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 flipV="1">
            <a:off x="646200" y="2935080"/>
            <a:ext cx="1440" cy="98892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 flipV="1">
            <a:off x="3979800" y="2935080"/>
            <a:ext cx="1800" cy="98892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3997440" y="2938320"/>
            <a:ext cx="466560" cy="180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696960" y="2938320"/>
            <a:ext cx="815760" cy="180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5796000" y="1285920"/>
            <a:ext cx="450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7451640" y="1285920"/>
            <a:ext cx="451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5003640" y="4500720"/>
            <a:ext cx="4510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1000080" y="2857680"/>
            <a:ext cx="2927520" cy="94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971640" y="6093000"/>
            <a:ext cx="33130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5214960" y="2928960"/>
            <a:ext cx="314172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5364000" y="6093000"/>
            <a:ext cx="270684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5925960" y="2900520"/>
            <a:ext cx="242892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 =15ми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3672000" y="2232000"/>
            <a:ext cx="230652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Franklin Gothic Book"/>
              </a:rPr>
              <a:t>65 м/ми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431640" y="2230560"/>
            <a:ext cx="259272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Franklin Gothic Book"/>
              </a:rPr>
              <a:t>80 м/ми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 rot="10800000">
            <a:off x="647640" y="3606840"/>
            <a:ext cx="3332160" cy="714240"/>
          </a:xfrm>
          <a:custGeom>
            <a:avLst/>
            <a:gdLst>
              <a:gd name="textAreaLeft" fmla="*/ 720 w 3332160"/>
              <a:gd name="textAreaRight" fmla="*/ 3332520 w 3332160"/>
              <a:gd name="textAreaTop" fmla="*/ 0 h 714240"/>
              <a:gd name="textAreaBottom" fmla="*/ 357120 h 714240"/>
            </a:gdLst>
            <a:ahLst/>
            <a:rect l="textAreaLeft" t="textAreaTop" r="textAreaRight" b="textAreaBottom"/>
            <a:pathLst>
              <a:path stroke="0" w="3332163" h="714375">
                <a:moveTo>
                  <a:pt x="822" y="345970"/>
                </a:moveTo>
                <a:lnTo>
                  <a:pt x="821" y="345969"/>
                </a:lnTo>
                <a:cubicBezTo>
                  <a:pt x="29078" y="153162"/>
                  <a:pt x="766300" y="-2"/>
                  <a:pt x="1666082" y="-1"/>
                </a:cubicBezTo>
                <a:cubicBezTo>
                  <a:pt x="2586233" y="-1"/>
                  <a:pt x="3332164" y="159917"/>
                  <a:pt x="3332164" y="357187"/>
                </a:cubicBezTo>
                <a:cubicBezTo>
                  <a:pt x="3332164" y="357188"/>
                  <a:pt x="3332163" y="357189"/>
                  <a:pt x="3332163" y="357190"/>
                </a:cubicBezTo>
                <a:lnTo>
                  <a:pt x="1666082" y="357188"/>
                </a:lnTo>
                <a:lnTo>
                  <a:pt x="822" y="345970"/>
                </a:lnTo>
                <a:close/>
              </a:path>
              <a:path w="3332163" h="714375">
                <a:moveTo>
                  <a:pt x="822" y="345970"/>
                </a:moveTo>
                <a:lnTo>
                  <a:pt x="821" y="345969"/>
                </a:lnTo>
                <a:cubicBezTo>
                  <a:pt x="29078" y="153162"/>
                  <a:pt x="766300" y="-2"/>
                  <a:pt x="1666082" y="-1"/>
                </a:cubicBezTo>
                <a:cubicBezTo>
                  <a:pt x="2586233" y="-1"/>
                  <a:pt x="3332164" y="159917"/>
                  <a:pt x="3332164" y="357187"/>
                </a:cubicBezTo>
                <a:cubicBezTo>
                  <a:pt x="3332164" y="357188"/>
                  <a:pt x="3332163" y="357189"/>
                  <a:pt x="3332163" y="357190"/>
                </a:cubicBezTo>
              </a:path>
            </a:pathLst>
          </a:custGeom>
          <a:noFill/>
          <a:ln cap="sq"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1944720" y="4684680"/>
            <a:ext cx="134928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Franklin Gothic Book"/>
              </a:rPr>
              <a:t>?</a:t>
            </a:r>
            <a:r>
              <a:rPr b="1" lang="ru-RU" sz="3200" spc="-1" strike="noStrike">
                <a:solidFill>
                  <a:srgbClr val="000000"/>
                </a:solidFill>
                <a:latin typeface="Franklin Gothic Book"/>
              </a:rPr>
              <a:t>м</a:t>
            </a:r>
            <a:r>
              <a:rPr b="0" lang="ru-RU" sz="60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a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"/>
          <p:cNvSpPr/>
          <p:nvPr/>
        </p:nvSpPr>
        <p:spPr>
          <a:xfrm>
            <a:off x="1835280" y="650880"/>
            <a:ext cx="5260680" cy="6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700" spc="-1" strike="noStrike">
                <a:solidFill>
                  <a:srgbClr val="cc0000"/>
                </a:solidFill>
                <a:latin typeface="Arial"/>
              </a:rPr>
              <a:t>1-ый </a:t>
            </a:r>
            <a:r>
              <a:rPr b="1" lang="ru-RU" sz="3700" spc="-1" strike="noStrike">
                <a:solidFill>
                  <a:srgbClr val="cc0000"/>
                </a:solidFill>
                <a:latin typeface="Arial"/>
              </a:rPr>
              <a:t>способ решения: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779400" y="1833480"/>
            <a:ext cx="8115480" cy="25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1) 80 - 65 = 15 (м/мин) – скорость сближения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2) 15 х 15 = 225 (м) – расстояние между домами девочек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1008000" y="4564080"/>
            <a:ext cx="6678720" cy="5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601560" indent="-593640" algn="ctr">
              <a:spcBef>
                <a:spcPts val="751"/>
              </a:spcBef>
              <a:tabLst>
                <a:tab algn="l" pos="0"/>
                <a:tab algn="l" pos="601560"/>
                <a:tab algn="l" pos="1049400"/>
                <a:tab algn="l" pos="1498680"/>
                <a:tab algn="l" pos="1947960"/>
                <a:tab algn="l" pos="2397240"/>
                <a:tab algn="l" pos="2846520"/>
                <a:tab algn="l" pos="3295800"/>
                <a:tab algn="l" pos="3745080"/>
                <a:tab algn="l" pos="4194000"/>
                <a:tab algn="l" pos="4643280"/>
                <a:tab algn="l" pos="5092560"/>
                <a:tab algn="l" pos="5541840"/>
                <a:tab algn="l" pos="5991120"/>
                <a:tab algn="l" pos="6440400"/>
                <a:tab algn="l" pos="6889680"/>
                <a:tab algn="l" pos="7338960"/>
                <a:tab algn="l" pos="7788240"/>
                <a:tab algn="l" pos="8237520"/>
                <a:tab algn="l" pos="8686800"/>
                <a:tab algn="l" pos="9136080"/>
                <a:tab algn="l" pos="9585360"/>
                <a:tab algn="l" pos="9883800"/>
                <a:tab algn="l" pos="10333080"/>
                <a:tab algn="l" pos="1078236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Arial"/>
              </a:rPr>
              <a:t>Запись решения выражением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1297080" y="5375160"/>
            <a:ext cx="607860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601560" indent="-593640">
              <a:spcBef>
                <a:spcPts val="751"/>
              </a:spcBef>
              <a:tabLst>
                <a:tab algn="l" pos="0"/>
                <a:tab algn="l" pos="601560"/>
                <a:tab algn="l" pos="1049400"/>
                <a:tab algn="l" pos="1498680"/>
                <a:tab algn="l" pos="1947960"/>
                <a:tab algn="l" pos="2397240"/>
                <a:tab algn="l" pos="2846520"/>
                <a:tab algn="l" pos="3295800"/>
                <a:tab algn="l" pos="3745080"/>
                <a:tab algn="l" pos="4194000"/>
                <a:tab algn="l" pos="4643280"/>
                <a:tab algn="l" pos="5092560"/>
                <a:tab algn="l" pos="5541840"/>
                <a:tab algn="l" pos="5991120"/>
                <a:tab algn="l" pos="6440400"/>
                <a:tab algn="l" pos="6889680"/>
                <a:tab algn="l" pos="7338960"/>
                <a:tab algn="l" pos="7788240"/>
                <a:tab algn="l" pos="8237520"/>
                <a:tab algn="l" pos="8686800"/>
                <a:tab algn="l" pos="9136080"/>
                <a:tab algn="l" pos="9585360"/>
                <a:tab algn="l" pos="9883800"/>
                <a:tab algn="l" pos="10333080"/>
                <a:tab algn="l" pos="1078236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(80 - 65)  х 15 = 225 (м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a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"/>
          <p:cNvSpPr/>
          <p:nvPr/>
        </p:nvSpPr>
        <p:spPr>
          <a:xfrm>
            <a:off x="1440000" y="647640"/>
            <a:ext cx="5962680" cy="6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700" spc="-1" strike="noStrike">
                <a:solidFill>
                  <a:srgbClr val="cc0000"/>
                </a:solidFill>
                <a:latin typeface="DejaVu Sans"/>
              </a:rPr>
              <a:t>2-ой способ решения: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111240" y="2349360"/>
            <a:ext cx="9007200" cy="22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DejaVu Sans"/>
              </a:rPr>
              <a:t>   </a:t>
            </a:r>
            <a:r>
              <a:rPr b="1" lang="en-US" sz="3000" spc="-1" strike="noStrike">
                <a:solidFill>
                  <a:srgbClr val="000000"/>
                </a:solidFill>
                <a:latin typeface="DejaVu Sans"/>
              </a:rPr>
              <a:t>1) 80</a:t>
            </a:r>
            <a:r>
              <a:rPr b="1" lang="ru-RU" sz="3000" spc="-1" strike="noStrike">
                <a:solidFill>
                  <a:srgbClr val="000000"/>
                </a:solidFill>
                <a:latin typeface="DejaVu Sans"/>
              </a:rPr>
              <a:t> х 15 = 1200 (м) – прошла Аня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DejaVu Sans"/>
              </a:rPr>
              <a:t>   </a:t>
            </a:r>
            <a:r>
              <a:rPr b="1" lang="ru-RU" sz="3000" spc="-1" strike="noStrike">
                <a:solidFill>
                  <a:srgbClr val="000000"/>
                </a:solidFill>
                <a:latin typeface="DejaVu Sans"/>
              </a:rPr>
              <a:t>2) 65 х 15 = 975 (м) – прошла Оля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DejaVu Sans"/>
              </a:rPr>
              <a:t>   </a:t>
            </a:r>
            <a:r>
              <a:rPr b="1" lang="ru-RU" sz="3000" spc="-1" strike="noStrike">
                <a:solidFill>
                  <a:srgbClr val="000000"/>
                </a:solidFill>
                <a:latin typeface="DejaVu Sans"/>
              </a:rPr>
              <a:t>3) 1200 – 975 = 225 (м)- прошли обе девочки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a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"/>
          <p:cNvSpPr/>
          <p:nvPr/>
        </p:nvSpPr>
        <p:spPr>
          <a:xfrm>
            <a:off x="323640" y="2492280"/>
            <a:ext cx="73173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Алёша: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«Я не был ни первым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и последним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Arial"/>
              </a:rPr>
              <a:t>     </a:t>
            </a:r>
            <a:r>
              <a:rPr b="1" lang="ru-RU" sz="3200" spc="-1" strike="noStrike">
                <a:solidFill>
                  <a:srgbClr val="0070c0"/>
                </a:solidFill>
                <a:latin typeface="Arial"/>
              </a:rPr>
              <a:t>Боря: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«Последним был Алёша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Arial"/>
              </a:rPr>
              <a:t>       </a:t>
            </a:r>
            <a:r>
              <a:rPr b="1" lang="ru-RU" sz="3200" spc="-1" strike="noStrike">
                <a:solidFill>
                  <a:srgbClr val="595959"/>
                </a:solidFill>
                <a:latin typeface="Arial"/>
              </a:rPr>
              <a:t>Ваня: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«Я был первым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        </a:t>
            </a:r>
            <a:r>
              <a:rPr b="1" lang="ru-RU" sz="3200" spc="-1" strike="noStrike">
                <a:solidFill>
                  <a:srgbClr val="32946a"/>
                </a:solidFill>
                <a:latin typeface="Arial"/>
              </a:rPr>
              <a:t>Гриша: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«Я был последним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149400" y="378000"/>
            <a:ext cx="89424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22228b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22228b"/>
                </a:solidFill>
                <a:latin typeface="Arial"/>
              </a:rPr>
              <a:t>Мальчики соревновались в беге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22228b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22228b"/>
                </a:solidFill>
                <a:latin typeface="Arial"/>
              </a:rPr>
              <a:t>На вопрос, кто какое место занял,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22228b"/>
                </a:solidFill>
                <a:latin typeface="Arial"/>
              </a:rPr>
              <a:t>                 </a:t>
            </a:r>
            <a:r>
              <a:rPr b="1" lang="ru-RU" sz="4000" spc="-1" strike="noStrike">
                <a:solidFill>
                  <a:srgbClr val="22228b"/>
                </a:solidFill>
                <a:latin typeface="Arial"/>
              </a:rPr>
              <a:t>они ответили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a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"/>
          <p:cNvSpPr/>
          <p:nvPr/>
        </p:nvSpPr>
        <p:spPr>
          <a:xfrm>
            <a:off x="792000" y="936720"/>
            <a:ext cx="8531280" cy="50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111111"/>
                </a:solidFill>
                <a:latin typeface="Arial"/>
              </a:rPr>
              <a:t>                   </a:t>
            </a:r>
            <a:r>
              <a:rPr b="1" lang="ru-RU" sz="4000" spc="-1" strike="noStrike">
                <a:solidFill>
                  <a:srgbClr val="111111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111111"/>
                </a:solidFill>
                <a:latin typeface="Arial"/>
              </a:rPr>
              <a:t>Итог урока</a:t>
            </a:r>
            <a:r>
              <a:rPr b="1" lang="ru-RU" sz="3600" spc="-1" strike="noStrike">
                <a:solidFill>
                  <a:srgbClr val="111111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111111"/>
                </a:solidFill>
                <a:latin typeface="Arial"/>
              </a:rPr>
              <a:t>1) Что удалось на уроке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111111"/>
                </a:solidFill>
                <a:latin typeface="Arial"/>
              </a:rPr>
              <a:t>2) Что было трудным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111111"/>
                </a:solidFill>
                <a:latin typeface="Arial"/>
              </a:rPr>
              <a:t>3) Оцените свою работу с помощью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111111"/>
                </a:solidFill>
                <a:latin typeface="Arial"/>
              </a:rPr>
              <a:t>сигнальной карточки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a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"/>
          <p:cNvSpPr/>
          <p:nvPr/>
        </p:nvSpPr>
        <p:spPr>
          <a:xfrm>
            <a:off x="428760" y="4287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800" spc="-1" strike="noStrike">
                <a:solidFill>
                  <a:srgbClr val="ff0000"/>
                </a:solidFill>
                <a:latin typeface="Calibri"/>
              </a:rPr>
              <a:t>Узнайте, нарушены ли правила водителем?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286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На участке дороги длиной 280км стоит знак ограничения скорости до  60 км/ч. Нарушил ли его водитель, если это расстояние он преодолел за 4 часа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6" name="" descr=""/>
          <p:cNvPicPr/>
          <p:nvPr/>
        </p:nvPicPr>
        <p:blipFill>
          <a:blip r:embed="rId1">
            <a:lum bright="-12000"/>
          </a:blip>
          <a:srcRect l="0" t="29209" r="0" b="27333"/>
          <a:stretch/>
        </p:blipFill>
        <p:spPr>
          <a:xfrm rot="360000">
            <a:off x="4787640" y="4075200"/>
            <a:ext cx="3809880" cy="165564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9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10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54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dur="indefinite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a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0" y="0"/>
            <a:ext cx="93582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             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еши задачу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а пловца начали одновременное движение от одной лодки к берегу. Первый из них двигался со скоростью 8 м/мин. А второй – со скоростью 12 м/мин. Через некоторое время один из пловцов добрался до берега, а другому осталось проплыть ещё 80 м. На каком расстоянии от берега остановилась лодка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3429000" y="4286160"/>
            <a:ext cx="5357880" cy="180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3500280" y="4071960"/>
            <a:ext cx="5286600" cy="285840"/>
          </a:xfrm>
          <a:custGeom>
            <a:avLst/>
            <a:gdLst>
              <a:gd name="textAreaLeft" fmla="*/ 0 w 5286600"/>
              <a:gd name="textAreaRight" fmla="*/ 5286960 w 5286600"/>
              <a:gd name="textAreaTop" fmla="*/ 0 h 285840"/>
              <a:gd name="textAreaBottom" fmla="*/ 146160 h 285840"/>
            </a:gdLst>
            <a:ahLst/>
            <a:rect l="textAreaLeft" t="textAreaTop" r="textAreaRight" b="textAreaBottom"/>
            <a:pathLst>
              <a:path stroke="0" w="5286375" h="285750">
                <a:moveTo>
                  <a:pt x="686" y="146131"/>
                </a:moveTo>
                <a:lnTo>
                  <a:pt x="686" y="146130"/>
                </a:lnTo>
                <a:cubicBezTo>
                  <a:pt x="228" y="145045"/>
                  <a:pt x="0" y="143960"/>
                  <a:pt x="0" y="142875"/>
                </a:cubicBezTo>
                <a:cubicBezTo>
                  <a:pt x="0" y="63967"/>
                  <a:pt x="1183395" y="0"/>
                  <a:pt x="2643188" y="0"/>
                </a:cubicBezTo>
                <a:cubicBezTo>
                  <a:pt x="4102980" y="0"/>
                  <a:pt x="5286376" y="63967"/>
                  <a:pt x="5286376" y="142875"/>
                </a:cubicBezTo>
                <a:cubicBezTo>
                  <a:pt x="5286376" y="142876"/>
                  <a:pt x="5286375" y="142878"/>
                  <a:pt x="5286375" y="142880"/>
                </a:cubicBezTo>
                <a:lnTo>
                  <a:pt x="2643188" y="142875"/>
                </a:lnTo>
                <a:lnTo>
                  <a:pt x="686" y="146131"/>
                </a:lnTo>
                <a:close/>
              </a:path>
              <a:path w="5286375" h="285750">
                <a:moveTo>
                  <a:pt x="686" y="146131"/>
                </a:moveTo>
                <a:lnTo>
                  <a:pt x="686" y="146130"/>
                </a:lnTo>
                <a:cubicBezTo>
                  <a:pt x="228" y="145045"/>
                  <a:pt x="0" y="143960"/>
                  <a:pt x="0" y="142875"/>
                </a:cubicBezTo>
                <a:cubicBezTo>
                  <a:pt x="0" y="63967"/>
                  <a:pt x="1183395" y="0"/>
                  <a:pt x="2643188" y="0"/>
                </a:cubicBezTo>
                <a:cubicBezTo>
                  <a:pt x="4102980" y="0"/>
                  <a:pt x="5286376" y="63967"/>
                  <a:pt x="5286376" y="142875"/>
                </a:cubicBezTo>
                <a:cubicBezTo>
                  <a:pt x="5286376" y="142876"/>
                  <a:pt x="5286375" y="142878"/>
                  <a:pt x="5286375" y="142880"/>
                </a:cubicBezTo>
              </a:path>
            </a:pathLst>
          </a:custGeom>
          <a:noFill/>
          <a:ln cap="sq" w="572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 rot="10800000">
            <a:off x="3432240" y="3946680"/>
            <a:ext cx="3332160" cy="714240"/>
          </a:xfrm>
          <a:custGeom>
            <a:avLst/>
            <a:gdLst>
              <a:gd name="textAreaLeft" fmla="*/ 720 w 3332160"/>
              <a:gd name="textAreaRight" fmla="*/ 3332520 w 3332160"/>
              <a:gd name="textAreaTop" fmla="*/ 0 h 714240"/>
              <a:gd name="textAreaBottom" fmla="*/ 357120 h 714240"/>
            </a:gdLst>
            <a:ahLst/>
            <a:rect l="textAreaLeft" t="textAreaTop" r="textAreaRight" b="textAreaBottom"/>
            <a:pathLst>
              <a:path stroke="0" w="3332163" h="714375">
                <a:moveTo>
                  <a:pt x="822" y="345970"/>
                </a:moveTo>
                <a:lnTo>
                  <a:pt x="821" y="345969"/>
                </a:lnTo>
                <a:cubicBezTo>
                  <a:pt x="29078" y="153162"/>
                  <a:pt x="766300" y="-2"/>
                  <a:pt x="1666082" y="-1"/>
                </a:cubicBezTo>
                <a:cubicBezTo>
                  <a:pt x="2586233" y="-1"/>
                  <a:pt x="3332164" y="159917"/>
                  <a:pt x="3332164" y="357187"/>
                </a:cubicBezTo>
                <a:cubicBezTo>
                  <a:pt x="3332164" y="357188"/>
                  <a:pt x="3332163" y="357189"/>
                  <a:pt x="3332163" y="357190"/>
                </a:cubicBezTo>
                <a:lnTo>
                  <a:pt x="1666082" y="357188"/>
                </a:lnTo>
                <a:lnTo>
                  <a:pt x="822" y="345970"/>
                </a:lnTo>
                <a:close/>
              </a:path>
              <a:path w="3332163" h="714375">
                <a:moveTo>
                  <a:pt x="822" y="345970"/>
                </a:moveTo>
                <a:lnTo>
                  <a:pt x="821" y="345969"/>
                </a:lnTo>
                <a:cubicBezTo>
                  <a:pt x="29078" y="153162"/>
                  <a:pt x="766300" y="-2"/>
                  <a:pt x="1666082" y="-1"/>
                </a:cubicBezTo>
                <a:cubicBezTo>
                  <a:pt x="2586233" y="-1"/>
                  <a:pt x="3332164" y="159917"/>
                  <a:pt x="3332164" y="357187"/>
                </a:cubicBezTo>
                <a:cubicBezTo>
                  <a:pt x="3332164" y="357188"/>
                  <a:pt x="3332163" y="357189"/>
                  <a:pt x="3332163" y="357190"/>
                </a:cubicBezTo>
              </a:path>
            </a:pathLst>
          </a:custGeom>
          <a:noFill/>
          <a:ln cap="sq"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 flipH="1">
            <a:off x="8769240" y="4143240"/>
            <a:ext cx="36720" cy="28584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 flipH="1">
            <a:off x="3411360" y="4071960"/>
            <a:ext cx="36720" cy="28584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7572240" y="4357800"/>
            <a:ext cx="107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80 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 flipH="1">
            <a:off x="3339720" y="3786120"/>
            <a:ext cx="36360" cy="1143000"/>
          </a:xfrm>
          <a:prstGeom prst="line">
            <a:avLst/>
          </a:prstGeom>
          <a:ln cap="sq"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747" name=""/>
          <p:cNvCxnSpPr/>
          <p:nvPr/>
        </p:nvCxnSpPr>
        <p:spPr>
          <a:xfrm>
            <a:off x="3357720" y="3785760"/>
            <a:ext cx="643320" cy="3960"/>
          </a:xfrm>
          <a:prstGeom prst="straightConnector1">
            <a:avLst/>
          </a:prstGeom>
          <a:ln cap="sq" w="38160">
            <a:solidFill>
              <a:srgbClr val="0070c0"/>
            </a:solidFill>
            <a:miter/>
            <a:tailEnd len="med" type="triangle" w="med"/>
          </a:ln>
        </p:spPr>
      </p:cxnSp>
      <p:cxnSp>
        <p:nvCxnSpPr>
          <p:cNvPr id="748" name=""/>
          <p:cNvCxnSpPr/>
          <p:nvPr/>
        </p:nvCxnSpPr>
        <p:spPr>
          <a:xfrm>
            <a:off x="3357720" y="4928760"/>
            <a:ext cx="643320" cy="3960"/>
          </a:xfrm>
          <a:prstGeom prst="straightConnector1">
            <a:avLst/>
          </a:prstGeom>
          <a:ln cap="sq" w="38160">
            <a:solidFill>
              <a:srgbClr val="0070c0"/>
            </a:solidFill>
            <a:miter/>
            <a:tailEnd len="med" type="triangle" w="med"/>
          </a:ln>
        </p:spPr>
      </p:cxnSp>
      <p:sp>
        <p:nvSpPr>
          <p:cNvPr id="749" name=""/>
          <p:cNvSpPr/>
          <p:nvPr/>
        </p:nvSpPr>
        <p:spPr>
          <a:xfrm>
            <a:off x="3071880" y="3214800"/>
            <a:ext cx="200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2 м/ми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3214800" y="5000760"/>
            <a:ext cx="200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8 м/ми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 flipH="1">
            <a:off x="6768720" y="4143240"/>
            <a:ext cx="36360" cy="28584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2" name="" descr=""/>
          <p:cNvPicPr/>
          <p:nvPr/>
        </p:nvPicPr>
        <p:blipFill>
          <a:blip r:embed="rId1"/>
          <a:srcRect l="0" t="22861" r="0" b="0"/>
          <a:stretch/>
        </p:blipFill>
        <p:spPr>
          <a:xfrm>
            <a:off x="214200" y="3786120"/>
            <a:ext cx="2941920" cy="170172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a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0" y="0"/>
            <a:ext cx="935820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             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лан решения задачи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йти скорость удалени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йти время, за которое расстояние между ними будет 80 метров (Это время, потраченное на весь путь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йти расстояние от берега до лодки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3429000" y="4286160"/>
            <a:ext cx="5357880" cy="180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3500280" y="4071960"/>
            <a:ext cx="5286600" cy="285840"/>
          </a:xfrm>
          <a:custGeom>
            <a:avLst/>
            <a:gdLst>
              <a:gd name="textAreaLeft" fmla="*/ 0 w 5286600"/>
              <a:gd name="textAreaRight" fmla="*/ 5286960 w 5286600"/>
              <a:gd name="textAreaTop" fmla="*/ 0 h 285840"/>
              <a:gd name="textAreaBottom" fmla="*/ 146160 h 285840"/>
            </a:gdLst>
            <a:ahLst/>
            <a:rect l="textAreaLeft" t="textAreaTop" r="textAreaRight" b="textAreaBottom"/>
            <a:pathLst>
              <a:path stroke="0" w="5286375" h="285750">
                <a:moveTo>
                  <a:pt x="686" y="146131"/>
                </a:moveTo>
                <a:lnTo>
                  <a:pt x="686" y="146130"/>
                </a:lnTo>
                <a:cubicBezTo>
                  <a:pt x="228" y="145045"/>
                  <a:pt x="0" y="143960"/>
                  <a:pt x="0" y="142875"/>
                </a:cubicBezTo>
                <a:cubicBezTo>
                  <a:pt x="0" y="63967"/>
                  <a:pt x="1183395" y="0"/>
                  <a:pt x="2643188" y="0"/>
                </a:cubicBezTo>
                <a:cubicBezTo>
                  <a:pt x="4102980" y="0"/>
                  <a:pt x="5286376" y="63967"/>
                  <a:pt x="5286376" y="142875"/>
                </a:cubicBezTo>
                <a:cubicBezTo>
                  <a:pt x="5286376" y="142876"/>
                  <a:pt x="5286375" y="142878"/>
                  <a:pt x="5286375" y="142880"/>
                </a:cubicBezTo>
                <a:lnTo>
                  <a:pt x="2643188" y="142875"/>
                </a:lnTo>
                <a:lnTo>
                  <a:pt x="686" y="146131"/>
                </a:lnTo>
                <a:close/>
              </a:path>
              <a:path w="5286375" h="285750">
                <a:moveTo>
                  <a:pt x="686" y="146131"/>
                </a:moveTo>
                <a:lnTo>
                  <a:pt x="686" y="146130"/>
                </a:lnTo>
                <a:cubicBezTo>
                  <a:pt x="228" y="145045"/>
                  <a:pt x="0" y="143960"/>
                  <a:pt x="0" y="142875"/>
                </a:cubicBezTo>
                <a:cubicBezTo>
                  <a:pt x="0" y="63967"/>
                  <a:pt x="1183395" y="0"/>
                  <a:pt x="2643188" y="0"/>
                </a:cubicBezTo>
                <a:cubicBezTo>
                  <a:pt x="4102980" y="0"/>
                  <a:pt x="5286376" y="63967"/>
                  <a:pt x="5286376" y="142875"/>
                </a:cubicBezTo>
                <a:cubicBezTo>
                  <a:pt x="5286376" y="142876"/>
                  <a:pt x="5286375" y="142878"/>
                  <a:pt x="5286375" y="142880"/>
                </a:cubicBezTo>
              </a:path>
            </a:pathLst>
          </a:custGeom>
          <a:noFill/>
          <a:ln cap="sq" w="572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 rot="10800000">
            <a:off x="3432240" y="3946680"/>
            <a:ext cx="3332160" cy="714240"/>
          </a:xfrm>
          <a:custGeom>
            <a:avLst/>
            <a:gdLst>
              <a:gd name="textAreaLeft" fmla="*/ 720 w 3332160"/>
              <a:gd name="textAreaRight" fmla="*/ 3332520 w 3332160"/>
              <a:gd name="textAreaTop" fmla="*/ 0 h 714240"/>
              <a:gd name="textAreaBottom" fmla="*/ 357120 h 714240"/>
            </a:gdLst>
            <a:ahLst/>
            <a:rect l="textAreaLeft" t="textAreaTop" r="textAreaRight" b="textAreaBottom"/>
            <a:pathLst>
              <a:path stroke="0" w="3332163" h="714375">
                <a:moveTo>
                  <a:pt x="822" y="345970"/>
                </a:moveTo>
                <a:lnTo>
                  <a:pt x="821" y="345969"/>
                </a:lnTo>
                <a:cubicBezTo>
                  <a:pt x="29078" y="153162"/>
                  <a:pt x="766300" y="-2"/>
                  <a:pt x="1666082" y="-1"/>
                </a:cubicBezTo>
                <a:cubicBezTo>
                  <a:pt x="2586233" y="-1"/>
                  <a:pt x="3332164" y="159917"/>
                  <a:pt x="3332164" y="357187"/>
                </a:cubicBezTo>
                <a:cubicBezTo>
                  <a:pt x="3332164" y="357188"/>
                  <a:pt x="3332163" y="357189"/>
                  <a:pt x="3332163" y="357190"/>
                </a:cubicBezTo>
                <a:lnTo>
                  <a:pt x="1666082" y="357188"/>
                </a:lnTo>
                <a:lnTo>
                  <a:pt x="822" y="345970"/>
                </a:lnTo>
                <a:close/>
              </a:path>
              <a:path w="3332163" h="714375">
                <a:moveTo>
                  <a:pt x="822" y="345970"/>
                </a:moveTo>
                <a:lnTo>
                  <a:pt x="821" y="345969"/>
                </a:lnTo>
                <a:cubicBezTo>
                  <a:pt x="29078" y="153162"/>
                  <a:pt x="766300" y="-2"/>
                  <a:pt x="1666082" y="-1"/>
                </a:cubicBezTo>
                <a:cubicBezTo>
                  <a:pt x="2586233" y="-1"/>
                  <a:pt x="3332164" y="159917"/>
                  <a:pt x="3332164" y="357187"/>
                </a:cubicBezTo>
                <a:cubicBezTo>
                  <a:pt x="3332164" y="357188"/>
                  <a:pt x="3332163" y="357189"/>
                  <a:pt x="3332163" y="357190"/>
                </a:cubicBezTo>
              </a:path>
            </a:pathLst>
          </a:custGeom>
          <a:noFill/>
          <a:ln cap="sq"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 flipH="1">
            <a:off x="8769240" y="4143240"/>
            <a:ext cx="36720" cy="28584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 flipH="1">
            <a:off x="3411360" y="4071960"/>
            <a:ext cx="36720" cy="28584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7572240" y="4357800"/>
            <a:ext cx="107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80 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 flipH="1">
            <a:off x="3339720" y="3786120"/>
            <a:ext cx="36360" cy="1143000"/>
          </a:xfrm>
          <a:prstGeom prst="line">
            <a:avLst/>
          </a:prstGeom>
          <a:ln cap="sq"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763" name=""/>
          <p:cNvCxnSpPr/>
          <p:nvPr/>
        </p:nvCxnSpPr>
        <p:spPr>
          <a:xfrm>
            <a:off x="3357720" y="3785760"/>
            <a:ext cx="643320" cy="3960"/>
          </a:xfrm>
          <a:prstGeom prst="straightConnector1">
            <a:avLst/>
          </a:prstGeom>
          <a:ln cap="sq" w="38160">
            <a:solidFill>
              <a:srgbClr val="0070c0"/>
            </a:solidFill>
            <a:miter/>
            <a:tailEnd len="med" type="triangle" w="med"/>
          </a:ln>
        </p:spPr>
      </p:cxnSp>
      <p:cxnSp>
        <p:nvCxnSpPr>
          <p:cNvPr id="764" name=""/>
          <p:cNvCxnSpPr/>
          <p:nvPr/>
        </p:nvCxnSpPr>
        <p:spPr>
          <a:xfrm>
            <a:off x="3357720" y="4928760"/>
            <a:ext cx="643320" cy="3960"/>
          </a:xfrm>
          <a:prstGeom prst="straightConnector1">
            <a:avLst/>
          </a:prstGeom>
          <a:ln cap="sq" w="38160">
            <a:solidFill>
              <a:srgbClr val="0070c0"/>
            </a:solidFill>
            <a:miter/>
            <a:tailEnd len="med" type="triangle" w="med"/>
          </a:ln>
        </p:spPr>
      </p:cxnSp>
      <p:sp>
        <p:nvSpPr>
          <p:cNvPr id="765" name=""/>
          <p:cNvSpPr/>
          <p:nvPr/>
        </p:nvSpPr>
        <p:spPr>
          <a:xfrm>
            <a:off x="3071880" y="3214800"/>
            <a:ext cx="200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2 м/ми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3214800" y="5000760"/>
            <a:ext cx="200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8 м/ми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 flipH="1">
            <a:off x="6768720" y="4143240"/>
            <a:ext cx="36360" cy="28584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68" name="" descr=""/>
          <p:cNvPicPr/>
          <p:nvPr/>
        </p:nvPicPr>
        <p:blipFill>
          <a:blip r:embed="rId1"/>
          <a:srcRect l="0" t="22861" r="0" b="0"/>
          <a:stretch/>
        </p:blipFill>
        <p:spPr>
          <a:xfrm>
            <a:off x="214200" y="3786120"/>
            <a:ext cx="2941920" cy="170172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62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7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7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68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7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7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74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7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7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a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"/>
          <p:cNvSpPr/>
          <p:nvPr/>
        </p:nvSpPr>
        <p:spPr>
          <a:xfrm>
            <a:off x="220680" y="2309760"/>
            <a:ext cx="8786880" cy="33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63000" bIns="6300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) 12 - 8 = 4 (м/мин) – скорость удалени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) 80 : 4 = 20 (мин) – потраченное время на весь путь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) 20 х 12 = 240 (м) — расстояние от берега до лодк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2033640" y="749160"/>
            <a:ext cx="4662360" cy="69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63000" bIns="63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700" spc="-1" strike="noStrike">
                <a:solidFill>
                  <a:srgbClr val="cc0000"/>
                </a:solidFill>
                <a:latin typeface="DejaVu Sans"/>
              </a:rPr>
              <a:t>Способ решения: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a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"/>
          <p:cNvSpPr/>
          <p:nvPr/>
        </p:nvSpPr>
        <p:spPr>
          <a:xfrm>
            <a:off x="3429000" y="214200"/>
            <a:ext cx="5427720" cy="21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cc0000"/>
                </a:solidFill>
                <a:latin typeface="Tahoma"/>
              </a:rPr>
              <a:t>Устный счё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303120" y="2363760"/>
            <a:ext cx="8444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1224000" y="503280"/>
            <a:ext cx="6141960" cy="593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262699"/>
                </a:solidFill>
                <a:latin typeface="Franklin Gothic Book"/>
              </a:rPr>
              <a:t>8 </a:t>
            </a:r>
            <a:r>
              <a:rPr b="1" lang="ru-RU" sz="4800" spc="-1" strike="noStrike" baseline="30000">
                <a:solidFill>
                  <a:srgbClr val="262699"/>
                </a:solidFill>
                <a:latin typeface="Franklin Gothic Book"/>
              </a:rPr>
              <a:t>. </a:t>
            </a:r>
            <a:r>
              <a:rPr b="1" lang="ru-RU" sz="4800" spc="-1" strike="noStrike">
                <a:solidFill>
                  <a:srgbClr val="262699"/>
                </a:solidFill>
                <a:latin typeface="Franklin Gothic Book"/>
              </a:rPr>
              <a:t>5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262699"/>
                </a:solidFill>
                <a:latin typeface="Franklin Gothic Book"/>
              </a:rPr>
              <a:t>420 : 6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262699"/>
                </a:solidFill>
                <a:latin typeface="Franklin Gothic Book"/>
              </a:rPr>
              <a:t>20 </a:t>
            </a:r>
            <a:r>
              <a:rPr b="1" lang="ru-RU" sz="4800" spc="-1" strike="noStrike" baseline="30000">
                <a:solidFill>
                  <a:srgbClr val="262699"/>
                </a:solidFill>
                <a:latin typeface="Franklin Gothic Book"/>
              </a:rPr>
              <a:t>. </a:t>
            </a:r>
            <a:r>
              <a:rPr b="1" lang="ru-RU" sz="4800" spc="-1" strike="noStrike">
                <a:solidFill>
                  <a:srgbClr val="262699"/>
                </a:solidFill>
                <a:latin typeface="Franklin Gothic Book"/>
              </a:rPr>
              <a:t>2 + 14 </a:t>
            </a:r>
            <a:r>
              <a:rPr b="1" lang="ru-RU" sz="4800" spc="-1" strike="noStrike" baseline="30000">
                <a:solidFill>
                  <a:srgbClr val="262699"/>
                </a:solidFill>
                <a:latin typeface="Franklin Gothic Book"/>
              </a:rPr>
              <a:t>.</a:t>
            </a:r>
            <a:r>
              <a:rPr b="1" lang="ru-RU" sz="4800" spc="-1" strike="noStrike">
                <a:solidFill>
                  <a:srgbClr val="262699"/>
                </a:solidFill>
                <a:latin typeface="Franklin Gothic Book"/>
              </a:rPr>
              <a:t> 3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262699"/>
                </a:solidFill>
                <a:latin typeface="Franklin Gothic Book"/>
              </a:rPr>
              <a:t>100 : ( 80 – 60 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340dc3"/>
                </a:solidFill>
                <a:latin typeface="Franklin Gothic Book"/>
              </a:rPr>
              <a:t>120 : 2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340dc3"/>
                </a:solidFill>
                <a:latin typeface="Franklin Gothic Book"/>
              </a:rPr>
              <a:t>80 </a:t>
            </a:r>
            <a:r>
              <a:rPr b="1" lang="ru-RU" sz="4800" spc="-1" strike="noStrike" baseline="30000">
                <a:solidFill>
                  <a:srgbClr val="340dc3"/>
                </a:solidFill>
                <a:latin typeface="Franklin Gothic Book"/>
              </a:rPr>
              <a:t>. </a:t>
            </a:r>
            <a:r>
              <a:rPr b="1" lang="ru-RU" sz="4800" spc="-1" strike="noStrike">
                <a:solidFill>
                  <a:srgbClr val="340dc3"/>
                </a:solidFill>
                <a:latin typeface="Franklin Gothic Book"/>
              </a:rPr>
              <a:t>8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340dc3"/>
                </a:solidFill>
                <a:latin typeface="Franklin Gothic Book"/>
              </a:rPr>
              <a:t>( 9 + 7 ) </a:t>
            </a:r>
            <a:r>
              <a:rPr b="1" lang="ru-RU" sz="4800" spc="-1" strike="noStrike" baseline="30000">
                <a:solidFill>
                  <a:srgbClr val="340dc3"/>
                </a:solidFill>
                <a:latin typeface="Franklin Gothic Book"/>
              </a:rPr>
              <a:t>. </a:t>
            </a:r>
            <a:r>
              <a:rPr b="1" lang="ru-RU" sz="4800" spc="-1" strike="noStrike">
                <a:solidFill>
                  <a:srgbClr val="340dc3"/>
                </a:solidFill>
                <a:latin typeface="Franklin Gothic Book"/>
              </a:rPr>
              <a:t>2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340dc3"/>
                </a:solidFill>
                <a:latin typeface="Franklin Gothic Book"/>
              </a:rPr>
              <a:t>65 + ( 110 + 80 )</a:t>
            </a:r>
            <a:r>
              <a:rPr b="1" lang="ru-RU" sz="4800" spc="-1" strike="noStrike" baseline="30000">
                <a:solidFill>
                  <a:srgbClr val="340dc3"/>
                </a:solidFill>
                <a:latin typeface="Franklin Gothic Book"/>
              </a:rPr>
              <a:t>.</a:t>
            </a:r>
            <a:r>
              <a:rPr b="1" lang="ru-RU" sz="4800" spc="-1" strike="noStrike">
                <a:solidFill>
                  <a:srgbClr val="340dc3"/>
                </a:solidFill>
                <a:latin typeface="Franklin Gothic Book"/>
              </a:rPr>
              <a:t>3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6500880" y="2571840"/>
            <a:ext cx="1119240" cy="15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dur="indefinite" nodeType="clickEffect" fill="hold">
                      <p:stCondLst>
                        <p:cond delay="0"/>
                      </p:stCondLst>
                      <p:childTnLst>
                        <p:par>
                          <p:cTn id="122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afterEffect" fill="hold" presetClass="entr" presetID="2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str">
                                      <p:cBhvr additive="repl">
                                        <p:cTn id="125" dur="80"/>
                                        <p:tgtEl>
                                          <p:spTgt spid="477"/>
                                        </p:tgtEl>
                                      </p:cBhvr>
                                      <p:tavLst>
                                        <p:tav tm="0">
                                          <p:val>
                                            <p:strVal val="rgb(78,100,-91)"/>
                                          </p:val>
                                        </p:tav>
                                        <p:tav tm="100000">
                                          <p:val>
                                            <p:strVal val="rgb(31,31,-83)"/>
                                          </p:val>
                                        </p:tav>
                                      </p:tavLst>
                                    </p:anim>
                                    <p:anim calcmode="discrete" valueType="str">
                                      <p:cBhvr additive="repl">
                                        <p:cTn id="126" dur="80"/>
                                        <p:tgtEl>
                                          <p:spTgt spid="477"/>
                                        </p:tgtEl>
                                      </p:cBhvr>
                                      <p:tavLst>
                                        <p:tav tm="0">
                                          <p:val>
                                            <p:strVal val="rgb(78,100,-91)"/>
                                          </p:val>
                                        </p:tav>
                                        <p:tav tm="100000">
                                          <p:val>
                                            <p:strVal val="rgb(31,31,-8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7" dur="80"/>
                                        <p:tgtEl>
                                          <p:spTgt spid="477"/>
                                        </p:tgtEl>
                                      </p:cBhvr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29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out">
                                      <p:cBhvr additive="repl">
                                        <p:cTn id="132" dur="2000"/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out">
                                      <p:cBhvr additive="repl">
                                        <p:cTn id="135" dur="20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out">
                                      <p:cBhvr additive="repl">
                                        <p:cTn id="138" dur="20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out">
                                      <p:cBhvr additive="repl">
                                        <p:cTn id="141" dur="20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3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out">
                                      <p:cBhvr additive="repl">
                                        <p:cTn id="146" dur="20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out">
                                      <p:cBhvr additive="repl">
                                        <p:cTn id="149" dur="20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out">
                                      <p:cBhvr additive="repl">
                                        <p:cTn id="152" dur="20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out">
                                      <p:cBhvr additive="repl">
                                        <p:cTn id="155" dur="20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a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"/>
          <p:cNvSpPr/>
          <p:nvPr/>
        </p:nvSpPr>
        <p:spPr>
          <a:xfrm>
            <a:off x="863640" y="2592360"/>
            <a:ext cx="754380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Arial"/>
              </a:rPr>
              <a:t>Спасибо за работу!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a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1" name=""/>
          <p:cNvGraphicFramePr/>
          <p:nvPr/>
        </p:nvGraphicFramePr>
        <p:xfrm>
          <a:off x="1539720" y="396720"/>
          <a:ext cx="4884480" cy="7914960"/>
        </p:xfrm>
        <a:graphic>
          <a:graphicData uri="http://schemas.openxmlformats.org/drawingml/2006/table">
            <a:tbl>
              <a:tblPr/>
              <a:tblGrid>
                <a:gridCol w="1219320"/>
                <a:gridCol w="1226160"/>
                <a:gridCol w="1219680"/>
                <a:gridCol w="1219320"/>
              </a:tblGrid>
              <a:tr h="1582920">
                <a:tc>
                  <a:txBody>
                    <a:bodyPr lIns="90000" rIns="90000" tIns="1197720" bIns="46800" anchor="t">
                      <a:noAutofit/>
                    </a:bodyPr>
                    <a:p>
                      <a:pPr>
                        <a:lnSpc>
                          <a:spcPct val="5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3600" spc="-1" strike="noStrike">
                          <a:solidFill>
                            <a:srgbClr val="a5644e"/>
                          </a:solidFill>
                          <a:latin typeface="Arial"/>
                        </a:rPr>
                        <a:t>58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ff"/>
                      </a:solidFill>
                    </a:lnL>
                    <a:lnR w="720">
                      <a:solidFill>
                        <a:srgbClr val="0000ff"/>
                      </a:solidFill>
                    </a:lnR>
                    <a:lnT w="720">
                      <a:solidFill>
                        <a:srgbClr val="0000ff"/>
                      </a:solidFill>
                    </a:lnT>
                    <a:lnB w="72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1197720" bIns="46800" anchor="t">
                      <a:noAutofit/>
                    </a:bodyPr>
                    <a:p>
                      <a:pPr>
                        <a:lnSpc>
                          <a:spcPct val="5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3600" spc="-1" strike="noStrike">
                          <a:solidFill>
                            <a:srgbClr val="a5644e"/>
                          </a:solidFill>
                          <a:latin typeface="Arial"/>
                        </a:rPr>
                        <a:t>4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ff"/>
                      </a:solidFill>
                    </a:lnL>
                    <a:lnR w="720">
                      <a:solidFill>
                        <a:srgbClr val="0000ff"/>
                      </a:solidFill>
                    </a:lnR>
                    <a:lnT w="720">
                      <a:solidFill>
                        <a:srgbClr val="0000ff"/>
                      </a:solidFill>
                    </a:lnT>
                    <a:lnB w="72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1197720" bIns="46800" anchor="t">
                      <a:noAutofit/>
                    </a:bodyPr>
                    <a:p>
                      <a:pPr>
                        <a:lnSpc>
                          <a:spcPct val="5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3600" spc="-1" strike="noStrike">
                          <a:solidFill>
                            <a:srgbClr val="a5644e"/>
                          </a:solidFill>
                          <a:latin typeface="Arial"/>
                        </a:rPr>
                        <a:t>64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ff"/>
                      </a:solidFill>
                    </a:lnL>
                    <a:lnR w="720">
                      <a:solidFill>
                        <a:srgbClr val="0000ff"/>
                      </a:solidFill>
                    </a:lnR>
                    <a:lnT w="720">
                      <a:solidFill>
                        <a:srgbClr val="0000ff"/>
                      </a:solidFill>
                    </a:lnT>
                    <a:lnB w="72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1197720" bIns="46800" anchor="t">
                      <a:noAutofit/>
                    </a:bodyPr>
                    <a:p>
                      <a:pPr>
                        <a:lnSpc>
                          <a:spcPct val="5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3600" spc="-1" strike="noStrike">
                          <a:solidFill>
                            <a:srgbClr val="a5644e"/>
                          </a:solidFill>
                          <a:latin typeface="Arial"/>
                        </a:rPr>
                        <a:t>24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ff"/>
                      </a:solidFill>
                    </a:lnL>
                    <a:lnR w="720">
                      <a:solidFill>
                        <a:srgbClr val="0000ff"/>
                      </a:solidFill>
                    </a:lnR>
                    <a:lnT w="720">
                      <a:solidFill>
                        <a:srgbClr val="0000ff"/>
                      </a:solidFill>
                    </a:lnT>
                    <a:lnB w="720">
                      <a:solidFill>
                        <a:srgbClr val="0000ff"/>
                      </a:solidFill>
                    </a:lnB>
                    <a:noFill/>
                  </a:tcPr>
                </a:tc>
              </a:tr>
              <a:tr h="1582920">
                <a:tc>
                  <a:txBody>
                    <a:bodyPr lIns="90000" rIns="90000" tIns="1197720" bIns="46800" anchor="t">
                      <a:noAutofit/>
                    </a:bodyPr>
                    <a:p>
                      <a:pPr>
                        <a:lnSpc>
                          <a:spcPct val="5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3600" spc="-1" strike="noStrike">
                          <a:solidFill>
                            <a:srgbClr val="a5644e"/>
                          </a:solidFill>
                          <a:latin typeface="Arial"/>
                        </a:rPr>
                        <a:t>2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ff"/>
                      </a:solidFill>
                    </a:lnL>
                    <a:lnR w="720">
                      <a:solidFill>
                        <a:srgbClr val="0000ff"/>
                      </a:solidFill>
                    </a:lnR>
                    <a:lnT w="720">
                      <a:solidFill>
                        <a:srgbClr val="0000ff"/>
                      </a:solidFill>
                    </a:lnT>
                    <a:lnB w="72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1197720" bIns="46800" anchor="t">
                      <a:noAutofit/>
                    </a:bodyPr>
                    <a:p>
                      <a:pPr>
                        <a:lnSpc>
                          <a:spcPct val="5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3600" spc="-1" strike="noStrike">
                          <a:solidFill>
                            <a:srgbClr val="a5644e"/>
                          </a:solidFill>
                          <a:latin typeface="Arial"/>
                        </a:rPr>
                        <a:t>7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ff"/>
                      </a:solidFill>
                    </a:lnL>
                    <a:lnR w="720">
                      <a:solidFill>
                        <a:srgbClr val="0000ff"/>
                      </a:solidFill>
                    </a:lnR>
                    <a:lnT w="720">
                      <a:solidFill>
                        <a:srgbClr val="0000ff"/>
                      </a:solidFill>
                    </a:lnT>
                    <a:lnB w="72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1197720" bIns="46800" anchor="t">
                      <a:noAutofit/>
                    </a:bodyPr>
                    <a:p>
                      <a:pPr>
                        <a:lnSpc>
                          <a:spcPct val="5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3600" spc="-1" strike="noStrike">
                          <a:solidFill>
                            <a:srgbClr val="a5644e"/>
                          </a:solidFill>
                          <a:latin typeface="Arial"/>
                        </a:rPr>
                        <a:t>6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ff"/>
                      </a:solidFill>
                    </a:lnL>
                    <a:lnR w="720">
                      <a:solidFill>
                        <a:srgbClr val="0000ff"/>
                      </a:solidFill>
                    </a:lnR>
                    <a:lnT w="720">
                      <a:solidFill>
                        <a:srgbClr val="0000ff"/>
                      </a:solidFill>
                    </a:lnT>
                    <a:lnB w="72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1197720" bIns="46800" anchor="t">
                      <a:noAutofit/>
                    </a:bodyPr>
                    <a:p>
                      <a:pPr>
                        <a:lnSpc>
                          <a:spcPct val="5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3600" spc="-1" strike="noStrike">
                          <a:solidFill>
                            <a:srgbClr val="a5644e"/>
                          </a:solidFill>
                          <a:latin typeface="Arial"/>
                        </a:rPr>
                        <a:t>1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ff"/>
                      </a:solidFill>
                    </a:lnL>
                    <a:lnR w="720">
                      <a:solidFill>
                        <a:srgbClr val="0000ff"/>
                      </a:solidFill>
                    </a:lnR>
                    <a:lnT w="720">
                      <a:solidFill>
                        <a:srgbClr val="0000ff"/>
                      </a:solidFill>
                    </a:lnT>
                    <a:lnB w="720">
                      <a:solidFill>
                        <a:srgbClr val="0000ff"/>
                      </a:solidFill>
                    </a:lnB>
                    <a:noFill/>
                  </a:tcPr>
                </a:tc>
              </a:tr>
              <a:tr h="1583280">
                <a:tc>
                  <a:txBody>
                    <a:bodyPr lIns="90000" rIns="90000" tIns="1197720" bIns="46800" anchor="t">
                      <a:noAutofit/>
                    </a:bodyPr>
                    <a:p>
                      <a:pPr>
                        <a:lnSpc>
                          <a:spcPct val="5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3600" spc="-1" strike="noStrike">
                          <a:solidFill>
                            <a:srgbClr val="a5644e"/>
                          </a:solidFill>
                          <a:latin typeface="Arial"/>
                        </a:rPr>
                        <a:t>40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ff"/>
                      </a:solidFill>
                    </a:lnL>
                    <a:lnR w="720">
                      <a:solidFill>
                        <a:srgbClr val="0000ff"/>
                      </a:solidFill>
                    </a:lnR>
                    <a:lnT w="720">
                      <a:solidFill>
                        <a:srgbClr val="0000ff"/>
                      </a:solidFill>
                    </a:lnT>
                    <a:lnB w="72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1197720" bIns="46800" anchor="t">
                      <a:noAutofit/>
                    </a:bodyPr>
                    <a:p>
                      <a:pPr>
                        <a:lnSpc>
                          <a:spcPct val="5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3600" spc="-1" strike="noStrike">
                          <a:solidFill>
                            <a:srgbClr val="a5644e"/>
                          </a:solidFill>
                          <a:latin typeface="Arial"/>
                        </a:rPr>
                        <a:t>5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ff"/>
                      </a:solidFill>
                    </a:lnL>
                    <a:lnR w="720">
                      <a:solidFill>
                        <a:srgbClr val="0000ff"/>
                      </a:solidFill>
                    </a:lnR>
                    <a:lnT w="720">
                      <a:solidFill>
                        <a:srgbClr val="0000ff"/>
                      </a:solidFill>
                    </a:lnT>
                    <a:lnB w="72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1197720" bIns="46800" anchor="t">
                      <a:noAutofit/>
                    </a:bodyPr>
                    <a:p>
                      <a:pPr>
                        <a:lnSpc>
                          <a:spcPct val="5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3600" spc="-1" strike="noStrike">
                          <a:solidFill>
                            <a:srgbClr val="a5644e"/>
                          </a:solidFill>
                          <a:latin typeface="Arial"/>
                        </a:rPr>
                        <a:t>82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ff"/>
                      </a:solidFill>
                    </a:lnL>
                    <a:lnR w="720">
                      <a:solidFill>
                        <a:srgbClr val="0000ff"/>
                      </a:solidFill>
                    </a:lnR>
                    <a:lnT w="720">
                      <a:solidFill>
                        <a:srgbClr val="0000ff"/>
                      </a:solidFill>
                    </a:lnT>
                    <a:lnB w="72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1197720" bIns="46800" anchor="t">
                      <a:noAutofit/>
                    </a:bodyPr>
                    <a:p>
                      <a:pPr>
                        <a:lnSpc>
                          <a:spcPct val="5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3600" spc="-1" strike="noStrike">
                          <a:solidFill>
                            <a:srgbClr val="a5644e"/>
                          </a:solidFill>
                          <a:latin typeface="Arial"/>
                        </a:rPr>
                        <a:t>31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ff"/>
                      </a:solidFill>
                    </a:lnL>
                    <a:lnR w="720">
                      <a:solidFill>
                        <a:srgbClr val="0000ff"/>
                      </a:solidFill>
                    </a:lnR>
                    <a:lnT w="720">
                      <a:solidFill>
                        <a:srgbClr val="0000ff"/>
                      </a:solidFill>
                    </a:lnT>
                    <a:lnB w="720">
                      <a:solidFill>
                        <a:srgbClr val="0000ff"/>
                      </a:solidFill>
                    </a:lnB>
                    <a:noFill/>
                  </a:tcPr>
                </a:tc>
              </a:tr>
              <a:tr h="1582920">
                <a:tc>
                  <a:txBody>
                    <a:bodyPr lIns="90000" rIns="90000" tIns="1197720" bIns="46800" anchor="t">
                      <a:noAutofit/>
                    </a:bodyPr>
                    <a:p>
                      <a:pPr>
                        <a:lnSpc>
                          <a:spcPct val="5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3600" spc="-1" strike="noStrike">
                          <a:solidFill>
                            <a:srgbClr val="a5644e"/>
                          </a:solidFill>
                          <a:latin typeface="Arial"/>
                        </a:rPr>
                        <a:t>8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ff"/>
                      </a:solidFill>
                    </a:lnL>
                    <a:lnR w="720">
                      <a:solidFill>
                        <a:srgbClr val="0000ff"/>
                      </a:solidFill>
                    </a:lnR>
                    <a:lnT w="720">
                      <a:solidFill>
                        <a:srgbClr val="0000ff"/>
                      </a:solidFill>
                    </a:lnT>
                    <a:lnB w="72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1197720" bIns="46800" anchor="t">
                      <a:noAutofit/>
                    </a:bodyPr>
                    <a:p>
                      <a:pPr>
                        <a:lnSpc>
                          <a:spcPct val="5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3600" spc="-1" strike="noStrike">
                          <a:solidFill>
                            <a:srgbClr val="a5644e"/>
                          </a:solidFill>
                          <a:latin typeface="Arial"/>
                        </a:rPr>
                        <a:t>9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ff"/>
                      </a:solidFill>
                    </a:lnL>
                    <a:lnR w="720">
                      <a:solidFill>
                        <a:srgbClr val="0000ff"/>
                      </a:solidFill>
                    </a:lnR>
                    <a:lnT w="720">
                      <a:solidFill>
                        <a:srgbClr val="0000ff"/>
                      </a:solidFill>
                    </a:lnT>
                    <a:lnB w="72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1197720" bIns="46800" anchor="t">
                      <a:noAutofit/>
                    </a:bodyPr>
                    <a:p>
                      <a:pPr>
                        <a:lnSpc>
                          <a:spcPct val="5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3600" spc="-1" strike="noStrike">
                          <a:solidFill>
                            <a:srgbClr val="a5644e"/>
                          </a:solidFill>
                          <a:latin typeface="Arial"/>
                        </a:rPr>
                        <a:t>635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ff"/>
                      </a:solidFill>
                    </a:lnL>
                    <a:lnR w="720">
                      <a:solidFill>
                        <a:srgbClr val="0000ff"/>
                      </a:solidFill>
                    </a:lnR>
                    <a:lnT w="720">
                      <a:solidFill>
                        <a:srgbClr val="0000ff"/>
                      </a:solidFill>
                    </a:lnT>
                    <a:lnB w="72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1197720" bIns="46800" anchor="t">
                      <a:noAutofit/>
                    </a:bodyPr>
                    <a:p>
                      <a:pPr>
                        <a:lnSpc>
                          <a:spcPct val="5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3600" spc="-1" strike="noStrike">
                          <a:solidFill>
                            <a:srgbClr val="a5644e"/>
                          </a:solidFill>
                          <a:latin typeface="Arial"/>
                        </a:rPr>
                        <a:t>15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ff"/>
                      </a:solidFill>
                    </a:lnL>
                    <a:lnR w="720">
                      <a:solidFill>
                        <a:srgbClr val="0000ff"/>
                      </a:solidFill>
                    </a:lnR>
                    <a:lnT w="720">
                      <a:solidFill>
                        <a:srgbClr val="0000ff"/>
                      </a:solidFill>
                    </a:lnT>
                    <a:lnB w="720">
                      <a:solidFill>
                        <a:srgbClr val="0000ff"/>
                      </a:solidFill>
                    </a:lnB>
                    <a:noFill/>
                  </a:tcPr>
                </a:tc>
              </a:tr>
              <a:tr h="1582920">
                <a:tc>
                  <a:txBody>
                    <a:bodyPr lIns="90000" rIns="90000" tIns="1197720" bIns="46800" anchor="t">
                      <a:noAutofit/>
                    </a:bodyPr>
                    <a:p>
                      <a:pPr>
                        <a:lnSpc>
                          <a:spcPct val="5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3600" spc="-1" strike="noStrike">
                          <a:solidFill>
                            <a:srgbClr val="a5644e"/>
                          </a:solidFill>
                          <a:latin typeface="Arial"/>
                        </a:rPr>
                        <a:t>225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ff"/>
                      </a:solidFill>
                    </a:lnL>
                    <a:lnR w="720">
                      <a:solidFill>
                        <a:srgbClr val="0000ff"/>
                      </a:solidFill>
                    </a:lnR>
                    <a:lnT w="720">
                      <a:solidFill>
                        <a:srgbClr val="0000ff"/>
                      </a:solidFill>
                    </a:lnT>
                    <a:lnB w="72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1197720" bIns="46800" anchor="t">
                      <a:noAutofit/>
                    </a:bodyPr>
                    <a:p>
                      <a:pPr>
                        <a:lnSpc>
                          <a:spcPct val="5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3600" spc="-1" strike="noStrike">
                          <a:solidFill>
                            <a:srgbClr val="a5644e"/>
                          </a:solidFill>
                          <a:latin typeface="Arial"/>
                        </a:rPr>
                        <a:t>6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ff"/>
                      </a:solidFill>
                    </a:lnL>
                    <a:lnR w="720">
                      <a:solidFill>
                        <a:srgbClr val="0000ff"/>
                      </a:solidFill>
                    </a:lnR>
                    <a:lnT w="720">
                      <a:solidFill>
                        <a:srgbClr val="0000ff"/>
                      </a:solidFill>
                    </a:lnT>
                    <a:lnB w="72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1197720" bIns="46800" anchor="t">
                      <a:noAutofit/>
                    </a:bodyPr>
                    <a:p>
                      <a:pPr>
                        <a:lnSpc>
                          <a:spcPct val="5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3600" spc="-1" strike="noStrike">
                          <a:solidFill>
                            <a:srgbClr val="a5644e"/>
                          </a:solidFill>
                          <a:latin typeface="Arial"/>
                        </a:rPr>
                        <a:t>32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ff"/>
                      </a:solidFill>
                    </a:lnL>
                    <a:lnR w="720">
                      <a:solidFill>
                        <a:srgbClr val="0000ff"/>
                      </a:solidFill>
                    </a:lnR>
                    <a:lnT w="720">
                      <a:solidFill>
                        <a:srgbClr val="0000ff"/>
                      </a:solidFill>
                    </a:lnT>
                    <a:lnB w="72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1197720" bIns="46800" anchor="t">
                      <a:noAutofit/>
                    </a:bodyPr>
                    <a:p>
                      <a:pPr>
                        <a:lnSpc>
                          <a:spcPct val="5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3600" spc="-1" strike="noStrike">
                          <a:solidFill>
                            <a:srgbClr val="a5644e"/>
                          </a:solidFill>
                          <a:latin typeface="Arial"/>
                        </a:rPr>
                        <a:t>86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ff"/>
                      </a:solidFill>
                    </a:lnL>
                    <a:lnR w="720">
                      <a:solidFill>
                        <a:srgbClr val="0000ff"/>
                      </a:solidFill>
                    </a:lnR>
                    <a:lnT w="720">
                      <a:solidFill>
                        <a:srgbClr val="0000ff"/>
                      </a:solidFill>
                    </a:lnT>
                    <a:lnB w="720">
                      <a:solidFill>
                        <a:srgbClr val="0000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2" name=""/>
          <p:cNvSpPr/>
          <p:nvPr/>
        </p:nvSpPr>
        <p:spPr>
          <a:xfrm>
            <a:off x="2711520" y="782640"/>
            <a:ext cx="1222200" cy="861840"/>
          </a:xfrm>
          <a:prstGeom prst="rect">
            <a:avLst/>
          </a:prstGeom>
          <a:solidFill>
            <a:srgbClr val="ff3300"/>
          </a:solidFill>
          <a:ln cap="sq"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2703600" y="2349360"/>
            <a:ext cx="1222200" cy="862200"/>
          </a:xfrm>
          <a:prstGeom prst="rect">
            <a:avLst/>
          </a:prstGeom>
          <a:solidFill>
            <a:srgbClr val="ff3300"/>
          </a:solidFill>
          <a:ln cap="sq"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3994200" y="3608280"/>
            <a:ext cx="1222200" cy="862200"/>
          </a:xfrm>
          <a:prstGeom prst="rect">
            <a:avLst/>
          </a:prstGeom>
          <a:solidFill>
            <a:srgbClr val="ff3300"/>
          </a:solidFill>
          <a:ln cap="sq"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2771640" y="3498840"/>
            <a:ext cx="1222560" cy="862200"/>
          </a:xfrm>
          <a:prstGeom prst="rect">
            <a:avLst/>
          </a:prstGeom>
          <a:solidFill>
            <a:srgbClr val="ff3300"/>
          </a:solidFill>
          <a:ln cap="sq"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2728800" y="6364440"/>
            <a:ext cx="1222560" cy="861840"/>
          </a:xfrm>
          <a:prstGeom prst="rect">
            <a:avLst/>
          </a:prstGeom>
          <a:solidFill>
            <a:srgbClr val="ff3300"/>
          </a:solidFill>
          <a:ln cap="sq"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3933720" y="874800"/>
            <a:ext cx="1222560" cy="861840"/>
          </a:xfrm>
          <a:prstGeom prst="rect">
            <a:avLst/>
          </a:prstGeom>
          <a:solidFill>
            <a:srgbClr val="ff3300"/>
          </a:solidFill>
          <a:ln cap="sq"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4014720" y="6364440"/>
            <a:ext cx="1222560" cy="861840"/>
          </a:xfrm>
          <a:prstGeom prst="rect">
            <a:avLst/>
          </a:prstGeom>
          <a:solidFill>
            <a:srgbClr val="ff3300"/>
          </a:solidFill>
          <a:ln cap="sq"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3998880" y="5084640"/>
            <a:ext cx="1222560" cy="862200"/>
          </a:xfrm>
          <a:prstGeom prst="rect">
            <a:avLst/>
          </a:prstGeom>
          <a:solidFill>
            <a:srgbClr val="ff3300"/>
          </a:solidFill>
          <a:ln cap="sq"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59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out">
                                      <p:cBhvr additive="repl">
                                        <p:cTn id="162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64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out">
                                      <p:cBhvr additive="repl">
                                        <p:cTn id="167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69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out">
                                      <p:cBhvr additive="repl">
                                        <p:cTn id="172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74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out">
                                      <p:cBhvr additive="repl">
                                        <p:cTn id="177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79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out">
                                      <p:cBhvr additive="repl">
                                        <p:cTn id="182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4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out">
                                      <p:cBhvr additive="repl">
                                        <p:cTn id="187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9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out">
                                      <p:cBhvr additive="repl">
                                        <p:cTn id="192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94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out">
                                      <p:cBhvr additive="repl">
                                        <p:cTn id="197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a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"/>
          <p:cNvSpPr/>
          <p:nvPr/>
        </p:nvSpPr>
        <p:spPr>
          <a:xfrm>
            <a:off x="1184400" y="3297240"/>
            <a:ext cx="2208240" cy="149688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402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3479760" y="3254400"/>
            <a:ext cx="2208240" cy="14968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5856120" y="3240000"/>
            <a:ext cx="2208240" cy="149724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4002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584360" y="1225440"/>
            <a:ext cx="5635440" cy="12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63000" bIns="63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Arial"/>
              </a:rPr>
              <a:t>19.296 : 48 =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a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"/>
          <p:cNvSpPr/>
          <p:nvPr/>
        </p:nvSpPr>
        <p:spPr>
          <a:xfrm>
            <a:off x="492120" y="-33480"/>
            <a:ext cx="811836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63000" bIns="63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Алгоритм письменного деления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на двузначное число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5" name="" descr=""/>
          <p:cNvPicPr/>
          <p:nvPr/>
        </p:nvPicPr>
        <p:blipFill>
          <a:blip r:embed="rId1"/>
          <a:stretch/>
        </p:blipFill>
        <p:spPr>
          <a:xfrm>
            <a:off x="450720" y="1511280"/>
            <a:ext cx="8236080" cy="48340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a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"/>
          <p:cNvSpPr/>
          <p:nvPr/>
        </p:nvSpPr>
        <p:spPr>
          <a:xfrm>
            <a:off x="1440000" y="2448000"/>
            <a:ext cx="7056360" cy="56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63000" bIns="63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20.000 : 50 = 400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a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"/>
          <p:cNvSpPr/>
          <p:nvPr/>
        </p:nvSpPr>
        <p:spPr>
          <a:xfrm>
            <a:off x="3027240" y="1079640"/>
            <a:ext cx="2805120" cy="38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63000" bIns="63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402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3216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1608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19296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3855960" y="1628640"/>
            <a:ext cx="471600" cy="67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63000" bIns="63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4248000" y="2979720"/>
            <a:ext cx="1368720" cy="144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3816360" y="4854600"/>
            <a:ext cx="1800360" cy="144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1" name="" descr=""/>
          <p:cNvPicPr/>
          <p:nvPr/>
        </p:nvPicPr>
        <p:blipFill>
          <a:blip r:embed="rId1"/>
          <a:stretch/>
        </p:blipFill>
        <p:spPr>
          <a:xfrm>
            <a:off x="3151080" y="3056040"/>
            <a:ext cx="1096920" cy="127944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a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/>
          <p:nvPr/>
        </p:nvSpPr>
        <p:spPr>
          <a:xfrm>
            <a:off x="698400" y="2408400"/>
            <a:ext cx="7780320" cy="21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63000" bIns="63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 u="sng">
                <a:solidFill>
                  <a:srgbClr val="000000"/>
                </a:solidFill>
                <a:uFillTx/>
                <a:latin typeface="Calibri"/>
              </a:rPr>
              <a:t>Тема урока: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 «Письменное деление многозначных чисел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на двузначное число»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6T17:16:20Z</dcterms:created>
  <dc:creator>Света</dc:creator>
  <dc:description/>
  <dc:language>en-US</dc:language>
  <cp:lastModifiedBy/>
  <dcterms:modified xsi:type="dcterms:W3CDTF">2016-04-23T14:14:38Z</dcterms:modified>
  <cp:revision>136</cp:revision>
  <dc:subject/>
  <dc:title>Слайд 1</dc:title>
</cp:coreProperties>
</file>