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7B00-B3AD-4F43-A563-9695DFE9B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B4C1-CD1B-473B-A724-3EDFB4785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FAC-DFD7-47BC-8895-A7B65183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404-FEBF-458B-A5B4-7334A85B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37A-E44B-496F-89FA-355A064B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2FF-1220-4167-BADA-8A5A0FDD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5F80-7B24-4210-B99C-7B4BCB1B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CC44-B79E-4F6A-BCB3-2CD66AEE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1711-01B8-41B8-B09F-553FA4F3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53D5-1723-4D26-978C-9D596277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9B88-95A0-458D-842F-5121462F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B388-85F5-42A9-BBC5-AF3712BC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C2D2-955D-4D5B-8399-99A1278F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4BF-3D9C-4A64-8360-58BB6C2E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18BE-8A2F-4C41-9267-B0A9992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A804-6E32-4248-A264-331C8DC8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8DB0-FB33-4C4C-94AB-F53B90B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D5A-775B-456D-B3C2-37D22B19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2862-352A-4897-9220-50BE654E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507B-A6BA-48E1-AAA5-84AFDACD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0AC7-8617-47A9-869F-D5F2C68F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AAB1-93BB-4E96-966A-284ADB37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822D-4445-4E0E-9D5E-3182FC00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8749-776A-40EC-BC69-CCCC0D2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DAB-D6B5-47AC-BB30-F85776E2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B6FF-18F1-47E5-BDB3-B29D3824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1A6D-4AE2-431A-AB17-63299C65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770B-07BC-4AD7-ACDE-0271AB26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5B43-49C4-4B6D-9E44-C91002AE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1035-50E0-4554-AFD5-7E2BF21F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FD8F-1C86-4741-8659-336D3B96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2D7E-ABFD-4ED3-81E2-4822BFDF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933-3905-4BF3-A536-CAB63152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E15-24AD-481F-A32E-71842552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80E-8AF0-4D49-A133-00BA20F0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DE7-6FC5-499C-8456-8BA975F4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99E-0837-4D9B-A603-C1E95980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483-FCB3-45A0-8E62-5EE954ED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B56F-E55C-4E48-BA45-B6BEECCD3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E74C-1186-4367-B165-D5DDAB97D56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A72-1A3A-4A41-B868-E6E079122B2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-181080" y="549360"/>
            <a:ext cx="39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ма урока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аскетбо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900000" y="2924280"/>
            <a:ext cx="720108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физической культур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 класс.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550-1"/>
          <p:cNvPicPr/>
          <p:nvPr/>
        </p:nvPicPr>
        <p:blipFill>
          <a:blip r:embed="rId1"/>
          <a:stretch/>
        </p:blipFill>
        <p:spPr>
          <a:xfrm>
            <a:off x="6516720" y="260280"/>
            <a:ext cx="2444760" cy="296388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13" descr=""/>
          <p:cNvPicPr/>
          <p:nvPr/>
        </p:nvPicPr>
        <p:blipFill>
          <a:blip r:embed="rId2"/>
          <a:stretch/>
        </p:blipFill>
        <p:spPr>
          <a:xfrm>
            <a:off x="469800" y="-237960"/>
            <a:ext cx="5565960" cy="1128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179280" y="90792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дача – прием, с помощью которого игрок направляет мяч партнеру для продолжения атаки. Умение правильно и точно передать мяч – основа четкого, целенаправленного взаимодействия баскетболистов в иг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" descr="school_sport_360_7"/>
          <p:cNvPicPr/>
          <p:nvPr/>
        </p:nvPicPr>
        <p:blipFill>
          <a:blip r:embed="rId3"/>
          <a:stretch/>
        </p:blipFill>
        <p:spPr>
          <a:xfrm>
            <a:off x="324000" y="2297160"/>
            <a:ext cx="60483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Basketball"/>
          <p:cNvPicPr/>
          <p:nvPr/>
        </p:nvPicPr>
        <p:blipFill>
          <a:blip r:embed="rId1"/>
          <a:stretch/>
        </p:blipFill>
        <p:spPr>
          <a:xfrm>
            <a:off x="5508720" y="3013200"/>
            <a:ext cx="3370320" cy="384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allon"/>
          <p:cNvPicPr/>
          <p:nvPr/>
        </p:nvPicPr>
        <p:blipFill>
          <a:blip r:embed="rId2"/>
          <a:stretch/>
        </p:blipFill>
        <p:spPr>
          <a:xfrm>
            <a:off x="395280" y="333360"/>
            <a:ext cx="3282840" cy="388764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4211640" y="1341360"/>
            <a:ext cx="41767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Удачной иг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Совершенствование навыков ловли мяча, передачи мя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Обучение ведению мя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Развитие двигательных качеств посредством подвижной игр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ч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067280" y="404280"/>
            <a:ext cx="4619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о спортивной игрой -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 основными  правилами игры в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учить навыкам владения элементами техники баскет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ратко о баскетболе можно сказать, что это спортивная командная игра, в которой игроки забрасывают мяч в "корзину", состоящую из кольца с сеткой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одиной баскетбола являются Соединенные Штаты Америки. Игра была придумана в 1891 году в учебном центре Христианской молодежной ассоциации в Спрингфилде, штат Массачусетс. Чтобы оживить уроки по гимнастике, молодой преподаватель, уроженец Канады, доктор Дисеймс Нейсмит придумал новую игру. Он прикрепил к перилам балкона две фруктовые корзины без дна, в которые нужно было забрасывать футбольный мяч (basket - корзина, boll - мяч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втором современного баскетбола, который появился в конце 19 века, считается преподаватель физического воспитания Спрингфилдской международной тренировочной школы в шт. Массачусетс </a:t>
            </a: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Джеймс Нейсмит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(1861-1932)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6" descr="image001"/>
          <p:cNvPicPr/>
          <p:nvPr/>
        </p:nvPicPr>
        <p:blipFill>
          <a:blip r:embed="rId1"/>
          <a:stretch/>
        </p:blipFill>
        <p:spPr>
          <a:xfrm>
            <a:off x="4800600" y="533520"/>
            <a:ext cx="3886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472428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екрасный регбист и гимнаст, Нейсмит в поисках увеличения физических нагрузок студентов в зимнее время, решил придумать игру с мячом в зале. Он попросил принести две пустые коробки, чтобы учащиеся, тренируя меткость смогли бросать в них мячи. Но не найдя коробок, принесли корзинки из под персиков. Их прикрепили на разных сторонах балкона, опоясывающего зал на высоте З м 05 см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6" descr="image002"/>
          <p:cNvPicPr/>
          <p:nvPr/>
        </p:nvPicPr>
        <p:blipFill>
          <a:blip r:embed="rId1"/>
          <a:stretch/>
        </p:blipFill>
        <p:spPr>
          <a:xfrm>
            <a:off x="228600" y="533520"/>
            <a:ext cx="3657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гра Баскетбо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24000" y="981000"/>
            <a:ext cx="50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 баскетбол играют две (2) команды, в каждой из которых по пять (5) игроков. Цель каждой команды - забросить мяч в корзину соперника и помешать другой команде овладеть мячом, и забросить его в корз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2 Корзина: своя/сопер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орзина, которую команда атакует, является корзиной соперника, а корзина, которую та же команда защищает, называется собственной корзиной коман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3 Перемещение мяч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Мяч можно передавать, бросать, отбивать, катить или вести в любом направлении при условии соблюдения положений соответствующих статей, изложенных Прави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4 Победитель 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бедителем игры становится команда, которая по окончании игрового времени четвертого периода или, если необходимо, дополнительного(-ых) периода(-ов) набрала большее количество о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BasketballPlayers"/>
          <p:cNvPicPr/>
          <p:nvPr/>
        </p:nvPicPr>
        <p:blipFill>
          <a:blip r:embed="rId1"/>
          <a:stretch/>
        </p:blipFill>
        <p:spPr>
          <a:xfrm>
            <a:off x="0" y="0"/>
            <a:ext cx="2843280" cy="20541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лощадк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размеры л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вая площадка должна представлять собой плоскую прямоугольную твердую поверхность без каких-либо препятствий Для главных официальных соревнований ФИБА, а также для строящихся новых игровых площадок размеры, измеренные от внутреннего края ограничительных линий, должны быть 28 метров в длину и 15 метров шир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0205526878"/>
          <p:cNvPicPr/>
          <p:nvPr/>
        </p:nvPicPr>
        <p:blipFill>
          <a:blip r:embed="rId2"/>
          <a:stretch/>
        </p:blipFill>
        <p:spPr>
          <a:xfrm>
            <a:off x="4211640" y="4076640"/>
            <a:ext cx="4762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Basketball_game"/>
          <p:cNvPicPr/>
          <p:nvPr/>
        </p:nvPicPr>
        <p:blipFill>
          <a:blip r:embed="rId1"/>
          <a:stretch/>
        </p:blipFill>
        <p:spPr>
          <a:xfrm>
            <a:off x="5457960" y="1197000"/>
            <a:ext cx="3686040" cy="5041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468360" y="112536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ение мяча в баскетболе - прием дающий возможность игроку двигаться с мячом по площадке с большим диапазоном скоростей и в любом направ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0906466f282e2133b0c2df79ddee39d3"/>
          <p:cNvPicPr/>
          <p:nvPr/>
        </p:nvPicPr>
        <p:blipFill>
          <a:blip r:embed="rId2"/>
          <a:stretch/>
        </p:blipFill>
        <p:spPr>
          <a:xfrm>
            <a:off x="0" y="2637000"/>
            <a:ext cx="54356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29:03Z</dcterms:created>
  <dc:creator>Admin</dc:creator>
  <dc:description/>
  <dc:language>en-US</dc:language>
  <cp:lastModifiedBy>Ученик</cp:lastModifiedBy>
  <dcterms:modified xsi:type="dcterms:W3CDTF">2012-10-24T07:08:57Z</dcterms:modified>
  <cp:revision>11</cp:revision>
  <dc:subject/>
  <dc:title>Слайд 1</dc:title>
</cp:coreProperties>
</file>