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D1AB-356B-4255-A728-5E09AFCA4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6EAB-A647-46D0-91F0-0FF86BE11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BDD-06D2-4759-A906-479494B3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AB2-D21E-4D65-84C1-BA30C508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BF4-1ADD-4578-A126-9E89D535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A35-8B64-4FFD-8837-DE076E1A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1BCB-52AB-4558-93F8-212C604E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1F5C-CB37-455A-933C-09777DF9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D6BB-6B17-43C2-B74F-6385498F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0905-2ACF-417A-9EAA-14815465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CAFE-9ECF-4960-8DB6-62804E7D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A992-7634-4BE6-9762-58C7B6B3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8EE7-6612-47C0-A323-A582456F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0FF-D70E-48B7-9F07-6A0BFC59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40A6-824E-461D-A269-1533F5AF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CF86-A122-4BC2-8EB8-5750D522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D36E-C004-4486-9B0C-29D51F2D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1C2C-03DF-41D5-9ADB-50524F58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E567-40AC-4E6A-B22E-8A994B84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18CD3-EA01-4E4F-9723-6C3CDB27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833C-B964-4D2C-B520-BB3C0F14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EC9B-0A3D-4AD1-BD5D-45B1A7E7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85C6-C066-4824-8852-E92A0527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FB7F-0680-4A24-A7ED-B2A4C111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CBA-CF3F-4665-AED2-47666A0B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57CD-472E-467F-85C3-8656134C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1A16-F6F8-4E49-A6B1-5F0B71DB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5CD93-AD5E-40D1-8CD7-756A377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2C67C-43B6-49BD-98FA-67855282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E49B-9F9D-4949-A931-44F0B2AB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A868-F6BB-4245-AC93-C3090188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74D9-401C-4E54-86CD-2104F8BE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AEF-F117-466D-AD61-9151FC30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284-781E-49F8-BE68-997FE795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87D-54FF-4F6A-B371-650272BE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7D9-C574-41B3-ABEA-9D8804E7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A56-D650-4860-A2F5-0EAC2D61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EBC-4C3B-4472-83D6-092265F4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691E-3D3A-4CDB-9413-B208D8989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989D-D131-46E1-8E1B-C318FD37A56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0093-6427-443F-B07A-6B313B9FFF3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-181080" y="549360"/>
            <a:ext cx="39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ма урока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аскетбо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900000" y="2924280"/>
            <a:ext cx="720108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физической культур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 класс.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550-1"/>
          <p:cNvPicPr/>
          <p:nvPr/>
        </p:nvPicPr>
        <p:blipFill>
          <a:blip r:embed="rId1"/>
          <a:stretch/>
        </p:blipFill>
        <p:spPr>
          <a:xfrm>
            <a:off x="6516720" y="260280"/>
            <a:ext cx="2444760" cy="296388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13" descr=""/>
          <p:cNvPicPr/>
          <p:nvPr/>
        </p:nvPicPr>
        <p:blipFill>
          <a:blip r:embed="rId2"/>
          <a:stretch/>
        </p:blipFill>
        <p:spPr>
          <a:xfrm>
            <a:off x="469800" y="-237960"/>
            <a:ext cx="5565960" cy="1128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0"/>
          <p:cNvSpPr/>
          <p:nvPr/>
        </p:nvSpPr>
        <p:spPr>
          <a:xfrm>
            <a:off x="179280" y="90792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едача – прием, с помощью которого игрок направляет мяч партнеру для продолжения атаки. Умение правильно и точно передать мяч – основа четкого, целенаправленного взаимодействия баскетболистов в иг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" descr="school_sport_360_7"/>
          <p:cNvPicPr/>
          <p:nvPr/>
        </p:nvPicPr>
        <p:blipFill>
          <a:blip r:embed="rId3"/>
          <a:stretch/>
        </p:blipFill>
        <p:spPr>
          <a:xfrm>
            <a:off x="324000" y="2297160"/>
            <a:ext cx="604836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Basketball"/>
          <p:cNvPicPr/>
          <p:nvPr/>
        </p:nvPicPr>
        <p:blipFill>
          <a:blip r:embed="rId1"/>
          <a:stretch/>
        </p:blipFill>
        <p:spPr>
          <a:xfrm>
            <a:off x="5508720" y="3013200"/>
            <a:ext cx="3370320" cy="384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allon"/>
          <p:cNvPicPr/>
          <p:nvPr/>
        </p:nvPicPr>
        <p:blipFill>
          <a:blip r:embed="rId2"/>
          <a:stretch/>
        </p:blipFill>
        <p:spPr>
          <a:xfrm>
            <a:off x="395280" y="333360"/>
            <a:ext cx="3282840" cy="388764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4211640" y="1341360"/>
            <a:ext cx="417672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Удачной иг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Совершенствование навыков ловли мяча, передачи мя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Обучение ведению мя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Развитие двигательных качеств посредством подвижной игр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чи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067280" y="404280"/>
            <a:ext cx="4619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о спортивной игрой -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 основными  правилами игры в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учить навыкам владения элементами техники баскет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ратко о баскетболе можно сказать, что это спортивная командная игра, в которой игроки забрасывают мяч в "корзину", состоящую из кольца с сеткой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одиной баскетбола являются Соединенные Штаты Америки. Игра была придумана в 1891 году в учебном центре Христианской молодежной ассоциации в Спрингфилде, штат Массачусетс. Чтобы оживить уроки по гимнастике, молодой преподаватель, уроженец Канады, доктор Дисеймс Нейсмит придумал новую игру. Он прикрепил к перилам балкона две фруктовые корзины без дна, в которые нужно было забрасывать футбольный мяч (basket - корзина, boll - мяч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втором современного баскетбола, который появился в конце 19 века, считается преподаватель физического воспитания Спрингфилдской международной тренировочной школы в шт. Массачусетс </a:t>
            </a: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Джеймс Нейсмит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(1861-1932)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6" descr="image001"/>
          <p:cNvPicPr/>
          <p:nvPr/>
        </p:nvPicPr>
        <p:blipFill>
          <a:blip r:embed="rId1"/>
          <a:stretch/>
        </p:blipFill>
        <p:spPr>
          <a:xfrm>
            <a:off x="4800600" y="533520"/>
            <a:ext cx="3886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472428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екрасный регбист и гимнаст, Нейсмит в поисках увеличения физических нагрузок студентов в зимнее время, решил придумать игру с мячом в зале. Он попросил принести две пустые коробки, чтобы учащиеся, тренируя меткость смогли бросать в них мячи. Но не найдя коробок, принесли корзинки из под персиков. Их прикрепили на разных сторонах балкона, опоясывающего зал на высоте З м 05 см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6" descr="image002"/>
          <p:cNvPicPr/>
          <p:nvPr/>
        </p:nvPicPr>
        <p:blipFill>
          <a:blip r:embed="rId1"/>
          <a:stretch/>
        </p:blipFill>
        <p:spPr>
          <a:xfrm>
            <a:off x="228600" y="533520"/>
            <a:ext cx="3657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гра Баскетбо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24000" y="981000"/>
            <a:ext cx="50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 баскетбол играют две (2) команды, в каждой из которых по пять (5) игроков. Цель каждой команды - забросить мяч в корзину соперника и помешать другой команде овладеть мячом, и забросить его в корз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2 Корзина: своя/сопер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орзина, которую команда атакует, является корзиной соперника, а корзина, которую та же команда защищает, называется собственной корзиной коман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3 Перемещение мяч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Мяч можно передавать, бросать, отбивать, катить или вести в любом направлении при условии соблюдения положений соответствующих статей, изложенных Прави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4 Победитель 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бедителем игры становится команда, которая по окончании игрового времени четвертого периода или, если необходимо, дополнительного(-ых) периода(-ов) набрала большее количество оч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BasketballPlayers"/>
          <p:cNvPicPr/>
          <p:nvPr/>
        </p:nvPicPr>
        <p:blipFill>
          <a:blip r:embed="rId1"/>
          <a:stretch/>
        </p:blipFill>
        <p:spPr>
          <a:xfrm>
            <a:off x="0" y="0"/>
            <a:ext cx="2843280" cy="20541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лощадк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 размеры л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вая площадка должна представлять собой плоскую прямоугольную твердую поверхность без каких-либо препятствий Для главных официальных соревнований ФИБА, а также для строящихся новых игровых площадок размеры, измеренные от внутреннего края ограничительных линий, должны быть 28 метров в длину и 15 метров шир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0205526878"/>
          <p:cNvPicPr/>
          <p:nvPr/>
        </p:nvPicPr>
        <p:blipFill>
          <a:blip r:embed="rId2"/>
          <a:stretch/>
        </p:blipFill>
        <p:spPr>
          <a:xfrm>
            <a:off x="4211640" y="4076640"/>
            <a:ext cx="4762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Basketball_game"/>
          <p:cNvPicPr/>
          <p:nvPr/>
        </p:nvPicPr>
        <p:blipFill>
          <a:blip r:embed="rId1"/>
          <a:stretch/>
        </p:blipFill>
        <p:spPr>
          <a:xfrm>
            <a:off x="5457960" y="1197000"/>
            <a:ext cx="3686040" cy="5041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468360" y="112536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ение мяча в баскетболе - прием дающий возможность игроку двигаться с мячом по площадке с большим диапазоном скоростей и в любом направ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0906466f282e2133b0c2df79ddee39d3"/>
          <p:cNvPicPr/>
          <p:nvPr/>
        </p:nvPicPr>
        <p:blipFill>
          <a:blip r:embed="rId2"/>
          <a:stretch/>
        </p:blipFill>
        <p:spPr>
          <a:xfrm>
            <a:off x="0" y="2637000"/>
            <a:ext cx="54356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1:29:03Z</dcterms:created>
  <dc:creator>Admin</dc:creator>
  <dc:description/>
  <dc:language>en-US</dc:language>
  <cp:lastModifiedBy>Ученик</cp:lastModifiedBy>
  <dcterms:modified xsi:type="dcterms:W3CDTF">2012-10-24T07:08:57Z</dcterms:modified>
  <cp:revision>11</cp:revision>
  <dc:subject/>
  <dc:title>Слайд 1</dc:title>
</cp:coreProperties>
</file>