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1.wmf" ContentType="image/x-wmf"/>
  <Override PartName="/ppt/media/image19.png" ContentType="image/png"/>
  <Override PartName="/ppt/media/image1.png" ContentType="image/png"/>
  <Override PartName="/ppt/media/image3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54F9BD-6A4C-400E-A63D-A3588610A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BE5E0A-DAAA-42C2-B68E-5C55C109133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DF6E21-3341-4DAD-A97A-BEB44C1AA2A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04F764-CDA2-4CBD-9DA6-5225A8C4A22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314F33-473D-4A65-AD5D-1D7B110D9E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B95C18-C7EF-44BA-87A1-CFAA4DC8394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B04D-A2CE-48F1-97DC-C2A9D21D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0796-0615-4619-BAE4-DC82D4F5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EDC-1594-4913-96E7-E6496626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F586-85E7-4042-BC9E-AE16783E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5CE6-53DD-4036-8780-350483AB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D23E-4077-4E67-917E-74130017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F2C1-930E-41B6-ACBB-973EC999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5368-49CE-407C-BD60-34175D31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3BBD-9126-46F1-91BD-4E619498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040" cy="82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BE23-0377-4141-B705-B99A30C9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E1CD-EC5C-49FB-BEE8-8614837A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57F1-9CDF-431C-B1F0-BF3DDCA1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010B-07C1-4160-B9A5-9E718D01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A525-3CEA-4ED5-8C08-DD5A0043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FDCE-7BA2-4109-BDB7-B5C83A0A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9D0E-508A-495B-AD73-B0151DF4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4C65-804A-402D-A553-46BCFD37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A41F9-C358-44A2-A60F-A396008A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A1E83-A6D1-4696-B6E9-42190DE0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6F54A-DB0E-4D25-96CA-1AA2E9E2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3913A-AE86-4346-BF48-7EAE7465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5DCA2-D73C-4CD0-8932-061CA16E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3DF9-ACF5-4421-9570-42441B65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040" cy="82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04968-F5F8-4A49-BF94-2A52C441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4AA49-121E-409A-8B8E-CBC12941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0DE07-DE03-4223-972A-C2C6D9D1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69483-6B99-4383-9EC0-DB738DAA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C2432-D37A-4608-BC31-EE3FAD77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5C9C1-F9D9-402E-8544-8FF4D414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36B2B-02A7-4E39-B4E9-7F434947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73037-F0F9-4B1C-966C-07FFC571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B6C41-1029-4A4E-B344-14E25C34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20C65-3C19-45F4-965D-D647E5BD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BC4-ADD6-4530-8203-B75CE910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D68A9-6F35-4033-98A3-4456F4D2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D258D-83A7-4E8A-950A-8BF24EF4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040" cy="82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B4534-1B12-48E4-9368-191F6330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CF0FE-F88E-4EED-916D-E4AA30A8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9C6FF-2404-4DC4-959F-3E36298D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159ED-820A-45C5-9497-408ED6CC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C7C91-8C80-40D4-A8B8-E54DCFAF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2EF5A-482C-4D20-A8F9-57717D1E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38889-6BDC-40C9-ABDF-62F45FBE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9BAD-E3BC-4326-B3BB-8E1B7DD7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040" cy="82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040" cy="82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5BD-69DC-4079-A6D6-6D3F8D2E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318-4D7E-4F1B-8AD6-B3E15015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6168-C2EC-4F60-9CE3-4DC256A2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AFBB-0616-49E9-B76A-2870035B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Rounded Rectangle 15"/>
          <p:cNvSpPr/>
          <p:nvPr/>
        </p:nvSpPr>
        <p:spPr>
          <a:xfrm>
            <a:off x="228600" y="228600"/>
            <a:ext cx="8695440" cy="603468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1680" y="5353920"/>
            <a:ext cx="8723160" cy="1331280"/>
            <a:chOff x="211680" y="5353920"/>
            <a:chExt cx="8723160" cy="1331280"/>
          </a:xfrm>
        </p:grpSpPr>
        <p:sp>
          <p:nvSpPr>
            <p:cNvPr id="9" name="Freeform 14"/>
            <p:cNvSpPr/>
            <p:nvPr/>
          </p:nvSpPr>
          <p:spPr>
            <a:xfrm>
              <a:off x="6054840" y="549936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22240" y="537084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32120" y="538308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16360" y="536976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3" name="Freeform 10"/>
            <p:cNvSpPr/>
            <p:nvPr/>
          </p:nvSpPr>
          <p:spPr>
            <a:xfrm>
              <a:off x="211680" y="535392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4445F38-9883-4D53-A53B-BB545CBB892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F62A2A6-8291-4B75-8EFE-43C6D06EA22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105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7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09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8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9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0F9D7A8-E34D-4F3E-B4F5-0361A8ED024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52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153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6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57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8" name="Rounded Rectangle 13"/>
          <p:cNvSpPr/>
          <p:nvPr/>
        </p:nvSpPr>
        <p:spPr>
          <a:xfrm>
            <a:off x="228600" y="228600"/>
            <a:ext cx="8695440" cy="473616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159" name="Freeform 14"/>
          <p:cNvSpPr/>
          <p:nvPr/>
        </p:nvSpPr>
        <p:spPr>
          <a:xfrm>
            <a:off x="6047280" y="4203720"/>
            <a:ext cx="2876040" cy="713520"/>
          </a:xfrm>
          <a:custGeom>
            <a:avLst/>
            <a:gdLst>
              <a:gd name="textAreaLeft" fmla="*/ 0 w 2876040"/>
              <a:gd name="textAreaRight" fmla="*/ 2876400 w 2876040"/>
              <a:gd name="textAreaTop" fmla="*/ 0 h 713520"/>
              <a:gd name="textAreaBottom" fmla="*/ 713880 h 71352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chemeClr val="bg2">
              <a:alpha val="29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0" name="Freeform 18"/>
          <p:cNvSpPr/>
          <p:nvPr/>
        </p:nvSpPr>
        <p:spPr>
          <a:xfrm>
            <a:off x="2619360" y="4075200"/>
            <a:ext cx="5544000" cy="849600"/>
          </a:xfrm>
          <a:custGeom>
            <a:avLst/>
            <a:gdLst>
              <a:gd name="textAreaLeft" fmla="*/ 0 w 5544000"/>
              <a:gd name="textAreaRight" fmla="*/ 5544360 w 5544000"/>
              <a:gd name="textAreaTop" fmla="*/ 0 h 849600"/>
              <a:gd name="textAreaBottom" fmla="*/ 849960 h 84960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chemeClr val="bg2"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1" name="Freeform 22"/>
          <p:cNvSpPr/>
          <p:nvPr/>
        </p:nvSpPr>
        <p:spPr>
          <a:xfrm>
            <a:off x="2828880" y="4087440"/>
            <a:ext cx="5467680" cy="774000"/>
          </a:xfrm>
          <a:custGeom>
            <a:avLst/>
            <a:gdLst>
              <a:gd name="textAreaLeft" fmla="*/ 0 w 5467680"/>
              <a:gd name="textAreaRight" fmla="*/ 5468040 w 5467680"/>
              <a:gd name="textAreaTop" fmla="*/ 0 h 774000"/>
              <a:gd name="textAreaBottom" fmla="*/ 774360 h 77400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12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2" name="Freeform 26"/>
          <p:cNvSpPr/>
          <p:nvPr/>
        </p:nvSpPr>
        <p:spPr>
          <a:xfrm>
            <a:off x="5609520" y="4074120"/>
            <a:ext cx="3307680" cy="651240"/>
          </a:xfrm>
          <a:custGeom>
            <a:avLst/>
            <a:gdLst>
              <a:gd name="textAreaLeft" fmla="*/ 0 w 3307680"/>
              <a:gd name="textAreaRight" fmla="*/ 3308040 w 3307680"/>
              <a:gd name="textAreaTop" fmla="*/ 0 h 651240"/>
              <a:gd name="textAreaBottom" fmla="*/ 651600 h 65124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12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 useBgFill="1">
        <p:nvSpPr>
          <p:cNvPr id="163" name="Freeform 10"/>
          <p:cNvSpPr/>
          <p:nvPr/>
        </p:nvSpPr>
        <p:spPr>
          <a:xfrm>
            <a:off x="211680" y="4058640"/>
            <a:ext cx="8723160" cy="1329480"/>
          </a:xfrm>
          <a:custGeom>
            <a:avLst/>
            <a:gdLst>
              <a:gd name="textAreaLeft" fmla="*/ 0 w 8723160"/>
              <a:gd name="textAreaRight" fmla="*/ 8723520 w 8723160"/>
              <a:gd name="textAreaTop" fmla="*/ 0 h 1329480"/>
              <a:gd name="textAreaBottom" fmla="*/ 1329840 h 132948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90120" y="246348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367280" y="1437480"/>
            <a:ext cx="641736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Образец текста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80FB29E-A5BF-453C-8E4E-1389D000E69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20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0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0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0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21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pic>
        <p:nvPicPr>
          <p:cNvPr id="212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428560" cy="1736280"/>
          </a:xfrm>
          <a:prstGeom prst="rect">
            <a:avLst/>
          </a:prstGeom>
          <a:ln w="9525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0" y="5072040"/>
            <a:ext cx="48574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ffff"/>
                </a:solidFill>
                <a:latin typeface="Segoe Script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2286000" y="857160"/>
            <a:ext cx="4857480" cy="4114440"/>
          </a:xfrm>
          <a:prstGeom prst="rect">
            <a:avLst/>
          </a:prstGeom>
          <a:solidFill>
            <a:schemeClr val="lt1"/>
          </a:solidFill>
          <a:ln w="15840">
            <a:solidFill>
              <a:srgbClr val="305d95"/>
            </a:solidFill>
            <a:round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Вставка рисунка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C:\Documents and Settings\User\Рабочий стол\картинки\foto121.jpg"/>
          <p:cNvPicPr/>
          <p:nvPr/>
        </p:nvPicPr>
        <p:blipFill>
          <a:blip r:embed="rId1"/>
          <a:stretch/>
        </p:blipFill>
        <p:spPr>
          <a:xfrm>
            <a:off x="1571760" y="142920"/>
            <a:ext cx="5714640" cy="1914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0040" y="1357200"/>
            <a:ext cx="7772040" cy="228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Дети и родители на школьном старте </a:t>
            </a:r>
            <a:endParaRPr b="0" lang="ru-RU" sz="5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699640" y="3861000"/>
            <a:ext cx="5914800" cy="27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ndara"/>
              </a:rPr>
              <a:t>Родительское собрание – для родителей будущих первоклас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Comic Sans MS"/>
              </a:rPr>
              <a:t>Педагог-психолог МБОУ ВСОШ №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Comic Sans MS"/>
              </a:rPr>
              <a:t>Байрамова Ольга Леонидов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251640" y="3645000"/>
            <a:ext cx="2592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99640" y="332640"/>
            <a:ext cx="7056360" cy="1511640"/>
          </a:xfrm>
          <a:prstGeom prst="rect">
            <a:avLst/>
          </a:prstGeom>
          <a:solidFill>
            <a:schemeClr val="accent4"/>
          </a:solidFill>
          <a:ln w="15840">
            <a:solidFill>
              <a:srgbClr val="566c14"/>
            </a:solidFill>
            <a:round/>
          </a:ln>
        </p:spPr>
        <p:txBody>
          <a:bodyPr anchor="b">
            <a:normAutofit fontScale="12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2800" spc="-1" strike="noStrike">
                <a:solidFill>
                  <a:srgbClr val="ffffff"/>
                </a:solidFill>
                <a:latin typeface="Candara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andara"/>
              </a:rPr>
              <a:t>Мотивационная готовность</a:t>
            </a:r>
            <a:r>
              <a:rPr b="0" lang="ru-RU" sz="28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подразумевает наличие у ребенка желания принять новую социальную роль —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роль школьника.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 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755640" y="2061000"/>
            <a:ext cx="7416360" cy="4536000"/>
          </a:xfrm>
          <a:prstGeom prst="rect">
            <a:avLst/>
          </a:prstGeom>
          <a:solidFill>
            <a:schemeClr val="accent5"/>
          </a:solidFill>
          <a:ln w="25560">
            <a:solidFill>
              <a:srgbClr val="ffffff"/>
            </a:solidFill>
            <a:round/>
          </a:ln>
        </p:spPr>
        <p:txBody>
          <a:bodyPr anchor="t">
            <a:normAutofit fontScale="46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ru-RU" sz="2900" spc="-1" strike="noStrike">
                <a:solidFill>
                  <a:srgbClr val="0070c0"/>
                </a:solidFill>
                <a:latin typeface="Candara"/>
              </a:rPr>
              <a:t>С</a:t>
            </a: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ru-RU" sz="2900" spc="-1" strike="noStrike">
                <a:solidFill>
                  <a:srgbClr val="0070c0"/>
                </a:solidFill>
                <a:latin typeface="Candara"/>
              </a:rPr>
              <a:t>этой целью родителям необходимо объяснить своему ребенку, </a:t>
            </a:r>
            <a:r>
              <a:rPr b="1" lang="ru-RU" sz="2900" spc="-1" strike="noStrike" u="sng">
                <a:solidFill>
                  <a:srgbClr val="7030a0"/>
                </a:solidFill>
                <a:uFillTx/>
                <a:latin typeface="Candara"/>
              </a:rPr>
              <a:t>что дети ходят учиться для получения знаний, которые необходимы каждому человеку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ru-RU" sz="2900" spc="-1" strike="noStrike">
                <a:solidFill>
                  <a:srgbClr val="0070c0"/>
                </a:solidFill>
                <a:latin typeface="Candara"/>
              </a:rPr>
              <a:t>Следует давать ребенку только позитивную информацию о школе. Помните, что ваши оценки с легкостью заимствуются детьми. </a:t>
            </a:r>
            <a:r>
              <a:rPr b="1" lang="ru-RU" sz="2900" spc="-1" strike="noStrike" u="sng">
                <a:solidFill>
                  <a:srgbClr val="7030a0"/>
                </a:solidFill>
                <a:uFillTx/>
                <a:latin typeface="Candara"/>
              </a:rPr>
              <a:t>Ребенок должен видеть, что родители спокойно и уверенно смотрят на его предстоящее поступление в школу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900" spc="-1" strike="noStrike" u="sng">
                <a:solidFill>
                  <a:srgbClr val="7030a0"/>
                </a:solidFill>
                <a:uFillTx/>
                <a:latin typeface="Candara"/>
              </a:rPr>
              <a:t>Причиной нежелания идти в школу может быть и то, что ребенок “не наигрался”.</a:t>
            </a:r>
            <a:r>
              <a:rPr b="0" lang="ru-RU" sz="2900" spc="-1" strike="noStrike">
                <a:solidFill>
                  <a:srgbClr val="0070c0"/>
                </a:solidFill>
                <a:latin typeface="Candara"/>
              </a:rPr>
              <a:t> Но в возрасте 6–7 лет психическое развитие очень пластично, и дети, которые “не наигрались”, придя в класс, скоро начинают испытывать удовольствие от процесса учебы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ru-RU" sz="2900" spc="-1" strike="noStrike">
                <a:solidFill>
                  <a:srgbClr val="0070c0"/>
                </a:solidFill>
                <a:latin typeface="Candara"/>
              </a:rPr>
              <a:t>Вам не обязательно до начала учебного года формировать любовь к школе, поскольку невозможно полюбить то, с чем еще не сталкивался. Достаточно дать понять ребенку, </a:t>
            </a:r>
            <a:r>
              <a:rPr b="1" lang="ru-RU" sz="2900" spc="-1" strike="noStrike">
                <a:solidFill>
                  <a:srgbClr val="7030a0"/>
                </a:solidFill>
                <a:latin typeface="Candara"/>
              </a:rPr>
              <a:t>что </a:t>
            </a:r>
            <a:r>
              <a:rPr b="1" lang="ru-RU" sz="2900" spc="-1" strike="noStrike" u="sng">
                <a:solidFill>
                  <a:srgbClr val="7030a0"/>
                </a:solidFill>
                <a:uFillTx/>
                <a:latin typeface="Candara"/>
              </a:rPr>
              <a:t>учеба — это обязанность каждого человека и от того, насколько он будет успешен в учении, зависит отношение к нему многих из окружающих ребенка людей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ru-RU" sz="2900" spc="-1" strike="noStrike">
                <a:solidFill>
                  <a:srgbClr val="0070c0"/>
                </a:solidFill>
                <a:latin typeface="Candar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7772040" cy="3888000"/>
          </a:xfrm>
          <a:prstGeom prst="rect">
            <a:avLst/>
          </a:prstGeom>
          <a:solidFill>
            <a:schemeClr val="accent5"/>
          </a:solidFill>
          <a:ln w="25560">
            <a:solidFill>
              <a:srgbClr val="ffffff"/>
            </a:solidFill>
            <a:round/>
          </a:ln>
        </p:spPr>
        <p:txBody>
          <a:bodyPr anchor="b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r>
              <a:rPr b="1" i="1" lang="ru-RU" sz="2700" spc="-1" strike="noStrike">
                <a:solidFill>
                  <a:srgbClr val="002060"/>
                </a:solidFill>
                <a:latin typeface="Candara"/>
              </a:rPr>
              <a:t>ВОЛЕВАЯ ГОТОВНОСТЬ - </a:t>
            </a: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предполагает наличие у ребенка: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* способностей ставить перед собой цель,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* принять решение о начале деятельности,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* наметить план действий,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* выполнить его, проявив определенные усилия,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* оценить результат своей деятельности,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* а также умения длительно выполнять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не очень привлекательную работу.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    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31640" y="4509000"/>
            <a:ext cx="6616440" cy="2088000"/>
          </a:xfrm>
          <a:prstGeom prst="rect">
            <a:avLst/>
          </a:prstGeom>
          <a:solidFill>
            <a:schemeClr val="accent4"/>
          </a:solidFill>
          <a:ln w="25560">
            <a:solidFill>
              <a:srgbClr val="ffffff"/>
            </a:solidFill>
            <a:round/>
          </a:ln>
        </p:spPr>
        <p:txBody>
          <a:bodyPr anchor="t">
            <a:normAutofit fontScale="85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Развитию волевой готовности к школе способствуют изобразительная деятельность и конструирование, поскольку они побуждают длительное время сосредоточиваться на постройке или рисовании.</a:t>
            </a: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Рисунок 14" descr="MCj04357430000[1]"/>
          <p:cNvPicPr/>
          <p:nvPr/>
        </p:nvPicPr>
        <p:blipFill>
          <a:blip r:embed="rId1"/>
          <a:stretch/>
        </p:blipFill>
        <p:spPr>
          <a:xfrm>
            <a:off x="7452360" y="1989000"/>
            <a:ext cx="169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284000" y="2724840"/>
            <a:ext cx="4356000" cy="3777480"/>
          </a:xfrm>
          <a:prstGeom prst="rect">
            <a:avLst/>
          </a:prstGeom>
          <a:gradFill rotWithShape="0">
            <a:gsLst>
              <a:gs pos="0">
                <a:srgbClr val="abbfea"/>
              </a:gs>
              <a:gs pos="100000">
                <a:srgbClr val="5484d0"/>
              </a:gs>
            </a:gsLst>
            <a:lin ang="5400000"/>
          </a:gradFill>
          <a:ln w="9360">
            <a:solidFill>
              <a:srgbClr val="4584d3"/>
            </a:solidFill>
            <a:round/>
          </a:ln>
        </p:spPr>
        <p:txBody>
          <a:bodyPr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Она предполагает способность включиться в детское сообщество, действовать совместно с другими ребятами, в случае необходимости уступать или отстаивать свою правоту, подчиняться или руководить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2010240"/>
          </a:xfrm>
          <a:prstGeom prst="rect">
            <a:avLst/>
          </a:prstGeom>
          <a:solidFill>
            <a:schemeClr val="accent5"/>
          </a:solidFill>
          <a:ln w="15840">
            <a:solidFill>
              <a:srgbClr val="7f6421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Коммуникативная готовность</a:t>
            </a:r>
            <a:br>
              <a:rPr sz="2400"/>
            </a:br>
            <a:r>
              <a:rPr b="1" i="1" lang="ru-RU" sz="2400" spc="-1" strike="noStrike">
                <a:solidFill>
                  <a:schemeClr val="lt1"/>
                </a:solidFill>
                <a:latin typeface="Candara"/>
              </a:rPr>
              <a:t> </a:t>
            </a: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проявляется в умении ребенка подчинять свое поведение законам детских групп и нормам поведения, установленным в классе. 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90" name="Рисунок 4" descr=""/>
          <p:cNvPicPr/>
          <p:nvPr/>
        </p:nvPicPr>
        <p:blipFill>
          <a:blip r:embed="rId1"/>
          <a:stretch/>
        </p:blipFill>
        <p:spPr>
          <a:xfrm>
            <a:off x="179640" y="2405160"/>
            <a:ext cx="38160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1640" y="404640"/>
            <a:ext cx="6192360" cy="1439640"/>
          </a:xfrm>
          <a:prstGeom prst="rect">
            <a:avLst/>
          </a:prstGeom>
          <a:solidFill>
            <a:schemeClr val="accent5"/>
          </a:solidFill>
          <a:ln w="25560">
            <a:solidFill>
              <a:srgbClr val="ffffff"/>
            </a:solidFill>
            <a:round/>
          </a:ln>
        </p:spPr>
        <p:txBody>
          <a:bodyPr anchor="b">
            <a:normAutofit fontScale="10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ndara"/>
              </a:rPr>
              <a:t>«Портрет» первоклассника, неготового к школе:</a:t>
            </a:r>
            <a:r>
              <a:rPr b="0" lang="ru-RU" sz="3600" spc="-1" strike="noStrike">
                <a:solidFill>
                  <a:srgbClr val="ff0000"/>
                </a:solidFill>
                <a:latin typeface="Candara"/>
              </a:rPr>
              <a:t> 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971640" y="2061000"/>
            <a:ext cx="6800400" cy="4464000"/>
          </a:xfrm>
          <a:prstGeom prst="rect">
            <a:avLst/>
          </a:prstGeom>
          <a:solidFill>
            <a:schemeClr val="accent4"/>
          </a:solidFill>
          <a:ln w="25560">
            <a:solidFill>
              <a:srgbClr val="ffffff"/>
            </a:solidFill>
            <a:round/>
          </a:ln>
        </p:spPr>
        <p:txBody>
          <a:bodyPr anchor="t">
            <a:normAutofit fontScale="70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ndara"/>
              </a:rPr>
              <a:t>*  чрезмерная игрив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ndara"/>
              </a:rPr>
              <a:t>*  недостаточная самостоятель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ndara"/>
              </a:rPr>
              <a:t>* импульсивность, бесконтрольность поведения, гиперактив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ndara"/>
              </a:rPr>
              <a:t>*  неумение общаться со сверстник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*  трудность контактов с незнакомыми взрослыми (стойкое нежелание контактировать) или, наоборот, непонимание своего статус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*  неумение сосредоточиться на задании, трудность восприятия словесной или иной инструк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*  низкий уровень знаний об окружающем мире, неумение сделать обобщение, классифицировать, выделить сходство, различ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ndara"/>
              </a:rPr>
              <a:t>*  плохое развитие тонко координированных движений руки, зрительно-моторных координации (неумение выполнять различные графические задания, манипулировать мелкими предметами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ndara"/>
              </a:rPr>
              <a:t>*  недостаточное развитие произвольной памя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ndara"/>
              </a:rPr>
              <a:t>*  задержка речевого развития (это может быть и неправильное произношение, и бедный словарный запас, и неумение выразить свои мысли и т. п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16" descr="MCj04357450000[1]"/>
          <p:cNvPicPr/>
          <p:nvPr/>
        </p:nvPicPr>
        <p:blipFill>
          <a:blip r:embed="rId1"/>
          <a:stretch/>
        </p:blipFill>
        <p:spPr>
          <a:xfrm>
            <a:off x="6300360" y="188640"/>
            <a:ext cx="2025360" cy="22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695720" cy="49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Адрес, название города, страны, столицы, имена и отчества родителей, где работают и чем   занимаются на работе, кто такие дедушка и бабушка; 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7432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месяцы, дни недели, времена года и их особенности; виды деревьев, цветов, домашних и диких животных, птиц; виды транспорта, названия групп предметов (овощи, мебель, одежда, бытовая техника и т.д.)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1571760" y="428760"/>
            <a:ext cx="650052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66"/>
                </a:solidFill>
                <a:latin typeface="Candara"/>
              </a:rPr>
              <a:t>Что должен знать ребёнок…</a:t>
            </a: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3640" y="692640"/>
            <a:ext cx="7772040" cy="1779840"/>
          </a:xfrm>
          <a:prstGeom prst="rect">
            <a:avLst/>
          </a:prstGeom>
          <a:solidFill>
            <a:schemeClr val="accent5"/>
          </a:solidFill>
          <a:ln w="25560">
            <a:solidFill>
              <a:srgbClr val="ffffff"/>
            </a:solidFill>
            <a:round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Candara"/>
              </a:rPr>
              <a:t>Как организовать занятия с ребёнком в домашних условиях и какова их продолжительность?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716000" y="2853000"/>
            <a:ext cx="3160080" cy="3096000"/>
          </a:xfrm>
          <a:prstGeom prst="rect">
            <a:avLst/>
          </a:prstGeom>
          <a:solidFill>
            <a:schemeClr val="accent4"/>
          </a:solidFill>
          <a:ln w="255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Чтобы ответить на этот вопрос, давайте рассмотрим как человек усваивает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Рисунок 3" descr=""/>
          <p:cNvPicPr/>
          <p:nvPr/>
        </p:nvPicPr>
        <p:blipFill>
          <a:blip r:embed="rId1"/>
          <a:stretch/>
        </p:blipFill>
        <p:spPr>
          <a:xfrm>
            <a:off x="1043640" y="2637000"/>
            <a:ext cx="3331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040" cy="2139840"/>
          </a:xfrm>
          <a:prstGeom prst="rect">
            <a:avLst/>
          </a:prstGeom>
          <a:solidFill>
            <a:schemeClr val="accent4"/>
          </a:solidFill>
          <a:ln w="25560">
            <a:solidFill>
              <a:srgbClr val="ffffff"/>
            </a:solidFill>
            <a:round/>
          </a:ln>
        </p:spPr>
        <p:txBody>
          <a:bodyPr anchor="b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В любой деятельности участвуют различные органы чувств: слух, зрение, осязание, иногда даже обоняние и вкус. Поэтому, чем больше Вы будете их все задействовать, тем лучше и быстрее (да и веселее) будет происходить процесс запоминания.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57160" y="3000240"/>
            <a:ext cx="7104600" cy="3024000"/>
          </a:xfrm>
          <a:prstGeom prst="rect">
            <a:avLst/>
          </a:prstGeom>
          <a:solidFill>
            <a:schemeClr val="accent5"/>
          </a:solidFill>
          <a:ln w="25560">
            <a:solidFill>
              <a:srgbClr val="ffffff"/>
            </a:solidFill>
            <a:round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andara"/>
              </a:rPr>
              <a:t>То, что ребенок сам выполняет руками, он усваивает на 90%!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Поэтому старайтесь, чтобы ребенок не только слушал, но и пытался самостоятельно написать пример, приклеить кружочки и т.д. даже если ему кажется что ничего непоня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2640"/>
            <a:ext cx="7772040" cy="2667240"/>
          </a:xfrm>
          <a:prstGeom prst="rect">
            <a:avLst/>
          </a:prstGeom>
          <a:solidFill>
            <a:schemeClr val="accent5"/>
          </a:solidFill>
          <a:ln w="25560">
            <a:solidFill>
              <a:srgbClr val="ffffff"/>
            </a:solidFill>
            <a:round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70% от того, о чем мы говорим — откладывается в памяти.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Ребенку необходимо проговаривать за Вами информацию, а не молча слушать ее. Обсуждайте вместе все проделываемые действия. Наводящими вопросами подводите ребенка к правильной мысли, но постарайтесь, чтобы окончательный правильный ответ он произносил сам.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428840" y="4929120"/>
            <a:ext cx="6400440" cy="1688760"/>
          </a:xfrm>
          <a:prstGeom prst="rect">
            <a:avLst/>
          </a:prstGeom>
          <a:solidFill>
            <a:schemeClr val="accent6"/>
          </a:solidFill>
          <a:ln w="25560">
            <a:solidFill>
              <a:srgbClr val="ffffff"/>
            </a:solidFill>
            <a:round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30% того, что ребенок видит — он усваивает</a:t>
            </a: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1" lang="ru-RU" sz="2000" spc="-1" strike="noStrike">
                <a:solidFill>
                  <a:srgbClr val="c00000"/>
                </a:solidFill>
                <a:latin typeface="Candara"/>
              </a:rPr>
              <a:t>Поэтому проявите свою фантазию и творчество: лепите из пластилина, наклеивайте, рисуйте картинки, объясняющие изучаемы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Заголовок 1"/>
          <p:cNvSpPr/>
          <p:nvPr/>
        </p:nvSpPr>
        <p:spPr>
          <a:xfrm>
            <a:off x="571320" y="3000240"/>
            <a:ext cx="7772040" cy="1654560"/>
          </a:xfrm>
          <a:prstGeom prst="rect">
            <a:avLst/>
          </a:prstGeom>
          <a:solidFill>
            <a:srgbClr val="a5d028"/>
          </a:solidFill>
          <a:ln>
            <a:solidFill>
              <a:srgbClr val="ffffff"/>
            </a:solidFill>
            <a:round/>
          </a:ln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ndara"/>
              </a:rPr>
              <a:t>Лишь 20% того, что ребенок слышит — он запоминает. </a:t>
            </a:r>
            <a:br>
              <a:rPr sz="2500"/>
            </a:br>
            <a:r>
              <a:rPr b="0" lang="ru-RU" sz="2500" spc="-1" strike="noStrike">
                <a:solidFill>
                  <a:srgbClr val="002060"/>
                </a:solidFill>
                <a:latin typeface="Candara"/>
              </a:rPr>
              <a:t>Поэтому одних Ваших объяснений будет недостаточно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90120" y="980640"/>
            <a:ext cx="77720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-все время поддерживать ребенка;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  - научиться сопереживать с ребёнком тяжёлые моменты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- удержаться   от замечаний и претензий;</a:t>
            </a:r>
            <a:br>
              <a:rPr sz="2400"/>
            </a:b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    -относится  к ребёнку крайне деликатно;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Century Schoolbook"/>
              </a:rPr>
              <a:t> -много разговаривать, искренне интересоваться  мыслями маленького школьника, его чувствами, а не только тем,сделал ли он уроки и что ел на обед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- относится с уважением к педагог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все сложности ребенок сможет преодолеть   достаточно быстро и легко</a:t>
            </a:r>
            <a:endParaRPr b="0" lang="ru-RU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367280" y="260640"/>
            <a:ext cx="6588720" cy="7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ndara"/>
              </a:rPr>
              <a:t>СОВЕТЫ РОДИТЕЛЯМ:</a:t>
            </a:r>
            <a:endParaRPr b="0" lang="ru-RU" sz="3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2850840" y="4581000"/>
            <a:ext cx="3766680" cy="1223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"/>
          <p:cNvPicPr/>
          <p:nvPr/>
        </p:nvPicPr>
        <p:blipFill>
          <a:blip r:embed="rId2"/>
          <a:stretch/>
        </p:blipFill>
        <p:spPr>
          <a:xfrm>
            <a:off x="7236360" y="4244400"/>
            <a:ext cx="1713600" cy="15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5840" y="-285840"/>
            <a:ext cx="8572320" cy="59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br>
              <a:rPr sz="2800"/>
            </a:b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АПОМНИТ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ы должны оставаться для вашего ребёнка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любящим и понимающим родителем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не брать на себя роль учителя!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Ребёнок охотно делает только то, что у него получается, поэтому он не может быть ленивым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старайтесь достижения ребёнка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не сравнивать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и со своими, ни с достижениями старшего брата (сестры), ни одноклассников (не озвучивайте это при ребёнке, даже если они в его пользу!)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аша любовь и терпение будут служить гарантом уверенного продвижения в учёбе для вашего малыша.</a:t>
            </a:r>
            <a:br>
              <a:rPr sz="2000"/>
            </a:br>
            <a:br>
              <a:rPr sz="2800"/>
            </a:br>
            <a:endParaRPr b="0" lang="ru-RU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4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100" spc="-1" strike="noStrike">
                <a:solidFill>
                  <a:srgbClr val="c00000"/>
                </a:solidFill>
                <a:latin typeface="Candara"/>
              </a:rPr>
              <a:t>Занесите свои ответы в табличку: </a:t>
            </a:r>
            <a:br>
              <a:rPr sz="2100"/>
            </a:br>
            <a:r>
              <a:rPr b="1" lang="ru-RU" sz="2100" spc="-1" strike="noStrike">
                <a:solidFill>
                  <a:srgbClr val="c00000"/>
                </a:solidFill>
                <a:latin typeface="Candara"/>
              </a:rPr>
              <a:t>если Вы согласны с утверждением, поставьте крестик после косой черты, если не согласны, оставьте клетку пустой. </a:t>
            </a:r>
            <a:endParaRPr b="0" lang="ru-RU" sz="21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262" name="Group 50"/>
          <p:cNvGraphicFramePr/>
          <p:nvPr/>
        </p:nvGraphicFramePr>
        <p:xfrm>
          <a:off x="1403280" y="2060640"/>
          <a:ext cx="6346440" cy="4525560"/>
        </p:xfrm>
        <a:graphic>
          <a:graphicData uri="http://schemas.openxmlformats.org/drawingml/2006/table">
            <a:tbl>
              <a:tblPr/>
              <a:tblGrid>
                <a:gridCol w="1269720"/>
                <a:gridCol w="1268280"/>
                <a:gridCol w="1269720"/>
                <a:gridCol w="1268280"/>
                <a:gridCol w="1269720"/>
              </a:tblGrid>
              <a:tr h="90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endParaRPr b="0" lang="ru-RU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002060"/>
                </a:solidFill>
                <a:latin typeface="Candara"/>
              </a:rPr>
              <a:t>ЖЕЛАЮ ВАМ И ВАШИМ ДЕТЯМ ДОБРОГО ПУТИ ПО СТРАНЕ ЗНАНИЙ! </a:t>
            </a:r>
            <a:endParaRPr b="0" lang="ru-RU" sz="4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368400" cy="159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ndara"/>
              </a:rPr>
              <a:t>УСПЕХОВ ВАМ И  ДЕТЯМ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79640" y="4149000"/>
            <a:ext cx="2592000" cy="264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040" cy="136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9600"/>
            </a:br>
            <a:r>
              <a:rPr b="1" i="1" lang="ru-RU" sz="8800" spc="-1" strike="noStrike">
                <a:solidFill>
                  <a:srgbClr val="ffffff"/>
                </a:solidFill>
                <a:latin typeface="Candara"/>
              </a:rPr>
              <a:t>СПАСИБО</a:t>
            </a:r>
            <a:endParaRPr b="0" lang="ru-RU" sz="8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827640" y="1772640"/>
            <a:ext cx="7920360" cy="31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41"/>
              </a:spcBef>
              <a:buNone/>
              <a:tabLst>
                <a:tab algn="l" pos="0"/>
              </a:tabLst>
            </a:pPr>
            <a:r>
              <a:rPr b="1" i="1" lang="ru-RU" sz="35200" spc="-1" strike="noStrike">
                <a:solidFill>
                  <a:srgbClr val="ffffff"/>
                </a:solidFill>
                <a:latin typeface="Candara"/>
              </a:rPr>
              <a:t>ЗА </a:t>
            </a:r>
            <a:endParaRPr b="0" lang="en-US" sz="35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41"/>
              </a:spcBef>
              <a:buNone/>
              <a:tabLst>
                <a:tab algn="l" pos="0"/>
              </a:tabLst>
            </a:pPr>
            <a:r>
              <a:rPr b="1" i="1" lang="ru-RU" sz="35200" spc="-1" strike="noStrike">
                <a:solidFill>
                  <a:srgbClr val="ffffff"/>
                </a:solidFill>
                <a:latin typeface="Candara"/>
              </a:rPr>
              <a:t>ВНИМАНИЕ!!!</a:t>
            </a:r>
            <a:endParaRPr b="0" lang="en-US" sz="35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24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73e87"/>
                </a:solidFill>
                <a:latin typeface="Candara"/>
              </a:rPr>
              <a:t>1</a:t>
            </a:r>
            <a:r>
              <a:rPr b="1" lang="ru-RU" sz="1400" spc="-1" strike="noStrike">
                <a:solidFill>
                  <a:srgbClr val="073e87"/>
                </a:solidFill>
                <a:latin typeface="Candara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Мне кажется, что мой ребенок будет учиться хуже других детей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2. Я опасаюсь, что мой ребенок часто будет обижать других детей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3. На мой взгляд, четыре урока — непомерная нагрузка для маленького ребенка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4. Трудно быть уверенным, что учителя младших классов хорошо понимают детей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5. Ребенок может спокойно учиться только в том случае, если учительница — его собственная мама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6. Трудно представить, что первоклассник может быстро научиться читать, считать и писать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7. Мне кажется, что дети в этом возрасте еще не способны дружить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8. Боюсь даже думать о том, как мой ребенок будет обходиться без дневного сна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9. Мой ребенок часто плачет, когда к нему обращается незнакомый взрослый человек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10. Мой ребенок не ходит в детский сад и никогда не расстается с матерью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11. Начальная школа, по-моему, редко способна чему-либо научить ребенка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12. Я опасаюсь, что дети будут дразнить моего ребенка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13. Мой малыш, по-моему, значительно слабее своих сверстников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14. Боюсь, что учительница не имеет возможности оценить успехи каждого ребенка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15. Мой ребенок часто говорит: “Мама, мы пойдем в школу вместе!”.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400" spc="-1" strike="noStrike">
                <a:solidFill>
                  <a:srgbClr val="c00000"/>
                </a:solidFill>
                <a:latin typeface="Candara"/>
              </a:rPr>
              <a:t>Тест “Готовы ли вы отдавать своего ребенка в школу?”</a:t>
            </a:r>
            <a:endParaRPr b="0" lang="ru-RU" sz="3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65" name="Picture 4" descr="MCj03432970000[1]"/>
          <p:cNvPicPr/>
          <p:nvPr/>
        </p:nvPicPr>
        <p:blipFill>
          <a:blip r:embed="rId1"/>
          <a:stretch/>
        </p:blipFill>
        <p:spPr>
          <a:xfrm>
            <a:off x="7323120" y="5016600"/>
            <a:ext cx="1820520" cy="1841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240" cy="48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8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до 4 баллов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— это означает, что у Вас есть все основания оптимистично ждать первого сентября — по крайней мере, сами вполне готовы к школьной жизни Вашего ребенка;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8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5-10 баллов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— лучше подготовиться к возможным трудностям заранее;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8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10 баллов и больше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— было бы неплохо посоветоваться с детским психологом. 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marL="274320" indent="0" algn="ctr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ndara"/>
              </a:rPr>
              <a:t>      </a:t>
            </a:r>
            <a:r>
              <a:rPr b="1" lang="ru-RU" sz="1600" spc="-1" strike="noStrike">
                <a:solidFill>
                  <a:srgbClr val="c00000"/>
                </a:solidFill>
                <a:latin typeface="Candara"/>
              </a:rPr>
              <a:t>А теперь обратим внимание на то, в каких столбцах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274320" indent="0" algn="ctr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ndara"/>
              </a:rPr>
              <a:t>          </a:t>
            </a:r>
            <a:r>
              <a:rPr b="1" lang="ru-RU" sz="1600" spc="-1" strike="noStrike">
                <a:solidFill>
                  <a:srgbClr val="c00000"/>
                </a:solidFill>
                <a:latin typeface="Candara"/>
              </a:rPr>
              <a:t>получено 2 или 3 крестика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8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1 — необходимо больше заниматься играми и заданиями, развивающими память, внимание, тонкую моторику. 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8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2 — нужно обратить внимание на то, умеет ли Ваш ребенок общаться с другими детьми. 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8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3 — предвидятся сложности, связанные со здоровьем ребенка, но еще есть время заняться закаливанием и общеукрепляющими упражнениями.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8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4 — есть опасения, что ребенок не найдет контакта с учительницей, надо обратить внимание на сюжетные игры.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8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5 – ваш ребенок недостаточно самостоятелен, вероятно, он излишне привязан к матери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. 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Candara"/>
              </a:rPr>
              <a:t>Результаты тестирования</a:t>
            </a: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: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68" name="Picture 4" descr="sos_1sentebrja"/>
          <p:cNvPicPr/>
          <p:nvPr/>
        </p:nvPicPr>
        <p:blipFill>
          <a:blip r:embed="rId1"/>
          <a:stretch/>
        </p:blipFill>
        <p:spPr>
          <a:xfrm>
            <a:off x="7812000" y="333360"/>
            <a:ext cx="923400" cy="923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548640"/>
            <a:ext cx="7772040" cy="2355840"/>
          </a:xfrm>
          <a:prstGeom prst="rect">
            <a:avLst/>
          </a:prstGeom>
          <a:solidFill>
            <a:schemeClr val="accent5"/>
          </a:solidFill>
          <a:ln w="25560">
            <a:solidFill>
              <a:srgbClr val="ffffff"/>
            </a:solidFill>
            <a:round/>
          </a:ln>
        </p:spPr>
        <p:txBody>
          <a:bodyPr anchor="b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br>
              <a:rPr sz="2400"/>
            </a:br>
            <a:br>
              <a:rPr sz="2400"/>
            </a:br>
            <a:r>
              <a:rPr b="1" lang="ru-RU" sz="3100" spc="-1" strike="noStrike">
                <a:solidFill>
                  <a:srgbClr val="ff0000"/>
                </a:solidFill>
                <a:latin typeface="Candara"/>
              </a:rPr>
              <a:t>Готовность к школе</a:t>
            </a:r>
            <a:r>
              <a:rPr b="0" lang="ru-RU" sz="31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ndara"/>
              </a:rPr>
              <a:t>— это не только обучение чтению и счету, не только покупка необходимых школьных принадлежностей, это  развитие ребенка, которое в дальнейшем поможет ему успешно справиться со школьной программой.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2339640" y="4005000"/>
            <a:ext cx="6296400" cy="2392920"/>
          </a:xfrm>
          <a:prstGeom prst="rect">
            <a:avLst/>
          </a:prstGeom>
          <a:solidFill>
            <a:schemeClr val="accent4"/>
          </a:solidFill>
          <a:ln w="255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ndara"/>
              </a:rPr>
              <a:t>Готовность ребенка </a:t>
            </a: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— стимуляция физиологических и психических процессов в его организме: развитие мелкой моторики пальцев, координации движений рук, зрительного аппарата, внимания, памяти, мышления, воображения, речи, а также знание и понимание окружающе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3" descr=""/>
          <p:cNvPicPr/>
          <p:nvPr/>
        </p:nvPicPr>
        <p:blipFill>
          <a:blip r:embed="rId1"/>
          <a:stretch/>
        </p:blipFill>
        <p:spPr>
          <a:xfrm>
            <a:off x="4566600" y="1472400"/>
            <a:ext cx="4548600" cy="29383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"/>
          <p:cNvPicPr/>
          <p:nvPr/>
        </p:nvPicPr>
        <p:blipFill>
          <a:blip r:embed="rId2"/>
          <a:stretch/>
        </p:blipFill>
        <p:spPr>
          <a:xfrm>
            <a:off x="683640" y="2349000"/>
            <a:ext cx="1855800" cy="25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" strike="noStrike">
                <a:solidFill>
                  <a:srgbClr val="002060"/>
                </a:solidFill>
                <a:latin typeface="Times New Roman"/>
              </a:rPr>
              <a:t>Готовность к   школе</a:t>
            </a:r>
            <a:endParaRPr b="0" lang="ru-RU" sz="5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251640" y="1052640"/>
            <a:ext cx="849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1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.Анатомо – физиолог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.Психолог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Мотивацио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Коммуника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Воле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Интеллектуа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3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.Рече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4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.Педагог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5220000" y="2925000"/>
            <a:ext cx="354780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15640" y="548640"/>
            <a:ext cx="6656400" cy="5256360"/>
          </a:xfrm>
          <a:prstGeom prst="rect">
            <a:avLst/>
          </a:prstGeom>
          <a:solidFill>
            <a:schemeClr val="accent4"/>
          </a:solidFill>
          <a:ln w="15840">
            <a:solidFill>
              <a:srgbClr val="566c14"/>
            </a:solidFill>
            <a:round/>
          </a:ln>
        </p:spPr>
        <p:txBody>
          <a:bodyPr anchor="t">
            <a:normAutofit fontScale="82000"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80"/>
              </a:spcBef>
              <a:tabLst>
                <a:tab algn="l" pos="0"/>
              </a:tabLst>
            </a:pPr>
            <a:r>
              <a:rPr b="1" i="1" lang="ru-RU" sz="3900" spc="-1" strike="noStrike" u="sng">
                <a:solidFill>
                  <a:srgbClr val="ff0000"/>
                </a:solidFill>
                <a:uFillTx/>
                <a:latin typeface="Candara"/>
              </a:rPr>
              <a:t>Психологическая готовность к обучению в школе включает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ndar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ndar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ndara"/>
              </a:rPr>
              <a:t>* интеллектуальную готов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ndara"/>
              </a:rPr>
              <a:t>* мотивационную готов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ndara"/>
              </a:rPr>
              <a:t>* волевую готов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ndara"/>
              </a:rPr>
              <a:t>* коммуникативную готов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ndar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78" name="Рисунок 2" descr="MCj04357730000[1]"/>
          <p:cNvPicPr/>
          <p:nvPr/>
        </p:nvPicPr>
        <p:blipFill>
          <a:blip r:embed="rId1"/>
          <a:stretch/>
        </p:blipFill>
        <p:spPr>
          <a:xfrm>
            <a:off x="7308360" y="3501000"/>
            <a:ext cx="16729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403640" y="836640"/>
            <a:ext cx="6400440" cy="5056200"/>
          </a:xfrm>
          <a:prstGeom prst="rect">
            <a:avLst/>
          </a:prstGeom>
          <a:solidFill>
            <a:schemeClr val="accent5"/>
          </a:solidFill>
          <a:ln w="25560">
            <a:solidFill>
              <a:srgbClr val="ffffff"/>
            </a:solidFill>
            <a:round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ndara"/>
              </a:rPr>
              <a:t>Интеллектуальная готовность: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ndara"/>
              </a:rPr>
              <a:t>предполагает развитие внимания, памяти, сформированные мыслительные операции анализа, синтеза, обобщения, умение устанавливать связи между явлениями и событ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ndar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3" descr="MCBD07205_0000[1]"/>
          <p:cNvPicPr/>
          <p:nvPr/>
        </p:nvPicPr>
        <p:blipFill>
          <a:blip r:embed="rId1"/>
          <a:stretch/>
        </p:blipFill>
        <p:spPr>
          <a:xfrm>
            <a:off x="5796000" y="4365000"/>
            <a:ext cx="2736000" cy="23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371600" y="188640"/>
            <a:ext cx="6400440" cy="6408360"/>
          </a:xfrm>
          <a:prstGeom prst="rect">
            <a:avLst/>
          </a:prstGeom>
          <a:solidFill>
            <a:schemeClr val="accent5"/>
          </a:solidFill>
          <a:ln w="25560">
            <a:solidFill>
              <a:srgbClr val="ffffff"/>
            </a:solidFill>
            <a:round/>
          </a:ln>
        </p:spPr>
        <p:txBody>
          <a:bodyPr anchor="t">
            <a:normAutofit fontScale="83000"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ndara"/>
              </a:rPr>
              <a:t>К 6–7-и годам ребенок должен зна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*свой адрес и название города, в котором он живе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* название страны и ее столиц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* имена и отчества своих родителей, информацию о местах их рабо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* времена года, их последовательность и основные призна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* названия месяцев, дней недел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* основные виды деревьев и цве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7440" indent="-307440" algn="ctr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ему следует уметь различать домашних и диких животны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7440" indent="-307440" algn="ctr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понимать, что бабушка — это мама отца или мате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ndara"/>
              </a:rPr>
              <a:t>Иными словами, он должен ориентироваться во времени, пространстве и своем ближайшем окруж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Рисунок 3" descr=""/>
          <p:cNvPicPr/>
          <p:nvPr/>
        </p:nvPicPr>
        <p:blipFill>
          <a:blip r:embed="rId1"/>
          <a:stretch/>
        </p:blipFill>
        <p:spPr>
          <a:xfrm>
            <a:off x="32400" y="1845000"/>
            <a:ext cx="22352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879</TotalTime>
  <Application>LibreOffice/7.4.7.2$Linux_X86_64 LibreOffice_project/40$Build-2</Application>
  <AppVersion>15.0000</AppVersion>
  <Words>1167</Words>
  <Paragraphs>14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3:12:42Z</dcterms:created>
  <dc:creator>lenovo</dc:creator>
  <dc:description/>
  <dc:language>en-US</dc:language>
  <cp:lastModifiedBy>User</cp:lastModifiedBy>
  <dcterms:modified xsi:type="dcterms:W3CDTF">2017-01-25T11:43:53Z</dcterms:modified>
  <cp:revision>4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Экран (4:3)</vt:lpwstr>
  </property>
  <property fmtid="{D5CDD505-2E9C-101B-9397-08002B2CF9AE}" pid="4" name="Slides">
    <vt:r8>21</vt:r8>
  </property>
</Properties>
</file>