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EF8D6C-FDA5-4ADD-8D5C-484D83F1F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8FFB1E-7033-49F2-BC17-47EE58C5DC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F863F7-3540-48DE-B6A3-FBD1FF1F88E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B01C8E-2AEC-4ED2-9599-969D99D4FF1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A36227-5479-48B0-99D7-B6A5E12452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496DFE-3F0A-40F3-9464-9EB20A45D10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AA5-67D6-47A6-AFDA-FC8EB500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83B-48CE-47A7-88DF-356FA2EE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AAA-BDE4-4883-8EC2-25324FE5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6B6-9CCB-4C15-BC21-61650505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E8A-7B8D-4C42-92E9-219B72F4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5D49-E45A-4620-A3F3-59D7459C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0D9A-E74A-45C7-AF11-6A8E5677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18EB-33A6-4A32-82CD-599E92EB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0E1B-54D9-4172-BD40-4900A2B9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1791-D437-4BF1-AD0F-CF9BEC74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080-7EC7-4A20-8762-4E35A7F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E6A-4177-4E62-A59E-F38E439B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EF77-85EF-4A0A-AE1F-890B59A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FDF3-D05D-4A7B-9A18-D15F057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1DF-BA8D-4D7C-A4D8-C9309245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28C2-8735-49DE-8832-1DF2B97E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B946-4D0C-4A63-9843-6BC91D42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E39C-7BA7-4C6E-85FE-EE90D764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AD1B-183D-44A5-B168-8B646F72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36D9-F4C2-4F5C-A684-8D5D241B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FC25-4AEE-4DAB-8B32-CA4B3F97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F699-DBE4-40BE-962C-F6801F70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6BD-5F5D-4DD4-A8E3-BEA5373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EE18-A8BB-4C79-8E92-2D407EBD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C012-5EE1-47AE-AE1A-2E1E873A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36F1-AA9E-41DD-8C21-3283E61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7FCC-94A2-4686-B730-3B6AA006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AC1E-3056-42F9-ABF7-80D5950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2823-00F9-4D8E-823E-EF3DA8D5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1022-BB04-4B87-BB31-86EF084F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A0CF-03A1-4CEA-91EF-71802D3B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63A9-6EE4-4B7D-84FF-7473A46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87F8-4A26-4BBB-A20A-BF77FF2A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A86-2F3D-4EBC-AA44-894B22F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7B92-BEF3-4EDE-A1AF-B44A6A3E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7E81-0BA8-4C4F-B6D7-EFD3828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87F1-BEB5-40EE-BB41-92139E7E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1589-BBB7-4F66-B0BD-B03DBE10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BEEC8-2E69-4150-8436-7D3214C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38F3-DAF9-4A3C-8EA6-1C43669C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3A16-6215-43B2-9F94-5E151839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7E69-DC35-4ABE-B7DC-47908C90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93DC-9822-4D04-AFF6-81907ACC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10F-1DFB-4B75-8850-20ACA67F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C4B-1D5A-4D36-9F14-9BF273D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B22-0AF3-4E3C-A921-F90712EC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AD9-B9DB-4065-8C60-E38B14D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FED-6622-4881-AF06-546264B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AA12C1-8D31-404C-9639-359704BB924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DB0B19C-F078-4D1F-AA87-29E0C27508D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8EFF49-8310-4B38-9172-2D125FADA48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52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53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6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57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8" name="Rounded Rectangle 13"/>
          <p:cNvSpPr/>
          <p:nvPr/>
        </p:nvSpPr>
        <p:spPr>
          <a:xfrm>
            <a:off x="228600" y="228600"/>
            <a:ext cx="8695440" cy="473616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59" name="Freeform 14"/>
          <p:cNvSpPr/>
          <p:nvPr/>
        </p:nvSpPr>
        <p:spPr>
          <a:xfrm>
            <a:off x="6047280" y="4203720"/>
            <a:ext cx="2876040" cy="713520"/>
          </a:xfrm>
          <a:custGeom>
            <a:avLst/>
            <a:gdLst>
              <a:gd name="textAreaLeft" fmla="*/ 0 w 2876040"/>
              <a:gd name="textAreaRight" fmla="*/ 2876400 w 2876040"/>
              <a:gd name="textAreaTop" fmla="*/ 0 h 713520"/>
              <a:gd name="textAreaBottom" fmla="*/ 713880 h 71352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chemeClr val="bg2">
              <a:alpha val="29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Freeform 18"/>
          <p:cNvSpPr/>
          <p:nvPr/>
        </p:nvSpPr>
        <p:spPr>
          <a:xfrm>
            <a:off x="2619360" y="4075200"/>
            <a:ext cx="5544000" cy="849600"/>
          </a:xfrm>
          <a:custGeom>
            <a:avLst/>
            <a:gdLst>
              <a:gd name="textAreaLeft" fmla="*/ 0 w 5544000"/>
              <a:gd name="textAreaRight" fmla="*/ 5544360 w 5544000"/>
              <a:gd name="textAreaTop" fmla="*/ 0 h 849600"/>
              <a:gd name="textAreaBottom" fmla="*/ 849960 h 84960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chemeClr val="bg2"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Freeform 22"/>
          <p:cNvSpPr/>
          <p:nvPr/>
        </p:nvSpPr>
        <p:spPr>
          <a:xfrm>
            <a:off x="2828880" y="4087440"/>
            <a:ext cx="5467680" cy="774000"/>
          </a:xfrm>
          <a:custGeom>
            <a:avLst/>
            <a:gdLst>
              <a:gd name="textAreaLeft" fmla="*/ 0 w 5467680"/>
              <a:gd name="textAreaRight" fmla="*/ 5468040 w 5467680"/>
              <a:gd name="textAreaTop" fmla="*/ 0 h 774000"/>
              <a:gd name="textAreaBottom" fmla="*/ 774360 h 7740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12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Freeform 26"/>
          <p:cNvSpPr/>
          <p:nvPr/>
        </p:nvSpPr>
        <p:spPr>
          <a:xfrm>
            <a:off x="5609520" y="4074120"/>
            <a:ext cx="3307680" cy="651240"/>
          </a:xfrm>
          <a:custGeom>
            <a:avLst/>
            <a:gdLst>
              <a:gd name="textAreaLeft" fmla="*/ 0 w 3307680"/>
              <a:gd name="textAreaRight" fmla="*/ 3308040 w 3307680"/>
              <a:gd name="textAreaTop" fmla="*/ 0 h 651240"/>
              <a:gd name="textAreaBottom" fmla="*/ 651600 h 65124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12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 useBgFill="1">
        <p:nvSpPr>
          <p:cNvPr id="163" name="Freeform 10"/>
          <p:cNvSpPr/>
          <p:nvPr/>
        </p:nvSpPr>
        <p:spPr>
          <a:xfrm>
            <a:off x="211680" y="4058640"/>
            <a:ext cx="8723160" cy="1329480"/>
          </a:xfrm>
          <a:custGeom>
            <a:avLst/>
            <a:gdLst>
              <a:gd name="textAreaLeft" fmla="*/ 0 w 8723160"/>
              <a:gd name="textAreaRight" fmla="*/ 8723520 w 8723160"/>
              <a:gd name="textAreaTop" fmla="*/ 0 h 1329480"/>
              <a:gd name="textAreaBottom" fmla="*/ 1329840 h 132948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0120" y="246348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367280" y="1437480"/>
            <a:ext cx="641736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Образец текст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1B98A1-8B9C-4F73-A889-FBA1DC9D9B4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20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0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21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560" cy="1736280"/>
          </a:xfrm>
          <a:prstGeom prst="rect">
            <a:avLst/>
          </a:prstGeom>
          <a:ln w="9525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0" y="5072040"/>
            <a:ext cx="48574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Segoe Script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2286000" y="857160"/>
            <a:ext cx="4857480" cy="4114440"/>
          </a:xfrm>
          <a:prstGeom prst="rect">
            <a:avLst/>
          </a:prstGeom>
          <a:solidFill>
            <a:schemeClr val="lt1"/>
          </a:solidFill>
          <a:ln w="15840">
            <a:solidFill>
              <a:srgbClr val="305d95"/>
            </a:solidFill>
            <a:round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ставка рисунка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Documents and Settings\User\Рабочий стол\картинки\foto121.jpg"/>
          <p:cNvPicPr/>
          <p:nvPr/>
        </p:nvPicPr>
        <p:blipFill>
          <a:blip r:embed="rId1"/>
          <a:stretch/>
        </p:blipFill>
        <p:spPr>
          <a:xfrm>
            <a:off x="1571760" y="142920"/>
            <a:ext cx="5714640" cy="1914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1357200"/>
            <a:ext cx="7772040" cy="228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Дети и родители на школьном старте </a:t>
            </a:r>
            <a:endParaRPr b="0" lang="ru-RU" sz="5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699640" y="3861000"/>
            <a:ext cx="5914800" cy="27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ndara"/>
              </a:rPr>
              <a:t>Родительское собрание – для родителей будущих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Педагог-психолог МБОУ ВСОШ №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Байрамова Ольга Леонидо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251640" y="3645000"/>
            <a:ext cx="2592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056360" cy="1511640"/>
          </a:xfrm>
          <a:prstGeom prst="rect">
            <a:avLst/>
          </a:prstGeom>
          <a:solidFill>
            <a:schemeClr val="accent4"/>
          </a:solidFill>
          <a:ln w="15840">
            <a:solidFill>
              <a:srgbClr val="566c14"/>
            </a:solidFill>
            <a:round/>
          </a:ln>
        </p:spPr>
        <p:txBody>
          <a:bodyPr anchor="b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ffffff"/>
                </a:solidFill>
                <a:latin typeface="Candara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ndara"/>
              </a:rPr>
              <a:t>Мотивационная готовность</a:t>
            </a: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подразумевает наличие у ребенка желания принять новую социальную роль —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роль школьника.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55640" y="2061000"/>
            <a:ext cx="7416360" cy="45360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46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С</a:t>
            </a: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этой целью родителям необходимо объяснить своему ребенку, </a:t>
            </a: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что дети ходят учиться для получения знаний, которые необходимы каждому человеку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Следует давать ребенку только позитивную информацию о школе. Помните, что ваши оценки с легкостью заимствуются детьми. </a:t>
            </a: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Причиной нежелания идти в школу может быть и то, что ребенок “не наигрался”.</a:t>
            </a: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, </a:t>
            </a:r>
            <a:r>
              <a:rPr b="1" lang="ru-RU" sz="2900" spc="-1" strike="noStrike">
                <a:solidFill>
                  <a:srgbClr val="7030a0"/>
                </a:solidFill>
                <a:latin typeface="Candara"/>
              </a:rPr>
              <a:t>что </a:t>
            </a: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72040" cy="38880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2060"/>
                </a:solidFill>
                <a:latin typeface="Candara"/>
              </a:rPr>
              <a:t>ВОЛЕВАЯ ГОТОВНОСТЬ - </a:t>
            </a: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предполагает наличие у ребенк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способностей ставить перед собой цель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принять решение о начале деятельности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наметить план действий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выполнить его, проявив определенные усилия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оценить результат своей деятельности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а также умения длительно выполнять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не очень привлекательную работу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  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31640" y="4509000"/>
            <a:ext cx="6616440" cy="20880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14" descr="MCj04357430000[1]"/>
          <p:cNvPicPr/>
          <p:nvPr/>
        </p:nvPicPr>
        <p:blipFill>
          <a:blip r:embed="rId1"/>
          <a:stretch/>
        </p:blipFill>
        <p:spPr>
          <a:xfrm>
            <a:off x="7452360" y="1989000"/>
            <a:ext cx="169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284000" y="2724840"/>
            <a:ext cx="4356000" cy="3777480"/>
          </a:xfrm>
          <a:prstGeom prst="rect">
            <a:avLst/>
          </a:prstGeom>
          <a:gradFill rotWithShape="0">
            <a:gsLst>
              <a:gs pos="0">
                <a:srgbClr val="abbfea"/>
              </a:gs>
              <a:gs pos="100000">
                <a:srgbClr val="5484d0"/>
              </a:gs>
            </a:gsLst>
            <a:lin ang="5400000"/>
          </a:gradFill>
          <a:ln w="9360">
            <a:solidFill>
              <a:srgbClr val="4584d3"/>
            </a:solidFill>
            <a:round/>
          </a:ln>
        </p:spPr>
        <p:txBody>
          <a:bodyPr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2010240"/>
          </a:xfrm>
          <a:prstGeom prst="rect">
            <a:avLst/>
          </a:prstGeom>
          <a:solidFill>
            <a:schemeClr val="accent5"/>
          </a:solidFill>
          <a:ln w="15840">
            <a:solidFill>
              <a:srgbClr val="7f6421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Коммуникативная готовность</a:t>
            </a:r>
            <a:br>
              <a:rPr sz="2400"/>
            </a:br>
            <a:r>
              <a:rPr b="1" i="1" lang="ru-RU" sz="2400" spc="-1" strike="noStrike">
                <a:solidFill>
                  <a:schemeClr val="lt1"/>
                </a:solidFill>
                <a:latin typeface="Candara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90" name="Рисунок 4" descr=""/>
          <p:cNvPicPr/>
          <p:nvPr/>
        </p:nvPicPr>
        <p:blipFill>
          <a:blip r:embed="rId1"/>
          <a:stretch/>
        </p:blipFill>
        <p:spPr>
          <a:xfrm>
            <a:off x="179640" y="2405160"/>
            <a:ext cx="3816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1640" y="404640"/>
            <a:ext cx="6192360" cy="14396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10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«Портрет» первоклассника, неготового к школе:</a:t>
            </a:r>
            <a:r>
              <a:rPr b="0" lang="ru-RU" sz="3600" spc="-1" strike="noStrike">
                <a:solidFill>
                  <a:srgbClr val="ff0000"/>
                </a:solidFill>
                <a:latin typeface="Candara"/>
              </a:rPr>
              <a:t>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71640" y="2061000"/>
            <a:ext cx="6800400" cy="44640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70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 чрезмерная игрив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 недостаточная самостоя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импульсивность, бесконтрольность поведения, гиперактив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 неумение общаться со сверстник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*  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*  неумение сосредоточиться на задании, трудность восприятия словесной или иной инструк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*  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ndara"/>
              </a:rPr>
              <a:t>*  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ndara"/>
              </a:rPr>
              <a:t>*  недостаточное развитие произвольной памя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*  задержка речевого развития (это может быть и неправильное произношение, и бедный словарный запас, и неумение выразить свои мысли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6" descr="MCj04357450000[1]"/>
          <p:cNvPicPr/>
          <p:nvPr/>
        </p:nvPicPr>
        <p:blipFill>
          <a:blip r:embed="rId1"/>
          <a:stretch/>
        </p:blipFill>
        <p:spPr>
          <a:xfrm>
            <a:off x="6300360" y="188640"/>
            <a:ext cx="2025360" cy="22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69572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Адрес, название города, страны, столицы, имена и отчества родителей, где работают и чем   занимаются на работе, кто такие дедушка и бабушка;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месяцы, дни недели, времена года и их особенности; виды деревьев, цветов, домашних и диких животных, птиц; виды транспорта, названия групп предметов (овощи, мебель, одежда, бытовая техника и т.д.)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1571760" y="428760"/>
            <a:ext cx="65005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66"/>
                </a:solidFill>
                <a:latin typeface="Candara"/>
              </a:rPr>
              <a:t>Что должен знать ребёнок…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3640" y="692640"/>
            <a:ext cx="7772040" cy="17798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Candara"/>
              </a:rPr>
              <a:t>Как организовать занятия с ребёнком в домашних условиях и какова их продолжительность?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0" y="2853000"/>
            <a:ext cx="3160080" cy="30960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Чтобы ответить на этот вопрос, давайте рассмотрим как человек усваивает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3" descr=""/>
          <p:cNvPicPr/>
          <p:nvPr/>
        </p:nvPicPr>
        <p:blipFill>
          <a:blip r:embed="rId1"/>
          <a:stretch/>
        </p:blipFill>
        <p:spPr>
          <a:xfrm>
            <a:off x="1043640" y="2637000"/>
            <a:ext cx="3331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040" cy="213984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В любой деятельности участвуют различные органы чувств: слух, зрение, осязание, иногда даже обоняние и вкус. Поэтому, чем больше Вы будете их все задействовать, тем лучше и быстрее (да и веселее) будет происходить процесс запоминания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57160" y="3000240"/>
            <a:ext cx="7104600" cy="30240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ndara"/>
              </a:rPr>
              <a:t>То, что ребенок сам выполняет руками, он усваивает на 90%!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оэтому старайтесь, чтобы ребенок не только слушал, но и пытался самостоятельно написать пример, приклеить кружочки и т.д. даже если ему кажется что ничего непоня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7772040" cy="26672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70% от того, о чем мы говорим — откладывается в памяти.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Ребенку необходимо проговаривать за Вами информацию, а не молча слушать ее. Обсуждайте вместе все проделываемые действия. Наводящими вопросами подводите ребенка к правильной мысли, но постарайтесь, чтобы окончательный правильный ответ он произносил сам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28840" y="4929120"/>
            <a:ext cx="6400440" cy="168876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0% того, что ребенок видит — он усваивает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Поэтому проявите свою фантазию и творчество: лепите из пластилина, наклеивайте, рисуйте картинки, объясняющие изучаем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571320" y="3000240"/>
            <a:ext cx="7772040" cy="1654560"/>
          </a:xfrm>
          <a:prstGeom prst="rect">
            <a:avLst/>
          </a:prstGeom>
          <a:solidFill>
            <a:srgbClr val="a5d028"/>
          </a:solidFill>
          <a:ln>
            <a:solidFill>
              <a:srgbClr val="ffffff"/>
            </a:solidFill>
            <a:round/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Лишь 20% того, что ребенок слышит — он запоминает. 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ndara"/>
              </a:rPr>
              <a:t>Поэтому одних Ваших объяснений будет недостаточно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90120" y="980640"/>
            <a:ext cx="77720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все время поддерживать ребенка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  - научиться сопереживать с ребёнком тяжёлые момент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- удержаться   от замечаний и претензий;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    -относится  к ребёнку крайне деликатно;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-много разговаривать, искренне интересоваться  мыслями маленького школьника, его чувствами, а не только тем,сделал ли он уроки и что ел на обед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- относится с уважением к педагог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се сложности ребенок сможет преодолеть   достаточно быстро и легко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7280" y="260640"/>
            <a:ext cx="6588720" cy="7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СОВЕТЫ РОДИТЕЛЯМ: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850840" y="4581000"/>
            <a:ext cx="3766680" cy="122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7236360" y="4244400"/>
            <a:ext cx="1713600" cy="15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840" y="-285840"/>
            <a:ext cx="8572320" cy="59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ы должны оставаться для вашего ребёнк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любящим и понимающим родителем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не брать на себя роль учителя!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тарайтесь достижения ребёнк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е сравнивать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со своими, ни с достижениями старшего брата (сестры)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800"/>
            </a:b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4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100" spc="-1" strike="noStrike">
                <a:solidFill>
                  <a:srgbClr val="c00000"/>
                </a:solidFill>
                <a:latin typeface="Candara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c00000"/>
                </a:solidFill>
                <a:latin typeface="Candara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ru-RU" sz="21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262" name="Group 50"/>
          <p:cNvGraphicFramePr/>
          <p:nvPr/>
        </p:nvGraphicFramePr>
        <p:xfrm>
          <a:off x="1403280" y="2060640"/>
          <a:ext cx="6346440" cy="4525560"/>
        </p:xfrm>
        <a:graphic>
          <a:graphicData uri="http://schemas.openxmlformats.org/drawingml/2006/table">
            <a:tbl>
              <a:tblPr/>
              <a:tblGrid>
                <a:gridCol w="1269720"/>
                <a:gridCol w="1268280"/>
                <a:gridCol w="1269720"/>
                <a:gridCol w="1268280"/>
                <a:gridCol w="126972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2060"/>
                </a:solidFill>
                <a:latin typeface="Candara"/>
              </a:rPr>
              <a:t>ЖЕЛАЮ ВАМ И ВАШИМ ДЕТЯМ ДОБРОГО ПУТИ ПО СТРАНЕ ЗНАНИЙ! </a:t>
            </a:r>
            <a:endParaRPr b="0" lang="ru-RU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368400" cy="15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ndara"/>
              </a:rPr>
              <a:t>УСПЕХОВ ВАМ И  ДЕТЯМ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79640" y="4149000"/>
            <a:ext cx="2592000" cy="26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040" cy="13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9600"/>
            </a:br>
            <a:r>
              <a:rPr b="1" i="1" lang="ru-RU" sz="8800" spc="-1" strike="noStrike">
                <a:solidFill>
                  <a:srgbClr val="ffffff"/>
                </a:solidFill>
                <a:latin typeface="Candara"/>
              </a:rPr>
              <a:t>СПАСИБО</a:t>
            </a:r>
            <a:endParaRPr b="0" lang="ru-RU" sz="8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27640" y="1772640"/>
            <a:ext cx="7920360" cy="31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41"/>
              </a:spcBef>
              <a:buNone/>
              <a:tabLst>
                <a:tab algn="l" pos="0"/>
              </a:tabLst>
            </a:pPr>
            <a:r>
              <a:rPr b="1" i="1" lang="ru-RU" sz="35200" spc="-1" strike="noStrike">
                <a:solidFill>
                  <a:srgbClr val="ffffff"/>
                </a:solidFill>
                <a:latin typeface="Candara"/>
              </a:rPr>
              <a:t>ЗА </a:t>
            </a:r>
            <a:endParaRPr b="0" lang="en-US" sz="35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41"/>
              </a:spcBef>
              <a:buNone/>
              <a:tabLst>
                <a:tab algn="l" pos="0"/>
              </a:tabLst>
            </a:pPr>
            <a:r>
              <a:rPr b="1" i="1" lang="ru-RU" sz="35200" spc="-1" strike="noStrike">
                <a:solidFill>
                  <a:srgbClr val="ffffff"/>
                </a:solidFill>
                <a:latin typeface="Candara"/>
              </a:rPr>
              <a:t>ВНИМАНИЕ!!!</a:t>
            </a:r>
            <a:endParaRPr b="0" lang="en-US" sz="35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24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Мне кажется, что мой ребенок будет учиться хуже других детей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2. Я опасаюсь, что мой ребенок часто будет обижать других детей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3. На мой взгляд, четыре урока — непомерная нагрузка для маленького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4. Трудно быть уверенным, что учителя младших классов хорошо понимают детей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6. Трудно представить, что первоклассник может быстро научиться читать, считать и писать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7. Мне кажется, что дети в этом возрасте еще не способны дружить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8. Боюсь даже думать о том, как мой ребенок будет обходиться без дневного сн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9. Мой ребенок часто плачет, когда к нему обращается незнакомый взрослый человек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0. Мой ребенок не ходит в детский сад и никогда не расстается с матерью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1. Начальная школа, по-моему, редко способна чему-либо научить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2. Я опасаюсь, что дети будут дразнить моего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3. Мой малыш, по-моему, значительно слабее своих сверстников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4. Боюсь, что учительница не имеет возможности оценить успехи каждого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5. Мой ребенок часто говорит: “Мама, мы пойдем в школу вместе!”.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400" spc="-1" strike="noStrike">
                <a:solidFill>
                  <a:srgbClr val="c00000"/>
                </a:solidFill>
                <a:latin typeface="Candara"/>
              </a:rPr>
              <a:t>Тест “Готовы ли вы отдавать своего ребенка в школу?”</a:t>
            </a:r>
            <a:endParaRPr b="0" lang="ru-RU" sz="3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65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520" cy="184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до 4 баллов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5-10 баллов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— лучше подготовиться к возможным трудностям заранее;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10 баллов и больш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— было бы неплохо посоветоваться с детским психологом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А теперь обратим внимание на то, в каких столбцах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получено 2 или 3 крести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 — нужно обратить внимание на то, умеет ли Ваш ребенок общаться с другими детьми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5 – ваш ребенок недостаточно самостоятелен, вероятно, он излишне привязан к матери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Результаты тестирования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68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3400" cy="92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7772040" cy="23558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r>
              <a:rPr b="1" lang="ru-RU" sz="3100" spc="-1" strike="noStrike">
                <a:solidFill>
                  <a:srgbClr val="ff0000"/>
                </a:solidFill>
                <a:latin typeface="Candara"/>
              </a:rPr>
              <a:t>Готовность к школе</a:t>
            </a:r>
            <a:r>
              <a:rPr b="0" lang="ru-RU" sz="31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ndara"/>
              </a:rPr>
              <a:t>— это не только обучение чтению и счету, не только покупка необходимых школьных принадлежностей, это  развитие ребенка, которое в дальнейшем поможет ему успешно справиться со школьной программой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339640" y="4005000"/>
            <a:ext cx="6296400" cy="239292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Готовность ребенка 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— стимуляция физиологических и психических процессов в его организме: развитие мелкой моторики пальцев, координации движений рук, зрительного аппарата, внимания, памяти, мышления, воображения, речи, а также знание и понимание окружающ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3" descr=""/>
          <p:cNvPicPr/>
          <p:nvPr/>
        </p:nvPicPr>
        <p:blipFill>
          <a:blip r:embed="rId1"/>
          <a:stretch/>
        </p:blipFill>
        <p:spPr>
          <a:xfrm>
            <a:off x="4566600" y="1472400"/>
            <a:ext cx="4548600" cy="29383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683640" y="2349000"/>
            <a:ext cx="1855800" cy="25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Готовность к   школе</a:t>
            </a:r>
            <a:endParaRPr b="0" lang="ru-RU" sz="5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51640" y="1052640"/>
            <a:ext cx="849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Анатомо – физиолог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Психолог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Коммуника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Воле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нтеллекту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Рече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Педагог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220000" y="2925000"/>
            <a:ext cx="354780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15640" y="548640"/>
            <a:ext cx="6656400" cy="5256360"/>
          </a:xfrm>
          <a:prstGeom prst="rect">
            <a:avLst/>
          </a:prstGeom>
          <a:solidFill>
            <a:schemeClr val="accent4"/>
          </a:solidFill>
          <a:ln w="15840">
            <a:solidFill>
              <a:srgbClr val="566c14"/>
            </a:solidFill>
            <a:round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80"/>
              </a:spcBef>
              <a:tabLst>
                <a:tab algn="l" pos="0"/>
              </a:tabLst>
            </a:pP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Candara"/>
              </a:rPr>
              <a:t>Психологическая готовность к обучению в школе включает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ndara"/>
              </a:rPr>
              <a:t>* интеллектуальную готов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* мотивационную гото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ndara"/>
              </a:rPr>
              <a:t>* волевую готов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ndara"/>
              </a:rPr>
              <a:t>* коммуникативную гото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ndar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78" name="Рисунок 2" descr="MCj04357730000[1]"/>
          <p:cNvPicPr/>
          <p:nvPr/>
        </p:nvPicPr>
        <p:blipFill>
          <a:blip r:embed="rId1"/>
          <a:stretch/>
        </p:blipFill>
        <p:spPr>
          <a:xfrm>
            <a:off x="7308360" y="3501000"/>
            <a:ext cx="16729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403640" y="836640"/>
            <a:ext cx="6400440" cy="50562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ndara"/>
              </a:rPr>
              <a:t>Интеллектуальная готовность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MCBD07205_0000[1]"/>
          <p:cNvPicPr/>
          <p:nvPr/>
        </p:nvPicPr>
        <p:blipFill>
          <a:blip r:embed="rId1"/>
          <a:stretch/>
        </p:blipFill>
        <p:spPr>
          <a:xfrm>
            <a:off x="5796000" y="4365000"/>
            <a:ext cx="273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371600" y="188640"/>
            <a:ext cx="6400440" cy="640836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83000"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ndara"/>
              </a:rPr>
              <a:t>К 6–7-и годам ребенок должен зн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свой адрес и название города, в котором он жив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название страны и ее столиц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имена и отчества своих родителей, информацию о местах их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времена года, их последовательность и основные призна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названия месяцев, дней нед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основные виды деревьев и цв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440" indent="-307440" algn="ctr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ему следует уметь различать домашних и диких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440" indent="-307440" algn="ctr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понимать, что бабушка — это мама отца или ма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ndara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32400" y="1845000"/>
            <a:ext cx="22352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879</TotalTime>
  <Application>LibreOffice/7.4.7.2$Linux_X86_64 LibreOffice_project/40$Build-2</Application>
  <AppVersion>15.0000</AppVersion>
  <Words>1167</Words>
  <Paragraphs>1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3:12:42Z</dcterms:created>
  <dc:creator>lenovo</dc:creator>
  <dc:description/>
  <dc:language>en-US</dc:language>
  <cp:lastModifiedBy>User</cp:lastModifiedBy>
  <dcterms:modified xsi:type="dcterms:W3CDTF">2017-01-25T11:43:53Z</dcterms:modified>
  <cp:revision>4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