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AF6-468A-4EC8-876D-FCB6EFCE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EFB-EEBE-422A-9E5D-EF37882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983-545E-44F3-B2AC-B4FE7B95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3C2-E193-413D-ACCB-82FD317A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7C9-08C6-4B19-A3C3-084858A3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4F4A-5EB7-47DE-951D-881CDC1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BF36-E2CE-470C-AB3F-6BDB541B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745B-D9DB-4A83-BBAD-F84D5E76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BB9-63D9-4BD9-884F-BA9490C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69B-26AB-4012-BCCD-F2AEA7A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2D5-BBAB-4159-AD9C-2366615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568-0B8E-408E-8E95-3C066977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EE13-7FA9-4E9D-BCF3-C9128C2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95A-B11F-45FE-93E9-6D190EC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47A-7FE6-4A3C-92F7-9B72B8A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ED6-99B4-41B6-B625-1143FF11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218A-8606-4A5E-A6E5-27F15E3B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EA6B-2821-4A68-A68B-A051B728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FF4D-53D6-447E-9956-69A5A5E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05C1-1B84-408C-B282-3DF0BCA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10F4-2DBD-430D-8299-B690D5DB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961A-3C74-43C5-9664-21256FB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C4C-D7D0-44A6-94A9-E99C682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5572-BD8A-4B10-8949-28B6AEB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CFDE-FA3B-4AD5-84B5-9C674B2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BFBE-5465-471A-A6F5-E164DAB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1ED0-FE2A-462E-8543-5079F8A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802E-A50A-46F0-95C6-10B3FB0E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7446-F8EA-4B4C-84D8-1658E967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9CD6-B6CD-4136-8FC5-F3232CB4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699B-1CD6-4D8B-B527-9493CAE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DCB9-3747-4ACC-9108-CA8B71F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8750-0779-4C5E-90EC-097120BD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A17-F224-4F94-935D-6A82190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313B-7641-4253-B293-1CAB9D7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E2C1-DC46-4237-A621-72A7369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BAD9-FC62-4671-9C75-CAF137B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2817-13A9-4314-938A-5D39BBD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E677-DCAA-4359-83E2-06D909E6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2530-D4DE-4451-A332-9DE40E4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449B-F947-481E-B829-B20479D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A646-31EA-44FE-8C21-1C44C5DC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3969-D54B-4F76-879D-F42555A2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337-95FC-4B21-962C-20B8406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427-1CD3-447E-92D9-0BD1711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F0E-8049-43BF-B4BC-F3704F82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B84-D7D6-448B-BD42-5DFBCDF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2DC-CF17-4F0F-968E-EEA6AAC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E5E2-ACBB-43F8-969C-5AC92E71DA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624-A715-48F7-8127-29948DEFF8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B10-5E8F-44C3-B531-B0CB30B3D0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30F-B35B-4948-9BBF-9C4A11E06B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6960" y="639720"/>
            <a:ext cx="7851960" cy="254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43.jpg"/>
          <p:cNvPicPr/>
          <p:nvPr/>
        </p:nvPicPr>
        <p:blipFill>
          <a:blip r:embed="rId2"/>
          <a:stretch/>
        </p:blipFill>
        <p:spPr>
          <a:xfrm>
            <a:off x="2214720" y="2786040"/>
            <a:ext cx="4495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85880" y="8568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Лабиринт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IMG_9001.JPG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IMG_9002.JPG"/>
          <p:cNvPicPr/>
          <p:nvPr/>
        </p:nvPicPr>
        <p:blipFill>
          <a:blip r:embed="rId2"/>
          <a:stretch/>
        </p:blipFill>
        <p:spPr>
          <a:xfrm>
            <a:off x="4119480" y="3089160"/>
            <a:ext cx="5024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3280" y="620280"/>
            <a:ext cx="39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Пройти по бревн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5" descr="IMG_9007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IMG_9008.JPG"/>
          <p:cNvPicPr/>
          <p:nvPr/>
        </p:nvPicPr>
        <p:blipFill>
          <a:blip r:embed="rId2"/>
          <a:stretch/>
        </p:blipFill>
        <p:spPr>
          <a:xfrm>
            <a:off x="3905280" y="27147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92720" y="704520"/>
            <a:ext cx="38512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оползи по бревн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5" descr="IMG_9009.JPG"/>
          <p:cNvPicPr/>
          <p:nvPr/>
        </p:nvPicPr>
        <p:blipFill>
          <a:blip r:embed="rId1"/>
          <a:stretch/>
        </p:blipFill>
        <p:spPr>
          <a:xfrm>
            <a:off x="3857760" y="2892600"/>
            <a:ext cx="5286240" cy="39654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IMG_9004.JPG"/>
          <p:cNvPicPr/>
          <p:nvPr/>
        </p:nvPicPr>
        <p:blipFill>
          <a:blip r:embed="rId2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227" name="Заголовок 1"/>
          <p:cNvSpPr/>
          <p:nvPr/>
        </p:nvSpPr>
        <p:spPr>
          <a:xfrm>
            <a:off x="324000" y="4724280"/>
            <a:ext cx="3851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ойди по брев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0" y="7045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ерекаты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3" descr="IMG_9014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IMG_9013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19280" y="7045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Упражнение «Дельфин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IMG_9022.JPG"/>
          <p:cNvPicPr/>
          <p:nvPr/>
        </p:nvPicPr>
        <p:blipFill>
          <a:blip r:embed="rId1"/>
          <a:stretch/>
        </p:blipFill>
        <p:spPr>
          <a:xfrm>
            <a:off x="0" y="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IMG_9023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64000" y="7045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Упражнение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«Перекати поле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3" descr="IMG_9019.JPG"/>
          <p:cNvPicPr/>
          <p:nvPr/>
        </p:nvPicPr>
        <p:blipFill>
          <a:blip r:embed="rId1"/>
          <a:stretch/>
        </p:blipFill>
        <p:spPr>
          <a:xfrm>
            <a:off x="0" y="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IMG_9020.JPG"/>
          <p:cNvPicPr/>
          <p:nvPr/>
        </p:nvPicPr>
        <p:blipFill>
          <a:blip r:embed="rId2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IMG_9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428800" y="70452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Релакс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IMG_9016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G_9015.JPG"/>
          <p:cNvPicPr/>
          <p:nvPr/>
        </p:nvPicPr>
        <p:blipFill>
          <a:blip r:embed="rId2"/>
          <a:stretch/>
        </p:blipFill>
        <p:spPr>
          <a:xfrm>
            <a:off x="4071960" y="305424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высить интерес детей к различным видам двигательн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Увеличить объём двигательной активности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буждать детей к самостоятельной двигательн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днять эмоциональный настрой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традиционное оборудование позволяет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68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высить интерес детей к выполнению основных движений и игр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Развивать у детей наблюдательность, эстетическое восприятие, воображение, зрительную памя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Развивать чувство формы и цве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Способствовать формированию физических качеств и двигательных умений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сновный принципы использования нестандартного оборудования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1428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Оборудование может быть использовано на физкультурных занятиях и в самостоятельной двигательной деятельности преимущественно старшего дошкольного возраста с учётом уровня их физической подготовки и индивидуальных возможн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Начиная упражнение на нестандартном оборудовании от самых простых, следует постепенно переходить к более сложным, разнообразить движ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Важно чередовать упражнения так, чтобы нагрузка в движениях, идущих друг за другом, не приходилась на одни и те же группы мышц. Полезно использовать дыхательные упражнения на расслабление мышц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В процессе выполнения упражнений необходимо внимательно следить за самочувствием детей, не допускать перегрузки. Дозировку упражнений воспитатель выбирает, исходя из степени тренированности организма ребёнка и его индивидуальных возможн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С целью воспитания самостоятельности и активности целесообразно предлагать детям самим придумать упражнение на оборудовании, исходя из их физических возможностей и уровня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нестандартного оборудования и упражнения на ни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IMG_8987.JPG"/>
          <p:cNvPicPr/>
          <p:nvPr/>
        </p:nvPicPr>
        <p:blipFill>
          <a:blip r:embed="rId1"/>
          <a:stretch/>
        </p:blipFill>
        <p:spPr>
          <a:xfrm>
            <a:off x="214200" y="1643040"/>
            <a:ext cx="4373640" cy="32799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IMG_8990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6120" cy="50482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285840" y="564372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«Дорожка - брусок»</a:t>
            </a: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IMG_8993.JPG"/>
          <p:cNvPicPr/>
          <p:nvPr/>
        </p:nvPicPr>
        <p:blipFill>
          <a:blip r:embed="rId1"/>
          <a:stretch/>
        </p:blipFill>
        <p:spPr>
          <a:xfrm>
            <a:off x="0" y="300024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IMG_8991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0" y="12142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«Дорожка – Змей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6000" y="213840"/>
            <a:ext cx="3816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Дорожка - плот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IMG_8994.JPG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43280" y="7045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  <a:ea typeface="Times New Roman"/>
              </a:rPr>
              <a:t>«Пролезь в норк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IMG_8996.JPG"/>
          <p:cNvPicPr/>
          <p:nvPr/>
        </p:nvPicPr>
        <p:blipFill>
          <a:blip r:embed="rId1"/>
          <a:stretch/>
        </p:blipFill>
        <p:spPr>
          <a:xfrm>
            <a:off x="500040" y="1500120"/>
            <a:ext cx="3667320" cy="48895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IMG_8998.JPG"/>
          <p:cNvPicPr/>
          <p:nvPr/>
        </p:nvPicPr>
        <p:blipFill>
          <a:blip r:embed="rId2"/>
          <a:stretch/>
        </p:blipFill>
        <p:spPr>
          <a:xfrm>
            <a:off x="4286160" y="292896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3924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еодолей препятствие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IMG_8997.JPG"/>
          <p:cNvPicPr/>
          <p:nvPr/>
        </p:nvPicPr>
        <p:blipFill>
          <a:blip r:embed="rId1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3" descr="IMG_9003.JPG"/>
          <p:cNvPicPr/>
          <p:nvPr/>
        </p:nvPicPr>
        <p:blipFill>
          <a:blip r:embed="rId2"/>
          <a:stretch/>
        </p:blipFill>
        <p:spPr>
          <a:xfrm>
            <a:off x="3905280" y="29289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10:03Z</dcterms:created>
  <dc:creator>Ольга</dc:creator>
  <dc:description/>
  <dc:language>en-US</dc:language>
  <cp:lastModifiedBy>user</cp:lastModifiedBy>
  <dcterms:modified xsi:type="dcterms:W3CDTF">2017-09-14T01:28:23Z</dcterms:modified>
  <cp:revision>9</cp:revision>
  <dc:subject/>
  <dc:title>Использование нестандартного  оборудования в работе с дошкольниками</dc:title>
</cp:coreProperties>
</file>