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D5F-C476-449A-9736-CE4BB68F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23B-8CE0-411A-98BA-733DDE41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3A8-95B6-4F4B-BE46-95551A5D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AA6-5DCA-4DE4-8D89-95760178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F7F5-F30F-44DF-925B-3B7F0983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90C7-6406-47D2-869F-77521424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DC92-10FB-413D-B31A-0B92AAA7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BC8E-0F10-4923-8B49-E8996993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71B3-9C58-428E-967A-661CFE60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94E5-294C-492C-9725-4C92F6C8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FEBB-7327-49D0-A8BB-E534AF12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D68-B368-479F-BCCF-03416E6A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F77B-FD22-468E-A22C-1167286D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8727-D547-4842-ACFF-E6947FE0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89B5-DBDD-45EF-8D4C-BE0C33CD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7103-5796-432F-8067-736918D4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9379-6408-4746-8749-121688A1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E35E-1E62-4666-B87E-E604F909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247F-299B-4445-9062-CC2A326A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FCEF-DEF7-4100-ABE6-263511D5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FED2-527B-428B-9645-5819FDA3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318E2-5D7F-44E7-93B8-7F3D8EE7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F1F-EDB1-4A8A-9317-01B33FB9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A815A-8CB2-4C3D-9F31-FA850DD4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87D49-36C6-46D5-8F61-DE3AE06C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C456-C1FD-4880-AD0A-D57B069E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0847-ECBD-4E27-9328-7710EE6E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F3EC-4715-4317-A22B-F86FEB1A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CE74B-F267-4B27-84FD-5C9419A7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E9E78-2ED5-452F-AAB8-87B8A56F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D8F10-B343-4B67-B1A6-AB8581B0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329A-B13E-48CA-856B-38DD2E3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F6FCB-1377-4BDB-9725-58D73275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0DB-BB7D-4C2E-9CEA-66DBCF03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7EB4D-DF5E-462C-B164-1B5250FE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62DE-6078-459C-81B0-13AA006C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529A-97C8-492D-B81B-1850BA6B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569A-8484-4871-81DC-50E9AF2E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8289-6963-4655-89D6-1617CB87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03489-627F-42A9-A932-D4711DF9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56C8-6007-4A0B-B9B1-5C41844E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28C3A-CC75-49B2-B4D9-85E8BF05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3866-DDFC-4C41-9DE3-EA1F1A96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341-9B09-4812-8D9D-786CED75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100-E3C0-43CE-8A2E-308E5C7A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FFF-DD24-4C92-BB62-E0270B6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8AE-58E5-4B60-8A19-AA70A307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BE8-8633-40DC-B238-4F06967F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7494-CC97-4490-8FE9-5FF8C94FDFF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0E0B-F9E4-4F23-A93C-7DE0CFAA969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1B80-337D-481A-A621-87A88F0CF3C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FF75-E1C2-43F8-816D-43E0077314E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26960" y="639720"/>
            <a:ext cx="7851960" cy="254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" descr="43.jpg"/>
          <p:cNvPicPr/>
          <p:nvPr/>
        </p:nvPicPr>
        <p:blipFill>
          <a:blip r:embed="rId2"/>
          <a:stretch/>
        </p:blipFill>
        <p:spPr>
          <a:xfrm>
            <a:off x="2214720" y="2786040"/>
            <a:ext cx="4495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85880" y="8568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  <a:ea typeface="Times New Roman"/>
              </a:rPr>
              <a:t>«Лабиринт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Содержимое 3" descr="IMG_9001.JPG"/>
          <p:cNvPicPr/>
          <p:nvPr/>
        </p:nvPicPr>
        <p:blipFill>
          <a:blip r:embed="rId1"/>
          <a:stretch/>
        </p:blipFill>
        <p:spPr>
          <a:xfrm>
            <a:off x="0" y="0"/>
            <a:ext cx="4929120" cy="36972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IMG_9002.JPG"/>
          <p:cNvPicPr/>
          <p:nvPr/>
        </p:nvPicPr>
        <p:blipFill>
          <a:blip r:embed="rId2"/>
          <a:stretch/>
        </p:blipFill>
        <p:spPr>
          <a:xfrm>
            <a:off x="4119480" y="3089160"/>
            <a:ext cx="50245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3280" y="620280"/>
            <a:ext cx="3929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  <a:ea typeface="Times New Roman"/>
              </a:rPr>
              <a:t>«Пройти по бревну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Содержимое 5" descr="IMG_9007.JPG"/>
          <p:cNvPicPr/>
          <p:nvPr/>
        </p:nvPicPr>
        <p:blipFill>
          <a:blip r:embed="rId1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IMG_9008.JPG"/>
          <p:cNvPicPr/>
          <p:nvPr/>
        </p:nvPicPr>
        <p:blipFill>
          <a:blip r:embed="rId2"/>
          <a:stretch/>
        </p:blipFill>
        <p:spPr>
          <a:xfrm>
            <a:off x="3905280" y="271476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292720" y="704520"/>
            <a:ext cx="38512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«Проползи по бревну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Содержимое 5" descr="IMG_9009.JPG"/>
          <p:cNvPicPr/>
          <p:nvPr/>
        </p:nvPicPr>
        <p:blipFill>
          <a:blip r:embed="rId1"/>
          <a:stretch/>
        </p:blipFill>
        <p:spPr>
          <a:xfrm>
            <a:off x="3857760" y="2892600"/>
            <a:ext cx="5286240" cy="39654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8" descr="IMG_9004.JPG"/>
          <p:cNvPicPr/>
          <p:nvPr/>
        </p:nvPicPr>
        <p:blipFill>
          <a:blip r:embed="rId2"/>
          <a:stretch/>
        </p:blipFill>
        <p:spPr>
          <a:xfrm>
            <a:off x="0" y="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227" name="Заголовок 1"/>
          <p:cNvSpPr/>
          <p:nvPr/>
        </p:nvSpPr>
        <p:spPr>
          <a:xfrm>
            <a:off x="324000" y="4724280"/>
            <a:ext cx="3851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«Пройди по бревн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32000" y="7045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«Перекаты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Содержимое 3" descr="IMG_9014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IMG_9013.JPG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19280" y="7045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Упражнение «Дельфин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Содержимое 3" descr="IMG_9022.JPG"/>
          <p:cNvPicPr/>
          <p:nvPr/>
        </p:nvPicPr>
        <p:blipFill>
          <a:blip r:embed="rId1"/>
          <a:stretch/>
        </p:blipFill>
        <p:spPr>
          <a:xfrm>
            <a:off x="0" y="0"/>
            <a:ext cx="5072040" cy="38037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" descr="IMG_9023.JPG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64000" y="70452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Упражнение 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«Перекати поле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Содержимое 3" descr="IMG_9019.JPG"/>
          <p:cNvPicPr/>
          <p:nvPr/>
        </p:nvPicPr>
        <p:blipFill>
          <a:blip r:embed="rId1"/>
          <a:stretch/>
        </p:blipFill>
        <p:spPr>
          <a:xfrm>
            <a:off x="0" y="0"/>
            <a:ext cx="5072040" cy="38037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IMG_9020.JPG"/>
          <p:cNvPicPr/>
          <p:nvPr/>
        </p:nvPicPr>
        <p:blipFill>
          <a:blip r:embed="rId2"/>
          <a:stretch/>
        </p:blipFill>
        <p:spPr>
          <a:xfrm>
            <a:off x="4000680" y="3000240"/>
            <a:ext cx="5143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Содержимое 3" descr="IMG_9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428800" y="704520"/>
            <a:ext cx="325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Релаксац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Содержимое 3" descr="IMG_9016.JPG"/>
          <p:cNvPicPr/>
          <p:nvPr/>
        </p:nvPicPr>
        <p:blipFill>
          <a:blip r:embed="rId1"/>
          <a:stretch/>
        </p:blipFill>
        <p:spPr>
          <a:xfrm>
            <a:off x="0" y="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G_9015.JPG"/>
          <p:cNvPicPr/>
          <p:nvPr/>
        </p:nvPicPr>
        <p:blipFill>
          <a:blip r:embed="rId2"/>
          <a:stretch/>
        </p:blipFill>
        <p:spPr>
          <a:xfrm>
            <a:off x="4071960" y="305424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Повысить интерес детей к различным видам двигательной деятель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Увеличить объём двигательной активности де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Побуждать детей к самостоятельной двигательной деятель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Поднять эмоциональный настрой де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етрадиционное оборудование позволяет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68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Повысить интерес детей к выполнению основных движений и игр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Развивать у детей наблюдательность, эстетическое восприятие, воображение, зрительную памя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Развивать чувство формы и цве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Способствовать формированию физических качеств и двигательных умений де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Основный принципы использования нестандартного оборудования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760" y="142884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Оборудование может быть использовано на физкультурных занятиях и в самостоятельной двигательной деятельности преимущественно старшего дошкольного возраста с учётом уровня их физической подготовки и индивидуальных возможност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Начиная упражнение на нестандартном оборудовании от самых простых, следует постепенно переходить к более сложным, разнообразить движ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Важно чередовать упражнения так, чтобы нагрузка в движениях, идущих друг за другом, не приходилась на одни и те же группы мышц. Полезно использовать дыхательные упражнения на расслабление мышц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В процессе выполнения упражнений необходимо внимательно следить за самочувствием детей, не допускать перегрузки. Дозировку упражнений воспитатель выбирает, исходя из степени тренированности организма ребёнка и его индивидуальных возможност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С целью воспитания самостоятельности и активности целесообразно предлагать детям самим придумать упражнение на оборудовании, исходя из их физических возможностей и уровня двигательной активн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иды нестандартного оборудования и упражнения на ни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3" descr="IMG_8987.JPG"/>
          <p:cNvPicPr/>
          <p:nvPr/>
        </p:nvPicPr>
        <p:blipFill>
          <a:blip r:embed="rId1"/>
          <a:stretch/>
        </p:blipFill>
        <p:spPr>
          <a:xfrm>
            <a:off x="214200" y="1643040"/>
            <a:ext cx="4373640" cy="32799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IMG_8990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6120" cy="50482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285840" y="5643720"/>
            <a:ext cx="42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«Дорожка - брусок»</a:t>
            </a:r>
            <a:r>
              <a:rPr b="0" lang="ru-RU" sz="3200" spc="-1" strike="noStrike">
                <a:solidFill>
                  <a:srgbClr val="0b5395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IMG_8993.JPG"/>
          <p:cNvPicPr/>
          <p:nvPr/>
        </p:nvPicPr>
        <p:blipFill>
          <a:blip r:embed="rId1"/>
          <a:stretch/>
        </p:blipFill>
        <p:spPr>
          <a:xfrm>
            <a:off x="0" y="3000240"/>
            <a:ext cx="5143680" cy="38577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IMG_8991.JPG"/>
          <p:cNvPicPr/>
          <p:nvPr/>
        </p:nvPicPr>
        <p:blipFill>
          <a:blip r:embed="rId2"/>
          <a:stretch/>
        </p:blipFill>
        <p:spPr>
          <a:xfrm>
            <a:off x="4286160" y="0"/>
            <a:ext cx="4857840" cy="36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6"/>
          <p:cNvSpPr/>
          <p:nvPr/>
        </p:nvSpPr>
        <p:spPr>
          <a:xfrm>
            <a:off x="0" y="12142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«Дорожка – Змей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6000" y="213840"/>
            <a:ext cx="38163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  <a:ea typeface="Times New Roman"/>
              </a:rPr>
              <a:t>«Дорожка - плот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3" descr="IMG_8994.JPG"/>
          <p:cNvPicPr/>
          <p:nvPr/>
        </p:nvPicPr>
        <p:blipFill>
          <a:blip r:embed="rId1"/>
          <a:stretch/>
        </p:blipFill>
        <p:spPr>
          <a:xfrm>
            <a:off x="1214280" y="1357200"/>
            <a:ext cx="67154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43280" y="7045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  <a:ea typeface="Times New Roman"/>
              </a:rPr>
              <a:t>«Пролезь в норку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3" descr="IMG_8996.JPG"/>
          <p:cNvPicPr/>
          <p:nvPr/>
        </p:nvPicPr>
        <p:blipFill>
          <a:blip r:embed="rId1"/>
          <a:stretch/>
        </p:blipFill>
        <p:spPr>
          <a:xfrm>
            <a:off x="500040" y="1500120"/>
            <a:ext cx="3667320" cy="48895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5" descr="IMG_8998.JPG"/>
          <p:cNvPicPr/>
          <p:nvPr/>
        </p:nvPicPr>
        <p:blipFill>
          <a:blip r:embed="rId2"/>
          <a:stretch/>
        </p:blipFill>
        <p:spPr>
          <a:xfrm>
            <a:off x="4286160" y="292896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4652640"/>
            <a:ext cx="3924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«Преодолей препятствие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3" descr="IMG_8997.JPG"/>
          <p:cNvPicPr/>
          <p:nvPr/>
        </p:nvPicPr>
        <p:blipFill>
          <a:blip r:embed="rId1"/>
          <a:stretch/>
        </p:blipFill>
        <p:spPr>
          <a:xfrm>
            <a:off x="0" y="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3" descr="IMG_9003.JPG"/>
          <p:cNvPicPr/>
          <p:nvPr/>
        </p:nvPicPr>
        <p:blipFill>
          <a:blip r:embed="rId2"/>
          <a:stretch/>
        </p:blipFill>
        <p:spPr>
          <a:xfrm>
            <a:off x="3905280" y="292896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10:03Z</dcterms:created>
  <dc:creator>Ольга</dc:creator>
  <dc:description/>
  <dc:language>en-US</dc:language>
  <cp:lastModifiedBy>user</cp:lastModifiedBy>
  <dcterms:modified xsi:type="dcterms:W3CDTF">2017-09-14T01:28:23Z</dcterms:modified>
  <cp:revision>9</cp:revision>
  <dc:subject/>
  <dc:title>Использование нестандартного  оборудования в работе с дошкольниками</dc:title>
</cp:coreProperties>
</file>