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5E7-EA3B-46C4-AED2-66C2AE3C13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1B2-70C3-462E-9BCE-9EE891D4C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179-3329-49E1-8FCA-3E05F02F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375-F1EE-49A0-B601-6B07557B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3DB-C836-430F-ACB1-DCB80C0F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81F-36EE-405A-AFA6-51A4C6F1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138-F955-41F2-A716-7BAB3BCE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968-9AB7-4FAD-9740-058AB83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47A7-2735-4224-A7A3-6EF937E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044-51F7-444E-80B2-1D323A3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72A-99CB-45E4-822C-FB088CA1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6F6A-24E0-41EB-BA95-E22998E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3BA-3362-4B98-B7DB-BBB8026F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ACB-D76D-41F0-9A07-1EBC443F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7A5-564C-47EE-A6FC-62364C2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4D5-AACE-4230-8082-2A21C95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E33D-D9A2-418F-8114-BD07D41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FA9-BF26-4CE4-BA2E-AF042A1E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20EB-D18B-4CD7-A949-89FE92BE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D341-F5F7-44D3-958A-C325C5B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1784-B377-4F33-8121-51199AC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6DDB-4012-445B-B148-540F63AF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CA64-BF27-4C64-8CE2-B576BA0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7553-7D33-4756-B442-71DEA248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ED1-CBF4-4E46-9B37-6E9EBE8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2803-C340-4E41-98AF-8D556B1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8A54-9908-403B-8D08-4EA5709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076B-D5BE-47D1-8E6A-4F9FC43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FBE9-CE70-4EBF-8C2E-7E482D9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168D-80F8-4B0D-81CA-9BB321C4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00C0-42E9-41BB-835F-C854884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31B8-8E0E-477D-B24E-68773820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644-7457-46E5-A36F-A0CC87F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4C6-2F93-4AC3-8C3A-7AEE270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ECF-2DBF-4B42-ACE5-D0F4D83B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572-2190-4B63-8F0B-F0FF5DF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FF4-6B68-474A-A910-983C2D0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DF3-3B36-4E91-ACEB-7DE4FC4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50D-9454-4506-B0B6-F2B0CF220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3DD-ADAC-4FA9-9ADD-A676504AF2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A410-EBE0-43E4-BDCA-BFFE2633F1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907920"/>
            <a:ext cx="73137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Формирование ключевых компетенций учителя через  анализ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857680" y="264312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АУ «Гимназия №8», учитель начальных классов Клютова  Татьяна Сапаргалий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410787[1]"/>
          <p:cNvPicPr/>
          <p:nvPr/>
        </p:nvPicPr>
        <p:blipFill>
          <a:blip r:embed="rId1"/>
          <a:stretch/>
        </p:blipFill>
        <p:spPr>
          <a:xfrm>
            <a:off x="1643040" y="3857760"/>
            <a:ext cx="3427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универсальных учебных действий на каждом этапе урок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чностные, регулятивные, познавательные, коммуникативн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ответствие содержания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иды У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413000"/>
          <a:ext cx="8713800" cy="531180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ИКТ-компетент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ИКТ на уроке, уровень сформированности ИКТ компетентности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структуры урока основной дидактической задач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413000"/>
          <a:ext cx="8713800" cy="528768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ст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норм педагогической эт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иенические требов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ный режим, проветривание класса, чередование видов деятельности, динамические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Дидактические требо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ирование образовательных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целом и их составных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ального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ка в соответствии с требованием учебной программы и целями урока, с учётом уровня подготовки и подготовленности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ровня усвоения учащимися научных знаний, сформированности умений и навы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Дидактические треб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наибол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циональных методов, приёмов и средств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мулирования и контроля, оптимального их воздействия на каждом этапе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, обеспечивающ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ую ак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четание различных форм коллективной и индивидуальной работы на уроке и максимальную самостоятельность в учени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ро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ов дидак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ности, систематичности и последовательности, сознательности и активности, связи теории с практикой, нагляд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Организационные треб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ая чёткост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циональ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сех 45 минут уро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ткая формулир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мест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 учащими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ы, учебной цели и конкретных заданий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б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чёткая структур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ующая 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ю и методам проведения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ипов уроков (урок усвоения новых знаний, формирование навыков и умений, применение знаний, навыков и умений, комбинированный урок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развити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еделах изучения конкретного учебного предмета и конкретного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отрение отдельных средств психолого – педагогического воздействия, методических приёмов, обеспечивающи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грузки на память учащихся и их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объём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роизводящей и творческой деятель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усвоения знаний в готовом виде (со слов учителя, из учебника, пособия и т.д.) и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е самостоятельного пои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ёт контр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нализа и оценки деятельности школьников, осуществляемых учителем, и взаим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ческой оценки, самоконтроля и самоанализа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мментарии, вызывающие положительные чувства в связи с проделанной работой, установки, стимулирующие интерес, волевые усилия к преодолению трудностей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Психологические треб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урока в соответствии 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ми возрастными особенностям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урока с учётом «сильных» и «слабых» учени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еренцирова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ход к «сильным» и «слабым» учен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анкеты «Стиль учител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класс не приведен в поряд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      моя реакция зависит от ситуа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я не обращаю на это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 не могу начать у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Я считаю своим долгом сделать замечание , если ребенок нарушает порядок в общественном месте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 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зависимости от ситуации   2) нет    3) 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Я предпочитаю работать под руководством человека, котор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редлагает простор для творчеств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Не вмешивается в мою р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Дает четкие у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Во время урока я придерживаюсь намеченного пл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зависимости от ситуа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редпочитаю импровиз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Когда я вижу, что ученик ведет себя вызывающе по отношению ко м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редпочитаю выяснить отно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игнорирую этот фа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плачу ему той же моне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ализ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сновной источник знаний о качестве образования в школе, о психолого-педагогических и методических возможностях учителя, это средство изучения и обобщения педагогического опыта, часть научно-методического исследования [Гац И.Ю. Методический блокнот учителя РЯ. – М., 2003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анкеты «Стиль учител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Если ученик высказывает точку зрения, которую я не могу приня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я пытаюсь принять его точку зрения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перевожу разговор на другую т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стараюсь поправить его, объяснить ему его ошиб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По- моему в школьном коллективе важнее вс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ботать творческ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ие конфли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трудовая дисцип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 Я считаю , что учитель может повысить голос на уче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нет , это недопустимо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затрудняюсь ответить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если ученик этого заслужив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 Непредвиденные ситуации на уро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можно эффективно использовать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лучше игнорировать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только мешают учебному процес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Мои ученики относятся ко мне с симпатией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не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когда как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не зна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у Вас больш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то это говорит о демократическом стиле  деятельности учителя. Педагог предоставляет возможность ученикам  самостоятельно принимать  решения, прислушивается к их мнению , поощряет самостоятельность суждений , учитывает не только успеваемость , но и личностные качества учеников. Основные методы воздействия :побуждение, совет, просьба. У педагога наблюдается удовлетворенность своей профессией, гибкость, высокая степень принятия себя и других, открытость  и естественность в общении , доброжелательный настрой , способствующий эффектив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 преобладание  второго варианта от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ет на черты попустительского  стиля  деятельности учителя . Такой педагог уходит от принятия решений , передавая инициативу ученикам, коллегам, родителям. Организацию и контроль деятельности учащихся осуществляет без системы , в сложных педагогических ситуациях проявляет нерешительность и колебания., испытывая чувство определенной  зависимости от учащихся.  Для многих из таких педагогов  характерна заниженная самооценка , чувство тревоги и неуверенности в своем профессионализме, неудовлетворенность своей раб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 преобладание 3 варианта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ворит об авторитарных тенденциях в деятельности педагога.  Учитель использует свои права , как правило, не считаясь с мнением детей и конкретной ситуацией. Главные методы воздействия- приказ, поручение.  Для такого учителя характерна  неудовлетворенность работой  многих учащихся, хотя он может иметь репутацию сильного педагога.  Но на его  уроках дети чувствуют себя неуютно., значительная их часть не проявляет активности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47560" y="1143000"/>
            <a:ext cx="7313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-смысловые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ультур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е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труд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- сберег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529000" y="1643040"/>
            <a:ext cx="5153040" cy="432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анализа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8480" y="1213920"/>
            <a:ext cx="7313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роль за качеством преподавания, качеством знаний, умений и навыков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нтроль за состоянием учебно-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Выяснение причин успехов и неудач учителя, преодоление недостатков в ег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 Выявление системы работы учител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. Но главная цель - повысить эффективность и результативность учебного зан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13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стоятельства, которые необходимо учитывать при анализе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47560" y="1356840"/>
            <a:ext cx="7313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обенности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и школы, наличие кабинетов, технических средств, наглядных пособий, нужных книг в библиотеке, пришкольных участ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 данного класса, уровень развития и способностей уче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 учителя, уровень подготовки, особенности характера, состояние здоровья, прежн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01.201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j0410605[1]"/>
          <p:cNvPicPr/>
          <p:nvPr/>
        </p:nvPicPr>
        <p:blipFill>
          <a:blip r:embed="rId1"/>
          <a:stretch/>
        </p:blipFill>
        <p:spPr>
          <a:xfrm>
            <a:off x="7643880" y="5214960"/>
            <a:ext cx="1336680" cy="12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ы анализа и само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28480" y="1356840"/>
            <a:ext cx="731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ценочный)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этапный)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о-временно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бинирован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пект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11.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072200" y="3929040"/>
            <a:ext cx="1744920" cy="184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задача урока (краткий оценочный анализ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ответствие дидактической задачи урока отобранному содержа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Результативность решения дидактической задач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основного содержания урока содержанию программы и учебн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приемов обучения и учения (методов обучения) решению триединой образовательной ц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ответствие форм обучения (фронтальная, групповая, индивидуальная, коллективная) решению основной дидактической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Целесообразность использования предложенных задан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е цели и решение основной дидактической задачи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направлен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направленность вопросов, упражнений и задач, предлагаемых для выполнения школьник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ая работа школьников как форма организации учебной деятельности</a:t>
                      </a:r>
                      <a:r>
                        <a:rPr b="0" lang="ru-RU" sz="2800" spc="-1" strike="noStrike">
                          <a:solidFill>
                            <a:srgbClr val="8dc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сти школьников при решении дидактической задачи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актер самостоятельной учебной деятельности</a:t>
                      </a:r>
                      <a:r>
                        <a:rPr b="0" lang="ru-RU" sz="2400" spc="-1" strike="noStrike">
                          <a:solidFill>
                            <a:srgbClr val="8dc6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продуктивный, твор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заимопомощ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01:13Z</dcterms:created>
  <dc:creator>Diana</dc:creator>
  <dc:description/>
  <cp:keywords/>
  <dc:language>en-US</dc:language>
  <cp:lastModifiedBy>Татьяна</cp:lastModifiedBy>
  <dcterms:modified xsi:type="dcterms:W3CDTF">2013-01-08T12:46:53Z</dcterms:modified>
  <cp:revision>5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