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0BA7-D110-4A5D-BF6D-155B9AA2C8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D4B3-983B-4A9F-8D72-602EB1512A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B6E-6467-4C19-BD1A-D08E6D06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D23-F514-422E-AF70-74727AE4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CEC-F792-4061-92F7-B72E8084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586-9D42-44BD-97DA-6D18B1D2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B9F2-72DB-4394-A452-F7910B3E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33C2-2BCB-4E78-80A8-11A22995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7001-0D55-4230-8A5E-C3DFDAA8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548E-27FB-4076-ACD8-2BBFD491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98CA-2B4A-42B0-B7A1-F14B5DC2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D761-B4B5-40FF-B5EB-77A16561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AB69-7C29-45BB-AC23-36007460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2AF-9834-425E-89A3-4515B053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65CE-4E22-4C06-AD04-E79CBAE9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9A2C-CE50-4E4C-8592-F015C555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08CA-1CD0-480B-9E49-FF1DD1B7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4309-D713-4FE0-B594-1467F32E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67FA-FEAB-42F0-8661-51E219B6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A2B4A-EB79-46E2-92FB-C4E4E71F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6AFC2-ABE5-453D-B1D1-F36AEFD0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DA6AE-43D6-4881-A7BB-A2E03C41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552A6-A0FF-4982-A991-CEF43C8E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E42B9-EFD0-4D6B-AC97-5B5BB058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3F77-9447-4ACF-82AF-48CA3F6C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4AC45-93B2-4DEC-95D6-F8EEEBE6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766D4-E91C-43F5-BC29-B610B445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7BA4B-C4B6-4803-B073-A1666DDF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4FC2E-3C38-46C4-8630-98E20870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FFD01-D011-423A-AB38-A776E601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E5FE1-AF37-4683-B3F7-199ADB10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FF627-8D33-4418-B826-5A228184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7B3-F229-4021-99E6-AD63CE2B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D17-4158-45E8-AE3B-7DD47B98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908-EBFC-4765-BC7A-300B4B73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0F2-F1DD-491E-942B-25C21C3F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FD8-AFA8-4C6F-816A-05A699CF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FDE-D6DF-4A77-867F-67FA845A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427D-3527-453D-B4D5-6D9AC53196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483B-E54B-4BE0-B5CB-3289F63B5A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DE26-71C8-4540-988D-52BEC28E10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907920"/>
            <a:ext cx="731376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Формирование ключевых компетенций учителя через  анализ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2857680" y="264312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АУ «Гимназия №8», учитель начальных классов Клютова  Татьяна Сапаргалий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j0410787[1]"/>
          <p:cNvPicPr/>
          <p:nvPr/>
        </p:nvPicPr>
        <p:blipFill>
          <a:blip r:embed="rId1"/>
          <a:stretch/>
        </p:blipFill>
        <p:spPr>
          <a:xfrm>
            <a:off x="1643040" y="3857760"/>
            <a:ext cx="3427560" cy="2527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1413000"/>
          <a:ext cx="8785440" cy="5184720"/>
        </p:xfrm>
        <a:graphic>
          <a:graphicData uri="http://schemas.openxmlformats.org/drawingml/2006/table">
            <a:tbl>
              <a:tblPr/>
              <a:tblGrid>
                <a:gridCol w="4302360"/>
                <a:gridCol w="448308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</a:tr>
              <a:tr h="36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ормирование универсальных учебных действий на каждом этапе урока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личностные, регулятивные, познавательные, коммуникативны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оответствие содержания зад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рганизация деятельности учащих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иды УУ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9280" y="1413000"/>
          <a:ext cx="8713800" cy="5311800"/>
        </p:xfrm>
        <a:graphic>
          <a:graphicData uri="http://schemas.openxmlformats.org/drawingml/2006/table">
            <a:tbl>
              <a:tblPr/>
              <a:tblGrid>
                <a:gridCol w="4267440"/>
                <a:gridCol w="444636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ормирование ИКТ-компетентност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 ИКТ на уроке, уровень сформированности ИКТ компетентности учащихс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а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 структуры урока основной дидактической задач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413000"/>
          <a:ext cx="8713800" cy="5287680"/>
        </p:xfrm>
        <a:graphic>
          <a:graphicData uri="http://schemas.openxmlformats.org/drawingml/2006/table">
            <a:tbl>
              <a:tblPr/>
              <a:tblGrid>
                <a:gridCol w="4267440"/>
                <a:gridCol w="4446360"/>
              </a:tblGrid>
              <a:tr h="102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</a:tr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ический стил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е норм педагогической эти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гиенические требов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турный режим, проветривание класса, чередование видов деятельности, динамические пауз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Дидактические требовани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улирование образовательных зада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целом и их составных элемен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тимального содерж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рока в соответствии с требованием учебной программы и целями урока, с учётом уровня подготовки и подготовленности учащих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ровня усвоения учащимися научных знаний, сформированности умений и навык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Дидактические треб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наиболе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циональных методов, приёмов и средств обу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имулирования и контроля, оптимального их воздействия на каждом этапе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, обеспечивающи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навательную актив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четание различных форм коллективной и индивидуальной работы на уроке и максимальную самостоятельность в учении учащих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уро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ипов дидакт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учности, систематичности и последовательности, сознательности и активности, связи теории с практикой, наглядност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Организационные треб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онная чёткость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циональн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сех 45 минут уро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ёткая формулиро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местн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 учащими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ы, учебной цели и конкретных заданий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б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чёткая структура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ответствующая ц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ю и методам проведения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ипов уроков (урок усвоения новых знаний, формирование навыков и умений, применение знаний, навыков и умений, комбинированный урок и т.д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Психологические треб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ирование развития учащих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ределах изучения конкретного учебного предмета и конкретного уро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усмотрение отдельных средств психолого – педагогического воздействия, методических приёмов, обеспечивающих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учащих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отнош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грузки на память учащихся и их мышле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объём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роизводящей и творческой деятельности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Психологические треб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усвоения знаний в готовом виде (со слов учителя, из учебника, пособия и т.д.) и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е самостоятельного поис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ёт контро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нализа и оценки деятельности школьников, осуществляемых учителем, и взаимн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ической оценки, самоконтроля и самоанализа уча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ш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бужд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хся 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омментарии, вызывающие положительные чувства в связи с проделанной работой, установки, стимулирующие интерес, волевые усилия к преодолению трудностей и т.д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Психологические треб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ирование урока в соответствии 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ыми возрастными особенностями учащих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урока с учётом «сильных» и «слабых» ученик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фференцирован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дход к «сильным» и «слабым» учени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 анкеты «Стиль учителя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класс не приведен в порядо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      моя реакция зависит от ситуации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я не обращаю на это 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  не могу начать ур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Я считаю своим долгом сделать замечание , если ребенок нарушает порядок в общественном месте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  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в зависимости от ситуации   2) нет    3) 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Я предпочитаю работать под руководством человека, котор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 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предлагает простор для творчеств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Не вмешивается в мою рабо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Дает четкие указ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Во время урока я придерживаюсь намеченного пл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в зависимости от ситуации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предпочитаю импровизац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всег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Когда я вижу, что ученик ведет себя вызывающе по отношению ко м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предпочитаю выяснить отнош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игнорирую этот фа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плачу ему той же монет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ализ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сновной источник знаний о качестве образования в школе, о психолого-педагогических и методических возможностях учителя, это средство изучения и обобщения педагогического опыта, часть научно-методического исследования [Гац И.Ю. Методический блокнот учителя РЯ. – М., 2003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 анкеты «Стиль учител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Если ученик высказывает точку зрения, которую я не могу приня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я пытаюсь принять его точку зрения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перевожу разговор на другую те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стараюсь поправить его, объяснить ему его ошиб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По- моему в школьном коллективе важнее все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работать творчески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отсутствие конфлик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трудовая дисцип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 Я считаю , что учитель может повысить голос на учени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нет , это недопустимо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затрудняюсь ответить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если ученик этого заслужив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. Непредвиденные ситуации на урок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можно эффективно использовать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лучше игнорировать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только мешают учебному процесс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.Мои ученики относятся ко мне с симпатией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нет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когда как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не зна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82296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       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у Вас больше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 то это говорит о демократическом стиле  деятельности учителя. Педагог предоставляет возможность ученикам  самостоятельно принимать  решения, прислушивается к их мнению , поощряет самостоятельность суждений , учитывает не только успеваемость , но и личностные качества учеников. Основные методы воздействия :побуждение, совет, просьба. У педагога наблюдается удовлетворенность своей профессией, гибкость, высокая степень принятия себя и других, открытость  и естественность в общении , доброжелательный настрой , способствующий эффективност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 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 преобладание  второго варианта отв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казывает на черты попустительского  стиля  деятельности учителя . Такой педагог уходит от принятия решений , передавая инициативу ученикам, коллегам, родителям. Организацию и контроль деятельности учащихся осуществляет без системы , в сложных педагогических ситуациях проявляет нерешительность и колебания., испытывая чувство определенной  зависимости от учащихся.  Для многих из таких педагогов  характерна заниженная самооценка , чувство тревоги и неуверенности в своем профессионализме, неудовлетворенность своей рабо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  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 преобладание 3 варианта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ворит об авторитарных тенденциях в деятельности педагога.  Учитель использует свои права , как правило, не считаясь с мнением детей и конкретной ситуацией. Главные методы воздействия- приказ, поручение.  Для такого учителя характерна  неудовлетворенность работой  многих учащихся, хотя он может иметь репутацию сильного педагога.  Но на его  уроках дети чувствуют себя неуютно., значительная их часть не проявляет активности и самосто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447560" y="1143000"/>
            <a:ext cx="7313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но-смысловые компет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культурн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познавательные компет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трудов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и личностного самосовершен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- сберег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9.01.2013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2529000" y="1643040"/>
            <a:ext cx="5153040" cy="4324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и анализа урок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28480" y="1213920"/>
            <a:ext cx="7313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троль за качеством преподавания, качеством знаний, умений и навыков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 Контроль за состоянием учебно-воспит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3. Инструктирование педаг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4. Помощь в овладении более высоким педагогическим мастер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.  Выяснение причин успехов и неудач учителя, преодоление недостатков в его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6. Выявление системы работы учителя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7. Но главная цель - повысить эффективность и результативность учебного заня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01.2013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428400"/>
            <a:ext cx="7313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стоятельства, которые необходимо учитывать при анализе урок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447560" y="1356840"/>
            <a:ext cx="73134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собенности тем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зможности школы, наличие кабинетов, технических средств, наглядных пособий, нужных книг в библиотеке, пришкольных участ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став данного класса, уровень развития и способностей учени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дивидуальность учителя, уровень подготовки, особенности характера, состояние здоровья, прежние результаты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01.2013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j0410605[1]"/>
          <p:cNvPicPr/>
          <p:nvPr/>
        </p:nvPicPr>
        <p:blipFill>
          <a:blip r:embed="rId1"/>
          <a:stretch/>
        </p:blipFill>
        <p:spPr>
          <a:xfrm>
            <a:off x="7643880" y="5214960"/>
            <a:ext cx="1336680" cy="1214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560" y="274680"/>
            <a:ext cx="73134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ы анализа и самоанализа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28480" y="1356840"/>
            <a:ext cx="73134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атк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ценочный) анал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уктур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этапный) анал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истемный анал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ный анал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уктурно-временной анал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бинированный анал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сихологический анал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пектный анал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плексный анал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11.2012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7072200" y="3929040"/>
            <a:ext cx="1744920" cy="1844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600200"/>
          <a:ext cx="8229600" cy="4983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ая задача урока (краткий оценочный анализ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ответствие дидактической задачи урока отобранному содержан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Результативность решения дидактической задач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 основного содержания урока содержанию программы и учебни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1413000"/>
          <a:ext cx="8713800" cy="5292720"/>
        </p:xfrm>
        <a:graphic>
          <a:graphicData uri="http://schemas.openxmlformats.org/drawingml/2006/table">
            <a:tbl>
              <a:tblPr/>
              <a:tblGrid>
                <a:gridCol w="4267440"/>
                <a:gridCol w="444636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ы обуч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 приемов обучения и учения (методов обучения) решению триединой образовательной це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обуч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оответствие форм обучения (фронтальная, групповая, индивидуальная, коллективная) решению основной дидактической задачи уро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Целесообразность использования предложенных задан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9280" y="1413000"/>
          <a:ext cx="8713800" cy="5292720"/>
        </p:xfrm>
        <a:graphic>
          <a:graphicData uri="http://schemas.openxmlformats.org/drawingml/2006/table">
            <a:tbl>
              <a:tblPr/>
              <a:tblGrid>
                <a:gridCol w="4267440"/>
                <a:gridCol w="444636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ивность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ижение цели и решение основной дидактической задачи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направленность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направленность вопросов, упражнений и задач, предлагаемых для выполнения школьника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1413000"/>
          <a:ext cx="8785440" cy="5184720"/>
        </p:xfrm>
        <a:graphic>
          <a:graphicData uri="http://schemas.openxmlformats.org/drawingml/2006/table">
            <a:tbl>
              <a:tblPr/>
              <a:tblGrid>
                <a:gridCol w="4302360"/>
                <a:gridCol w="448308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</a:tr>
              <a:tr h="36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мостоятельная работа школьников как форма организации учебной деятельности</a:t>
                      </a:r>
                      <a:r>
                        <a:rPr b="0" lang="ru-RU" sz="2800" spc="-1" strike="noStrike">
                          <a:solidFill>
                            <a:srgbClr val="8dc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овень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ости школьников при решении дидактической задачи ур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арактер самостоятельной учебной деятельности</a:t>
                      </a:r>
                      <a:r>
                        <a:rPr b="0" lang="ru-RU" sz="2400" spc="-1" strike="noStrike">
                          <a:solidFill>
                            <a:srgbClr val="8dc6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епродуктивный, творчески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заимопомощ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4:01:13Z</dcterms:created>
  <dc:creator>Diana</dc:creator>
  <dc:description/>
  <cp:keywords/>
  <dc:language>en-US</dc:language>
  <cp:lastModifiedBy>Татьяна</cp:lastModifiedBy>
  <dcterms:modified xsi:type="dcterms:W3CDTF">2013-01-08T12:46:53Z</dcterms:modified>
  <cp:revision>53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