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2386-6AEB-4E33-AC16-D5FCF991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C78-59A1-4550-A882-A12A1D23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9BDB-4E4F-41A8-829F-87E1D690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2C1-FCC2-4AF5-8F4D-83150BD4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1FF8-5370-4395-B31C-6C5B21A2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B5C8-B0F5-478F-A53F-2CD85F68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52D6-EB2D-419D-B59F-44279ECA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8267-518D-4A55-827D-43EFB1BA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42AA-9D7A-4C28-8AD9-87271335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7BD9-A39A-46DA-8AF1-9439495A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66EE-7FB0-43B0-8A06-1134EFFD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32F0-D0B3-4573-9EB9-BB1A4020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222A-540D-4B48-87B8-9D9B1AB0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5EBD-543B-4CEF-9F59-93C80189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94BD-8247-44C9-9E0A-B10D5E46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339F-0176-4910-82AC-3B7FECF7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07F5-9AA2-4EFF-B366-C3A61B11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02E84-83DA-44FF-9A8A-15017C74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2C2B9-696A-4CD2-90BB-2C2FFCFB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14B98-44BC-45ED-A425-102E166E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53F67-8104-481D-A8C0-583EE5E1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A73F9-2605-49D7-944F-40CBA8A6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F84F-B816-4E5F-A62E-E0282D61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FA630-B85C-410D-9E24-924C6996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13ECA-74AD-4342-AF5C-A19A55A7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2EBAB-3332-40FA-9193-D6C18A8A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0BE8C-C790-498A-8A37-20DF3D63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DEAC8-E11A-475A-A599-D3EF3FED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BF920-9960-4BCE-B9B7-8FED7AD1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CF288-9C1A-4D34-B46F-9D2F9028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B812E-C796-409B-9458-C3338A08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0F4C7-37FB-4689-9420-C13971F8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E77CA-E307-4AC9-936F-0180490A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AD1-99E5-47E2-ABE1-D1E11A0B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1F0D8-47AB-4504-ADDE-60D93359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C50ED-ED3F-409F-AF3B-4F2865EA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71399-6DE8-4EE3-A4F3-ABC34D81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E7714-6A4D-4DBE-BB18-E6151E5F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FA2FA-9CD4-4B65-AE82-50A833D1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6CBF4-38CE-4C80-9520-4D70EEF1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BF3B5-0E73-4BF4-AB4C-0D5C68D1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B106A-8307-4C17-A50A-FF440E28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9424B-5EA0-45B8-9388-AD8C3DF2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80994-1D7F-4C67-A2B3-BCFCAEB4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DC1-6553-473C-81BC-32023AA0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51BA5-0A50-4BC7-AEB1-BCF7B64C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4DC9E-F772-4C31-AC9B-87B306B2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8D2E3-DDD8-4929-BC78-4E6DEB66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1596F-D003-458F-8DC9-99FC8965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DE9D6-2369-4DFF-BBB8-398FAB84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7D49E-ED00-482F-8FB2-A9F0BECF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DB364-6E64-4636-8913-9F79D64F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7DE4D-BC67-4AE8-B10A-CE0C561D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0C6BE-4683-4347-ABEE-379702D1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A2802-3D54-4F1B-9051-7D41E6D8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A1DD-5183-4A52-83D1-98EBFC65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49780-15FE-4584-B93D-FB05B9EB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E6636-43B7-4D04-B62E-39C8F380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1A22A-A186-436A-8CFA-62F05DB3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12F3D-BEB6-4045-BCF9-38492575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F0D66-342C-41B8-AC25-642984D6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F35ED-5ECE-4172-87F1-DECBCD39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7894D-49DF-47CA-87AE-3603FBA1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A6666-9F52-4402-9BF8-5E394F89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DB37E-07D2-40E8-ADE4-A9C6D8F1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932EA-5D9F-41D5-BA3B-03013EF0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056-A15F-4485-925A-D44BF5F6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AAB79-313D-47DE-B2D3-2273AA81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44DD1-1753-41E1-84EF-8208BBA5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04C4F-7E1E-4961-89F1-7500422B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2BA7F-CCC3-4D5D-AC89-3C0DA070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3B5C6-F3D7-4AB2-8317-73AE091F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C09FA-35AD-4F53-8CDB-D341BED9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1A861-992C-4EBC-B3E5-7327EEC5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7F351-6B2F-4019-9BB1-F453D195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CF4C5-AC53-4BB8-877D-A0940F21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5CE3A-13AB-40E8-84D8-1B944405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B9F-D777-40B6-B374-6B970EB4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13CD5-EDBA-4E83-8113-AF07995A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E0520-29F7-44C7-AC7F-50F9879C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8A192-604A-4724-97E8-3C15883C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1E58A-61CD-4986-B7A7-1BD93F49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BBA01-C735-44D7-85C8-A7E57DC7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4EFD-924B-46A2-8909-44C88A0B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>
              <a:gd name="textAreaLeft" fmla="*/ 319680 w 2184480"/>
              <a:gd name="textAreaRight" fmla="*/ 1864800 w 218448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2184401" h="1638300">
                <a:moveTo>
                  <a:pt x="2184401" y="819150"/>
                </a:moveTo>
                <a:lnTo>
                  <a:pt x="2184401" y="819150"/>
                </a:lnTo>
                <a:arcTo wR="1092201" hR="819150" stAng="0" swAng="5402124"/>
                <a:lnTo>
                  <a:pt x="10922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50F22-DD4D-4AE5-BBD6-3598814FFF4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>
              <a:gd name="textAreaLeft" fmla="*/ 319680 w 2184480"/>
              <a:gd name="textAreaRight" fmla="*/ 1864800 w 218448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2184401" h="1638300">
                <a:moveTo>
                  <a:pt x="2184401" y="819150"/>
                </a:moveTo>
                <a:lnTo>
                  <a:pt x="2184401" y="819150"/>
                </a:lnTo>
                <a:arcTo wR="1092201" hR="819150" stAng="0" swAng="5402124"/>
                <a:lnTo>
                  <a:pt x="10922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1225440" y="1407960"/>
            <a:ext cx="298440" cy="225720"/>
            <a:chOff x="1225440" y="1407960"/>
            <a:chExt cx="2984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1225440" y="1407960"/>
              <a:ext cx="2984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270080" y="1444680"/>
              <a:ext cx="1983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542960" y="1344600"/>
            <a:ext cx="8568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D409C-D4BF-4A45-8BB4-55AC47769F7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304308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3048120" y="0"/>
            <a:ext cx="101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889360" y="2809800"/>
            <a:ext cx="298440" cy="225360"/>
            <a:chOff x="2889360" y="2809800"/>
            <a:chExt cx="2984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889360" y="2809800"/>
              <a:ext cx="2984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936880" y="2844720"/>
              <a:ext cx="198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3211560" y="2746440"/>
            <a:ext cx="8424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C637C-FD2F-4DCF-9E6B-35BC999C13C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396397-0E5E-45E4-AE61-BA5388B693E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352520" y="0"/>
            <a:ext cx="1083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A142A-798B-4B77-A747-0F45173EA12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511B9-B3B9-437A-B26A-B3B9E4A2E12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901800" y="969840"/>
            <a:ext cx="6327720" cy="4802400"/>
            <a:chOff x="901800" y="969840"/>
            <a:chExt cx="632772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901800" y="969840"/>
              <a:ext cx="632772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015920" y="1066680"/>
              <a:ext cx="609624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528120" y="953640"/>
            <a:ext cx="9144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6672240" y="936360"/>
            <a:ext cx="86508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40ED6-1E91-44F7-9119-56A71423A4C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kengurudetyam.blogspot.ru/2014/07/ecologisheskiy-lepbook.html" TargetMode="External"/><Relationship Id="rId2" Type="http://schemas.openxmlformats.org/officeDocument/2006/relationships/hyperlink" Target="http://kengurudetyam.blogspot.ru/2014/07/ecologisheskiy-lepbook.html" TargetMode="External"/><Relationship Id="rId3" Type="http://schemas.openxmlformats.org/officeDocument/2006/relationships/hyperlink" Target="http://kengurudetyam.blogspot.ru/2014/07/ecologisheskiy-lepbook.html" TargetMode="External"/><Relationship Id="rId4" Type="http://schemas.openxmlformats.org/officeDocument/2006/relationships/hyperlink" Target="http://kengurudetyam.blogspot.ru/2014/07/ecologisheskiy-lepbook.html" TargetMode="External"/><Relationship Id="rId5" Type="http://schemas.openxmlformats.org/officeDocument/2006/relationships/hyperlink" Target="http://izbenka.org/igrovaya/novaya-stranica/chast-9-zavershayushchiy-etap-lepbuk/" TargetMode="External"/><Relationship Id="rId6" Type="http://schemas.openxmlformats.org/officeDocument/2006/relationships/hyperlink" Target="http://izbenka.org/igrovaya/novaya-stranica/chast-9-zavershayushchiy-etap-lepbuk/" TargetMode="External"/><Relationship Id="rId7" Type="http://schemas.openxmlformats.org/officeDocument/2006/relationships/hyperlink" Target="http://www.tavika.ru/2014/07/papka.html" TargetMode="External"/><Relationship Id="rId8" Type="http://schemas.openxmlformats.org/officeDocument/2006/relationships/hyperlink" Target="http://www.tavika.ru/2014/07/papka.html" TargetMode="External"/><Relationship Id="rId9" Type="http://schemas.openxmlformats.org/officeDocument/2006/relationships/hyperlink" Target="https://ojkacademy.wordpress.com/category/lapbook-2/" TargetMode="External"/><Relationship Id="rId10" Type="http://schemas.openxmlformats.org/officeDocument/2006/relationships/hyperlink" Target="https://ojkacademy.wordpress.com/category/lapbook-2/" TargetMode="External"/><Relationship Id="rId11" Type="http://schemas.openxmlformats.org/officeDocument/2006/relationships/hyperlink" Target="http://ursust.ucoz.ru/index/rnigi_raskladushki_ili_lapbook/0-21" TargetMode="External"/><Relationship Id="rId12" Type="http://schemas.openxmlformats.org/officeDocument/2006/relationships/hyperlink" Target="http://ursust.ucoz.ru/index/rnigi_raskladushki_ili_lapbook/0-21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3760" y="1187280"/>
            <a:ext cx="901368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Технология </a:t>
            </a:r>
            <a:r>
              <a:rPr b="0" lang="en-US" sz="7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Lapbook</a:t>
            </a:r>
            <a:r>
              <a:rPr b="0" lang="ru-RU" sz="104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:</a:t>
            </a:r>
            <a:endParaRPr b="0" lang="en-US" sz="10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430360" y="3481560"/>
            <a:ext cx="7772400" cy="2109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использование на уроках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химии и биологии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Подзаголовок 2"/>
          <p:cNvSpPr/>
          <p:nvPr/>
        </p:nvSpPr>
        <p:spPr>
          <a:xfrm>
            <a:off x="1436760" y="5838840"/>
            <a:ext cx="50259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Никонорова А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Лэпбук «Водород»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8" name="Picture 2" descr="C:\Users\Ольга\Desktop\IMG_20151014_094706.jpg"/>
          <p:cNvPicPr/>
          <p:nvPr/>
        </p:nvPicPr>
        <p:blipFill>
          <a:blip r:embed="rId1"/>
          <a:srcRect l="0" t="11765" r="0" b="0"/>
          <a:stretch/>
        </p:blipFill>
        <p:spPr>
          <a:xfrm>
            <a:off x="0" y="1531800"/>
            <a:ext cx="3147840" cy="4937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:\Users\Ольга\Desktop\IMG_20151014_094739.jpg"/>
          <p:cNvPicPr/>
          <p:nvPr/>
        </p:nvPicPr>
        <p:blipFill>
          <a:blip r:embed="rId2"/>
          <a:stretch/>
        </p:blipFill>
        <p:spPr>
          <a:xfrm>
            <a:off x="3255840" y="1655640"/>
            <a:ext cx="817416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61480" y="627120"/>
            <a:ext cx="295308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Лэпбук</a:t>
            </a:r>
            <a:br>
              <a:rPr sz="3600"/>
            </a:br>
            <a:r>
              <a:rPr b="1" lang="ru-RU" sz="36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«Серебро»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Picture 2" descr="C:\Users\Ольга\Desktop\IMG_20151014_095010.JPG"/>
          <p:cNvPicPr/>
          <p:nvPr/>
        </p:nvPicPr>
        <p:blipFill>
          <a:blip r:embed="rId1"/>
          <a:stretch/>
        </p:blipFill>
        <p:spPr>
          <a:xfrm>
            <a:off x="3814920" y="0"/>
            <a:ext cx="53496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14280" y="19476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Рефлексия</a:t>
            </a:r>
            <a:br>
              <a:rPr sz="6000"/>
            </a:b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606320" y="1227240"/>
            <a:ext cx="10150200" cy="5108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770040" indent="-743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Я научилась.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770040" indent="-743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Больше всего мне понравилось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770040" indent="-743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В следующий раз мне бы хотелось.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770040" indent="-743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Удачным было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770040" indent="-743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Недостаточно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770040" indent="-743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В целом 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Содержимое 3" descr="http://matecmex.com/images/55a65d45b1289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232d47"/>
                </a:solidFill>
                <a:latin typeface="Corbel"/>
              </a:rPr>
              <a:t>Используемые сайты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tavika.ru/p/blog-page_5.htm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</a:t>
            </a: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://</a:t>
            </a: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kengurudetyam.blogspot.ru/2014/07/ecologisheskiy-lepbook.htm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http://izbenka.org/igrovaya/novaya-stranica/chast-9-zavershayushchiy-etap-lepbuk</a:t>
            </a: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6"/>
              </a:rPr>
              <a:t>/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7"/>
              </a:rPr>
              <a:t>http://</a:t>
            </a: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8"/>
              </a:rPr>
              <a:t>www.tavika.ru/2014/07/papka.htm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9"/>
              </a:rPr>
              <a:t>https://ojkacademy.wordpress.com/category/lapbook-2</a:t>
            </a: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10"/>
              </a:rPr>
              <a:t>/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11"/>
              </a:rPr>
              <a:t>http://</a:t>
            </a:r>
            <a:r>
              <a:rPr b="0" lang="en-US" sz="2700" spc="-1" strike="noStrike" u="sng">
                <a:solidFill>
                  <a:srgbClr val="8dc765"/>
                </a:solidFill>
                <a:uFillTx/>
                <a:latin typeface="Gill Sans MT"/>
                <a:hlinkClick r:id="rId12"/>
              </a:rPr>
              <a:t>ursust.ucoz.ru/index/rnigi_raskladushki_ili_lapbook/0-21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ttp://english4.me/wp/lapbook-kak-sdelat-anglijskij-dlja-detej/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ttp://catholicblogger1.blogspot.ca/2010_03_01_archive.htm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Рисунок 1" descr=""/>
          <p:cNvPicPr/>
          <p:nvPr/>
        </p:nvPicPr>
        <p:blipFill>
          <a:blip r:embed="rId1"/>
          <a:stretch/>
        </p:blipFill>
        <p:spPr>
          <a:xfrm>
            <a:off x="2138400" y="1219320"/>
            <a:ext cx="925344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Что такое </a:t>
            </a:r>
            <a:r>
              <a:rPr b="0" lang="en-US" sz="60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Lapbook</a:t>
            </a:r>
            <a:r>
              <a:rPr b="0" lang="ru-RU" sz="60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?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526760" y="1873080"/>
            <a:ext cx="101314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Лэпбук» (lapbook)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дословном переводе с английского значит "наколенная книга" (lap - колени, book - книга)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лэпбука: Америка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Лэпбук – это 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241280" y="1319040"/>
            <a:ext cx="10698480" cy="52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самодельная </a:t>
            </a:r>
            <a:r>
              <a:rPr b="1" lang="ru-RU" sz="32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интерактивня папка</a:t>
            </a:r>
            <a:r>
              <a:rPr b="0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 с кармашками, дверками, окошками, подвижными деталями, которые ребенок может доставать, перекладывать, складывать по своему усмотрению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тематическая папка</a:t>
            </a:r>
            <a:r>
              <a:rPr b="0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: в ней собирается материал по какой-то определенной теме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заключительный этап </a:t>
            </a:r>
            <a:r>
              <a:rPr b="0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самостоятельной работы, которую ребенок проделал в ходе изучения данной темы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77520" y="210600"/>
            <a:ext cx="8597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Зачем нужен лэпбук?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722600" y="1401840"/>
            <a:ext cx="966456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Закрепление и систематизация материал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Ребенок учится самостоятельно находить и структурировать информацию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Помогает ребенку </a:t>
            </a:r>
            <a:r>
              <a:rPr b="0" lang="ru-RU" sz="2800" spc="-1" strike="noStrike" u="sng">
                <a:solidFill>
                  <a:srgbClr val="1c4853"/>
                </a:solidFill>
                <a:uFillTx/>
                <a:latin typeface="Times New Roman"/>
                <a:ea typeface="Times New Roman"/>
              </a:rPr>
              <a:t>по его желанию </a:t>
            </a:r>
            <a:r>
              <a:rPr b="0" lang="ru-RU" sz="28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организовать информацию по изучаемой теме (особенно если ребенок визуал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Лэпбук хорошо подходит для занятий в группах, где одновременно обучаются дети разного уровня подготовк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Это просто интересно!!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9200" y="339480"/>
            <a:ext cx="10829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Как сделать собственный лэпбук?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669680" y="1647720"/>
            <a:ext cx="917748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Выбор </a:t>
            </a:r>
            <a:r>
              <a:rPr b="1" lang="ru-RU" sz="3200" spc="-1" strike="noStrike" u="sng">
                <a:solidFill>
                  <a:srgbClr val="1c4853"/>
                </a:solidFill>
                <a:uFillTx/>
                <a:latin typeface="Times New Roman"/>
                <a:ea typeface="Times New Roman"/>
              </a:rPr>
              <a:t>темы</a:t>
            </a:r>
            <a:r>
              <a:rPr b="0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 лэпбук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Продумать </a:t>
            </a:r>
            <a:r>
              <a:rPr b="1" lang="ru-RU" sz="3200" spc="-1" strike="noStrike" u="sng">
                <a:solidFill>
                  <a:srgbClr val="1c4853"/>
                </a:solidFill>
                <a:uFillTx/>
                <a:latin typeface="Times New Roman"/>
                <a:ea typeface="Times New Roman"/>
              </a:rPr>
              <a:t>план</a:t>
            </a:r>
            <a:r>
              <a:rPr b="0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 лэпбук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Создать </a:t>
            </a:r>
            <a:r>
              <a:rPr b="1" lang="ru-RU" sz="3200" spc="-1" strike="noStrike" u="sng">
                <a:solidFill>
                  <a:srgbClr val="1c4853"/>
                </a:solidFill>
                <a:uFillTx/>
                <a:latin typeface="Times New Roman"/>
                <a:ea typeface="Times New Roman"/>
              </a:rPr>
              <a:t>макет</a:t>
            </a:r>
            <a:r>
              <a:rPr b="1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на котором вы отработаете размещение всех деталей (на листе формата А4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Изготовление самой папки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87240" y="286920"/>
            <a:ext cx="80391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Макет лэпбука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Picture 2" descr="https://ismael-47.appspot.com/3.bp.blogspot.com/-6pgzbMbCMeE/VmUwTS_xTxI/AAAAAAAApZ4/9t3uBcMWoiQ/s640/Clip_4.jpg"/>
          <p:cNvPicPr/>
          <p:nvPr/>
        </p:nvPicPr>
        <p:blipFill>
          <a:blip r:embed="rId1"/>
          <a:stretch/>
        </p:blipFill>
        <p:spPr>
          <a:xfrm>
            <a:off x="1684440" y="1076400"/>
            <a:ext cx="9575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5" descr=""/>
          <p:cNvPicPr/>
          <p:nvPr/>
        </p:nvPicPr>
        <p:blipFill>
          <a:blip r:embed="rId1"/>
          <a:srcRect l="0" t="5276" r="0" b="8055"/>
          <a:stretch/>
        </p:blipFill>
        <p:spPr>
          <a:xfrm>
            <a:off x="1811160" y="587520"/>
            <a:ext cx="6840720" cy="6270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6"/>
          <p:cNvSpPr/>
          <p:nvPr/>
        </p:nvSpPr>
        <p:spPr>
          <a:xfrm>
            <a:off x="6975360" y="0"/>
            <a:ext cx="34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Лэпбук «Серая воро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Рисунок 7" descr=""/>
          <p:cNvPicPr/>
          <p:nvPr/>
        </p:nvPicPr>
        <p:blipFill>
          <a:blip r:embed="rId1"/>
          <a:stretch/>
        </p:blipFill>
        <p:spPr>
          <a:xfrm>
            <a:off x="1311120" y="1025640"/>
            <a:ext cx="7445520" cy="583236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2"/>
          <p:cNvSpPr/>
          <p:nvPr/>
        </p:nvSpPr>
        <p:spPr>
          <a:xfrm>
            <a:off x="6872760" y="0"/>
            <a:ext cx="38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5238d"/>
                </a:solidFill>
                <a:latin typeface="Times New Roman"/>
                <a:ea typeface="Times New Roman"/>
              </a:rPr>
              <a:t>Лэпбук «Дождевой черв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19:51:18Z</dcterms:created>
  <dc:creator>Ольга</dc:creator>
  <dc:description/>
  <dc:language>en-US</dc:language>
  <cp:lastModifiedBy>Владелец</cp:lastModifiedBy>
  <dcterms:modified xsi:type="dcterms:W3CDTF">2017-09-14T13:50:47Z</dcterms:modified>
  <cp:revision>72</cp:revision>
  <dc:subject/>
  <dc:title>Lapbook</dc:title>
</cp:coreProperties>
</file>