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7F1-4394-4EB1-8A58-FA4EF930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297-8E85-476A-887A-6EE8CE66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D66-C88A-4254-A9C2-10013C04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AE4-4E89-410A-873F-CE6FD49D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CA93-79BA-43A5-BF7C-70617462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8902-9F00-4F9C-ADF8-975CD229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FFB0-D6CB-405B-8FA2-DB2B6F52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453-0BB8-4DE5-8977-DE4B559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EC04-06F0-409C-AA91-6D4258C0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2DEA-A96F-48B0-BB31-82EF3FAE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EDE-EB10-4AC0-B839-D85B0F2B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D2E-F8F1-4895-8503-4EB2D800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3D88-0DEA-4636-B08E-BC1D929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561D-1446-4B66-BA0F-763FFA8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D55D-DBE9-416C-B04A-0768F90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0CD1-2564-4DD9-913E-5108EB5A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0A52-8278-4223-AA53-471A75E6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8957-BA38-4732-ACC6-CA273778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7433-FAAD-4598-BAC8-42EAEB8B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11DD-4949-44C1-BF32-F07EE076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C060-1BFC-49A5-9879-A9A1034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C7B9-19E9-4290-8D77-F957B9E2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43F-A078-4F0D-8946-11166FB3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0D7D-FBB8-4EFA-9A47-8CEA9FDA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6A9F-C176-49FA-BC0C-45A4ACE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709C-FEF8-462F-9F06-5B079A62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0117-9885-468E-BC5A-66EECC19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6692-38CB-4B51-B91B-7661E0AA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A941-96E9-45DF-B44C-9DFE55FF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4148-F4F1-4611-B5A8-18A4C941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E4AD-AD2F-4F90-966A-5ADD1ECF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0493-252D-41FA-B205-ED3D6B9C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1AF95-EDD0-4862-AA14-98BDCA3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F4B-B0AE-484C-B0A2-AD385EF1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FB92-BEFC-4099-85A8-9FFD78A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01A1-28BF-4E5A-BDE3-3A7A59DD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D69F-2EA1-4DF1-8488-5E20A5FC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5A2F-40C8-43A5-894A-57E1760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6556-A3E3-4064-9466-00D9F27E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5CEDC-14DF-422D-B585-710636D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56C2-F320-43F9-85AC-A4710E6A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E6ADA-A78B-4C45-BE58-8F8D7161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85C0-6FC4-4EEE-9CC6-EE84036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B595-D188-4F9B-9442-BDE3BF85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4D4-3CF4-46E4-B3CB-BAB38B2D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8452-22C4-4FEC-AF6A-5E28990D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B4C4-D6B7-4B09-8E00-BEACD148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9D1C-757D-4F86-AE86-75F2E37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0AC96-53A1-48E6-AF64-80D99DA7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0C06-4256-4A42-81E9-F5038040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B1E3-A899-45B2-B35D-750C40A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27312-27AB-4427-9525-476CA1B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50E1A-9A1E-4801-8E31-499F315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13BCD-814A-429A-A0F4-1D592F12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BE76-9875-4DCA-A125-8FBBCB1B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C87-22DD-409E-9C8F-09411FC9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E987-5D1C-4399-AC52-FAD04F5A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5BA6-0D3A-4AF2-AC53-C11F8789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68E9-36DB-494F-A920-40FD9E1C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2A10A-AAE7-4072-BA02-0E0F3405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8AE5-7123-4D5A-9D5B-A97B162B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3529-6E29-41C7-87DD-A1C284F3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875D-1281-43FF-8D95-ADFC02CD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F1F9-28CC-4FE6-AF3A-4BDC2072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6319-7BC0-45F6-B41C-07DC40E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7AF74-118E-402E-9DE5-F4435F1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892-6AEE-4EDC-8003-73889A2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C7760-860C-4AFE-BD89-22D2EA1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AF39F-226B-40A6-A5AD-2FA5ACA0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A4084-B073-4546-881B-0A8C1648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A5AE-268E-41AE-A5B0-F89FA1A0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22667-C4A1-4901-BB1F-22CAF8A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1E1D5-4F49-4E5D-8C35-61BA98D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B67A-93EA-438B-8531-23836B26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2C1F8-A643-414D-8D4C-F2715BC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71496-F1D8-4E92-8F0B-A170B65F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0365-F1E3-4737-9F12-7BF6882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D03-E9A7-4C2D-B231-2B56B328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CAB57-D804-40FB-8F0A-1EEA08D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BF34-5DE2-4B10-96EF-CE02C8AA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0E813-5142-40E6-A6E5-6D3279F8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B89E-7C4F-4ED9-B760-898E9830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2C1C4-CA2B-4874-9CB4-7D7F401C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8F3-AB6C-4C66-981A-1AF6144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95ADD-86F2-4AD0-82CB-63000A296C1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8E5EF-3225-489C-8D95-0480A5D526E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046FF-FC45-49B8-B8F5-F7524EAEF7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717E1-49B6-4DFC-A474-D6F40AC6503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08368-1809-4E35-B85E-A8116E3A2DC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CBAE3-B52A-4970-A99B-C3BA860BDB2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C3C64-B7F0-4272-8656-3C4420AEA8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engurudetyam.blogspot.ru/2014/07/ecologisheskiy-lepbook.html" TargetMode="External"/><Relationship Id="rId2" Type="http://schemas.openxmlformats.org/officeDocument/2006/relationships/hyperlink" Target="http://kengurudetyam.blogspot.ru/2014/07/ecologisheskiy-lepbook.html" TargetMode="External"/><Relationship Id="rId3" Type="http://schemas.openxmlformats.org/officeDocument/2006/relationships/hyperlink" Target="http://kengurudetyam.blogspot.ru/2014/07/ecologisheskiy-lepbook.html" TargetMode="External"/><Relationship Id="rId4" Type="http://schemas.openxmlformats.org/officeDocument/2006/relationships/hyperlink" Target="http://kengurudetyam.blogspot.ru/2014/07/ecologisheskiy-lepbook.html" TargetMode="External"/><Relationship Id="rId5" Type="http://schemas.openxmlformats.org/officeDocument/2006/relationships/hyperlink" Target="http://izbenka.org/igrovaya/novaya-stranica/chast-9-zavershayushchiy-etap-lepbuk/" TargetMode="External"/><Relationship Id="rId6" Type="http://schemas.openxmlformats.org/officeDocument/2006/relationships/hyperlink" Target="http://izbenka.org/igrovaya/novaya-stranica/chast-9-zavershayushchiy-etap-lepbuk/" TargetMode="External"/><Relationship Id="rId7" Type="http://schemas.openxmlformats.org/officeDocument/2006/relationships/hyperlink" Target="http://www.tavika.ru/2014/07/papka.html" TargetMode="External"/><Relationship Id="rId8" Type="http://schemas.openxmlformats.org/officeDocument/2006/relationships/hyperlink" Target="http://www.tavika.ru/2014/07/papka.html" TargetMode="External"/><Relationship Id="rId9" Type="http://schemas.openxmlformats.org/officeDocument/2006/relationships/hyperlink" Target="https://ojkacademy.wordpress.com/category/lapbook-2/" TargetMode="External"/><Relationship Id="rId10" Type="http://schemas.openxmlformats.org/officeDocument/2006/relationships/hyperlink" Target="https://ojkacademy.wordpress.com/category/lapbook-2/" TargetMode="External"/><Relationship Id="rId11" Type="http://schemas.openxmlformats.org/officeDocument/2006/relationships/hyperlink" Target="http://ursust.ucoz.ru/index/rnigi_raskladushki_ili_lapbook/0-21" TargetMode="External"/><Relationship Id="rId12" Type="http://schemas.openxmlformats.org/officeDocument/2006/relationships/hyperlink" Target="http://ursust.ucoz.ru/index/rnigi_raskladushki_ili_lapbook/0-21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3760" y="1187280"/>
            <a:ext cx="901368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Технология </a:t>
            </a:r>
            <a:r>
              <a:rPr b="0" lang="en-US" sz="7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Lapbook</a:t>
            </a:r>
            <a:r>
              <a:rPr b="0" lang="ru-RU" sz="104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:</a:t>
            </a:r>
            <a:endParaRPr b="0" lang="en-US" sz="10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30360" y="3481560"/>
            <a:ext cx="7772400" cy="2109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использование на уроках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химии и биологии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Подзаголовок 2"/>
          <p:cNvSpPr/>
          <p:nvPr/>
        </p:nvSpPr>
        <p:spPr>
          <a:xfrm>
            <a:off x="1436760" y="5838840"/>
            <a:ext cx="5025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Никонорова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 «Водород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2" descr="C:\Users\Ольга\Desktop\IMG_20151014_094706.jpg"/>
          <p:cNvPicPr/>
          <p:nvPr/>
        </p:nvPicPr>
        <p:blipFill>
          <a:blip r:embed="rId1"/>
          <a:srcRect l="0" t="11765" r="0" b="0"/>
          <a:stretch/>
        </p:blipFill>
        <p:spPr>
          <a:xfrm>
            <a:off x="0" y="1531800"/>
            <a:ext cx="3147840" cy="493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Ольга\Desktop\IMG_20151014_094739.jpg"/>
          <p:cNvPicPr/>
          <p:nvPr/>
        </p:nvPicPr>
        <p:blipFill>
          <a:blip r:embed="rId2"/>
          <a:stretch/>
        </p:blipFill>
        <p:spPr>
          <a:xfrm>
            <a:off x="3255840" y="1655640"/>
            <a:ext cx="81741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1480" y="627120"/>
            <a:ext cx="295308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</a:t>
            </a:r>
            <a:br>
              <a:rPr sz="3600"/>
            </a:b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«Серебро»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C:\Users\Ольга\Desktop\IMG_20151014_095010.JPG"/>
          <p:cNvPicPr/>
          <p:nvPr/>
        </p:nvPicPr>
        <p:blipFill>
          <a:blip r:embed="rId1"/>
          <a:stretch/>
        </p:blipFill>
        <p:spPr>
          <a:xfrm>
            <a:off x="3814920" y="0"/>
            <a:ext cx="534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14280" y="19476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Рефлексия</a:t>
            </a:r>
            <a:br>
              <a:rPr sz="6000"/>
            </a:b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606320" y="1227240"/>
            <a:ext cx="10150200" cy="5108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Я научилась.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Больше всего мне понравилось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 следующий раз мне бы хотелось.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Удачным было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Недостаточно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 целом 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Содержимое 3" descr="http://matecmex.com/images/55a65d45b1289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232d47"/>
                </a:solidFill>
                <a:latin typeface="Corbel"/>
              </a:rPr>
              <a:t>Используемые сайты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tavika.ru/p/blog-page_5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://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kengurudetyam.blogspot.ru/2014/07/ecologisheskiy-lepbook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izbenka.org/igrovaya/novaya-stranica/chast-9-zavershayushchiy-etap-lepbuk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7"/>
              </a:rPr>
              <a:t>http://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8"/>
              </a:rPr>
              <a:t>www.tavika.ru/2014/07/papka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9"/>
              </a:rPr>
              <a:t>https://ojkacademy.wordpress.com/category/lapbook-2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0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1"/>
              </a:rPr>
              <a:t>http://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2"/>
              </a:rPr>
              <a:t>ursust.ucoz.ru/index/rnigi_raskladushki_ili_lapbook/0-21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ttp://english4.me/wp/lapbook-kak-sdelat-anglijskij-dlja-detej/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ttp://catholicblogger1.blogspot.ca/2010_03_01_archive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2138400" y="1219320"/>
            <a:ext cx="92534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Что такое </a:t>
            </a:r>
            <a:r>
              <a:rPr b="0" lang="en-US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Lapbook</a:t>
            </a:r>
            <a:r>
              <a:rPr b="0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526760" y="1873080"/>
            <a:ext cx="101314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Лэпбук» (lapbook)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дословном переводе с английского значит "наколенная книга" (lap - колени, book - книга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лэпбука: Америк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 – это 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41280" y="1319040"/>
            <a:ext cx="1069848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самодельная </a:t>
            </a:r>
            <a:r>
              <a:rPr b="1" lang="ru-RU" sz="32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интерактивня папка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 с кармашками, дверками, окошками, подвижными деталями, которые ребенок может доставать, перекладывать, складывать по своему усмотрению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тематическая папка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: в ней собирается материал по какой-то определенной тем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заключительный этап 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самостоятельной работы, которую ребенок проделал в ходе изучения данной тем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77520" y="210600"/>
            <a:ext cx="8597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Зачем нужен лэпбук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722600" y="1401840"/>
            <a:ext cx="96645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Закрепление и систематизация материал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Ребенок учится самостоятельно находить и структурировать информацию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Помогает ребенку </a:t>
            </a:r>
            <a:r>
              <a:rPr b="0" lang="ru-RU" sz="28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по его желанию </a:t>
            </a: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организовать информацию по изучаемой теме (особенно если ребенок визуал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Лэпбук хорошо подходит для занятий в группах, где одновременно обучаются дети разного уровня подготов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Это просто интересно!!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9200" y="339480"/>
            <a:ext cx="10829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Как сделать собственный лэпбук?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669680" y="1647720"/>
            <a:ext cx="91774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ыбор </a:t>
            </a:r>
            <a:r>
              <a:rPr b="1" lang="ru-RU" sz="32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темы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 лэпбу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Продумать </a:t>
            </a:r>
            <a:r>
              <a:rPr b="1" lang="ru-RU" sz="32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план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 лэпбу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Создать </a:t>
            </a:r>
            <a:r>
              <a:rPr b="1" lang="ru-RU" sz="32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макет</a:t>
            </a:r>
            <a:r>
              <a:rPr b="1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на котором вы отработаете размещение всех деталей (на листе формата А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Изготовление самой папк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87240" y="286920"/>
            <a:ext cx="80391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Макет лэпбука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https://ismael-47.appspot.com/3.bp.blogspot.com/-6pgzbMbCMeE/VmUwTS_xTxI/AAAAAAAApZ4/9t3uBcMWoiQ/s640/Clip_4.jpg"/>
          <p:cNvPicPr/>
          <p:nvPr/>
        </p:nvPicPr>
        <p:blipFill>
          <a:blip r:embed="rId1"/>
          <a:stretch/>
        </p:blipFill>
        <p:spPr>
          <a:xfrm>
            <a:off x="1684440" y="1076400"/>
            <a:ext cx="9575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5" descr=""/>
          <p:cNvPicPr/>
          <p:nvPr/>
        </p:nvPicPr>
        <p:blipFill>
          <a:blip r:embed="rId1"/>
          <a:srcRect l="0" t="5276" r="0" b="8055"/>
          <a:stretch/>
        </p:blipFill>
        <p:spPr>
          <a:xfrm>
            <a:off x="1811160" y="587520"/>
            <a:ext cx="6840720" cy="6270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6"/>
          <p:cNvSpPr/>
          <p:nvPr/>
        </p:nvSpPr>
        <p:spPr>
          <a:xfrm>
            <a:off x="6975360" y="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 «Серая воро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7" descr=""/>
          <p:cNvPicPr/>
          <p:nvPr/>
        </p:nvPicPr>
        <p:blipFill>
          <a:blip r:embed="rId1"/>
          <a:stretch/>
        </p:blipFill>
        <p:spPr>
          <a:xfrm>
            <a:off x="1311120" y="1025640"/>
            <a:ext cx="7445520" cy="58323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2"/>
          <p:cNvSpPr/>
          <p:nvPr/>
        </p:nvSpPr>
        <p:spPr>
          <a:xfrm>
            <a:off x="6872760" y="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5238d"/>
                </a:solidFill>
                <a:latin typeface="Times New Roman"/>
                <a:ea typeface="Times New Roman"/>
              </a:rPr>
              <a:t>Лэпбук «Дождевой черв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9:51:18Z</dcterms:created>
  <dc:creator>Ольга</dc:creator>
  <dc:description/>
  <dc:language>en-US</dc:language>
  <cp:lastModifiedBy>Владелец</cp:lastModifiedBy>
  <dcterms:modified xsi:type="dcterms:W3CDTF">2017-09-14T13:50:47Z</dcterms:modified>
  <cp:revision>72</cp:revision>
  <dc:subject/>
  <dc:title>Lapbook</dc:title>
</cp:coreProperties>
</file>