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9D02-E4B8-48B5-A669-08EF35DEE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DDE-E3B0-45DB-A09B-2C443C15C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6F6-E873-439A-BA9D-A0F9B009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404-0D46-42BF-8638-F1C32FEE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6E8-9D5C-400D-B094-CD433018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316-B1FF-483B-975F-E75E5BC1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BE4-6E08-4E09-A9E9-FC68E849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0E3-6B30-4FDF-A0B8-1A8ABF7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E5A-6B56-42DA-A62C-168D590D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DE1-3B82-4B18-8884-AA27041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83D-3BCB-47AA-B4BE-51E4738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822-FE96-4B84-8A99-D13AA1BB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C27-B2D4-4D83-8CED-871E351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CB0-9D33-42A4-B973-5EC0936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426C-81FF-4B94-AFF3-251A2790A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00960" cy="551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Средняя общеобразовательная школа №8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763640" y="5661000"/>
            <a:ext cx="73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вторы: группа иллюстра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.Новомосковск</a:t>
            </a:r>
            <a:br>
              <a:rPr sz="4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50920" y="2205000"/>
            <a:ext cx="86263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лшебной 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пы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а-яга закрича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и-лебеди! Летите в погоню!Сестра братца унесла!.. 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стра с братцем добежала до молочной реки. Видит — летят гуси-лебе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чка, матушка, спрячь меня!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а укрыла ее под кисельным береж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и-лебеди не увидали, пролетели мим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вочка с братцем опять побеж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гуси-лебеди воротились, летят навстречу, вот-вот увидят. Что делать? Беда! Стоит яблоня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785960"/>
            <a:ext cx="432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вра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Что, Иван-царевич, голову повесил? Или горе какое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Батюшка, велел тебе к завтрему рубашку сшить. Лягушка отвеча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Не тужи, Иван-царевич, ложись лучше спать, утро вечера мудрене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ван-царевич лег спать, а лягушка, прыгнула на крыльцо, сбросила с себя лягушечью кожу и обернулась Василисой Премудрой, такой красавицей, что и в сказке, не расскажеш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"/>
          <p:cNvPicPr/>
          <p:nvPr/>
        </p:nvPicPr>
        <p:blipFill>
          <a:blip r:embed="rId1"/>
          <a:stretch/>
        </p:blipFill>
        <p:spPr>
          <a:xfrm>
            <a:off x="5572080" y="3786120"/>
            <a:ext cx="2857680" cy="27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500800" y="1285920"/>
            <a:ext cx="29289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азочное существо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лшебный предм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т Иван-царевич залился горькими слезами - где же в море яйцо найти! Вдруг подплывает к берегу щука и держит яйцо в зубах. Иван-царевич разбил яйцо, достал иголку и давай у нее конец ломать. Он ломает, а Кощей Бессмертный бьется, мечется. Сколько ни бился, ни метался Кощей, сломал Иван-царевич у иглы конец, пришлось Кощею умере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54760" y="1600200"/>
            <a:ext cx="322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обычное место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ла она, шла и пришла в лес. Стоит в лесу за высоким тыном избушка на курьих ножках,  а в избушке сидит баба-яга, костяная нога - холст тк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4200" y="1213920"/>
            <a:ext cx="4857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ый волк и говор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езай через стену, не бойся — час удачный, все сторожа спят. Увидишь в тереме окошко, на окошке стоит золотая клетка, а в клетке сидит Жар-птица. Ты птицу возьми,  да смотри клетки не трогай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ять поскакал серый волк с Иваном-царевичем. Долго ли, добегают они до той крепости, где стоит конь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латогривы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—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езай, Иван-царевич, через стену, сторожа спят, иди на конюшню, бери коня, да смотри уздечку не трога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-царевич перелез в крепость, там все сторожа спят, зашел на конюшню, поймал коня златогривого, да позарился на уздечку — она золотом, дорогими камнями убрана; в ней златогривому коню только гулять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571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7-09-13T21:21:48Z</dcterms:modified>
  <cp:revision>10</cp:revision>
  <dc:subject/>
  <dc:title>МОУ «Средняя общеобразовательная школа №8»  признаки волшебной сказки   Авторы: Родина И.В.                  Павлова Т.А.</dc:title>
</cp:coreProperties>
</file>