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FA0-2CB2-4930-A401-928326AE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9E0-235E-49D2-A597-0AA2CA16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3D6-341B-4A74-AA79-A0963FE2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1F2-95F6-435A-96C7-9DB4CE3E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773-F375-4251-AADD-B363B759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1B48-7606-4048-A956-C0AE368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1EB8-0152-42D8-B540-CBE3A7B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967-AE30-4E58-A11D-8AB732B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E43E-ED4E-4342-AC4E-A7D3619C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76B-3150-42AB-960D-05D4F9F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E404-67DD-4372-B0FD-4598E37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2D6-38DB-465E-8EA8-58C1308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EB3-A8D4-4F93-8FF2-E34E3BC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FFD-EAF3-482B-9A00-101A8B0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324-866A-4441-8BB9-ABA1F0E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D17-2B8F-442B-83D9-089ACFEF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2783-3E3A-4D9B-808E-43A83D59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4592-99EF-4D71-9310-7A8BB31D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8947-ABD4-494F-9FB7-FB68573C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721A-C39C-4792-A623-95808F82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7AA3-FE36-4669-AE06-6D2E9620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8FCC-4685-4553-AC29-8274C9C8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79F-2EC1-4586-A51D-8FEC004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0C81-6FEF-4FA8-AC50-4A55AC5A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7FE2-831E-4E20-9ECE-E239C67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5E24-B2DE-4752-944A-BEF27F0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2F3F-66D8-4A89-8AA8-F44D759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D850-38D9-495E-B70F-B9F2DF37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D225-C2E2-4F71-99A7-EF10276E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DFD5-8E24-43BC-8437-637C32D0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AD9C-E136-443D-8867-8CA64FE0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5D6E-2051-4BDC-915F-542830A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6B83-7B0E-4A12-8717-EAADAD8F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B15-6C8A-40DB-9365-F1295D98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14C2-9380-4390-8E6C-398CF42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AD00-3547-4498-A21E-1E5DD90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415F7-7292-4384-BEED-3C44620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8F2B-F97D-4D2F-A621-EF027C2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22BC-1CA9-4B0E-91D6-2D8D552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4DF6-ED3C-4EFC-A0F3-CD73BF1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61A2-9C45-4782-9BB4-9190B9A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7379-F025-405B-8438-0359ED25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B80B-AB0D-4B8B-9966-F1CFFE61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0EC3-B496-4798-8975-72EF7741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445-A339-4DDA-B7CD-76C3969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95DE-F65A-4BFE-9280-ED807D55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7537C-C779-4B39-B4D2-185C75E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D0F2-9D81-4E27-9BB4-ED1286D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17DA-988C-403C-91BF-1CC9B51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0586-BA53-43BB-B03A-0204F63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33F8-ECB7-47D0-AAC2-84A382E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A702-D95E-40C8-B937-32D443E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585F-18B1-4E9B-8AA9-04BB3CE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4CF3A-0B61-49C3-B2A6-A6AD3E61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A701-DADE-4CF4-9440-04A314EA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4E0-5A31-4CB7-B951-F6351B2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B72F-1515-4788-8774-6FEE2772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415-F5FC-4596-88AD-70D6264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DF3-F201-46A5-AAFE-E293F52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1D8-F58E-4142-B9FE-C80474F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795-A3F5-48C3-A6FE-BCF20128CE71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71D-673C-4FF1-9A2D-107708440789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DA5-1C60-4F62-96D7-670FD7FDB98D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46C5-0977-4037-8E70-F546DF148F23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FB4-2DC5-4876-891B-AC050A5AD782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90062"/>
                </a:solidFill>
                <a:latin typeface="Verdana"/>
              </a:rPr>
              <a:t>«Симметрия».</a:t>
            </a:r>
            <a:br>
              <a:rPr sz="4500"/>
            </a:br>
            <a:endParaRPr b="1" lang="en-US" sz="45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0062"/>
                </a:solidFill>
                <a:latin typeface="Verdana"/>
              </a:rPr>
              <a:t>Цель нашего уро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5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Verdana"/>
              </a:rPr>
              <a:t>выяснить, что такое симметри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5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Verdana"/>
              </a:rPr>
              <a:t>где в жизни мы с ней встречаемс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9c2"/>
                </a:solidFill>
                <a:latin typeface="Arial"/>
              </a:rPr>
              <a:t>Дорофеева Юлия Викторов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9c2"/>
                </a:solidFill>
                <a:latin typeface="Arial"/>
              </a:rPr>
              <a:t>учитель начальных классов  МАОУ ООШ № 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D:\Картинки для презентаций\Рисунок19.gif"/>
          <p:cNvPicPr/>
          <p:nvPr/>
        </p:nvPicPr>
        <p:blipFill>
          <a:blip r:embed="rId1"/>
          <a:stretch/>
        </p:blipFill>
        <p:spPr>
          <a:xfrm>
            <a:off x="1285920" y="1071720"/>
            <a:ext cx="1779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Равнобедренный треугольник 4"/>
          <p:cNvSpPr/>
          <p:nvPr/>
        </p:nvSpPr>
        <p:spPr>
          <a:xfrm>
            <a:off x="3357720" y="1071720"/>
            <a:ext cx="2286000" cy="19285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3"/>
          <p:cNvSpPr/>
          <p:nvPr/>
        </p:nvSpPr>
        <p:spPr>
          <a:xfrm>
            <a:off x="642960" y="928800"/>
            <a:ext cx="2143080" cy="207144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1500120" y="3714840"/>
            <a:ext cx="2357640" cy="1714320"/>
          </a:xfrm>
          <a:prstGeom prst="rect">
            <a:avLst/>
          </a:prstGeom>
          <a:solidFill>
            <a:srgbClr val="92d050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Трапеция 12"/>
          <p:cNvSpPr/>
          <p:nvPr/>
        </p:nvSpPr>
        <p:spPr>
          <a:xfrm>
            <a:off x="5214960" y="3643200"/>
            <a:ext cx="2714760" cy="1785960"/>
          </a:xfrm>
          <a:prstGeom prst="pie">
            <a:avLst/>
          </a:prstGeom>
          <a:solidFill>
            <a:srgbClr val="4d4d4d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8" name="Шестиугольник 8"/>
          <p:cNvSpPr/>
          <p:nvPr/>
        </p:nvSpPr>
        <p:spPr>
          <a:xfrm>
            <a:off x="6072120" y="1000080"/>
            <a:ext cx="2428920" cy="200016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4"/>
          <p:cNvGrpSpPr/>
          <p:nvPr/>
        </p:nvGrpSpPr>
        <p:grpSpPr>
          <a:xfrm>
            <a:off x="934920" y="1521000"/>
            <a:ext cx="1055520" cy="2412720"/>
            <a:chOff x="934920" y="1521000"/>
            <a:chExt cx="1055520" cy="2412720"/>
          </a:xfrm>
        </p:grpSpPr>
        <p:sp>
          <p:nvSpPr>
            <p:cNvPr id="230" name="AutoShape 5"/>
            <p:cNvSpPr/>
            <p:nvPr/>
          </p:nvSpPr>
          <p:spPr>
            <a:xfrm flipV="1">
              <a:off x="934920" y="1929240"/>
              <a:ext cx="1047600" cy="474120"/>
            </a:xfrm>
            <a:prstGeom prst="pi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938160" y="2401920"/>
              <a:ext cx="1052280" cy="15318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7"/>
            <p:cNvSpPr/>
            <p:nvPr/>
          </p:nvSpPr>
          <p:spPr>
            <a:xfrm>
              <a:off x="1207440" y="1521000"/>
              <a:ext cx="506520" cy="4082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0"/>
          <p:cNvGrpSpPr/>
          <p:nvPr/>
        </p:nvGrpSpPr>
        <p:grpSpPr>
          <a:xfrm>
            <a:off x="5616720" y="1844640"/>
            <a:ext cx="2266920" cy="1674360"/>
            <a:chOff x="5616720" y="1844640"/>
            <a:chExt cx="2266920" cy="1674360"/>
          </a:xfrm>
        </p:grpSpPr>
        <p:sp>
          <p:nvSpPr>
            <p:cNvPr id="234" name="AutoShape 21"/>
            <p:cNvSpPr/>
            <p:nvPr/>
          </p:nvSpPr>
          <p:spPr>
            <a:xfrm>
              <a:off x="5616720" y="3073680"/>
              <a:ext cx="2266920" cy="445320"/>
            </a:xfrm>
            <a:prstGeom prst="pie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2"/>
            <p:cNvSpPr/>
            <p:nvPr/>
          </p:nvSpPr>
          <p:spPr>
            <a:xfrm>
              <a:off x="6717600" y="1848240"/>
              <a:ext cx="714960" cy="1225800"/>
            </a:xfrm>
            <a:prstGeom prst="rtTriangle">
              <a:avLst/>
            </a:prstGeom>
            <a:solidFill>
              <a:srgbClr val="ff388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 flipH="1">
              <a:off x="5997240" y="1844640"/>
              <a:ext cx="714960" cy="1226160"/>
            </a:xfrm>
            <a:prstGeom prst="rtTriangle">
              <a:avLst/>
            </a:prstGeom>
            <a:solidFill>
              <a:srgbClr val="ff388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2771280" y="1163520"/>
            <a:ext cx="2095560" cy="2979720"/>
            <a:chOff x="2771280" y="1163520"/>
            <a:chExt cx="2095560" cy="2979720"/>
          </a:xfrm>
        </p:grpSpPr>
        <p:sp>
          <p:nvSpPr>
            <p:cNvPr id="238" name="Freeform 38"/>
            <p:cNvSpPr/>
            <p:nvPr/>
          </p:nvSpPr>
          <p:spPr>
            <a:xfrm>
              <a:off x="3803040" y="2543760"/>
              <a:ext cx="36360" cy="15994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39"/>
            <p:cNvGrpSpPr/>
            <p:nvPr/>
          </p:nvGrpSpPr>
          <p:grpSpPr>
            <a:xfrm>
              <a:off x="2771280" y="2742840"/>
              <a:ext cx="2095560" cy="901080"/>
              <a:chOff x="2771280" y="2742840"/>
              <a:chExt cx="2095560" cy="901080"/>
            </a:xfrm>
          </p:grpSpPr>
          <p:sp>
            <p:nvSpPr>
              <p:cNvPr id="240" name="Freeform 40"/>
              <p:cNvSpPr/>
              <p:nvPr/>
            </p:nvSpPr>
            <p:spPr>
              <a:xfrm>
                <a:off x="3790800" y="2742840"/>
                <a:ext cx="1076040" cy="901080"/>
              </a:xfrm>
              <a:prstGeom prst="pie">
                <a:avLst/>
              </a:prstGeom>
              <a:solidFill>
                <a:srgbClr val="008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 flipH="1">
                <a:off x="2770920" y="2742840"/>
                <a:ext cx="1076040" cy="901080"/>
              </a:xfrm>
              <a:prstGeom prst="pie">
                <a:avLst/>
              </a:prstGeom>
              <a:solidFill>
                <a:srgbClr val="008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Freeform 42"/>
            <p:cNvSpPr/>
            <p:nvPr/>
          </p:nvSpPr>
          <p:spPr>
            <a:xfrm rot="19665600">
              <a:off x="3254040" y="1412640"/>
              <a:ext cx="1281240" cy="1199520"/>
            </a:xfrm>
            <a:prstGeom prst="pi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51"/>
          <p:cNvSpPr/>
          <p:nvPr/>
        </p:nvSpPr>
        <p:spPr>
          <a:xfrm>
            <a:off x="1476360" y="1268280"/>
            <a:ext cx="34920" cy="291636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2"/>
          <p:cNvSpPr/>
          <p:nvPr/>
        </p:nvSpPr>
        <p:spPr>
          <a:xfrm>
            <a:off x="3851280" y="1268280"/>
            <a:ext cx="0" cy="302436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3"/>
          <p:cNvSpPr/>
          <p:nvPr/>
        </p:nvSpPr>
        <p:spPr>
          <a:xfrm>
            <a:off x="6696000" y="1413000"/>
            <a:ext cx="0" cy="277164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8"/>
          <p:cNvGrpSpPr/>
          <p:nvPr/>
        </p:nvGrpSpPr>
        <p:grpSpPr>
          <a:xfrm>
            <a:off x="5724360" y="4761000"/>
            <a:ext cx="2305080" cy="1490040"/>
            <a:chOff x="5724360" y="4761000"/>
            <a:chExt cx="2305080" cy="1490040"/>
          </a:xfrm>
        </p:grpSpPr>
        <p:sp>
          <p:nvSpPr>
            <p:cNvPr id="247" name="Oval 56"/>
            <p:cNvSpPr/>
            <p:nvPr/>
          </p:nvSpPr>
          <p:spPr>
            <a:xfrm>
              <a:off x="5724360" y="4832280"/>
              <a:ext cx="1871640" cy="14187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57"/>
            <p:cNvSpPr/>
            <p:nvPr/>
          </p:nvSpPr>
          <p:spPr>
            <a:xfrm flipH="1">
              <a:off x="7344360" y="5084640"/>
              <a:ext cx="312840" cy="9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8"/>
            <p:cNvSpPr/>
            <p:nvPr/>
          </p:nvSpPr>
          <p:spPr>
            <a:xfrm>
              <a:off x="5724360" y="551628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60"/>
            <p:cNvSpPr/>
            <p:nvPr/>
          </p:nvSpPr>
          <p:spPr>
            <a:xfrm>
              <a:off x="6553080" y="5229000"/>
              <a:ext cx="144360" cy="144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61"/>
            <p:cNvSpPr/>
            <p:nvPr/>
          </p:nvSpPr>
          <p:spPr>
            <a:xfrm>
              <a:off x="6229080" y="5047920"/>
              <a:ext cx="144720" cy="144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62"/>
            <p:cNvSpPr/>
            <p:nvPr/>
          </p:nvSpPr>
          <p:spPr>
            <a:xfrm>
              <a:off x="6804000" y="5013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3"/>
            <p:cNvSpPr/>
            <p:nvPr/>
          </p:nvSpPr>
          <p:spPr>
            <a:xfrm>
              <a:off x="6913440" y="5913360"/>
              <a:ext cx="144360" cy="144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64"/>
            <p:cNvSpPr/>
            <p:nvPr/>
          </p:nvSpPr>
          <p:spPr>
            <a:xfrm>
              <a:off x="6553080" y="5697360"/>
              <a:ext cx="144360" cy="144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5"/>
            <p:cNvSpPr/>
            <p:nvPr/>
          </p:nvSpPr>
          <p:spPr>
            <a:xfrm>
              <a:off x="6229080" y="5840280"/>
              <a:ext cx="144720" cy="144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66"/>
            <p:cNvSpPr/>
            <p:nvPr/>
          </p:nvSpPr>
          <p:spPr>
            <a:xfrm>
              <a:off x="7632720" y="5589360"/>
              <a:ext cx="396720" cy="66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67"/>
            <p:cNvSpPr/>
            <p:nvPr/>
          </p:nvSpPr>
          <p:spPr>
            <a:xfrm flipV="1">
              <a:off x="7632720" y="4761000"/>
              <a:ext cx="396720" cy="66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69"/>
          <p:cNvSpPr/>
          <p:nvPr/>
        </p:nvSpPr>
        <p:spPr>
          <a:xfrm>
            <a:off x="5003640" y="5516640"/>
            <a:ext cx="342108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73"/>
          <p:cNvGrpSpPr/>
          <p:nvPr/>
        </p:nvGrpSpPr>
        <p:grpSpPr>
          <a:xfrm>
            <a:off x="1619280" y="4976280"/>
            <a:ext cx="2678040" cy="1368360"/>
            <a:chOff x="1619280" y="4976280"/>
            <a:chExt cx="2678040" cy="1368360"/>
          </a:xfrm>
        </p:grpSpPr>
        <p:sp>
          <p:nvSpPr>
            <p:cNvPr id="260" name="AutoShape 55"/>
            <p:cNvSpPr/>
            <p:nvPr/>
          </p:nvSpPr>
          <p:spPr>
            <a:xfrm flipH="1" rot="5400000">
              <a:off x="1337400" y="5257800"/>
              <a:ext cx="1368360" cy="804960"/>
            </a:xfrm>
            <a:prstGeom prst="triangle">
              <a:avLst>
                <a:gd name="adj" fmla="val 50000"/>
              </a:avLst>
            </a:prstGeom>
            <a:solidFill>
              <a:srgbClr val="17bb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71"/>
            <p:cNvSpPr/>
            <p:nvPr/>
          </p:nvSpPr>
          <p:spPr>
            <a:xfrm rot="16200000">
              <a:off x="3210480" y="5257800"/>
              <a:ext cx="1368360" cy="804960"/>
            </a:xfrm>
            <a:prstGeom prst="triangle">
              <a:avLst>
                <a:gd name="adj" fmla="val 50000"/>
              </a:avLst>
            </a:prstGeom>
            <a:solidFill>
              <a:srgbClr val="17bb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2303640" y="5155920"/>
              <a:ext cx="1331640" cy="1079640"/>
            </a:xfrm>
            <a:prstGeom prst="rect">
              <a:avLst/>
            </a:prstGeom>
            <a:solidFill>
              <a:srgbClr val="ff79c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72"/>
          <p:cNvSpPr/>
          <p:nvPr/>
        </p:nvSpPr>
        <p:spPr>
          <a:xfrm>
            <a:off x="1258920" y="5661000"/>
            <a:ext cx="342108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4"/>
          <p:cNvSpPr/>
          <p:nvPr/>
        </p:nvSpPr>
        <p:spPr>
          <a:xfrm flipV="1">
            <a:off x="2987640" y="4653000"/>
            <a:ext cx="0" cy="201600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0059"/>
                </a:solidFill>
                <a:latin typeface="Verdana"/>
              </a:rPr>
              <a:t>Симметричные</a:t>
            </a:r>
            <a:r>
              <a:rPr b="1" lang="en-US" sz="3600" spc="-1" strike="noStrike">
                <a:solidFill>
                  <a:srgbClr val="e4005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e40059"/>
                </a:solidFill>
                <a:latin typeface="Verdana"/>
              </a:rPr>
              <a:t>фигуры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42200" cy="1071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Аполлон"/>
          <p:cNvPicPr/>
          <p:nvPr/>
        </p:nvPicPr>
        <p:blipFill>
          <a:blip r:embed="rId2"/>
          <a:stretch/>
        </p:blipFill>
        <p:spPr>
          <a:xfrm>
            <a:off x="3071880" y="85716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CRTN054"/>
          <p:cNvPicPr/>
          <p:nvPr/>
        </p:nvPicPr>
        <p:blipFill>
          <a:blip r:embed="rId3"/>
          <a:stretch/>
        </p:blipFill>
        <p:spPr>
          <a:xfrm>
            <a:off x="5929200" y="1071720"/>
            <a:ext cx="2347920" cy="1876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D:\Картинки\Природа\Цветы\FLW28.JPG"/>
          <p:cNvPicPr/>
          <p:nvPr/>
        </p:nvPicPr>
        <p:blipFill>
          <a:blip r:embed="rId4"/>
          <a:stretch/>
        </p:blipFill>
        <p:spPr>
          <a:xfrm>
            <a:off x="500040" y="3786120"/>
            <a:ext cx="2165400" cy="22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5"/>
          <a:stretch/>
        </p:blipFill>
        <p:spPr>
          <a:xfrm>
            <a:off x="357120" y="85716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http://stat21.privet.ru/lr/0c28d97c86dddf18d4383920f6c057c2"/>
          <p:cNvPicPr/>
          <p:nvPr/>
        </p:nvPicPr>
        <p:blipFill>
          <a:blip r:embed="rId6"/>
          <a:stretch/>
        </p:blipFill>
        <p:spPr>
          <a:xfrm>
            <a:off x="4143240" y="3571920"/>
            <a:ext cx="4405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4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4055760" cy="3429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3"/>
          <a:stretch/>
        </p:blipFill>
        <p:spPr>
          <a:xfrm>
            <a:off x="4572000" y="1785960"/>
            <a:ext cx="40258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7"/>
          <p:cNvGrpSpPr/>
          <p:nvPr/>
        </p:nvGrpSpPr>
        <p:grpSpPr>
          <a:xfrm>
            <a:off x="0" y="835200"/>
            <a:ext cx="9144000" cy="3852720"/>
            <a:chOff x="0" y="835200"/>
            <a:chExt cx="9144000" cy="3852720"/>
          </a:xfrm>
        </p:grpSpPr>
        <p:pic>
          <p:nvPicPr>
            <p:cNvPr id="278" name="Picture 4" descr="File0004"/>
            <p:cNvPicPr/>
            <p:nvPr/>
          </p:nvPicPr>
          <p:blipFill>
            <a:blip r:embed="rId1"/>
            <a:stretch/>
          </p:blipFill>
          <p:spPr>
            <a:xfrm>
              <a:off x="0" y="835200"/>
              <a:ext cx="914400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Line 6"/>
            <p:cNvSpPr/>
            <p:nvPr/>
          </p:nvSpPr>
          <p:spPr>
            <a:xfrm>
              <a:off x="250920" y="468612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1"/>
          <p:cNvGrpSpPr/>
          <p:nvPr/>
        </p:nvGrpSpPr>
        <p:grpSpPr>
          <a:xfrm>
            <a:off x="1079640" y="2276640"/>
            <a:ext cx="1584360" cy="2164680"/>
            <a:chOff x="1079640" y="2276640"/>
            <a:chExt cx="1584360" cy="2164680"/>
          </a:xfrm>
        </p:grpSpPr>
        <p:sp>
          <p:nvSpPr>
            <p:cNvPr id="281" name="Freeform 8"/>
            <p:cNvSpPr/>
            <p:nvPr/>
          </p:nvSpPr>
          <p:spPr>
            <a:xfrm flipH="1">
              <a:off x="1762920" y="2276640"/>
              <a:ext cx="358920" cy="54576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079640" y="4226040"/>
              <a:ext cx="179280" cy="215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2411280" y="2714400"/>
              <a:ext cx="252720" cy="3236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7"/>
          <p:cNvGrpSpPr/>
          <p:nvPr/>
        </p:nvGrpSpPr>
        <p:grpSpPr>
          <a:xfrm>
            <a:off x="3816000" y="2600280"/>
            <a:ext cx="1150920" cy="1722240"/>
            <a:chOff x="3816000" y="2600280"/>
            <a:chExt cx="1150920" cy="1722240"/>
          </a:xfrm>
        </p:grpSpPr>
        <p:sp>
          <p:nvSpPr>
            <p:cNvPr id="285" name="Freeform 12"/>
            <p:cNvSpPr/>
            <p:nvPr/>
          </p:nvSpPr>
          <p:spPr>
            <a:xfrm flipH="1">
              <a:off x="3815640" y="2765160"/>
              <a:ext cx="366840" cy="33660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 flipH="1">
              <a:off x="4482360" y="2600280"/>
              <a:ext cx="484200" cy="44280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 flipH="1">
              <a:off x="4203000" y="3306600"/>
              <a:ext cx="392040" cy="38556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3830760" y="3935160"/>
              <a:ext cx="357120" cy="38736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>
            <a:off x="590400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5688000" y="2383920"/>
            <a:ext cx="2708280" cy="867240"/>
            <a:chOff x="5688000" y="2383920"/>
            <a:chExt cx="2708280" cy="867240"/>
          </a:xfrm>
        </p:grpSpPr>
        <p:sp>
          <p:nvSpPr>
            <p:cNvPr id="291" name="Line 19"/>
            <p:cNvSpPr/>
            <p:nvPr/>
          </p:nvSpPr>
          <p:spPr>
            <a:xfrm flipH="1">
              <a:off x="5688000" y="2809800"/>
              <a:ext cx="21600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 flipH="1" flipV="1">
              <a:off x="6085080" y="2383920"/>
              <a:ext cx="21600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 flipH="1" flipV="1">
              <a:off x="6299280" y="2383920"/>
              <a:ext cx="21600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2"/>
            <p:cNvSpPr/>
            <p:nvPr/>
          </p:nvSpPr>
          <p:spPr>
            <a:xfrm flipH="1">
              <a:off x="5867280" y="2819160"/>
              <a:ext cx="21564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 flipH="1">
              <a:off x="6516720" y="2814480"/>
              <a:ext cx="21600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 flipV="1">
              <a:off x="7893360" y="2814480"/>
              <a:ext cx="502920" cy="21600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30"/>
          <p:cNvSpPr/>
          <p:nvPr/>
        </p:nvSpPr>
        <p:spPr>
          <a:xfrm>
            <a:off x="5688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5"/>
          <p:cNvGrpSpPr/>
          <p:nvPr/>
        </p:nvGrpSpPr>
        <p:grpSpPr>
          <a:xfrm>
            <a:off x="5940360" y="3573360"/>
            <a:ext cx="2592360" cy="759960"/>
            <a:chOff x="5940360" y="3573360"/>
            <a:chExt cx="2592360" cy="759960"/>
          </a:xfrm>
        </p:grpSpPr>
        <p:sp>
          <p:nvSpPr>
            <p:cNvPr id="299" name="Oval 26"/>
            <p:cNvSpPr/>
            <p:nvPr/>
          </p:nvSpPr>
          <p:spPr>
            <a:xfrm>
              <a:off x="6832440" y="3752640"/>
              <a:ext cx="108000" cy="144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7704000" y="4113000"/>
              <a:ext cx="108000" cy="144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9"/>
            <p:cNvSpPr/>
            <p:nvPr/>
          </p:nvSpPr>
          <p:spPr>
            <a:xfrm>
              <a:off x="7228080" y="3573360"/>
              <a:ext cx="215640" cy="27324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6219720" y="4010040"/>
              <a:ext cx="220320" cy="323280"/>
              <a:chOff x="6219720" y="4010040"/>
              <a:chExt cx="220320" cy="323280"/>
            </a:xfrm>
          </p:grpSpPr>
          <p:sp>
            <p:nvSpPr>
              <p:cNvPr id="303" name="Freeform 28"/>
              <p:cNvSpPr/>
              <p:nvPr/>
            </p:nvSpPr>
            <p:spPr>
              <a:xfrm flipV="1">
                <a:off x="6247800" y="4082760"/>
                <a:ext cx="192240" cy="250560"/>
              </a:xfrm>
              <a:prstGeom prst="pie">
                <a:avLst/>
              </a:pr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 flipH="1" flipV="1">
                <a:off x="6219720" y="4010040"/>
                <a:ext cx="57600" cy="87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33"/>
            <p:cNvSpPr/>
            <p:nvPr/>
          </p:nvSpPr>
          <p:spPr>
            <a:xfrm flipV="1">
              <a:off x="5940360" y="3865320"/>
              <a:ext cx="17964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4"/>
            <p:cNvSpPr/>
            <p:nvPr/>
          </p:nvSpPr>
          <p:spPr>
            <a:xfrm flipV="1">
              <a:off x="7956720" y="4002120"/>
              <a:ext cx="576000" cy="19368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35"/>
          <p:cNvSpPr/>
          <p:nvPr/>
        </p:nvSpPr>
        <p:spPr>
          <a:xfrm>
            <a:off x="0" y="714240"/>
            <a:ext cx="892980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рисуй рисунки, сделав их симметрич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http://cs4135.userapi.com/u12452221/-1/x_ae180871.jpg"/>
          <p:cNvPicPr/>
          <p:nvPr/>
        </p:nvPicPr>
        <p:blipFill>
          <a:blip r:embed="rId1"/>
          <a:stretch/>
        </p:blipFill>
        <p:spPr>
          <a:xfrm rot="2041800">
            <a:off x="5368680" y="2771640"/>
            <a:ext cx="2904840" cy="3625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http://img1.liveinternet.ru/images/attach/c/3/76/162/76162533_57r.jpg"/>
          <p:cNvPicPr/>
          <p:nvPr/>
        </p:nvPicPr>
        <p:blipFill>
          <a:blip r:embed="rId2"/>
          <a:stretch/>
        </p:blipFill>
        <p:spPr>
          <a:xfrm>
            <a:off x="1000080" y="1000080"/>
            <a:ext cx="3976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8" descr="i?id=398779551-51-72&amp;n=21"/>
          <p:cNvPicPr/>
          <p:nvPr/>
        </p:nvPicPr>
        <p:blipFill>
          <a:blip r:embed="rId1"/>
          <a:srcRect l="0" t="0" r="4924" b="9499"/>
          <a:stretch/>
        </p:blipFill>
        <p:spPr>
          <a:xfrm>
            <a:off x="3348000" y="2205000"/>
            <a:ext cx="5214960" cy="350064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6"/>
          <p:cNvGrpSpPr/>
          <p:nvPr/>
        </p:nvGrpSpPr>
        <p:grpSpPr>
          <a:xfrm>
            <a:off x="214200" y="285840"/>
            <a:ext cx="3071880" cy="4429080"/>
            <a:chOff x="214200" y="285840"/>
            <a:chExt cx="3071880" cy="4429080"/>
          </a:xfrm>
        </p:grpSpPr>
        <p:pic>
          <p:nvPicPr>
            <p:cNvPr id="312" name="Picture 6" descr="http://www.k6-geometric-shapes.com/image-files/ws-t2-symmetry.jpg"/>
            <p:cNvPicPr/>
            <p:nvPr/>
          </p:nvPicPr>
          <p:blipFill>
            <a:blip r:embed="rId2"/>
            <a:stretch/>
          </p:blipFill>
          <p:spPr>
            <a:xfrm>
              <a:off x="214200" y="285840"/>
              <a:ext cx="305712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Прямоугольник 5"/>
            <p:cNvSpPr/>
            <p:nvPr/>
          </p:nvSpPr>
          <p:spPr>
            <a:xfrm>
              <a:off x="214200" y="3786480"/>
              <a:ext cx="3071880" cy="857160"/>
            </a:xfrm>
            <a:prstGeom prst="rect">
              <a:avLst/>
            </a:prstGeom>
            <a:solidFill>
              <a:srgbClr val="ffffff"/>
            </a:solidFill>
            <a:ln w="42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Мелодия для тренинга.mp3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519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35886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/>
          <p:cNvSpPr/>
          <p:nvPr/>
        </p:nvSpPr>
        <p:spPr>
          <a:xfrm>
            <a:off x="3714840" y="1285920"/>
            <a:ext cx="504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ознакомился с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оня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узна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научил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овтори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запомни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pictures.ucoz.ru/_ph/3/2/700375728.png"/>
          <p:cNvPicPr/>
          <p:nvPr/>
        </p:nvPicPr>
        <p:blipFill>
          <a:blip r:embed="rId1"/>
          <a:stretch/>
        </p:blipFill>
        <p:spPr>
          <a:xfrm>
            <a:off x="357120" y="857160"/>
            <a:ext cx="40006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31:04Z</dcterms:created>
  <dc:creator>i</dc:creator>
  <dc:description/>
  <dc:language>en-US</dc:language>
  <cp:lastModifiedBy>Office</cp:lastModifiedBy>
  <dcterms:modified xsi:type="dcterms:W3CDTF">2014-02-21T07:27:47Z</dcterms:modified>
  <cp:revision>50</cp:revision>
  <dc:subject/>
  <dc:title>«Симметрия».</dc:title>
</cp:coreProperties>
</file>