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7F3-12F4-4260-9E5A-E1657011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3AB-FF72-4E16-8E37-37841458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8E2-34B4-4373-BBF8-B483374B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7DB-681F-4DEF-84D6-D968887F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E8E-EE00-4328-908B-853CA117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411-6B10-4D56-9CB7-663DA059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E16-A345-4931-95F5-4FC082D3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7E3-4731-48F7-BDCB-AB705B71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F05-4827-41C8-B9DD-9E77BDA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779-2F0B-4D60-A1A8-3C61587E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1AA-8457-4AF0-9DE5-D2501A8A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84D-54C2-4400-A30B-A8E1A82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E12-BE8B-4133-9844-C084B9A8B3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enaranko.ucoz.ru/" TargetMode="External"/><Relationship Id="rId3" Type="http://schemas.openxmlformats.org/officeDocument/2006/relationships/hyperlink" Target="http://elenaranko.ucoz.ru/" TargetMode="External"/><Relationship Id="rId4" Type="http://schemas.openxmlformats.org/officeDocument/2006/relationships/hyperlink" Target="http://elenaranko.ucoz.ru/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1358.photobucket.com/albums/q761/COBANKIZI/0_601c3_552eca8e_L_zps22761d86.png" TargetMode="External"/><Relationship Id="rId3" Type="http://schemas.openxmlformats.org/officeDocument/2006/relationships/hyperlink" Target="http://img-fotki.yandex.ru/get/4706/28257045.5ec/0_6f5cf_5329c14_XL.png" TargetMode="External"/><Relationship Id="rId4" Type="http://schemas.openxmlformats.org/officeDocument/2006/relationships/hyperlink" Target="http://img-fotki.yandex.ru/get/4706/28257045.5ec/0_6f5cf_5329c14_XL.png" TargetMode="External"/><Relationship Id="rId5" Type="http://schemas.openxmlformats.org/officeDocument/2006/relationships/hyperlink" Target="http://img-fotki.yandex.ru/get/4706/28257045.5ec/0_6f5cf_5329c14_XL.png" TargetMode="External"/><Relationship Id="rId6" Type="http://schemas.openxmlformats.org/officeDocument/2006/relationships/hyperlink" Target="http://img-fotki.yandex.ru/get/4706/28257045.5ec/0_6f5cf_5329c14_XL.png" TargetMode="External"/><Relationship Id="rId7" Type="http://schemas.openxmlformats.org/officeDocument/2006/relationships/hyperlink" Target="http://img-fotki.yandex.ru/get/4706/28257045.5ec/0_6f5cf_5329c14_XL.png" TargetMode="External"/><Relationship Id="rId8" Type="http://schemas.openxmlformats.org/officeDocument/2006/relationships/hyperlink" Target="http://img-fotki.yandex.ru/get/4706/28257045.5ec/0_6f5cf_5329c14_XL.png" TargetMode="External"/><Relationship Id="rId9" Type="http://schemas.openxmlformats.org/officeDocument/2006/relationships/hyperlink" Target="http://www.tre-art.ru/images/katalogi/zavitki-i-vinyetki/uglovye/cvetochnye/355_ugol_tre-art.jpg" TargetMode="External"/><Relationship Id="rId10" Type="http://schemas.openxmlformats.org/officeDocument/2006/relationships/hyperlink" Target="http://www.tre-art.ru/images/katalogi/zavitki-i-vinyetki/uglovye/cvetochnye/355_ugol_tre-art.jpg" TargetMode="External"/><Relationship Id="rId11" Type="http://schemas.openxmlformats.org/officeDocument/2006/relationships/hyperlink" Target="http://www.tre-art.ru/images/katalogi/zavitki-i-vinyetki/uglovye/cvetochnye/355_ugol_tre-art.jpg" TargetMode="External"/><Relationship Id="rId12" Type="http://schemas.openxmlformats.org/officeDocument/2006/relationships/hyperlink" Target="http://www.tre-art.ru/images/katalogi/zavitki-i-vinyetki/uglovye/cvetochnye/355_ugol_tre-art.jpg" TargetMode="External"/><Relationship Id="rId13" Type="http://schemas.openxmlformats.org/officeDocument/2006/relationships/hyperlink" Target="http://www.tre-art.ru/images/katalogi/zavitki-i-vinyetki/uglovye/cvetochnye/355_ugol_tre-art.jpg" TargetMode="External"/><Relationship Id="rId14" Type="http://schemas.openxmlformats.org/officeDocument/2006/relationships/hyperlink" Target="http://www.tre-art.ru/images/katalogi/zavitki-i-vinyetki/uglovye/cvetochnye/355_ugol_tre-art.jpg" TargetMode="External"/><Relationship Id="rId15" Type="http://schemas.openxmlformats.org/officeDocument/2006/relationships/hyperlink" Target="http://www.tre-art.ru/images/katalogi/zavitki-i-vinyetki/uglovye/cvetochnye/355_ugol_tre-art.jpg" TargetMode="External"/><Relationship Id="rId16" Type="http://schemas.openxmlformats.org/officeDocument/2006/relationships/hyperlink" Target="http://www.tre-art.ru/images/katalogi/zavitki-i-vinyetki/uglovye/cvetochnye/355_ugol_tre-art.jpg" TargetMode="External"/><Relationship Id="rId17" Type="http://schemas.openxmlformats.org/officeDocument/2006/relationships/hyperlink" Target="http://www.tre-art.ru/images/katalogi/zavitki-i-vinyetki/uglovye/cvetochnye/355_ugol_tre-art.jpg" TargetMode="External"/><Relationship Id="rId18" Type="http://schemas.openxmlformats.org/officeDocument/2006/relationships/hyperlink" Target="http://www.tre-art.ru/images/katalogi/zavitki-i-vinyetki/uglovye/cvetochnye/355_ugol_tre-art.jpg" TargetMode="External"/><Relationship Id="rId19" Type="http://schemas.openxmlformats.org/officeDocument/2006/relationships/hyperlink" Target="http://www.tre-art.ru/images/katalogi/zavitki-i-vinyetki/uglovye/cvetochnye/355_ugol_tre-art.jpg" TargetMode="External"/><Relationship Id="rId20" Type="http://schemas.openxmlformats.org/officeDocument/2006/relationships/hyperlink" Target="http://www.tre-art.ru/images/katalogi/zavitki-i-vinyetki/uglovye/cvetochnye/355_ugol_tre-art.jpg" TargetMode="External"/><Relationship Id="rId21" Type="http://schemas.openxmlformats.org/officeDocument/2006/relationships/hyperlink" Target="http://www.tre-art.ru/images/katalogi/zavitki-i-vinyetki/uglovye/cvetochnye/355_ugol_tre-art.jpg" TargetMode="External"/><Relationship Id="rId22" Type="http://schemas.openxmlformats.org/officeDocument/2006/relationships/hyperlink" Target="http://www.tre-art.ru/images/katalogi/zavitki-i-vinyetki/uglovye/cvetochnye/355_ugol_tre-art.jpg" TargetMode="External"/><Relationship Id="rId23" Type="http://schemas.openxmlformats.org/officeDocument/2006/relationships/hyperlink" Target="http://img-fotki.yandex.ru/get/4526/66124276.2c/0_65b3d_a86714c3_XXXL.png" TargetMode="External"/><Relationship Id="rId24" Type="http://schemas.openxmlformats.org/officeDocument/2006/relationships/hyperlink" Target="http://img-fotki.yandex.ru/get/4526/66124276.2c/0_65b3d_a86714c3_XXXL.png" TargetMode="External"/><Relationship Id="rId25" Type="http://schemas.openxmlformats.org/officeDocument/2006/relationships/hyperlink" Target="http://img-fotki.yandex.ru/get/4526/66124276.2c/0_65b3d_a86714c3_XXXL.png" TargetMode="External"/><Relationship Id="rId26" Type="http://schemas.openxmlformats.org/officeDocument/2006/relationships/hyperlink" Target="http://img-fotki.yandex.ru/get/4526/66124276.2c/0_65b3d_a86714c3_XXXL.png" TargetMode="External"/><Relationship Id="rId27" Type="http://schemas.openxmlformats.org/officeDocument/2006/relationships/hyperlink" Target="http://img-fotki.yandex.ru/get/4526/66124276.2c/0_65b3d_a86714c3_XXXL.png" TargetMode="External"/><Relationship Id="rId28" Type="http://schemas.openxmlformats.org/officeDocument/2006/relationships/hyperlink" Target="http://img-fotki.yandex.ru/get/4526/66124276.2c/0_65b3d_a86714c3_XXXL.png" TargetMode="External"/><Relationship Id="rId29" Type="http://schemas.openxmlformats.org/officeDocument/2006/relationships/hyperlink" Target="http://img-fotki.yandex.ru/get/6302/83813999.36c/0_8e3f3_71083627_S" TargetMode="External"/><Relationship Id="rId30" Type="http://schemas.openxmlformats.org/officeDocument/2006/relationships/hyperlink" Target="http://img-fotki.yandex.ru/get/6302/83813999.36c/0_8e3f3_71083627_S" TargetMode="External"/><Relationship Id="rId31" Type="http://schemas.openxmlformats.org/officeDocument/2006/relationships/hyperlink" Target="http://img-fotki.yandex.ru/get/6302/83813999.36c/0_8e3f3_71083627_S" TargetMode="External"/><Relationship Id="rId32" Type="http://schemas.openxmlformats.org/officeDocument/2006/relationships/hyperlink" Target="http://img-fotki.yandex.ru/get/6302/83813999.36c/0_8e3f3_71083627_S" TargetMode="External"/><Relationship Id="rId33" Type="http://schemas.openxmlformats.org/officeDocument/2006/relationships/hyperlink" Target="http://img-fotki.yandex.ru/get/6302/83813999.36c/0_8e3f3_71083627_S" TargetMode="External"/><Relationship Id="rId34" Type="http://schemas.openxmlformats.org/officeDocument/2006/relationships/hyperlink" Target="http://img-fotki.yandex.ru/get/6302/83813999.36c/0_8e3f3_71083627_S" TargetMode="External"/><Relationship Id="rId35" Type="http://schemas.openxmlformats.org/officeDocument/2006/relationships/hyperlink" Target="http://img-fotki.yandex.ru/get/6302/83813999.36c/0_8e3f3_71083627_S" TargetMode="External"/><Relationship Id="rId36" Type="http://schemas.openxmlformats.org/officeDocument/2006/relationships/hyperlink" Target="http://img-fotki.yandex.ru/get/6302/83813999.36c/0_8e3f3_71083627_S" TargetMode="External"/><Relationship Id="rId37" Type="http://schemas.openxmlformats.org/officeDocument/2006/relationships/hyperlink" Target="http://img-fotki.yandex.ru/get/6302/83813999.36c/0_8e3f3_71083627_S" TargetMode="External"/><Relationship Id="rId38" Type="http://schemas.openxmlformats.org/officeDocument/2006/relationships/hyperlink" Target="http://img-fotki.yandex.ru/get/6302/83813999.36c/0_8e3f3_71083627_S" TargetMode="External"/><Relationship Id="rId39" Type="http://schemas.openxmlformats.org/officeDocument/2006/relationships/hyperlink" Target="http://img-fotki.yandex.ru/get/6302/83813999.36c/0_8e3f3_71083627_S" TargetMode="External"/><Relationship Id="rId40" Type="http://schemas.openxmlformats.org/officeDocument/2006/relationships/hyperlink" Target="http://img-fotki.yandex.ru/get/6302/83813999.36c/0_8e3f3_71083627_S" TargetMode="External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ая русская литератур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энтези («Жизнь насекомых» (1993) В.Пелев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нтастический роман («Тавро Кассандры» Чингиза Айтмат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стико-политический триллер («Стражница» Анатолия Курчатк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ротический роман («Эрон» Ан. Курчаткина, «Дорога в Рим» Н.Климант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ерн («Мы можем всё» Александра Черниц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нтюрный роман («Я не я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к-баллада («Кумир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тной романс («Крюк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ичный романс («Братья!» Алексей Слаповск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детектив (Борис Акун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ский детектив (Дарья Донцова, Татьяна Поляк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ушение культурных запр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употребление ненормативной лексики (Эдуард Лимонов «Это я – Эдичка!», Т.Кибиров, В.Ерофее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бсуждение проблем наркотиков и сексуальных меньшинств (Евгений Харитонов «Слёзы на цветах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изображение порнографических сцен (В.Сорокин «Лёд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е популярн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летристика  - «детектив, написанный хорошим языком». Стремление создать жанр для вс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роза, проза вымысла (создание виртуальных мир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ейшая русск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аноз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осковское врем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льмана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туазные маньер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ть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уб «Поэз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ный салон «Зелёная ламп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роническ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ёткая гражданская 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рония общая, осмеяние человеческого существования в целом (В.Вишневский «Пожизни – выжива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жизни - доживаем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рония к «совку», к советскому обывателю, прошл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дение в текст «чужих» ци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жизн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осмотр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холодным вниманьем вокруг,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й вытрезвител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л. Дру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шь с вниманьем вок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о что б холодным, но все ж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о выпадает из ру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оз пробирает по кож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Игорь Иртенье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хожу один я на дорог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таромодном ветхом зипун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чь тиха, пустыня внемлет Бог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очем,  речь пойдёт не обо м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чался век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ло, мело во все предел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характерно, падал снег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ём, что интересно белый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Игорь Иртеньев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туальн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-АРТ: разрушение культуры соцреализма, опровержение этой культуры, разложение на элементы – концепты (лозунги, культурные мифы, разговорные клише советской эпох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елка советских лозунг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ш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цель – коммуниз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талий комар и Александр Мелам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ы «маленького человека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я курицу зажар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ваться гр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 ведь я ведь и не жалую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я – лучше все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же совестно, нет си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поди ж ты –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у курицу сгуби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меня стр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 «великого русского поэта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я пакостный могуч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раканов стаи ту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гоняю неустан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ивятся тарак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устанству моем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ротивно ль само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о, против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что поделаеш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ность эст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туралист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ангардист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модернист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истическая (освобождение от идеологической заданн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туальн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КОНЦЕПТУАЛИСТЫ: создают свой язык путем вторичного использования речевых штампов, пословиц, поговорок, строк песе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бор как из осколков корабля стихотворений, но в неправильном поряд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грич Бахчанян «Крылаты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апаев: - А Васька слушает да ес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олеон: - В Москву, в Москву, в Москв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адник без головы: - Горе от у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зиф: - Кто не работает, тот не е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ская: - С милым рай и в шала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влик Морозов: - Чти отца своег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дип: - И матерь св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трофан: - Я знаю только то, что не зн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уда: Язык родных оси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т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роизведение, составленное из фрагментов других произве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 Рубинштейн. Жанр картот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так. Нача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Хорошо. Дальш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. Замечательно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. Прекрасно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1. Стоп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. Стоп! Сначал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И в сознани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минимализм – поэзия не только малых форм, но и поэзия минимального авторского присутствия и воз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оит из междометий, интонаций, пау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Не мы владеем языком, а язык владеет нам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волод Нек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ох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нас-то хорош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них плох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у них плох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у нас хорош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 уж т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му ч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н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у них ч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эзия имид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ка на игру с авторским образ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степенное значение внешнего облика, имени, поведения, жизни, только потом – творческая прак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митьки (по имени Дмитрия Шагина, 1985). Их атрибуты – тельняшки, ватники, борода лопатой, любовь к портвейну, обжорству, скромный запас лекс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куртуазный маньери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ЫК!?.. ЁЛКИ-ПАЛК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36100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к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у, елы-палы!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к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лы-палы!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3860640"/>
            <a:ext cx="44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карушки б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бледные ножки торч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холодной зелёной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Шаг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классическая 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Метареализм – интеллектуальная поэзия, попытка создания сакральной поэтической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льга Седак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лена Швар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ван Жд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ктор Кривул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критический сентимент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трока – одно существительное, выражающее главную тему cинквей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строка – два прилагательных, выражающих главную мыс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строка – три глагола, описывающие действия в рамках 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строка – фраза, несущая определенный смыс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строка – заключение в форме существительного (ассоциация с первым слово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4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ивная, бурн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итывает, развивает, уч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ет возможность реализовать себ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юбов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азочная, фантастическ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ходит, окрыляет, убег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ержать ее умеют един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ч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7-1988 – возвращение из «подполь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.А.Булгаков «Собачье сердц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П.Платонов «Котлован», «Чевенгу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Л.Пастернак «Доктор Жива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А.Ахматова «Реквие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.Мандельштам «Воронежские тетрад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908000" y="692280"/>
            <a:ext cx="6409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можете использовать данное оформ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шаблон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elenaranko.ucoz.ru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2340000" y="476280"/>
            <a:ext cx="48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258920" y="1197000"/>
            <a:ext cx="73454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i1358.photobucket.com/albums/q761/COBANKIZI/0_601c3_552eca8e_L_zps22761d86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кор с круг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img-fotki.yandex.ru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get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/4706/28257045.5ec/0_6f5cf_5329c14_XL.p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ртинка для создания фона и рам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:/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1"/>
              </a:rPr>
              <a:t>www.tre-art.ru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3"/>
              </a:rPr>
              <a:t>images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5"/>
              </a:rPr>
              <a:t>katalogi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7"/>
              </a:rPr>
              <a:t>zavitki-i-vinyetki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9"/>
              </a:rPr>
              <a:t>uglovye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0"/>
              </a:rPr>
              <a:t>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1"/>
              </a:rPr>
              <a:t>cvetochnye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2"/>
              </a:rPr>
              <a:t>/355_ugol_tre-art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веточный уго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3"/>
              </a:rPr>
              <a:t>http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4"/>
              </a:rPr>
              <a:t>://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5"/>
              </a:rPr>
              <a:t>img-fotki.yandex.ru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6"/>
              </a:rPr>
              <a:t>/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7"/>
              </a:rPr>
              <a:t>get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28"/>
              </a:rPr>
              <a:t>/4526/66124276.2c/0_65b3d_a86714c3_XXXL.pn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абочка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29"/>
              </a:rPr>
              <a:t>http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0"/>
              </a:rPr>
              <a:t>://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1"/>
              </a:rPr>
              <a:t>img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2"/>
              </a:rPr>
              <a:t>-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3"/>
              </a:rPr>
              <a:t>fotki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4"/>
              </a:rPr>
              <a:t>.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5"/>
              </a:rPr>
              <a:t>yandex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7"/>
              </a:rPr>
              <a:t>ru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38"/>
              </a:rPr>
              <a:t>/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Times New Roman"/>
                <a:hlinkClick r:id="rId39"/>
              </a:rPr>
              <a:t>get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40"/>
              </a:rPr>
              <a:t>/6302/83813999.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/0_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_71083627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абочка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9-1990 – возвращение литературы русского зарубеж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осиф Брод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ладимир Наб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асилий Аксё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гей Довл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ктор Некра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ша Сок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ександр Солженицы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билитация истории и запрещённой слове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становление исторической прав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равление «новая историческая проза», характеризующаяся чёткой гражданской позиц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ители: Ф.Абрамов, В. Астафьев, Ю. Трифонов, Анатолий Рыбаков «Дети Арбата», Вл.Дудинцев «Белые одежды», Ан. Приставкин «Ночевала тучка золотая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ес к чт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союзная Читаль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ст тиражей периодических изданий («Новый мир», 1990 – 2 710 000 экз., 1999 – 15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– год Солженицы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– статья Виктора Ерофеева «Поминки по советской литератур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модернизм (40-е годы в западной культур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мысление мира как хаоса, как текста, осознание разорванности, фрагментарности бы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текстуальность – соотнесённость текста с другими литературными источ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тип взаимоотношений между литературой и читателем. Читатель – соавтор тек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риятие художественных ценностей многозначно. Литература – интеллектуальная иг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гляд писателя часто ироничен, парадокса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стское повествование – книга о литературе, о кни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: Андрей Битов, Венедикт Ерофее, Саша Соколов, Татьяна Толстая, Иосиф Брод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керовская премия. «Русский бук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авторов, пишущих на русском языке и изд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вижение номинантов критиками 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li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з них 6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-li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з них 1 букерат (премия 15 тыс. доллар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Балат Окуджава (1994) «Упразднённый театр», Л.Улицкая (2001) «Казус Кукоцког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направления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6778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модернизм (Марк Харитон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еализм (В.Маканин, Л.Петрушевская), внимание к судьбе частного человека, одинокого, самоопределяющего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1</cp:lastModifiedBy>
  <dcterms:modified xsi:type="dcterms:W3CDTF">2014-05-18T13:14:21Z</dcterms:modified>
  <cp:revision>62</cp:revision>
  <dc:subject/>
  <dc:title>Название презентации</dc:title>
</cp:coreProperties>
</file>