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8CAB-8E93-4955-BC85-07F62F5241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253D-BB61-48B5-AB6E-130A2990D2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6E2A-DA2E-4D83-9340-65255A80F9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E347-9F2E-42A6-B1D4-290B01DD2A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0E9F-6D75-4499-8090-643BC91827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9DF2-CB33-449B-B0AE-6CAF54B412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A2BD-BEBA-4919-939A-DEB0843B65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35EC-6A96-4F5A-BFCC-FEE25471FF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7667-421E-4538-B8FE-4DFAA86CD4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D843-E245-4DD4-8B65-B565374FED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BC92-50AC-4E7B-A3E7-1FEAEE762D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6EEC-CEFF-482D-A182-64B1E79716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43AA-F307-4FE1-93FF-4524AB4C94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0E86-F796-43B8-841D-40AB502356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550A-5AF2-4C2E-9DD7-6E9FA0A1AA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036B-C250-443B-B034-883047C143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B484-D6C0-4790-8ED0-5E0AF09390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8AD3-1382-4E35-80E4-FC9C0D88D4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D889-DDF4-4AE9-B98B-E8CBA8E531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203F-C70A-4188-AEF3-7F9207D85B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534D-AE76-419A-B93A-9E1BB47586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1723-D402-48FA-80FF-755978AFD8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45EF-B397-48F6-9CEC-2572984CCB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6875-481F-44D8-95D7-5018605CCD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AE6D-DE28-4147-83D3-EDF4C35029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C0EC-6753-45CD-8B37-AE9ED0BECA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60BB-134F-4796-8BA5-42EA48DF1E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D916-32E7-4B05-84C6-09048E13D2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EE98-A346-40C3-9323-1168C65F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35A3-6969-4F95-B8BB-5095E95E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8622-A00E-46D0-B74D-BF885D29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BBE-04BC-46B3-8983-B3A1DB80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D8A-76E2-4AF7-A0C8-C23D1395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9B1-F0B0-4EE7-A9CE-FAFBE95C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78A-778A-4775-BDE6-95C40BC6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881-E621-4F07-B500-C84EA335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709-6F84-436E-9464-5DBB7439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03C-A53F-45D8-BFC5-3E4B510E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5CE-70EC-40DE-A958-0F73B45F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F7BF-4A04-4037-92F0-76EEE91E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4B03-C488-40A3-81A2-589793193D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7.xm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106200" y="189000"/>
            <a:ext cx="8937360" cy="6668640"/>
            <a:chOff x="106200" y="189000"/>
            <a:chExt cx="8937360" cy="6668640"/>
          </a:xfrm>
        </p:grpSpPr>
        <p:sp>
          <p:nvSpPr>
            <p:cNvPr id="49" name="Line 8"/>
            <p:cNvSpPr/>
            <p:nvPr/>
          </p:nvSpPr>
          <p:spPr>
            <a:xfrm>
              <a:off x="106200" y="18900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9"/>
            <p:cNvSpPr/>
            <p:nvPr/>
          </p:nvSpPr>
          <p:spPr>
            <a:xfrm>
              <a:off x="106200" y="18900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0"/>
            <p:cNvSpPr/>
            <p:nvPr/>
          </p:nvSpPr>
          <p:spPr>
            <a:xfrm>
              <a:off x="106200" y="685764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1"/>
            <p:cNvSpPr/>
            <p:nvPr/>
          </p:nvSpPr>
          <p:spPr>
            <a:xfrm>
              <a:off x="9043560" y="18900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AutoShape 12">
            <a:hlinkClick r:id="" action="ppaction://hlinkshowjump?jump=nextslide"/>
          </p:cNvPr>
          <p:cNvSpPr/>
          <p:nvPr/>
        </p:nvSpPr>
        <p:spPr>
          <a:xfrm>
            <a:off x="8229600" y="60562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cc7ab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3017880" y="3438360"/>
            <a:ext cx="2498760" cy="2024280"/>
          </a:xfrm>
          <a:prstGeom prst="rect">
            <a:avLst/>
          </a:prstGeom>
          <a:ln w="0">
            <a:noFill/>
          </a:ln>
        </p:spPr>
      </p:pic>
      <p:sp>
        <p:nvSpPr>
          <p:cNvPr id="55" name="Скругленный прямоугольник 1"/>
          <p:cNvSpPr/>
          <p:nvPr/>
        </p:nvSpPr>
        <p:spPr>
          <a:xfrm>
            <a:off x="228600" y="1371600"/>
            <a:ext cx="8294760" cy="18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Учебный тренажёр по 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Правописание слов с чередующими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гласными в кор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Буквы а-о в корне -лаг, -ло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3"/>
          <p:cNvSpPr/>
          <p:nvPr/>
        </p:nvSpPr>
        <p:spPr>
          <a:xfrm>
            <a:off x="914400" y="304920"/>
            <a:ext cx="6705720" cy="59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МБОУ Греково-Степано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4"/>
          <p:cNvSpPr/>
          <p:nvPr/>
        </p:nvSpPr>
        <p:spPr>
          <a:xfrm>
            <a:off x="1219320" y="5791320"/>
            <a:ext cx="594360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bf8d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Киселева Ольга Александ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9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7. Найди ошибку в написани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d8c4"/>
              </a:gs>
              <a:gs pos="100000">
                <a:srgbClr val="f8d8c4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ло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d49c"/>
              </a:gs>
              <a:gs pos="100000">
                <a:srgbClr val="fddec7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л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d49c"/>
              </a:gs>
              <a:gs pos="100000">
                <a:srgbClr val="fddec7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дло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d49c"/>
              </a:gs>
              <a:gs pos="100000">
                <a:srgbClr val="fddec7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прилаг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42" dur="indefinite" restart="never" nodeType="tmRoot">
          <p:childTnLst>
            <p:seq>
              <p:cTn id="64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44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68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692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716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10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8. Найди ошибку в написани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27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улож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bd49c"/>
              </a:gs>
            </a:gsLst>
            <a:lin ang="27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ед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27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азлог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bd49c"/>
              </a:gs>
            </a:gsLst>
            <a:lin ang="27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предполож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39" dur="indefinite" restart="never" nodeType="tmRoot">
          <p:childTnLst>
            <p:seq>
              <p:cTn id="740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741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0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765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789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9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813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2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9. Найди ошибку в написани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d8c4"/>
              </a:gs>
              <a:gs pos="100000">
                <a:srgbClr val="fbd49c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тихосл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bd49c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ало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d8c4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ло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957240" y="5056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bd49c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располож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6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8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36" dur="indefinite" restart="never" nodeType="tmRoot">
          <p:childTnLst>
            <p:seq>
              <p:cTn id="837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838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8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1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862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1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886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9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9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910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4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10. Найди ошибку в написани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d8c4"/>
              </a:gs>
              <a:gs pos="100000">
                <a:srgbClr val="fbd49c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зло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bd49c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т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4"/>
          <p:cNvSpPr/>
          <p:nvPr/>
        </p:nvSpPr>
        <p:spPr>
          <a:xfrm>
            <a:off x="9777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8d8c4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лаг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bd49c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распологаю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8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9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33" dur="indefinite" restart="never" nodeType="tmRoot">
          <p:childTnLst>
            <p:seq>
              <p:cTn id="934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935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3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4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4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959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8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983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8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2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6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007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1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228600" y="10008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5">
            <a:hlinkClick r:id="rId1" action="ppaction://hlinksldjump"/>
          </p:cNvPr>
          <p:cNvSpPr/>
          <p:nvPr/>
        </p:nvSpPr>
        <p:spPr>
          <a:xfrm>
            <a:off x="1108080" y="1143000"/>
            <a:ext cx="69343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d8c4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нания отличные! Перехожу к упражнения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6">
            <a:hlinkClick r:id="rId2" action="ppaction://hlinksldjump"/>
          </p:cNvPr>
          <p:cNvSpPr/>
          <p:nvPr/>
        </p:nvSpPr>
        <p:spPr>
          <a:xfrm>
            <a:off x="1219320" y="4114800"/>
            <a:ext cx="70102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Было много ошибок, необходимо поработать с прави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71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5" name="Рисунок 2" descr=""/>
          <p:cNvPicPr/>
          <p:nvPr/>
        </p:nvPicPr>
        <p:blipFill>
          <a:blip r:embed="rId4"/>
          <a:stretch/>
        </p:blipFill>
        <p:spPr>
          <a:xfrm>
            <a:off x="3328920" y="5035680"/>
            <a:ext cx="2193840" cy="19447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3" descr=""/>
          <p:cNvPicPr/>
          <p:nvPr/>
        </p:nvPicPr>
        <p:blipFill>
          <a:blip r:embed="rId5"/>
          <a:stretch/>
        </p:blipFill>
        <p:spPr>
          <a:xfrm>
            <a:off x="3328920" y="2066760"/>
            <a:ext cx="2193840" cy="2041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0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278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AutoShape 14">
            <a:hlinkClick r:id="" action="ppaction://hlinkshowjump?jump=nextslide"/>
          </p:cNvPr>
          <p:cNvSpPr/>
          <p:nvPr/>
        </p:nvSpPr>
        <p:spPr>
          <a:xfrm>
            <a:off x="8123400" y="617220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gradFill rotWithShape="0">
            <a:gsLst>
              <a:gs pos="0">
                <a:srgbClr val="f8d8c4"/>
              </a:gs>
              <a:gs pos="100000">
                <a:srgbClr val="f8d8c4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1"/>
          <p:cNvSpPr/>
          <p:nvPr/>
        </p:nvSpPr>
        <p:spPr>
          <a:xfrm>
            <a:off x="550800" y="228600"/>
            <a:ext cx="8059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d8c4"/>
              </a:gs>
              <a:gs pos="100000">
                <a:srgbClr val="fbd49c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Инструкция по работе с упражн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2"/>
          <p:cNvSpPr/>
          <p:nvPr/>
        </p:nvSpPr>
        <p:spPr>
          <a:xfrm>
            <a:off x="425520" y="1219320"/>
            <a:ext cx="8310600" cy="4800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Упражнения состоят из 10 заданий. Каждое задание имеет 4 варианта ответа, один из которых - неправиль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3. Чтобы узнать свой результат, нажми на кнопку «Результат». Ты увидишь общее число верных ответов, отметку за упражнения и таблицу результатов по каждому вопр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5. Если хочешь повторить упражнения, то обнули результат (кнопка «Сброс результатов») и нажми на кнопку «Повторить тест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nodeType="clickEffect" fill="hold">
                      <p:stCondLst>
                        <p:cond delay="0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8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Если слажить все ошибки умного, получится г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5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Я стал излагать свою точку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6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bd49c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Ему был дан положите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7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уристы разложили костё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8d8c4"/>
              </a:gs>
              <a:gs pos="100000">
                <a:srgbClr val="f8d8c4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1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22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4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2"/>
          <p:cNvSpPr/>
          <p:nvPr/>
        </p:nvSpPr>
        <p:spPr>
          <a:xfrm>
            <a:off x="152280" y="380880"/>
            <a:ext cx="88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Найди предложение, которое написано  не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070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1118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1142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0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Rectangle 7"/>
          <p:cNvSpPr/>
          <p:nvPr/>
        </p:nvSpPr>
        <p:spPr>
          <a:xfrm>
            <a:off x="228600" y="228600"/>
            <a:ext cx="87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йди предложение, которое написано  не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Чужую беду руками разведу, а к своей ума не прилаж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етераны возложили венок у подножия г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Я всегда полагаюсь на своих дру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d8c4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а поля ложился тум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9bbb5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167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191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1215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2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7"/>
          <p:cNvSpPr/>
          <p:nvPr/>
        </p:nvSpPr>
        <p:spPr>
          <a:xfrm>
            <a:off x="228600" y="228600"/>
            <a:ext cx="88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йди предложение, которое написано  не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ы пологаешься на случ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тложите ваши де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 доме ещё не ложились сп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Прилагательное – это часть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8d8c4"/>
              </a:gs>
              <a:gs pos="50000">
                <a:srgbClr val="9bbb59"/>
              </a:gs>
              <a:gs pos="100000">
                <a:srgbClr val="f8d8c4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264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288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1312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336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2"/>
          <p:cNvGrpSpPr/>
          <p:nvPr/>
        </p:nvGrpSpPr>
        <p:grpSpPr>
          <a:xfrm>
            <a:off x="106200" y="138240"/>
            <a:ext cx="8937360" cy="6668640"/>
            <a:chOff x="106200" y="138240"/>
            <a:chExt cx="8937360" cy="6668640"/>
          </a:xfrm>
        </p:grpSpPr>
        <p:sp>
          <p:nvSpPr>
            <p:cNvPr id="343" name="Line 3"/>
            <p:cNvSpPr/>
            <p:nvPr/>
          </p:nvSpPr>
          <p:spPr>
            <a:xfrm>
              <a:off x="106200" y="13824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4"/>
            <p:cNvSpPr/>
            <p:nvPr/>
          </p:nvSpPr>
          <p:spPr>
            <a:xfrm>
              <a:off x="106200" y="13824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>
              <a:off x="106200" y="68068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6"/>
            <p:cNvSpPr/>
            <p:nvPr/>
          </p:nvSpPr>
          <p:spPr>
            <a:xfrm>
              <a:off x="9043560" y="13824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Rectangle 7"/>
          <p:cNvSpPr/>
          <p:nvPr/>
        </p:nvSpPr>
        <p:spPr>
          <a:xfrm>
            <a:off x="228600" y="228600"/>
            <a:ext cx="88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йди предложение, которое написано  не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лажите в портфель учеб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м располагался на краю с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евочка чётко изложила свой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то ясно мыслит, тот ясно излаг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9bbb5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1361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1385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409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1433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59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AutoShape 10">
            <a:hlinkClick r:id="rId1" action="ppaction://hlinksldjump"/>
          </p:cNvPr>
          <p:cNvSpPr/>
          <p:nvPr/>
        </p:nvSpPr>
        <p:spPr>
          <a:xfrm>
            <a:off x="762120" y="6019920"/>
            <a:ext cx="38098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>
            <a:hlinkClick r:id="rId2" action="ppaction://hlinksldjump"/>
          </p:cNvPr>
          <p:cNvSpPr/>
          <p:nvPr/>
        </p:nvSpPr>
        <p:spPr>
          <a:xfrm>
            <a:off x="5029200" y="6019920"/>
            <a:ext cx="38098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Перей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 упраж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1"/>
          <p:cNvSpPr/>
          <p:nvPr/>
        </p:nvSpPr>
        <p:spPr>
          <a:xfrm>
            <a:off x="507960" y="304920"/>
            <a:ext cx="8178840" cy="4343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Дорогой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В этом году ты изучил новую тему «Правописание слов с чередующимися гласными а-о в корне» по русскому я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Повторить тему тебе поможет учебный тренажёр, с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помощью которого ты можешь вспомнить определённое правило из курса русского языка  и усовершенствовать свои умения и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Надеемся, что эти занятия помогут тебе успеш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подготовиться к контрольной работе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3"/>
          <p:cNvSpPr/>
          <p:nvPr/>
        </p:nvSpPr>
        <p:spPr>
          <a:xfrm>
            <a:off x="2743200" y="5029200"/>
            <a:ext cx="35053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Желаем удачи!</a:t>
            </a: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6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Rectangle 7"/>
          <p:cNvSpPr/>
          <p:nvPr/>
        </p:nvSpPr>
        <p:spPr>
          <a:xfrm>
            <a:off x="228600" y="228600"/>
            <a:ext cx="87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йди предложение, которое написано  не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еред сном пологается чистить з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ложите вашему директору, что я приш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ы уложил рюкзак правильно, 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992160" y="12351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етя предложил помощь своему дру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458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482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1506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1530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8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7"/>
          <p:cNvSpPr/>
          <p:nvPr/>
        </p:nvSpPr>
        <p:spPr>
          <a:xfrm>
            <a:off x="228600" y="228600"/>
            <a:ext cx="88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йди предложение, которое написано  не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ван отказался от предлогаемого завтрака и спешил отправиться до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иктор положил в рот кусочек т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Человек предполагает, а бог располаг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Хозяин предложил гостям пройти в с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9bbb5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555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579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627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0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Rectangle 7"/>
          <p:cNvSpPr/>
          <p:nvPr/>
        </p:nvSpPr>
        <p:spPr>
          <a:xfrm>
            <a:off x="228600" y="228600"/>
            <a:ext cx="88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йди предложение, которое написано  не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не предлажили путёвку в пионерский лаге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тработав, что полагается, съешь, что причит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ы полагаешь, что отвечаешь вер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егодня ученики писали изложение по литера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21">
            <a:hlinkClick r:id="" action="ppaction://hlinkshowjump?jump=nextslide"/>
          </p:cNvPr>
          <p:cNvSpPr/>
          <p:nvPr/>
        </p:nvSpPr>
        <p:spPr>
          <a:xfrm>
            <a:off x="8229600" y="620856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1652" nodeType="clickEffect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676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700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724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1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Rectangle 7"/>
          <p:cNvSpPr/>
          <p:nvPr/>
        </p:nvSpPr>
        <p:spPr>
          <a:xfrm>
            <a:off x="228600" y="228600"/>
            <a:ext cx="88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йди предложение, которое написано  не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ени лажились по пыльной дор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илагательные бывают качественные, относительны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злагайте свои мысли чётко, я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м заключается не только в знании, но и в умении прилагать знания на де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1749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773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797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821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3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7"/>
          <p:cNvSpPr/>
          <p:nvPr/>
        </p:nvSpPr>
        <p:spPr>
          <a:xfrm>
            <a:off x="228600" y="228600"/>
            <a:ext cx="87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йди предложение, которое написано  не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уристы предпологали выехать у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ратко изложи содержание параграф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ни расположились на опушке л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йдите прилагательное  в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9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2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846" nodeType="clickEffect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870" nodeType="clickEffect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894" nodeType="clickEffect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918" nodeType="clickEffect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5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7"/>
          <p:cNvSpPr/>
          <p:nvPr/>
        </p:nvSpPr>
        <p:spPr>
          <a:xfrm>
            <a:off x="228600" y="228600"/>
            <a:ext cx="87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йди предложение, которое написано  не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кажите в прилажении, чем вы пользова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0"/>
          <p:cNvSpPr/>
          <p:nvPr/>
        </p:nvSpPr>
        <p:spPr>
          <a:xfrm>
            <a:off x="50472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доль стен располагались шкафы с книг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атрёна откинула по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ерпение и труд – слагаемые твоего усп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9bbb5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41" dur="indefinite" restart="never" nodeType="tmRoot">
          <p:childTnLst>
            <p:seq>
              <p:cTn id="1942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943" nodeType="clickEffect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9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5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5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5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2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6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967" nodeType="clickEffect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7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7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7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8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6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0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991" nodeType="clickEffect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9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9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0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0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7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0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4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2015" nodeType="clickEffect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4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476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00">
            <a:hlinkClick r:id="rId1" action="ppaction://hlinksldjump"/>
          </p:cNvPr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8d8c4"/>
              </a:gs>
            </a:gsLst>
            <a:lin ang="13500000"/>
          </a:gradFill>
          <a:ln w="3816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93">
            <a:hlinkClick r:id="rId2" action="ppaction://hlinksldjump"/>
          </p:cNvPr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94">
            <a:hlinkClick r:id="rId3" action="ppaction://hlinksldjump"/>
          </p:cNvPr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95">
            <a:hlinkClick r:id="rId4" action="ppaction://hlinksldjump"/>
          </p:cNvPr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6"/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98"/>
          <p:cNvSpPr/>
          <p:nvPr/>
        </p:nvSpPr>
        <p:spPr>
          <a:xfrm>
            <a:off x="39895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1768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20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9"/>
          <p:cNvSpPr/>
          <p:nvPr/>
        </p:nvSpPr>
        <p:spPr>
          <a:xfrm>
            <a:off x="250920" y="10008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овторим 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0"/>
          <p:cNvSpPr/>
          <p:nvPr/>
        </p:nvSpPr>
        <p:spPr>
          <a:xfrm>
            <a:off x="600120" y="6095880"/>
            <a:ext cx="365760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8d8c4"/>
              </a:gs>
            </a:gsLst>
            <a:lin ang="13500000"/>
          </a:gradFill>
          <a:ln w="3816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3"/>
          <p:cNvSpPr/>
          <p:nvPr/>
        </p:nvSpPr>
        <p:spPr>
          <a:xfrm>
            <a:off x="5181480" y="6095880"/>
            <a:ext cx="367524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8d8c4"/>
              </a:gs>
            </a:gsLst>
            <a:lin ang="13500000"/>
          </a:gradFill>
          <a:ln w="3816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ерейти к упраж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Скругленный прямоугольник 1"/>
          <p:cNvSpPr/>
          <p:nvPr/>
        </p:nvSpPr>
        <p:spPr>
          <a:xfrm>
            <a:off x="600120" y="628560"/>
            <a:ext cx="7848720" cy="515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8d8c4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В русском языке имеются некоторые корни, правописание гласных в которых не подчиняются общему правилу, они чередуются в зависимости от определенных условий. К таким корням относятся ЛАГ и ЛОЖ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Если в корне слова стоит безударная гласная, то перед буквой Ж всегда идет О, перед Г – А (предлагать, предложить). Исключение:   полог (занавеска, закрывающая, загораживающая кровать)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Проверочное слово подобрать нельз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Некоторые особенности написания слов с корнем лаг и ло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В словах после корня ЛАГ всегда стоит суффикс А (слагать). Если же корень ЛОЖ, то после него идут другие гласные (приложени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Во всех словах с этим корнем есть приставки и суффиксы, либо только приставки. Корень ЛОЖ никогда не употребляется без приставки. Нельзя говорить слово «ложить». Слова без приставки заменяются на «класть» и его однокоренные образования. Исключение составляет слово лож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038" dur="indefinite" restart="never" nodeType="tmRoot">
          <p:childTnLst>
            <p:seq>
              <p:cTn id="2039" dur="indefinite" nodeType="mainSeq">
                <p:childTnLst>
                  <p:par>
                    <p:cTn id="2040" nodeType="clickEffect" fill="hold">
                      <p:stCondLst>
                        <p:cond delay="0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Скругленный прямоугольник 1"/>
          <p:cNvSpPr/>
          <p:nvPr/>
        </p:nvSpPr>
        <p:spPr>
          <a:xfrm>
            <a:off x="1905120" y="457200"/>
            <a:ext cx="4800600" cy="533520"/>
          </a:xfrm>
          <a:prstGeom prst="roundRect">
            <a:avLst>
              <a:gd name="adj" fmla="val 28208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Источник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Скругленный прямоугольник 3"/>
          <p:cNvSpPr/>
          <p:nvPr/>
        </p:nvSpPr>
        <p:spPr>
          <a:xfrm>
            <a:off x="609480" y="2057400"/>
            <a:ext cx="7925040" cy="3048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Авторы шабл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Захарова Т.А., методист Рязанского института развития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Байдакова Т. Б., учитель русского языка и литературы МОУ СОШ № 3 г.Амурска Хабаровского к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057" dur="indefinite" restart="never" nodeType="tmRoot">
          <p:childTnLst>
            <p:seq>
              <p:cTn id="2058" dur="indefinite" nodeType="mainSeq">
                <p:childTnLst>
                  <p:par>
                    <p:cTn id="2059" nodeType="clickEffect" fill="hold">
                      <p:stCondLst>
                        <p:cond delay="0"/>
                      </p:stCondLst>
                      <p:childTnLst>
                        <p:par>
                          <p:cTn id="2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4"/>
          <p:cNvGrpSpPr/>
          <p:nvPr/>
        </p:nvGrpSpPr>
        <p:grpSpPr>
          <a:xfrm>
            <a:off x="1143000" y="2666880"/>
            <a:ext cx="7900920" cy="4102200"/>
            <a:chOff x="1143000" y="2666880"/>
            <a:chExt cx="7900920" cy="4102200"/>
          </a:xfrm>
        </p:grpSpPr>
        <p:sp>
          <p:nvSpPr>
            <p:cNvPr id="68" name="Line 5"/>
            <p:cNvSpPr/>
            <p:nvPr/>
          </p:nvSpPr>
          <p:spPr>
            <a:xfrm>
              <a:off x="1143000" y="2666880"/>
              <a:ext cx="7900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6"/>
            <p:cNvSpPr/>
            <p:nvPr/>
          </p:nvSpPr>
          <p:spPr>
            <a:xfrm>
              <a:off x="1143000" y="2666880"/>
              <a:ext cx="0" cy="4102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7"/>
            <p:cNvSpPr/>
            <p:nvPr/>
          </p:nvSpPr>
          <p:spPr>
            <a:xfrm>
              <a:off x="1143000" y="6769080"/>
              <a:ext cx="7900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8"/>
            <p:cNvSpPr/>
            <p:nvPr/>
          </p:nvSpPr>
          <p:spPr>
            <a:xfrm>
              <a:off x="9043920" y="2666880"/>
              <a:ext cx="0" cy="4102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AutoShape 15">
            <a:hlinkClick r:id="" action="ppaction://hlinkshowjump?jump=nextslide"/>
          </p:cNvPr>
          <p:cNvSpPr/>
          <p:nvPr/>
        </p:nvSpPr>
        <p:spPr>
          <a:xfrm>
            <a:off x="8229600" y="616104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1"/>
          <p:cNvSpPr/>
          <p:nvPr/>
        </p:nvSpPr>
        <p:spPr>
          <a:xfrm>
            <a:off x="587520" y="152280"/>
            <a:ext cx="79135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Инструкция по работе с учебным тренажё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3"/>
          <p:cNvSpPr/>
          <p:nvPr/>
        </p:nvSpPr>
        <p:spPr>
          <a:xfrm>
            <a:off x="587520" y="1219320"/>
            <a:ext cx="7913520" cy="441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alibri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alibri"/>
              </a:rPr>
              <a:t>2.  Если ты выбрал правильный ответ, появится  «плю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alibri"/>
              </a:rPr>
              <a:t>3.  Если ты выбрал неверный ответ, появится «мину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alibri"/>
              </a:rPr>
              <a:t>4.  Переход к следующему заданию осуществляется по 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4"/>
          <p:cNvSpPr/>
          <p:nvPr/>
        </p:nvSpPr>
        <p:spPr>
          <a:xfrm>
            <a:off x="2438280" y="5867280"/>
            <a:ext cx="4038840" cy="80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Желаем удач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4"/>
          <p:cNvGrpSpPr/>
          <p:nvPr/>
        </p:nvGrpSpPr>
        <p:grpSpPr>
          <a:xfrm>
            <a:off x="157320" y="34920"/>
            <a:ext cx="8937000" cy="6668640"/>
            <a:chOff x="157320" y="34920"/>
            <a:chExt cx="8937000" cy="6668640"/>
          </a:xfrm>
        </p:grpSpPr>
        <p:sp>
          <p:nvSpPr>
            <p:cNvPr id="77" name="Line 5"/>
            <p:cNvSpPr/>
            <p:nvPr/>
          </p:nvSpPr>
          <p:spPr>
            <a:xfrm>
              <a:off x="157320" y="3492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6"/>
            <p:cNvSpPr/>
            <p:nvPr/>
          </p:nvSpPr>
          <p:spPr>
            <a:xfrm>
              <a:off x="157320" y="3492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7"/>
            <p:cNvSpPr/>
            <p:nvPr/>
          </p:nvSpPr>
          <p:spPr>
            <a:xfrm>
              <a:off x="157320" y="670356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8"/>
            <p:cNvSpPr/>
            <p:nvPr/>
          </p:nvSpPr>
          <p:spPr>
            <a:xfrm>
              <a:off x="9094320" y="3492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9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1. Найди ошибку в написани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cc7ab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bf8d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и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едл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9"/>
          <p:cNvSpPr/>
          <p:nvPr/>
        </p:nvSpPr>
        <p:spPr>
          <a:xfrm>
            <a:off x="101124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асполаг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4"/>
          <p:cNvGrpSpPr/>
          <p:nvPr/>
        </p:nvGrpSpPr>
        <p:grpSpPr>
          <a:xfrm>
            <a:off x="76320" y="100080"/>
            <a:ext cx="8937000" cy="6668640"/>
            <a:chOff x="76320" y="100080"/>
            <a:chExt cx="8937000" cy="6668640"/>
          </a:xfrm>
        </p:grpSpPr>
        <p:sp>
          <p:nvSpPr>
            <p:cNvPr id="96" name="Line 5"/>
            <p:cNvSpPr/>
            <p:nvPr/>
          </p:nvSpPr>
          <p:spPr>
            <a:xfrm>
              <a:off x="76320" y="10008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6"/>
            <p:cNvSpPr/>
            <p:nvPr/>
          </p:nvSpPr>
          <p:spPr>
            <a:xfrm>
              <a:off x="7632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7"/>
            <p:cNvSpPr/>
            <p:nvPr/>
          </p:nvSpPr>
          <p:spPr>
            <a:xfrm>
              <a:off x="76320" y="676872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"/>
            <p:cNvSpPr/>
            <p:nvPr/>
          </p:nvSpPr>
          <p:spPr>
            <a:xfrm>
              <a:off x="901332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9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2. Найди ошибку в написани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8d8c4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лог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ло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едполо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bf8d"/>
              </a:gs>
              <a:gs pos="100000">
                <a:srgbClr val="fcc7ab"/>
              </a:gs>
            </a:gsLst>
            <a:lin ang="13500000"/>
          </a:gradFill>
          <a:ln w="57240">
            <a:solidFill>
              <a:srgbClr val="8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лаг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2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4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bbf8d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15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9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3. Найди ошибку в написани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лож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едлог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ddec7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ло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лаг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3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4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56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34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9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4. Найди ошибку в написани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алаг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ddec7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злог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ddec7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77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0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25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153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5. Найди ошибку в написани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отло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з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ddec7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ла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d8c4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едполагае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8d8c4"/>
              </a:gs>
              <a:gs pos="100000">
                <a:srgbClr val="fddec7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48" dur="indefinite" restart="never" nodeType="tmRoot">
          <p:childTnLst>
            <p:seq>
              <p:cTn id="44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50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98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0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22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7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6. Найди ошибку в написани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d49c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ас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3"/>
          <p:cNvSpPr/>
          <p:nvPr/>
        </p:nvSpPr>
        <p:spPr>
          <a:xfrm>
            <a:off x="995400" y="25509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d49c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ыла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ило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13500000"/>
          </a:gradFill>
          <a:ln w="57240">
            <a:solidFill>
              <a:srgbClr val="660033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gradFill rotWithShape="0">
            <a:gsLst>
              <a:gs pos="0">
                <a:srgbClr val="f8d8c4"/>
              </a:gs>
              <a:gs pos="100000">
                <a:srgbClr val="fddec7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45" dur="indefinite" restart="never" nodeType="tmRoot">
          <p:childTnLst>
            <p:seq>
              <p:cTn id="54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47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71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595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9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19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Toshiba</dc:creator>
  <dc:description/>
  <dc:language>en-US</dc:language>
  <cp:lastModifiedBy>Класс X.Б.</cp:lastModifiedBy>
  <dcterms:modified xsi:type="dcterms:W3CDTF">2017-09-14T07:44:53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