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D84F-7CF7-4515-90D7-B49984BDC0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8D7C-02A8-446D-A666-B6BCA843B9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C39A-DA15-4A71-AAEF-58FEA9E16B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AE76-23BE-49D4-B866-8F69B440AA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B507-EA9E-4571-9287-F5EFC02E42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145C-6C97-4D0E-B5D7-4417E18CEF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0634-087D-4FA4-B01B-7A08E806DF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FFAC-78DA-4091-9A4A-2391446372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01A3-0415-48F5-9393-9195C6B3B7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5FFC-BE0B-4EB5-A3FE-CF76533311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7808-5C53-4B11-B02A-5056CF5D6C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34B3-A9E1-4575-9D1D-E1B86AE7F7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4CD4-B155-4D1F-B15F-580F32E3A9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C27C-0867-4560-B6E9-3B0A050ACB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0800-E342-426E-ADE1-CA547C6CDC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1891-14B1-4E85-ADB0-4C83C893D8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9B4A-1ABF-4B8E-A607-613C0932DE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D57A-E71F-42D5-A1EF-2241EA92CF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41A2-36D9-46A8-BDC5-C048875868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6704-4832-4244-A01E-22EB6A267C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751B-7E55-47E0-89D5-DD87E722C8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93FF-459C-4CA9-A4F2-C8F591C714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99B4-B78B-4289-AFBD-3CB8D1AC7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A0FA-93F7-4323-A457-DE1CF4E3B7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588B-14DF-4FDC-B97A-67AD23FDE7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D3B3-96EA-45D6-BF35-020C8F104C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266A-3FAE-49BB-B8DE-FCB16730FB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6B62-B664-48AC-A2EA-A4C4680DC5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8AF-3379-498E-A815-EFDE51B7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98D-C790-4A3D-B22F-C4F7F8F5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4FA-BD2C-4013-B1D1-1EE01DA1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F13-26CB-4F25-954C-11A7208F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A69-780F-4461-9ACE-DF5B674D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8CF-EDCD-48CD-9D6A-2BB40CBA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642-B0BE-4508-B698-6842B9B8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AA6-3D79-46C3-957E-4276009A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1DA-E7D7-44F3-84BB-79FB94EE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D6A-8C3B-4E9A-8D16-B3D64291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1A9-B073-4DCA-AA32-A52E9A40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DF78-CB53-4B47-B0A7-2F5359A6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23F4-91DB-424F-A56F-4B97329D54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7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106200" y="189000"/>
            <a:ext cx="8937360" cy="6668640"/>
            <a:chOff x="106200" y="189000"/>
            <a:chExt cx="8937360" cy="6668640"/>
          </a:xfrm>
        </p:grpSpPr>
        <p:sp>
          <p:nvSpPr>
            <p:cNvPr id="49" name="Line 8"/>
            <p:cNvSpPr/>
            <p:nvPr/>
          </p:nvSpPr>
          <p:spPr>
            <a:xfrm>
              <a:off x="106200" y="18900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9"/>
            <p:cNvSpPr/>
            <p:nvPr/>
          </p:nvSpPr>
          <p:spPr>
            <a:xfrm>
              <a:off x="106200" y="18900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0"/>
            <p:cNvSpPr/>
            <p:nvPr/>
          </p:nvSpPr>
          <p:spPr>
            <a:xfrm>
              <a:off x="106200" y="685764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>
              <a:off x="9043560" y="18900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AutoShape 12">
            <a:hlinkClick r:id="" action="ppaction://hlinkshowjump?jump=nextslide"/>
          </p:cNvPr>
          <p:cNvSpPr/>
          <p:nvPr/>
        </p:nvSpPr>
        <p:spPr>
          <a:xfrm>
            <a:off x="8229600" y="60562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cc7ab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3017880" y="3438360"/>
            <a:ext cx="2498760" cy="2024280"/>
          </a:xfrm>
          <a:prstGeom prst="rect">
            <a:avLst/>
          </a:prstGeom>
          <a:ln w="0">
            <a:noFill/>
          </a:ln>
        </p:spPr>
      </p:pic>
      <p:sp>
        <p:nvSpPr>
          <p:cNvPr id="55" name="Скругленный прямоугольник 1"/>
          <p:cNvSpPr/>
          <p:nvPr/>
        </p:nvSpPr>
        <p:spPr>
          <a:xfrm>
            <a:off x="228600" y="1371600"/>
            <a:ext cx="8294760" cy="18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Учебный тренажёр по 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Правописание слов с чередующим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гласными в кор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Буквы а-о в корне -лаг, -ло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3"/>
          <p:cNvSpPr/>
          <p:nvPr/>
        </p:nvSpPr>
        <p:spPr>
          <a:xfrm>
            <a:off x="914400" y="304920"/>
            <a:ext cx="6705720" cy="59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МБОУ Греково-Степано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4"/>
          <p:cNvSpPr/>
          <p:nvPr/>
        </p:nvSpPr>
        <p:spPr>
          <a:xfrm>
            <a:off x="1219320" y="5791320"/>
            <a:ext cx="594360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bf8d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Киселева Ольга Александ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9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7. Найди ошибку в написани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d8c4"/>
              </a:gs>
              <a:gs pos="100000">
                <a:srgbClr val="f8d8c4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d49c"/>
              </a:gs>
              <a:gs pos="100000">
                <a:srgbClr val="fddec7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л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d49c"/>
              </a:gs>
              <a:gs pos="100000">
                <a:srgbClr val="fddec7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д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d49c"/>
              </a:gs>
              <a:gs pos="100000">
                <a:srgbClr val="fddec7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прила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42" dur="indefinite" restart="never" nodeType="tmRoot">
          <p:childTnLst>
            <p:seq>
              <p:cTn id="64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44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68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692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716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10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8. Найди ошибку в написани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27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улож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bd49c"/>
              </a:gs>
            </a:gsLst>
            <a:lin ang="27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ед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27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азло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bd49c"/>
              </a:gs>
            </a:gsLst>
            <a:lin ang="27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предполож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39" dur="indefinite" restart="never" nodeType="tmRoot">
          <p:childTnLst>
            <p:seq>
              <p:cTn id="74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741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765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789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9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813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2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9. Найди ошибку в написани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d8c4"/>
              </a:gs>
              <a:gs pos="100000">
                <a:srgbClr val="fbd49c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тихосл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bd49c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d8c4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957240" y="5056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bd49c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располож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6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8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36" dur="indefinite" restart="never" nodeType="tmRoot">
          <p:childTnLst>
            <p:seq>
              <p:cTn id="83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38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62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886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9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910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4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10. Найди ошибку в написани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d8c4"/>
              </a:gs>
              <a:gs pos="100000">
                <a:srgbClr val="fbd49c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з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bd49c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т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4"/>
          <p:cNvSpPr/>
          <p:nvPr/>
        </p:nvSpPr>
        <p:spPr>
          <a:xfrm>
            <a:off x="9777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8d8c4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ла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bd49c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располога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33" dur="indefinite" restart="never" nodeType="tmRoot">
          <p:childTnLst>
            <p:seq>
              <p:cTn id="93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935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4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959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8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983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8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2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6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007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228600" y="10008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5">
            <a:hlinkClick r:id="rId1" action="ppaction://hlinksldjump"/>
          </p:cNvPr>
          <p:cNvSpPr/>
          <p:nvPr/>
        </p:nvSpPr>
        <p:spPr>
          <a:xfrm>
            <a:off x="1108080" y="1143000"/>
            <a:ext cx="69343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d8c4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нания отличные! Перехожу к упражнения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6">
            <a:hlinkClick r:id="rId2" action="ppaction://hlinksldjump"/>
          </p:cNvPr>
          <p:cNvSpPr/>
          <p:nvPr/>
        </p:nvSpPr>
        <p:spPr>
          <a:xfrm>
            <a:off x="1219320" y="4114800"/>
            <a:ext cx="7010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71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" name="Рисунок 2" descr=""/>
          <p:cNvPicPr/>
          <p:nvPr/>
        </p:nvPicPr>
        <p:blipFill>
          <a:blip r:embed="rId4"/>
          <a:stretch/>
        </p:blipFill>
        <p:spPr>
          <a:xfrm>
            <a:off x="3328920" y="5035680"/>
            <a:ext cx="2193840" cy="19447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3" descr=""/>
          <p:cNvPicPr/>
          <p:nvPr/>
        </p:nvPicPr>
        <p:blipFill>
          <a:blip r:embed="rId5"/>
          <a:stretch/>
        </p:blipFill>
        <p:spPr>
          <a:xfrm>
            <a:off x="3328920" y="2066760"/>
            <a:ext cx="2193840" cy="2041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0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278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AutoShape 14">
            <a:hlinkClick r:id="" action="ppaction://hlinkshowjump?jump=nextslide"/>
          </p:cNvPr>
          <p:cNvSpPr/>
          <p:nvPr/>
        </p:nvSpPr>
        <p:spPr>
          <a:xfrm>
            <a:off x="8123400" y="617220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gradFill rotWithShape="0">
            <a:gsLst>
              <a:gs pos="0">
                <a:srgbClr val="f8d8c4"/>
              </a:gs>
              <a:gs pos="100000">
                <a:srgbClr val="f8d8c4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1"/>
          <p:cNvSpPr/>
          <p:nvPr/>
        </p:nvSpPr>
        <p:spPr>
          <a:xfrm>
            <a:off x="550800" y="228600"/>
            <a:ext cx="8059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d8c4"/>
              </a:gs>
              <a:gs pos="100000">
                <a:srgbClr val="fbd49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Инструкция по работе с упражн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2"/>
          <p:cNvSpPr/>
          <p:nvPr/>
        </p:nvSpPr>
        <p:spPr>
          <a:xfrm>
            <a:off x="425520" y="1219320"/>
            <a:ext cx="8310600" cy="480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Упражнения состоят из 10 заданий. Каждое задание имеет 4 варианта ответа, один из которых - неправи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3. Чтобы узнать свой результат, нажми на кнопку «Результат». Ты увидишь общее число верных ответов, отметку за упражнения и таблицу результатов по каждому вопр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5. Если хочешь повторить упражнения, то обнули результат (кнопка «Сброс результатов») и нажми на кнопку «Повторить тест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0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8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Если слажить все ошибки умного, получится г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Я стал излагать свою точку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6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bd49c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Ему был дан положите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7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уристы разложили костё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8d8c4"/>
              </a:gs>
              <a:gs pos="100000">
                <a:srgbClr val="f8d8c4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"/>
          <p:cNvSpPr/>
          <p:nvPr/>
        </p:nvSpPr>
        <p:spPr>
          <a:xfrm>
            <a:off x="152280" y="380880"/>
            <a:ext cx="88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Найди предложение, которое написано 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070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118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1142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0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Rectangle 7"/>
          <p:cNvSpPr/>
          <p:nvPr/>
        </p:nvSpPr>
        <p:spPr>
          <a:xfrm>
            <a:off x="228600" y="228600"/>
            <a:ext cx="87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йди предложение, которое написано 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Чужую беду руками разведу, а к своей ума не прила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етераны возложили венок у подножия г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Я всегда полагаюсь на своих дру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d8c4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 поля ложился ту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9bbb5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191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215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2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7"/>
          <p:cNvSpPr/>
          <p:nvPr/>
        </p:nvSpPr>
        <p:spPr>
          <a:xfrm>
            <a:off x="228600" y="228600"/>
            <a:ext cx="88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йди предложение, которое написано 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ы пологаешься на случ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тложите ваши де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 доме ещё не ложились сп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Прилагательное – это часть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8d8c4"/>
              </a:gs>
              <a:gs pos="50000">
                <a:srgbClr val="9bbb59"/>
              </a:gs>
              <a:gs pos="100000">
                <a:srgbClr val="f8d8c4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1312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2"/>
          <p:cNvGrpSpPr/>
          <p:nvPr/>
        </p:nvGrpSpPr>
        <p:grpSpPr>
          <a:xfrm>
            <a:off x="106200" y="138240"/>
            <a:ext cx="8937360" cy="6668640"/>
            <a:chOff x="106200" y="138240"/>
            <a:chExt cx="8937360" cy="6668640"/>
          </a:xfrm>
        </p:grpSpPr>
        <p:sp>
          <p:nvSpPr>
            <p:cNvPr id="343" name="Line 3"/>
            <p:cNvSpPr/>
            <p:nvPr/>
          </p:nvSpPr>
          <p:spPr>
            <a:xfrm>
              <a:off x="106200" y="13824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4"/>
            <p:cNvSpPr/>
            <p:nvPr/>
          </p:nvSpPr>
          <p:spPr>
            <a:xfrm>
              <a:off x="106200" y="13824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>
              <a:off x="106200" y="68068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6"/>
            <p:cNvSpPr/>
            <p:nvPr/>
          </p:nvSpPr>
          <p:spPr>
            <a:xfrm>
              <a:off x="9043560" y="13824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Rectangle 7"/>
          <p:cNvSpPr/>
          <p:nvPr/>
        </p:nvSpPr>
        <p:spPr>
          <a:xfrm>
            <a:off x="228600" y="228600"/>
            <a:ext cx="88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йди предложение, которое написано 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лажите в портфель учеб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м располагался на краю с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евочка чётко изложила свой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то ясно мыслит, тот ясно излаг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9bbb5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361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385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409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1433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59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AutoShape 10">
            <a:hlinkClick r:id="rId1" action="ppaction://hlinksldjump"/>
          </p:cNvPr>
          <p:cNvSpPr/>
          <p:nvPr/>
        </p:nvSpPr>
        <p:spPr>
          <a:xfrm>
            <a:off x="762120" y="6019920"/>
            <a:ext cx="38098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>
            <a:hlinkClick r:id="rId2" action="ppaction://hlinksldjump"/>
          </p:cNvPr>
          <p:cNvSpPr/>
          <p:nvPr/>
        </p:nvSpPr>
        <p:spPr>
          <a:xfrm>
            <a:off x="5029200" y="6019920"/>
            <a:ext cx="38098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Перей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 упраж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1"/>
          <p:cNvSpPr/>
          <p:nvPr/>
        </p:nvSpPr>
        <p:spPr>
          <a:xfrm>
            <a:off x="507960" y="304920"/>
            <a:ext cx="8178840" cy="4343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Дорог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В этом году ты изучил новую тему «Правописание слов с чередующимися гласными а-о в корне» по русскому я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Повторить тему тебе поможет учебный тренажёр, с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помощью которого ты можешь вспомнить определённое правило из курса русского языка  и усовершенствовать свои умения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Надеемся, что эти занятия помогут тебе успеш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подготовиться к контрольной работе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3"/>
          <p:cNvSpPr/>
          <p:nvPr/>
        </p:nvSpPr>
        <p:spPr>
          <a:xfrm>
            <a:off x="2743200" y="5029200"/>
            <a:ext cx="35053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Желаем удачи!</a:t>
            </a: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6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Rectangle 7"/>
          <p:cNvSpPr/>
          <p:nvPr/>
        </p:nvSpPr>
        <p:spPr>
          <a:xfrm>
            <a:off x="228600" y="228600"/>
            <a:ext cx="87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йди предложение, которое написано 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еред сном пологается чистить з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ложите вашему директору, что я приш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ы уложил рюкзак правильно, 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992160" y="12351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етя предложил помощь своему др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458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482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506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530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8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7"/>
          <p:cNvSpPr/>
          <p:nvPr/>
        </p:nvSpPr>
        <p:spPr>
          <a:xfrm>
            <a:off x="228600" y="228600"/>
            <a:ext cx="88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йди предложение, которое написано 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ван отказался от предлогаемого завтрака и спешил отправиться до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иктор положил в рот кусочек т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Человек предполагает, а бог располаг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Хозяин предложил гостям пройти в с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9bbb5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555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579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627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0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Rectangle 7"/>
          <p:cNvSpPr/>
          <p:nvPr/>
        </p:nvSpPr>
        <p:spPr>
          <a:xfrm>
            <a:off x="228600" y="228600"/>
            <a:ext cx="88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йди предложение, которое написано 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не предлажили путёвку в пионерский лаге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тработав, что полагается, съешь, что причит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ы полагаешь, что отвечаешь вер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егодня ученики писали изложение по литер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21">
            <a:hlinkClick r:id="" action="ppaction://hlinkshowjump?jump=nextslide"/>
          </p:cNvPr>
          <p:cNvSpPr/>
          <p:nvPr/>
        </p:nvSpPr>
        <p:spPr>
          <a:xfrm>
            <a:off x="8229600" y="620856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652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676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700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724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1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Rectangle 7"/>
          <p:cNvSpPr/>
          <p:nvPr/>
        </p:nvSpPr>
        <p:spPr>
          <a:xfrm>
            <a:off x="228600" y="228600"/>
            <a:ext cx="88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йди предложение, которое написано 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ени лажились по пыльной до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лагательные бывают качественные, относительны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злагайте свои мысли чётко, я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м заключается не только в знании, но и в умении прилагать знания на де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1749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773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797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821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3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7"/>
          <p:cNvSpPr/>
          <p:nvPr/>
        </p:nvSpPr>
        <p:spPr>
          <a:xfrm>
            <a:off x="228600" y="228600"/>
            <a:ext cx="87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йди предложение, которое написано 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уристы предпологали выехать у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ратко изложи содержание параграф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ни расположились на опушке л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йдите прилагательное  в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846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870" nodeType="clickEffect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894" nodeType="clickEffect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918" nodeType="clickEffect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5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7"/>
          <p:cNvSpPr/>
          <p:nvPr/>
        </p:nvSpPr>
        <p:spPr>
          <a:xfrm>
            <a:off x="228600" y="228600"/>
            <a:ext cx="87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йди предложение, которое написано 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кажите в прилажении, чем вы пользова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0"/>
          <p:cNvSpPr/>
          <p:nvPr/>
        </p:nvSpPr>
        <p:spPr>
          <a:xfrm>
            <a:off x="50472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доль стен располагались шкафы с книг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атрёна откинула по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ерпение и труд – слагаемые твоего усп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9bbb5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41" dur="indefinite" restart="never" nodeType="tmRoot">
          <p:childTnLst>
            <p:seq>
              <p:cTn id="1942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943" nodeType="clickEffect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9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5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5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2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6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967" nodeType="clickEffect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7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7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7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8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6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0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991" nodeType="clickEffect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9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9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0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0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7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0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4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2015" nodeType="clickEffect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4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476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00">
            <a:hlinkClick r:id="rId1" action="ppaction://hlinksldjump"/>
          </p:cNvPr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8d8c4"/>
              </a:gs>
            </a:gsLst>
            <a:lin ang="13500000"/>
          </a:gradFill>
          <a:ln w="3816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93">
            <a:hlinkClick r:id="rId2" action="ppaction://hlinksldjump"/>
          </p:cNvPr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94">
            <a:hlinkClick r:id="rId3" action="ppaction://hlinksldjump"/>
          </p:cNvPr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95">
            <a:hlinkClick r:id="rId4" action="ppaction://hlinksldjump"/>
          </p:cNvPr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98"/>
          <p:cNvSpPr/>
          <p:nvPr/>
        </p:nvSpPr>
        <p:spPr>
          <a:xfrm>
            <a:off x="39895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1768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20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9"/>
          <p:cNvSpPr/>
          <p:nvPr/>
        </p:nvSpPr>
        <p:spPr>
          <a:xfrm>
            <a:off x="250920" y="10008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овторим 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0"/>
          <p:cNvSpPr/>
          <p:nvPr/>
        </p:nvSpPr>
        <p:spPr>
          <a:xfrm>
            <a:off x="600120" y="6095880"/>
            <a:ext cx="365760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8d8c4"/>
              </a:gs>
            </a:gsLst>
            <a:lin ang="13500000"/>
          </a:gradFill>
          <a:ln w="3816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3"/>
          <p:cNvSpPr/>
          <p:nvPr/>
        </p:nvSpPr>
        <p:spPr>
          <a:xfrm>
            <a:off x="5181480" y="6095880"/>
            <a:ext cx="367524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8d8c4"/>
              </a:gs>
            </a:gsLst>
            <a:lin ang="13500000"/>
          </a:gradFill>
          <a:ln w="3816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ерейти к упраж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Скругленный прямоугольник 1"/>
          <p:cNvSpPr/>
          <p:nvPr/>
        </p:nvSpPr>
        <p:spPr>
          <a:xfrm>
            <a:off x="600120" y="628560"/>
            <a:ext cx="7848720" cy="515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8d8c4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В русском языке имеются некоторые корни, правописание гласных в которых не подчиняются общему правилу, они чередуются в зависимости от определенных условий. К таким корням относятся ЛАГ и ЛОЖ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Если в корне слова стоит безударная гласная, то перед буквой Ж всегда идет О, перед Г – А (предлагать, предложить). Исключение:   полог (занавеска, закрывающая, загораживающая кровать)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Проверочное слово подобрать нельз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екоторые особенности написания слов с корнем лаг и л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В словах после корня ЛАГ всегда стоит суффикс А (слагать). Если же корень ЛОЖ, то после него идут другие гласные (приложени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Во всех словах с этим корнем есть приставки и суффиксы, либо только приставки. Корень ЛОЖ никогда не употребляется без приставки. Нельзя говорить слово «ложить». Слова без приставки заменяются на «класть» и его однокоренные образования. Исключение составляет слово лож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038" dur="indefinite" restart="never" nodeType="tmRoot">
          <p:childTnLst>
            <p:seq>
              <p:cTn id="2039" dur="indefinite" nodeType="mainSeq">
                <p:childTnLst>
                  <p:par>
                    <p:cTn id="2040" nodeType="clickEffect" fill="hold">
                      <p:stCondLst>
                        <p:cond delay="0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Скругленный прямоугольник 1"/>
          <p:cNvSpPr/>
          <p:nvPr/>
        </p:nvSpPr>
        <p:spPr>
          <a:xfrm>
            <a:off x="1905120" y="457200"/>
            <a:ext cx="4800600" cy="533520"/>
          </a:xfrm>
          <a:prstGeom prst="roundRect">
            <a:avLst>
              <a:gd name="adj" fmla="val 28208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Источник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Скругленный прямоугольник 3"/>
          <p:cNvSpPr/>
          <p:nvPr/>
        </p:nvSpPr>
        <p:spPr>
          <a:xfrm>
            <a:off x="609480" y="2057400"/>
            <a:ext cx="7925040" cy="3048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Авторы шабл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Захарова Т.А., методист Рязанского института развития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Байдакова Т. Б., учитель русского языка и литературы МОУ СОШ № 3 г.Амурска Хабаровского к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nodeType="clickEffect" fill="hold">
                      <p:stCondLst>
                        <p:cond delay="0"/>
                      </p:stCondLst>
                      <p:childTnLst>
                        <p:par>
                          <p:cTn id="2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4"/>
          <p:cNvGrpSpPr/>
          <p:nvPr/>
        </p:nvGrpSpPr>
        <p:grpSpPr>
          <a:xfrm>
            <a:off x="1143000" y="2666880"/>
            <a:ext cx="7900920" cy="4102200"/>
            <a:chOff x="1143000" y="2666880"/>
            <a:chExt cx="7900920" cy="4102200"/>
          </a:xfrm>
        </p:grpSpPr>
        <p:sp>
          <p:nvSpPr>
            <p:cNvPr id="68" name="Line 5"/>
            <p:cNvSpPr/>
            <p:nvPr/>
          </p:nvSpPr>
          <p:spPr>
            <a:xfrm>
              <a:off x="1143000" y="2666880"/>
              <a:ext cx="7900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6"/>
            <p:cNvSpPr/>
            <p:nvPr/>
          </p:nvSpPr>
          <p:spPr>
            <a:xfrm>
              <a:off x="1143000" y="2666880"/>
              <a:ext cx="0" cy="4102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7"/>
            <p:cNvSpPr/>
            <p:nvPr/>
          </p:nvSpPr>
          <p:spPr>
            <a:xfrm>
              <a:off x="1143000" y="6769080"/>
              <a:ext cx="7900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8"/>
            <p:cNvSpPr/>
            <p:nvPr/>
          </p:nvSpPr>
          <p:spPr>
            <a:xfrm>
              <a:off x="9043920" y="2666880"/>
              <a:ext cx="0" cy="4102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AutoShape 15">
            <a:hlinkClick r:id="" action="ppaction://hlinkshowjump?jump=nextslide"/>
          </p:cNvPr>
          <p:cNvSpPr/>
          <p:nvPr/>
        </p:nvSpPr>
        <p:spPr>
          <a:xfrm>
            <a:off x="8229600" y="616104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"/>
          <p:cNvSpPr/>
          <p:nvPr/>
        </p:nvSpPr>
        <p:spPr>
          <a:xfrm>
            <a:off x="587520" y="152280"/>
            <a:ext cx="79135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Инструкция по работе с учебным тренажё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3"/>
          <p:cNvSpPr/>
          <p:nvPr/>
        </p:nvSpPr>
        <p:spPr>
          <a:xfrm>
            <a:off x="587520" y="1219320"/>
            <a:ext cx="7913520" cy="441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alibri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alibri"/>
              </a:rPr>
              <a:t>2.  Если ты выбрал правильный ответ, появится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alibri"/>
              </a:rPr>
              <a:t>3. 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alibri"/>
              </a:rPr>
              <a:t>4.  Переход к следующему заданию осуществляется по 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4"/>
          <p:cNvSpPr/>
          <p:nvPr/>
        </p:nvSpPr>
        <p:spPr>
          <a:xfrm>
            <a:off x="2438280" y="5867280"/>
            <a:ext cx="4038840" cy="80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Желаем удач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4"/>
          <p:cNvGrpSpPr/>
          <p:nvPr/>
        </p:nvGrpSpPr>
        <p:grpSpPr>
          <a:xfrm>
            <a:off x="157320" y="34920"/>
            <a:ext cx="8937000" cy="6668640"/>
            <a:chOff x="157320" y="34920"/>
            <a:chExt cx="8937000" cy="6668640"/>
          </a:xfrm>
        </p:grpSpPr>
        <p:sp>
          <p:nvSpPr>
            <p:cNvPr id="77" name="Line 5"/>
            <p:cNvSpPr/>
            <p:nvPr/>
          </p:nvSpPr>
          <p:spPr>
            <a:xfrm>
              <a:off x="157320" y="3492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6"/>
            <p:cNvSpPr/>
            <p:nvPr/>
          </p:nvSpPr>
          <p:spPr>
            <a:xfrm>
              <a:off x="157320" y="3492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7"/>
            <p:cNvSpPr/>
            <p:nvPr/>
          </p:nvSpPr>
          <p:spPr>
            <a:xfrm>
              <a:off x="157320" y="670356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8"/>
            <p:cNvSpPr/>
            <p:nvPr/>
          </p:nvSpPr>
          <p:spPr>
            <a:xfrm>
              <a:off x="9094320" y="3492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9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1. Найди ошибку в написани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cc7ab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bf8d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едл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9"/>
          <p:cNvSpPr/>
          <p:nvPr/>
        </p:nvSpPr>
        <p:spPr>
          <a:xfrm>
            <a:off x="101124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асполаг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4"/>
          <p:cNvGrpSpPr/>
          <p:nvPr/>
        </p:nvGrpSpPr>
        <p:grpSpPr>
          <a:xfrm>
            <a:off x="76320" y="100080"/>
            <a:ext cx="8937000" cy="6668640"/>
            <a:chOff x="76320" y="100080"/>
            <a:chExt cx="8937000" cy="6668640"/>
          </a:xfrm>
        </p:grpSpPr>
        <p:sp>
          <p:nvSpPr>
            <p:cNvPr id="96" name="Line 5"/>
            <p:cNvSpPr/>
            <p:nvPr/>
          </p:nvSpPr>
          <p:spPr>
            <a:xfrm>
              <a:off x="76320" y="10008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7632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7"/>
            <p:cNvSpPr/>
            <p:nvPr/>
          </p:nvSpPr>
          <p:spPr>
            <a:xfrm>
              <a:off x="76320" y="676872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>
              <a:off x="901332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9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2. Найди ошибку в написани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8d8c4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ло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едпо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bf8d"/>
              </a:gs>
              <a:gs pos="100000">
                <a:srgbClr val="fcc7ab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ла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4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bbf8d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15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9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3. Найди ошибку в написани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лож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едло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ddec7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лаг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3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4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5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34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9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4. Найди ошибку в написани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ла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ddec7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зло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ddec7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77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25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53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5. Найди ошибку в написани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от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з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ddec7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ла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d8c4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едполагае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8d8c4"/>
              </a:gs>
              <a:gs pos="100000">
                <a:srgbClr val="fddec7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48" dur="indefinite" restart="never" nodeType="tmRoot">
          <p:childTnLst>
            <p:seq>
              <p:cTn id="44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50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98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22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7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6. Найди ошибку в написани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d49c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ас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3"/>
          <p:cNvSpPr/>
          <p:nvPr/>
        </p:nvSpPr>
        <p:spPr>
          <a:xfrm>
            <a:off x="995400" y="25509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d49c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ыла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8d8c4"/>
              </a:gs>
              <a:gs pos="100000">
                <a:srgbClr val="fddec7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45" dur="indefinite" restart="never" nodeType="tmRoot">
          <p:childTnLst>
            <p:seq>
              <p:cTn id="54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47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71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95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9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19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Toshiba</dc:creator>
  <dc:description/>
  <dc:language>en-US</dc:language>
  <cp:lastModifiedBy>Класс X.Б.</cp:lastModifiedBy>
  <dcterms:modified xsi:type="dcterms:W3CDTF">2017-09-14T07:44:53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