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087-DA4B-4257-A5D4-D12975FA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E9D-F5CE-4ABE-9A35-3BC09835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3CC-DB52-442F-A158-F3D65829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6CE-4766-4EBC-A1D3-18DF9CAF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521-473E-4B3C-8107-5D33B4BB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D3F-77F8-4B81-AA45-96152B38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E20-D164-43FC-94BE-CD3A2295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CCE-E352-4014-B4E5-45D790B9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D64-AF50-4A93-B89E-B8410FA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DF4-0D74-45BA-AEB2-187221F7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FA6-91EC-461B-A480-BF38F55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BB0-E72B-4EFC-AF1F-622DB671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79D4-5047-4323-AB19-C508A7BEE0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irpps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irpps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49360" y="1116000"/>
            <a:ext cx="8088120" cy="332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Прямокутник 3">
            <a:hlinkClick r:id="rId2"/>
          </p:cNvPr>
          <p:cNvSpPr/>
          <p:nvPr/>
        </p:nvSpPr>
        <p:spPr>
          <a:xfrm>
            <a:off x="7221600" y="639612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rpps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Цель нашего урока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знакомиться..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читься отличать..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читься читать ..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Прямокутник 3">
            <a:hlinkClick r:id="rId1"/>
          </p:cNvPr>
          <p:cNvSpPr/>
          <p:nvPr/>
        </p:nvSpPr>
        <p:spPr>
          <a:xfrm>
            <a:off x="7221600" y="639612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rpps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nattik.ru/wp-content/uploads/2011/10/bukva_i.jpg"/>
          <p:cNvPicPr/>
          <p:nvPr/>
        </p:nvPicPr>
        <p:blipFill>
          <a:blip r:embed="rId1"/>
          <a:stretch/>
        </p:blipFill>
        <p:spPr>
          <a:xfrm>
            <a:off x="2884320" y="1265400"/>
            <a:ext cx="302436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47640" y="2311560"/>
            <a:ext cx="755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одплывает к берегу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щука-рыба и держит в зубах яйц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— 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олучай, Иван-царевич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брадовался царевич, разбил яйцо, достал иглу и отломил у неё конч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778880" y="2635200"/>
            <a:ext cx="7603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373720" y="-196920"/>
            <a:ext cx="3770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Школа19\Desktop\Мой урок 1 класс\40-600x600 (1).png"/>
          <p:cNvPicPr/>
          <p:nvPr/>
        </p:nvPicPr>
        <p:blipFill>
          <a:blip r:embed="rId1"/>
          <a:stretch/>
        </p:blipFill>
        <p:spPr>
          <a:xfrm>
            <a:off x="3252960" y="2265480"/>
            <a:ext cx="1636560" cy="163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Школа19\Desktop\Мой урок 1 класс\40-600x600.png"/>
          <p:cNvPicPr/>
          <p:nvPr/>
        </p:nvPicPr>
        <p:blipFill>
          <a:blip r:embed="rId2"/>
          <a:stretch/>
        </p:blipFill>
        <p:spPr>
          <a:xfrm>
            <a:off x="914400" y="98100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Школа19\Desktop\Мой урок 1 класс\Smilik_08_enl.jpg"/>
          <p:cNvPicPr/>
          <p:nvPr/>
        </p:nvPicPr>
        <p:blipFill>
          <a:blip r:embed="rId3"/>
          <a:stretch/>
        </p:blipFill>
        <p:spPr>
          <a:xfrm>
            <a:off x="5616720" y="3333600"/>
            <a:ext cx="1563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12:13:13Z</dcterms:created>
  <dc:creator>Inna</dc:creator>
  <dc:description/>
  <dc:language>en-US</dc:language>
  <cp:lastModifiedBy>Школа19</cp:lastModifiedBy>
  <dcterms:modified xsi:type="dcterms:W3CDTF">2016-10-11T18:06:58Z</dcterms:modified>
  <cp:revision>24</cp:revision>
  <dc:subject/>
  <dc:title>1 Сентября</dc:title>
</cp:coreProperties>
</file>