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5019-1097-4828-897A-B95DCC4C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05DE-DACA-457A-AC74-AA54367B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A525-6C48-4B6B-B5D4-4CB92E2D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E605-4F2E-4A9E-85C3-5731A95D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3259-01AF-4957-9C16-3B256B61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6594-2E2B-4872-96AA-395FE852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0F43-8DE4-4A60-A7F8-FD67FD2C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AC97-F604-4622-A6F3-1D9AAEB9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7D44-F0D4-4660-95D9-F8131B14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0114-9EB7-4654-9283-A6EC371B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1F16-3B1C-426A-9615-801AA874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5C5-3346-43FD-BEB3-B0AC92C5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ABF3-F476-4A91-9CD7-41F72A2F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A361-4776-40CD-862B-3A2A332D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25AE-9BD6-4870-8FA5-6F8BCBF6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5B0E-B3B2-45A8-9F29-A226BEF7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476D-4664-4874-958D-93DFD628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55C7-2C83-4BAD-9FAE-01F2F0F7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E8CF-CCE5-44AA-97DB-59A9CB1F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F2C4-359F-415A-B98F-6E51F482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1E03-C041-4DC6-A18B-7E6E35A7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326B-5F6A-41E7-9AD5-E3E95179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2F81-A8FE-49E2-BA0D-E4F4B33A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4518-D368-4310-9FA0-978E3F42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6C0B-FA87-45B7-BCB1-1BE7750BD1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E83C-58EF-44F2-952C-E1146B2D5D2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Documents and Settings\Admin\Рабочий стол\1207481543_solncewo.siteedit.ru-02-800x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>
            <a:off x="3419640" y="2492280"/>
            <a:ext cx="48974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Проек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«Путешествие в подводный мир» в подготовитель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групп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Подготовила: воспитатель Фофонова М.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1692360" y="549360"/>
            <a:ext cx="57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ffff"/>
                </a:solidFill>
                <a:latin typeface="Arial Black"/>
              </a:rPr>
              <a:t>Художественно-эстетическая дея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1332000" y="1571760"/>
            <a:ext cx="626436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ffff"/>
                </a:solidFill>
                <a:latin typeface="Arial Black"/>
              </a:rPr>
              <a:t>НОД «</a:t>
            </a:r>
            <a:r>
              <a:rPr b="1" i="1" lang="ru-RU" sz="2000" spc="-1" strike="noStrike">
                <a:solidFill>
                  <a:srgbClr val="29ffff"/>
                </a:solidFill>
                <a:latin typeface="Times New Roman"/>
                <a:ea typeface="Times New Roman"/>
              </a:rPr>
              <a:t>«В морских глубинах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ffff"/>
                </a:solidFill>
                <a:latin typeface="Calibri"/>
                <a:ea typeface="Calibr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ffff"/>
                </a:solidFill>
                <a:latin typeface="Arial Black"/>
              </a:rPr>
              <a:t>»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аппликация с элементами рис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Рисунок 3" descr=""/>
          <p:cNvPicPr/>
          <p:nvPr/>
        </p:nvPicPr>
        <p:blipFill>
          <a:blip r:embed="rId1"/>
          <a:stretch/>
        </p:blipFill>
        <p:spPr>
          <a:xfrm>
            <a:off x="0" y="24717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1763640" y="1052640"/>
            <a:ext cx="540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9ffff"/>
                </a:solidFill>
                <a:uFillTx/>
                <a:latin typeface="Arial Black"/>
              </a:rPr>
              <a:t>Взаимодействие с родителям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Изучение энциклопед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Беседа с детьми о подводном ми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Мини муз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осмотр телепередач о подводном ми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1116000" y="549360"/>
            <a:ext cx="612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9ffff"/>
                </a:solidFill>
                <a:latin typeface="Arial Black"/>
              </a:rPr>
              <a:t>3 этап Презентация проек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удожественная выставка по проекту «Подводное царство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дение викторины для детей «Исследователи морских глубин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казы детей о морских жив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1"/>
          <p:cNvSpPr/>
          <p:nvPr/>
        </p:nvSpPr>
        <p:spPr>
          <a:xfrm>
            <a:off x="1042920" y="1197000"/>
            <a:ext cx="727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9ffff"/>
                </a:solidFill>
                <a:latin typeface="Arial Black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9ffff"/>
                </a:solidFill>
                <a:latin typeface="Arial Black"/>
                <a:ea typeface="Times New Roman"/>
              </a:rPr>
              <a:t>Проект в подготовительной группе</a:t>
            </a:r>
            <a:br>
              <a:rPr sz="3200"/>
            </a:br>
            <a:r>
              <a:rPr b="1" i="1" lang="ru-RU" sz="3200" spc="-1" strike="noStrike">
                <a:solidFill>
                  <a:srgbClr val="29ffff"/>
                </a:solidFill>
                <a:latin typeface="Arial Black"/>
                <a:ea typeface="Times New Roman"/>
              </a:rPr>
              <a:t>«Удивительный подводный мир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9ffff"/>
                </a:solidFill>
                <a:uFillTx/>
                <a:latin typeface="Arial Black"/>
              </a:rPr>
              <a:t>Тип проекта</a:t>
            </a:r>
            <a:r>
              <a:rPr b="0" lang="ru-RU" sz="2800" spc="-1" strike="noStrike" u="sng">
                <a:solidFill>
                  <a:srgbClr val="29ffff"/>
                </a:solidFill>
                <a:uFillTx/>
                <a:latin typeface="Arial Black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знавательно-исследовательский, игровой, творческ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9ffff"/>
                </a:solidFill>
                <a:uFillTx/>
                <a:latin typeface="Arial Black"/>
              </a:rPr>
              <a:t>Сроки реализации</a:t>
            </a:r>
            <a:r>
              <a:rPr b="0" lang="ru-RU" sz="2800" spc="-1" strike="noStrike" u="sng">
                <a:solidFill>
                  <a:srgbClr val="29ffff"/>
                </a:solidFill>
                <a:uFillTx/>
                <a:latin typeface="Arial Black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 месяц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9ffff"/>
                </a:solidFill>
                <a:uFillTx/>
                <a:latin typeface="Arial Black"/>
              </a:rPr>
              <a:t>Участники проекта</a:t>
            </a:r>
            <a:r>
              <a:rPr b="0" lang="ru-RU" sz="2800" spc="-1" strike="noStrike" u="sng">
                <a:solidFill>
                  <a:srgbClr val="29ffff"/>
                </a:solidFill>
                <a:uFillTx/>
                <a:latin typeface="Arial Black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оспитатель, дети, родит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5280" y="277920"/>
            <a:ext cx="793116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ffff"/>
                </a:solidFill>
                <a:latin typeface="Arial Black"/>
              </a:rPr>
              <a:t>Актуальность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Подводный мир очень красочен, ярок, но напрямую не доступен для изучения детьми. Современные средства и методы обучения позволяют это сделать, что способствует «погружению» детей в интересную для них тему и делает их активными участниками образовательного процесса. Это даёт возможность воспитывать детей - «деятелей», а не «исполнителей», развивать волевые качества личности, навыки партнерского взаимодействия. Предлагаемая тема проекта предоставляет детям возможность на каждом занятии выявить проблему; самостоятельно искать нужное решение; выбирать из имеющихся способов наиболее адекватный и продуктивно его использовать; самостоятельно анализировать полученные результаты. Также развивает их творческие способности. Эта тема является очень интересной и увлекательной для детей старшего дошкольного возрас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29ffff"/>
                </a:solidFill>
                <a:uFillTx/>
                <a:latin typeface="Arial Black"/>
              </a:rPr>
              <a:t>Цель проекта</a:t>
            </a:r>
            <a:r>
              <a:rPr b="0" lang="ru-RU" sz="1600" spc="-1" strike="noStrike" u="sng">
                <a:solidFill>
                  <a:srgbClr val="29ffff"/>
                </a:solidFill>
                <a:uFillTx/>
                <a:latin typeface="Arial Black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расширять знания детей о подводном мире и его обитателях.</a:t>
            </a:r>
            <a:br>
              <a:rPr sz="1600"/>
            </a:br>
            <a:r>
              <a:rPr b="1" i="1" lang="ru-RU" sz="1600" spc="-1" strike="noStrike" u="sng">
                <a:solidFill>
                  <a:srgbClr val="29ffff"/>
                </a:solidFill>
                <a:uFillTx/>
                <a:latin typeface="Arial Black"/>
              </a:rPr>
              <a:t>Задачи проект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ffff"/>
                </a:solidFill>
                <a:latin typeface="Arial Black"/>
              </a:rPr>
              <a:t>Образовательные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   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-  Познакомить с разнообразием подводного мира, с его значимостью для всего живого на плане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   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-  Познакомить со строением и жизнедеятельностью обитателей подводного мир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ffff"/>
                </a:solidFill>
                <a:latin typeface="Arial Black"/>
              </a:rPr>
              <a:t>Развивающие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  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-  Развивать умение сравнивать и анализиров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   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-  Развивать воображение, мышление в процессе наблюдения, исследования природных объект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   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-  Обогащать словарный запас детей и их знания о подводном мир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   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-  Развивать умение передавать свои чувства от общений с природой в рисунках и поделк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ffff"/>
                </a:solidFill>
                <a:latin typeface="Arial Black"/>
              </a:rPr>
              <a:t>Воспитательные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   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-  Воспитывать бережное отношение к природ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   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-  Воспитывать коммуникативные навыки, самостоятельность, трудолюбие, наблюдательность и любознательность ко всему живому.</a:t>
            </a:r>
            <a:br>
              <a:rPr sz="18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250560" y="115560"/>
            <a:ext cx="8589960" cy="547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9ffff"/>
                </a:solidFill>
                <a:uFillTx/>
                <a:latin typeface="Arial Black"/>
              </a:rPr>
              <a:t>Ожидаемый результат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 Black"/>
              </a:rPr>
              <a:t>Получение информации из разных источников;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 Black"/>
              </a:rPr>
              <a:t>Владеть понятиями «Морские животные», «Рыбы», и т.п.;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 Black"/>
              </a:rPr>
              <a:t>Иметь представление о взаимосвязи деятельности человека и окружающей среды;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 Black"/>
              </a:rPr>
              <a:t>Продукты детской деятельности (рисунки, поделки, рассказы, про «Подводное царство»).</a:t>
            </a:r>
            <a:br>
              <a:rPr sz="1800"/>
            </a:br>
            <a:br>
              <a:rPr sz="20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29ffff"/>
                </a:solidFill>
                <a:latin typeface="Arial Black"/>
              </a:rPr>
              <a:t>Этапы работы над проект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95280" y="160020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ffff"/>
                </a:solidFill>
                <a:latin typeface="Arial Black"/>
              </a:rPr>
              <a:t>1 этап Организацио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интересовать детей данной темой. Мотивировать дальнейшее стремление как можно больше узнать о подводном ми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5051520" y="1841400"/>
            <a:ext cx="38163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ffff"/>
                </a:solidFill>
                <a:latin typeface="Arial"/>
              </a:rPr>
              <a:t>Анализ проблемы</a:t>
            </a:r>
            <a:r>
              <a:rPr b="1" lang="ru-RU" sz="2000" spc="-1" strike="noStrike">
                <a:solidFill>
                  <a:srgbClr val="29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седа «Знаешь ли ты морских обитателей?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 мы знаем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 мы хотим узнат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де мы можем это все узнат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одбор энциклопедической, методической, справочной литературы по теме проек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ти принесли из дома свои энциклопедии и журналы.  Каждый ребенок выбрал морское животное, о котор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будет рассказывать. Мы совместно придумали небольшие рассказы об этих живот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10" descr=""/>
          <p:cNvPicPr/>
          <p:nvPr/>
        </p:nvPicPr>
        <p:blipFill>
          <a:blip r:embed="rId1"/>
          <a:stretch/>
        </p:blipFill>
        <p:spPr>
          <a:xfrm>
            <a:off x="4495680" y="3548160"/>
            <a:ext cx="4475160" cy="330192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" descr=""/>
          <p:cNvPicPr/>
          <p:nvPr/>
        </p:nvPicPr>
        <p:blipFill>
          <a:blip r:embed="rId2"/>
          <a:stretch/>
        </p:blipFill>
        <p:spPr>
          <a:xfrm>
            <a:off x="4495680" y="14400"/>
            <a:ext cx="4648320" cy="327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4869000" y="4152960"/>
            <a:ext cx="47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29ffff"/>
                </a:solidFill>
                <a:uFillTx/>
                <a:latin typeface="Arial Black"/>
              </a:rPr>
              <a:t>Создание мини-музе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29ffff"/>
                </a:solidFill>
                <a:uFillTx/>
                <a:latin typeface="Arial Black"/>
              </a:rPr>
              <a:t>«подводный мир»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174600" y="4680"/>
            <a:ext cx="77868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9c5e0"/>
                </a:solidFill>
                <a:latin typeface="Arial"/>
                <a:ea typeface="Times New Roman"/>
              </a:rPr>
              <a:t>Коллективня работа детей с применением нетрадиционных техник и материал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9ffff"/>
                </a:solidFill>
                <a:uFillTx/>
                <a:latin typeface="Arial Black"/>
              </a:rPr>
              <a:t>Подбор подвижных и дидактических игр, стихов, загад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«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знай рыбу по описанию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Кто как устрое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Хрустальная 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вод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«Море волнуется раз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Рисунок 2" descr=""/>
          <p:cNvPicPr/>
          <p:nvPr/>
        </p:nvPicPr>
        <p:blipFill>
          <a:blip r:embed="rId1"/>
          <a:stretch/>
        </p:blipFill>
        <p:spPr>
          <a:xfrm>
            <a:off x="4500720" y="1052640"/>
            <a:ext cx="4478040" cy="28810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5" descr="https://i.mycdn.me/image?id=853558698944&amp;t=3&amp;plc=WEB&amp;tkn=*RO3d_XZ2xn2FUyLnjCTge2-buUY"/>
          <p:cNvPicPr/>
          <p:nvPr/>
        </p:nvPicPr>
        <p:blipFill>
          <a:blip r:embed="rId2"/>
          <a:stretch/>
        </p:blipFill>
        <p:spPr>
          <a:xfrm>
            <a:off x="174600" y="3143160"/>
            <a:ext cx="418140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4"/>
          <p:cNvSpPr/>
          <p:nvPr/>
        </p:nvSpPr>
        <p:spPr>
          <a:xfrm>
            <a:off x="1332000" y="620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ffff"/>
                </a:solidFill>
                <a:latin typeface="Arial Black"/>
              </a:rPr>
              <a:t>2 этап  Реализация про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324000" y="1144440"/>
            <a:ext cx="4319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НОД (Эколог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«Беседа о морских обитателях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ти узнали о таких морских обитателях как: рыба клоун, рыба – еж, разновидностях акулы (китовая, белая, молот) и кита (усатые, зубатые). Также узнали о растительном мире океанов и морей ( ламинария, фитопланктон, морской латук, фукус и т.д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роведение экспериментально-исследовательско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«Как сделать морскую воду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Рисунок 3" descr=""/>
          <p:cNvPicPr/>
          <p:nvPr/>
        </p:nvPicPr>
        <p:blipFill>
          <a:blip r:embed="rId1"/>
          <a:stretch/>
        </p:blipFill>
        <p:spPr>
          <a:xfrm>
            <a:off x="-54000" y="3152880"/>
            <a:ext cx="9252000" cy="552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8:37:55Z</dcterms:created>
  <dc:creator>Соколова</dc:creator>
  <dc:description/>
  <dc:language>en-US</dc:language>
  <cp:lastModifiedBy>домашний</cp:lastModifiedBy>
  <dcterms:modified xsi:type="dcterms:W3CDTF">2017-09-15T18:55:27Z</dcterms:modified>
  <cp:revision>43</cp:revision>
  <dc:subject/>
  <dc:title>Проект «Удивительный подводный мир» в подготовительной Группе Подготовила: воспитатель Кондакова И. А</dc:title>
</cp:coreProperties>
</file>