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98B-AED7-4804-8CF4-3DC28225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DD36-D71E-4DA1-9495-68D9B255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0BF-CD46-4778-A565-7725008B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EB41-6FCF-4978-9926-20E17A40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02C3-F750-4ACA-B465-31B78BD2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E054-F5C6-4C72-9948-E9132898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5CDC-2048-46AD-822B-0F8EA26C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0730-900D-4006-B41F-5EB129AF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970F-8322-445D-A6FD-62A0A31D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471A-6CA7-4356-848E-8BE4BAB7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3D9F-A42C-4887-8492-4211E449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35E-7E94-459F-A865-78B2B482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83DE-0666-41D2-ABE6-0622F279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70FA-9117-4FEC-837C-C9057BCC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2D75-28C5-4716-B9D6-970928E1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DC8F-2952-40D8-AD9F-0C13302D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890E-2A0B-4DCF-9AEE-9C46F457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69BE-BACE-47C9-9A60-836AFD0D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635-ACBF-4447-A5BC-710F4852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A3D1-B403-4E0A-970D-2AA43C8C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DA11-55B3-471C-9A0F-9EC62C7F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34F-9B26-46E1-9192-73F78662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A3A6-B570-433D-9B54-C146C32C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D2A-EC60-4BFC-95F0-0F704D86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DC1A-85E2-497D-A02B-D697AFE211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CB35-B7DB-41CD-90CB-F74A717801F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Admin\Рабочий стол\1207481543_solncewo.siteedit.ru-02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3419640" y="2492280"/>
            <a:ext cx="48974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Проек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«Путешествие в подводный мир» в подготовитель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групп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Подготовила: воспитатель Фофонова М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1692360" y="549360"/>
            <a:ext cx="57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ffff"/>
                </a:solidFill>
                <a:latin typeface="Arial Black"/>
              </a:rPr>
              <a:t>Художественно-эстетическая 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1332000" y="1571760"/>
            <a:ext cx="626436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ffff"/>
                </a:solidFill>
                <a:latin typeface="Arial Black"/>
              </a:rPr>
              <a:t>НОД «</a:t>
            </a:r>
            <a:r>
              <a:rPr b="1" i="1" lang="ru-RU" sz="2000" spc="-1" strike="noStrike">
                <a:solidFill>
                  <a:srgbClr val="29ffff"/>
                </a:solidFill>
                <a:latin typeface="Times New Roman"/>
                <a:ea typeface="Times New Roman"/>
              </a:rPr>
              <a:t>«В морских глубинах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ffff"/>
                </a:solidFill>
                <a:latin typeface="Calibri"/>
                <a:ea typeface="Calibr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ffff"/>
                </a:solidFill>
                <a:latin typeface="Arial Black"/>
              </a:rPr>
              <a:t>»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аппликация с элементами рис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Рисунок 3" descr=""/>
          <p:cNvPicPr/>
          <p:nvPr/>
        </p:nvPicPr>
        <p:blipFill>
          <a:blip r:embed="rId1"/>
          <a:stretch/>
        </p:blipFill>
        <p:spPr>
          <a:xfrm>
            <a:off x="0" y="24717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1763640" y="1052640"/>
            <a:ext cx="540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ffff"/>
                </a:solidFill>
                <a:uFillTx/>
                <a:latin typeface="Arial Black"/>
              </a:rPr>
              <a:t>Взаимодействие с родителя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Изучение энциклопед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Беседа с детьми о подводном ми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Мини муз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осмотр телепередач о подводном ми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1116000" y="549360"/>
            <a:ext cx="61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ffff"/>
                </a:solidFill>
                <a:latin typeface="Arial Black"/>
              </a:rPr>
              <a:t>3 этап Презентация прое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удожественная выставка по проекту «Подводное царство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дение викторины для детей «Исследователи морских глубин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казы детей о морских жив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"/>
          <p:cNvSpPr/>
          <p:nvPr/>
        </p:nvSpPr>
        <p:spPr>
          <a:xfrm>
            <a:off x="1042920" y="1197000"/>
            <a:ext cx="72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9ffff"/>
                </a:solidFill>
                <a:latin typeface="Arial Black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9ffff"/>
                </a:solidFill>
                <a:latin typeface="Arial Black"/>
                <a:ea typeface="Times New Roman"/>
              </a:rPr>
              <a:t>Проект в подготовительной группе</a:t>
            </a:r>
            <a:br>
              <a:rPr sz="3200"/>
            </a:br>
            <a:r>
              <a:rPr b="1" i="1" lang="ru-RU" sz="3200" spc="-1" strike="noStrike">
                <a:solidFill>
                  <a:srgbClr val="29ffff"/>
                </a:solidFill>
                <a:latin typeface="Arial Black"/>
                <a:ea typeface="Times New Roman"/>
              </a:rPr>
              <a:t>«Удивительный подводный мир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9ffff"/>
                </a:solidFill>
                <a:uFillTx/>
                <a:latin typeface="Arial Black"/>
              </a:rPr>
              <a:t>Тип проекта</a:t>
            </a:r>
            <a:r>
              <a:rPr b="0" lang="ru-RU" sz="2800" spc="-1" strike="noStrike" u="sng">
                <a:solidFill>
                  <a:srgbClr val="29ffff"/>
                </a:solidFill>
                <a:uFillTx/>
                <a:latin typeface="Arial Black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знавательно-исследовательский, игровой, творческ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9ffff"/>
                </a:solidFill>
                <a:uFillTx/>
                <a:latin typeface="Arial Black"/>
              </a:rPr>
              <a:t>Сроки реализации</a:t>
            </a:r>
            <a:r>
              <a:rPr b="0" lang="ru-RU" sz="2800" spc="-1" strike="noStrike" u="sng">
                <a:solidFill>
                  <a:srgbClr val="29ffff"/>
                </a:solidFill>
                <a:uFillTx/>
                <a:latin typeface="Arial Black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 месяц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9ffff"/>
                </a:solidFill>
                <a:uFillTx/>
                <a:latin typeface="Arial Black"/>
              </a:rPr>
              <a:t>Участники проекта</a:t>
            </a:r>
            <a:r>
              <a:rPr b="0" lang="ru-RU" sz="2800" spc="-1" strike="noStrike" u="sng">
                <a:solidFill>
                  <a:srgbClr val="29ffff"/>
                </a:solidFill>
                <a:uFillTx/>
                <a:latin typeface="Arial Black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оспитатель, дети, роди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280" y="27792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ffff"/>
                </a:solidFill>
                <a:latin typeface="Arial Black"/>
              </a:rPr>
              <a:t>Актуальность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Подводный мир очень красочен, ярок, но напрямую не доступен для изучения детьми. Современные средства и методы обучения позволяют это сделать, что способствует «погружению» детей в интересную для них тему и делает их активными участниками образовательного процесса. Это даёт возможность воспитывать детей - «деятелей», а не «исполнителей», развивать волевые качества личности, навыки партнерского взаимодействия. Предлагаемая тема проекта предоставляет детям возможность на каждом занятии выявить проблему; самостоятельно искать нужное решение; выбирать из имеющихся способов наиболее адекватный и продуктивно его использовать; самостоятельно анализировать полученные результаты. Также развивает их творческие способности. Эта тема является очень интересной и увлекательной для детей старшего дошкольного возрас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29ffff"/>
                </a:solidFill>
                <a:uFillTx/>
                <a:latin typeface="Arial Black"/>
              </a:rPr>
              <a:t>Цель проекта</a:t>
            </a:r>
            <a:r>
              <a:rPr b="0" lang="ru-RU" sz="1600" spc="-1" strike="noStrike" u="sng">
                <a:solidFill>
                  <a:srgbClr val="29ffff"/>
                </a:solidFill>
                <a:uFillTx/>
                <a:latin typeface="Arial Black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расширять знания детей о подводном мире и его обитателях.</a:t>
            </a:r>
            <a:br>
              <a:rPr sz="1600"/>
            </a:br>
            <a:r>
              <a:rPr b="1" i="1" lang="ru-RU" sz="1600" spc="-1" strike="noStrike" u="sng">
                <a:solidFill>
                  <a:srgbClr val="29ffff"/>
                </a:solidFill>
                <a:uFillTx/>
                <a:latin typeface="Arial Black"/>
              </a:rPr>
              <a:t>Задачи проект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ffff"/>
                </a:solidFill>
                <a:latin typeface="Arial Black"/>
              </a:rPr>
              <a:t>Образовательные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   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  Познакомить с разнообразием подводного мира, с его значимостью для всего живого на плане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   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  Познакомить со строением и жизнедеятельностью обитателей подводного мир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ffff"/>
                </a:solidFill>
                <a:latin typeface="Arial Black"/>
              </a:rPr>
              <a:t>Развивающие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  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  Развивать умение сравнивать и анализиров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   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  Развивать воображение, мышление в процессе наблюдения, исследования природных объект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   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  Обогащать словарный запас детей и их знания о подводном мир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   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  Развивать умение передавать свои чувства от общений с природой в рисунках и поделк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ffff"/>
                </a:solidFill>
                <a:latin typeface="Arial Black"/>
              </a:rPr>
              <a:t>Воспитательные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   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  Воспитывать бережное отношение к природ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   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  Воспитывать коммуникативные навыки, самостоятельность, трудолюбие, наблюдательность и любознательность ко всему живому.</a:t>
            </a:r>
            <a:br>
              <a:rPr sz="18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50560" y="115560"/>
            <a:ext cx="8589960" cy="547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9ffff"/>
                </a:solidFill>
                <a:uFillTx/>
                <a:latin typeface="Arial Black"/>
              </a:rPr>
              <a:t>Ожидаемый результат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 Black"/>
              </a:rPr>
              <a:t>Получение информации из разных источников;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 Black"/>
              </a:rPr>
              <a:t>Владеть понятиями «Морские животные», «Рыбы», и т.п.;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 Black"/>
              </a:rPr>
              <a:t>Иметь представление о взаимосвязи деятельности человека и окружающей среды;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 Black"/>
              </a:rPr>
              <a:t>Продукты детской деятельности (рисунки, поделки, рассказы, про «Подводное царство»).</a:t>
            </a:r>
            <a:br>
              <a:rPr sz="1800"/>
            </a:br>
            <a:br>
              <a:rPr sz="20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29ffff"/>
                </a:solidFill>
                <a:latin typeface="Arial Black"/>
              </a:rPr>
              <a:t>Этапы работы над проект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95280" y="160020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ffff"/>
                </a:solidFill>
                <a:latin typeface="Arial Black"/>
              </a:rPr>
              <a:t>1 этап Организацио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интересовать детей данной темой. Мотивировать дальнейшее стремление как можно больше узнать о подводном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5051520" y="1841400"/>
            <a:ext cx="38163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ffff"/>
                </a:solidFill>
                <a:latin typeface="Arial"/>
              </a:rPr>
              <a:t>Анализ проблемы</a:t>
            </a:r>
            <a:r>
              <a:rPr b="1" lang="ru-RU" sz="2000" spc="-1" strike="noStrike">
                <a:solidFill>
                  <a:srgbClr val="29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седа «Знаешь ли ты морских обитателей?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 мы знаем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 мы хотим узна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мы можем это все узна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одбор энциклопедической, методической, справочной литературы по теме прое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и принесли из дома свои энциклопедии и журналы.  Каждый ребенок выбрал морское животное, о кото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будет рассказывать. Мы совместно придумали небольшие рассказы об этих живот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0" descr=""/>
          <p:cNvPicPr/>
          <p:nvPr/>
        </p:nvPicPr>
        <p:blipFill>
          <a:blip r:embed="rId1"/>
          <a:stretch/>
        </p:blipFill>
        <p:spPr>
          <a:xfrm>
            <a:off x="4495680" y="3548160"/>
            <a:ext cx="4475160" cy="33019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" descr=""/>
          <p:cNvPicPr/>
          <p:nvPr/>
        </p:nvPicPr>
        <p:blipFill>
          <a:blip r:embed="rId2"/>
          <a:stretch/>
        </p:blipFill>
        <p:spPr>
          <a:xfrm>
            <a:off x="4495680" y="14400"/>
            <a:ext cx="4648320" cy="327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4869000" y="4152960"/>
            <a:ext cx="47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29ffff"/>
                </a:solidFill>
                <a:uFillTx/>
                <a:latin typeface="Arial Black"/>
              </a:rPr>
              <a:t>Создание мини-музе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29ffff"/>
                </a:solidFill>
                <a:uFillTx/>
                <a:latin typeface="Arial Black"/>
              </a:rPr>
              <a:t>«подводный мир»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174600" y="4680"/>
            <a:ext cx="77868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9c5e0"/>
                </a:solidFill>
                <a:latin typeface="Arial"/>
                <a:ea typeface="Times New Roman"/>
              </a:rPr>
              <a:t>Коллективня работа детей с применением нетрадиционных техник и материа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9ffff"/>
                </a:solidFill>
                <a:uFillTx/>
                <a:latin typeface="Arial Black"/>
              </a:rPr>
              <a:t>Подбор подвижных и дидактических игр, стихов, загад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«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знай рыбу по описанию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Кто как устрое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Хрустальная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вод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«Море волнуется раз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Рисунок 2" descr=""/>
          <p:cNvPicPr/>
          <p:nvPr/>
        </p:nvPicPr>
        <p:blipFill>
          <a:blip r:embed="rId1"/>
          <a:stretch/>
        </p:blipFill>
        <p:spPr>
          <a:xfrm>
            <a:off x="4500720" y="1052640"/>
            <a:ext cx="4478040" cy="28810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5" descr="https://i.mycdn.me/image?id=853558698944&amp;t=3&amp;plc=WEB&amp;tkn=*RO3d_XZ2xn2FUyLnjCTge2-buUY"/>
          <p:cNvPicPr/>
          <p:nvPr/>
        </p:nvPicPr>
        <p:blipFill>
          <a:blip r:embed="rId2"/>
          <a:stretch/>
        </p:blipFill>
        <p:spPr>
          <a:xfrm>
            <a:off x="174600" y="3143160"/>
            <a:ext cx="418140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4"/>
          <p:cNvSpPr/>
          <p:nvPr/>
        </p:nvSpPr>
        <p:spPr>
          <a:xfrm>
            <a:off x="1332000" y="620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ffff"/>
                </a:solidFill>
                <a:latin typeface="Arial Black"/>
              </a:rPr>
              <a:t>2 этап  Реализация про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324000" y="1144440"/>
            <a:ext cx="4319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НОД (Эколог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«Беседа о морских обитателях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ти узнали о таких морских обитателях как: рыба клоун, рыба – еж, разновидностях акулы (китовая, белая, молот) и кита (усатые, зубатые). Также узнали о растительном мире океанов и морей ( ламинария, фитопланктон, морской латук, фукус и т.д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роведение экспериментально-исследовательск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«Как сделать морскую воду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Рисунок 3" descr=""/>
          <p:cNvPicPr/>
          <p:nvPr/>
        </p:nvPicPr>
        <p:blipFill>
          <a:blip r:embed="rId1"/>
          <a:stretch/>
        </p:blipFill>
        <p:spPr>
          <a:xfrm>
            <a:off x="-54000" y="3152880"/>
            <a:ext cx="9252000" cy="552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8:37:55Z</dcterms:created>
  <dc:creator>Соколова</dc:creator>
  <dc:description/>
  <dc:language>en-US</dc:language>
  <cp:lastModifiedBy>домашний</cp:lastModifiedBy>
  <dcterms:modified xsi:type="dcterms:W3CDTF">2017-09-15T18:55:27Z</dcterms:modified>
  <cp:revision>43</cp:revision>
  <dc:subject/>
  <dc:title>Проект «Удивительный подводный мир» в подготовительной Группе Подготовила: воспитатель Кондакова И. А</dc:title>
</cp:coreProperties>
</file>