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7EA8-4DFE-41B3-9CC1-394DB3E49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FD10-3FED-48C9-8CD4-9C9A645F7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819C-5BF6-479D-9F5B-3FDB91CC9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A377-4CBE-4479-99F8-C788B4B2C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2334E-2BD5-4948-ACAD-C77A53669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8B092-A049-4FB9-9197-D6F8F7062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AD9FE-1FF4-4166-9627-E20599173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0439F-DE8D-491F-97EE-2F5B17DD3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89671-CB02-49A7-A70C-A297AA1AA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F40F4-5921-4A42-94F4-5A9602428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F1BF4-0EC9-4848-A7FB-1C93AED0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4A95-16E5-43C3-AED7-1CAD49CCD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C3622-91B3-472C-8E92-0AD07BD3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19F96-6DD5-4326-BAC9-C16C4C95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FACFC-B62D-43E4-9A3D-DA7B0D857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5659E-9968-4A65-8E37-E939F6E41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0C8CE-D4BB-4558-B925-5C9E3D639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55A1E-81AF-4BCF-ADA0-8544FE70B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C9C3E-8D22-4156-B76D-EFCD4CF9C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C5524-C992-4967-9973-D9844370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96D1F-F119-4C0B-8AFA-2418AF664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EEB4C-00D6-43BF-9D14-70B8E0250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7E2A-38D2-4A23-BADD-14F03237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E9BF5-1860-443D-BEE1-95B22EE8B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AE762-7687-40E5-A2FC-3859C634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AF610-4A6C-4B30-8B1E-A7BD9A2D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5F5FC-10A0-47A7-AF7B-A86DFD26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CEA05-9B2F-4FAE-9837-9139EFCC7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8BFAF-DE08-4E59-B6EA-F4729D750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91544-EA06-4F5C-B674-76E562781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888C8-295A-432A-AE74-906751AB5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68C9E-66F8-4B04-96AE-418FE24F2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C8F40-E556-4366-9A38-30B650F3F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E482-9717-4C63-BFA2-8D5A30B3F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976D7-7BB4-4609-AF6D-76194927B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C76A2-0C8D-4FE1-8D78-591301EA5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7579F-A320-48F2-A211-407BAA903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8EDA7-59D8-41CB-95E0-ED10DEC6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02EF5-A396-429B-86FC-985CBB9D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A7FF5-F094-4068-96E2-4A5B3B26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2A85D-141E-405D-874E-8C659AEA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D8559-1836-4FBC-9311-D8D4A4951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FDBA7-364E-4369-9C2B-BF7704A15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F0A0-2F47-478F-84E9-2B6D87846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171C-B65D-4320-8CB7-E062DB5FC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BCF2-9AA8-4F04-8B25-22233A61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8013-ECF1-4E72-9EC7-649FC952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A4C9-93E5-4336-846E-012D0A5B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AB77A-ECB5-487D-A89C-910545AF5157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79594-EBBB-41AF-80EA-9AE21583241E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98B76-62E9-4A7D-AC72-A4213FA0EB1F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203CD-1346-488F-89AE-9A1075D87CDE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5" descr=""/>
          <p:cNvPicPr/>
          <p:nvPr/>
        </p:nvPicPr>
        <p:blipFill>
          <a:blip r:embed="rId1"/>
          <a:stretch/>
        </p:blipFill>
        <p:spPr>
          <a:xfrm>
            <a:off x="357120" y="1000080"/>
            <a:ext cx="85010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Тема урока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-360" y="1920960"/>
            <a:ext cx="892980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21b2c9"/>
                </a:solidFill>
                <a:latin typeface="Book Antiqua"/>
              </a:rPr>
              <a:t>«Что плавает-</a:t>
            </a:r>
            <a:endParaRPr b="0" lang="en-US" sz="8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21b2c9"/>
                </a:solidFill>
                <a:latin typeface="Book Antiqua"/>
              </a:rPr>
              <a:t> </a:t>
            </a:r>
            <a:r>
              <a:rPr b="1" i="1" lang="ru-RU" sz="8800" spc="-1" strike="noStrike">
                <a:solidFill>
                  <a:srgbClr val="21b2c9"/>
                </a:solidFill>
                <a:latin typeface="Book Antiqua"/>
              </a:rPr>
              <a:t>что тонет?» </a:t>
            </a:r>
            <a:endParaRPr b="0" lang="en-US" sz="8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22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Правила работы в группах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13840" y="1856880"/>
            <a:ext cx="86439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b5395"/>
                </a:solidFill>
                <a:latin typeface="Constantia"/>
              </a:rPr>
              <a:t>Бережно относись ко всем приборам.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542160" indent="-542160">
              <a:lnSpc>
                <a:spcPct val="9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b5395"/>
                </a:solidFill>
                <a:latin typeface="Constantia"/>
              </a:rPr>
              <a:t>Во время работы можно не только сидеть, но и стоять.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542160" indent="-542160">
              <a:lnSpc>
                <a:spcPct val="9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b5395"/>
                </a:solidFill>
                <a:latin typeface="Constantia"/>
              </a:rPr>
              <a:t>Опыт может проводить один ученик, остальные наблюдают.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542160" indent="-542160">
              <a:lnSpc>
                <a:spcPct val="9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b5395"/>
                </a:solidFill>
                <a:latin typeface="Constantia"/>
              </a:rPr>
              <a:t>Опыт проводим поэтапно. Приборы не передвигаются, переходит ученик.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542160" indent="-542160">
              <a:lnSpc>
                <a:spcPct val="9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b5395"/>
                </a:solidFill>
                <a:latin typeface="Constantia"/>
              </a:rPr>
              <a:t>Обсуждение ведется по очереди, </a:t>
            </a:r>
            <a:r>
              <a:rPr b="1" lang="ru-RU" sz="3600" spc="-1" strike="noStrike">
                <a:solidFill>
                  <a:srgbClr val="0b5395"/>
                </a:solidFill>
                <a:latin typeface="Arial Black"/>
              </a:rPr>
              <a:t>тихо</a:t>
            </a:r>
            <a:r>
              <a:rPr b="1" lang="ru-RU" sz="3600" spc="-1" strike="noStrike">
                <a:solidFill>
                  <a:srgbClr val="0b5395"/>
                </a:solidFill>
                <a:latin typeface="Constantia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542160" indent="-542160">
              <a:lnSpc>
                <a:spcPct val="9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b5395"/>
                </a:solidFill>
                <a:latin typeface="Constantia"/>
              </a:rPr>
              <a:t>После проведения опытов, нужно привести рабочее место в порядок.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213840" y="1285920"/>
            <a:ext cx="8472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100000"/>
              </a:lnSpc>
              <a:spcBef>
                <a:spcPts val="18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59aaf2"/>
                </a:solidFill>
                <a:latin typeface="Monotype Corsiva"/>
                <a:ea typeface="MS Mincho"/>
              </a:rPr>
              <a:t>Предметы, которые </a:t>
            </a:r>
            <a:r>
              <a:rPr b="1" lang="ru-RU" sz="7200" spc="-1" strike="noStrike">
                <a:solidFill>
                  <a:srgbClr val="089ca3"/>
                </a:solidFill>
                <a:latin typeface="Monotype Corsiva"/>
                <a:ea typeface="MS Mincho"/>
              </a:rPr>
              <a:t>не  тонут, </a:t>
            </a:r>
            <a:r>
              <a:rPr b="0" lang="ru-RU" sz="7200" spc="-1" strike="noStrike">
                <a:solidFill>
                  <a:srgbClr val="59aaf2"/>
                </a:solidFill>
                <a:latin typeface="Monotype Corsiva"/>
                <a:ea typeface="MS Mincho"/>
              </a:rPr>
              <a:t>обладают </a:t>
            </a:r>
            <a:r>
              <a:rPr b="1" lang="ru-RU" sz="7200" spc="-1" strike="noStrike">
                <a:solidFill>
                  <a:srgbClr val="089ca3"/>
                </a:solidFill>
                <a:latin typeface="Monotype Corsiva"/>
                <a:ea typeface="MS Mincho"/>
              </a:rPr>
              <a:t>свойством плавучести.</a:t>
            </a: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5746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b5395"/>
                </a:solidFill>
                <a:latin typeface="Calibri"/>
              </a:rPr>
              <a:t>Все, что из дерева, плавает.</a:t>
            </a:r>
            <a:br>
              <a:rPr sz="5000"/>
            </a:br>
            <a:r>
              <a:rPr b="1" i="1" lang="ru-RU" sz="5000" spc="-1" strike="noStrike">
                <a:solidFill>
                  <a:srgbClr val="0b5395"/>
                </a:solidFill>
                <a:latin typeface="Calibri"/>
              </a:rPr>
              <a:t>Все что из металла,  тонет.</a:t>
            </a:r>
            <a:br>
              <a:rPr sz="5000"/>
            </a:br>
            <a:r>
              <a:rPr b="1" i="1" lang="ru-RU" sz="5000" spc="-1" strike="noStrike">
                <a:solidFill>
                  <a:srgbClr val="0b5395"/>
                </a:solidFill>
                <a:latin typeface="Calibri"/>
              </a:rPr>
              <a:t>Все, что из пенопласта, плавает.</a:t>
            </a:r>
            <a:br>
              <a:rPr sz="5000"/>
            </a:br>
            <a:r>
              <a:rPr b="1" i="1" lang="ru-RU" sz="5000" spc="-1" strike="noStrike">
                <a:solidFill>
                  <a:srgbClr val="0b5395"/>
                </a:solidFill>
                <a:latin typeface="Calibri"/>
              </a:rPr>
              <a:t>Все что из камня,  </a:t>
            </a:r>
            <a:r>
              <a:rPr b="1" i="1" lang="ru-RU" sz="5000" spc="-1" strike="noStrike">
                <a:solidFill>
                  <a:srgbClr val="0b5395"/>
                </a:solidFill>
                <a:latin typeface="Arial"/>
              </a:rPr>
              <a:t>тонет</a:t>
            </a:r>
            <a:r>
              <a:rPr b="1" i="1" lang="ru-RU" sz="5000" spc="-1" strike="noStrike">
                <a:solidFill>
                  <a:srgbClr val="0b5395"/>
                </a:solidFill>
                <a:latin typeface="Calibri"/>
              </a:rPr>
              <a:t>.</a:t>
            </a:r>
            <a:br>
              <a:rPr sz="5000"/>
            </a:br>
            <a:r>
              <a:rPr b="1" i="1" lang="ru-RU" sz="5000" spc="-1" strike="noStrike">
                <a:solidFill>
                  <a:srgbClr val="0b5395"/>
                </a:solidFill>
                <a:latin typeface="Calibri"/>
              </a:rPr>
              <a:t>Все что из губки,  плавает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2T17:07:25Z</dcterms:created>
  <dc:creator>www.PHILka.RU</dc:creator>
  <dc:description/>
  <dc:language>en-US</dc:language>
  <cp:lastModifiedBy>Ольга</cp:lastModifiedBy>
  <dcterms:modified xsi:type="dcterms:W3CDTF">2017-09-15T17:07:25Z</dcterms:modified>
  <cp:revision>14</cp:revision>
  <dc:subject/>
  <dc:title>Слайд 1</dc:title>
</cp:coreProperties>
</file>