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234-6D3B-4856-B65C-6C62BEE8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F58-F843-48A0-B225-80D78FE0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C98-D19A-4A5C-8414-9ADF5116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12D-6BFE-4CF1-BAC4-44CD15C8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A93-049F-49AC-A6A4-9C8D1E00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8698-99A5-40F9-BFCF-935734F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60A3-E6D5-43FF-905C-E869EEBD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B182-251D-4511-B318-13FB8E6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C0B2-8E74-4E1D-B765-3E51E7D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163-10F5-4C08-B229-65B3F7B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57E7-9A2A-422D-A1EC-1B72074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142-EDB9-4C17-A1AB-1B102231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8F4B-7702-4226-8E8D-81EB319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62A7-A61C-42DD-B5AC-2766BC7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D00-CB91-4F5C-8B40-F03A271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31FC-868B-4F9D-8A48-9DE07CA7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91C-2922-4C57-8742-F5095A18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723B-F1C9-4604-B47D-87BB2BC4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1F67-6112-43D8-8110-E0E58BA3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FA02-DDE5-44E7-BAB0-0E2AF24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315F-1FBB-43E5-8177-0F44997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0319-4314-406F-8BAC-AA99866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1BD-78FC-49CF-B2A7-705EE69E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CF6B-77CA-48A5-A74B-1B8EA253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B2D5-A6A0-46B1-80F2-58287AC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F333-AB53-4268-B49A-1DA62D77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72E6-EFE5-4553-B92B-1E7A889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9471-62ED-436B-8159-3E5C149D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248C-E244-41C3-8930-1780C7ED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E451-3144-4A7C-B243-A61CA465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F5CF-AEA7-4766-A18E-CE908199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2F5B-9CAD-47F9-9E7C-80151E7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9960-9AE6-4153-8863-4A3EB78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0ED-F8D1-4273-ABFD-6752CF70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3C21-F0B0-4E09-ADC3-11578745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66CA-4467-4045-B780-92271A2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8C6A-DB03-4170-AC55-0EF604B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6750-2A00-4627-8993-48B984E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7C7D-250B-43B7-9CE8-D822E5F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C2C5-8635-4C81-9ABF-4D2E07B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9D86-565A-471F-9A7F-1CD82A4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87BD-03DA-4C03-8CF6-E056A5A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BC6D-6B91-4467-981E-729149A0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201-744A-4B1B-A2EF-927248E7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C49-F251-4670-BFE2-ABB6A6C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26C-73D8-48E8-83CB-CABEDAC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C08-CC67-42E0-B69E-BCC5E84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714-644A-4C6C-B04E-8706678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150-D501-48F8-881B-44486158368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5240-884B-43B9-91E9-B3487DE92AE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E37B-B1F8-46DC-8D2E-7643C682E3A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A309-403F-49CC-8357-887CF55EEF2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501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1920960"/>
            <a:ext cx="8929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«Что плавает-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 </a:t>
            </a: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что тонет?»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2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вила работы в групп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1856880"/>
            <a:ext cx="8643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Бережно относись ко всем приборам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Во время работы можно не только сидеть, но и стоять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пыт может проводить один ученик, остальные наблюдают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пыт проводим поэтапно. Приборы не передвигаются, переходит ученик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бсуждение ведется по очереди, </a:t>
            </a:r>
            <a:r>
              <a:rPr b="1" lang="ru-RU" sz="3600" spc="-1" strike="noStrike">
                <a:solidFill>
                  <a:srgbClr val="0b5395"/>
                </a:solidFill>
                <a:latin typeface="Arial Black"/>
              </a:rPr>
              <a:t>тихо</a:t>
            </a: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После проведения опытов, нужно привести рабочее место в порядок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840" y="1285920"/>
            <a:ext cx="8472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9aaf2"/>
                </a:solidFill>
                <a:latin typeface="Monotype Corsiva"/>
                <a:ea typeface="MS Mincho"/>
              </a:rPr>
              <a:t>Предметы, которые </a:t>
            </a:r>
            <a:r>
              <a:rPr b="1" lang="ru-RU" sz="7200" spc="-1" strike="noStrike">
                <a:solidFill>
                  <a:srgbClr val="089ca3"/>
                </a:solidFill>
                <a:latin typeface="Monotype Corsiva"/>
                <a:ea typeface="MS Mincho"/>
              </a:rPr>
              <a:t>не  тонут, </a:t>
            </a:r>
            <a:r>
              <a:rPr b="0" lang="ru-RU" sz="7200" spc="-1" strike="noStrike">
                <a:solidFill>
                  <a:srgbClr val="59aaf2"/>
                </a:solidFill>
                <a:latin typeface="Monotype Corsiva"/>
                <a:ea typeface="MS Mincho"/>
              </a:rPr>
              <a:t>обладают </a:t>
            </a:r>
            <a:r>
              <a:rPr b="1" lang="ru-RU" sz="7200" spc="-1" strike="noStrike">
                <a:solidFill>
                  <a:srgbClr val="089ca3"/>
                </a:solidFill>
                <a:latin typeface="Monotype Corsiva"/>
                <a:ea typeface="MS Mincho"/>
              </a:rPr>
              <a:t>свойством плавучести.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, что из дерева, плава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металла,  тон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, что из пенопласта, плава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камня,  </a:t>
            </a:r>
            <a:r>
              <a:rPr b="1" i="1" lang="ru-RU" sz="5000" spc="-1" strike="noStrike">
                <a:solidFill>
                  <a:srgbClr val="0b5395"/>
                </a:solidFill>
                <a:latin typeface="Arial"/>
              </a:rPr>
              <a:t>тонет</a:t>
            </a: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губки,  плавает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07:25Z</dcterms:created>
  <dc:creator>www.PHILka.RU</dc:creator>
  <dc:description/>
  <dc:language>en-US</dc:language>
  <cp:lastModifiedBy>Ольга</cp:lastModifiedBy>
  <dcterms:modified xsi:type="dcterms:W3CDTF">2017-09-15T17:07:25Z</dcterms:modified>
  <cp:revision>14</cp:revision>
  <dc:subject/>
  <dc:title>Слайд 1</dc:title>
</cp:coreProperties>
</file>