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3131D-28D4-4DC0-A48A-A868E3532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6CA0-6271-4E40-BEDC-62321B541AD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ADB7AF-C6B5-4206-B977-2E5BFB82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13F5B5-780A-4BBF-B50A-0F0CB59C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85EA17-374E-4674-8D17-7F70028C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49B515-D19A-49CD-B7B9-1D8E6D1A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975239-BDC8-4F41-A147-5A08DACE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6628E6-1F7E-4068-8478-95DFBBAD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EB4C13-D3A2-4E2D-AC21-6D9CDD40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C53C16-76AF-48CE-A8A4-20A69646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48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8212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51948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8212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52C2F5-670D-4015-8545-46D89A59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BC127F-3F57-4D76-B800-1A86AC89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84D8A-8862-4811-8D29-33148B10314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-5073120"/>
            <a:ext cx="1843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F5E562-3EC0-4362-BB9B-8D2D0CD7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FCBD6C-C657-4FB6-8CDE-C24471CC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C9D6C7-5D95-4012-AE0B-C4154746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543107-4925-47C0-945D-BA318BA8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E931A5-5D4D-45ED-B86E-5C458D8D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FBB875-4698-4B4E-85B3-C7862829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BA9148-74A1-4AF3-90F0-091172C4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43E82C-2E8E-4661-A18D-60444048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79845C-7FEB-4303-BD86-474AE9CC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B11917-5B2E-4FBC-A155-E0623CA7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948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212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948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212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AB3A-6A44-454B-8830-6CD19F7A1AA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948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8212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51948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8212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01AB79-5CF1-49FC-8A5F-D49C7F2C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E9CB4B-AF1A-494F-A1F1-46D3CB26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-5073120"/>
            <a:ext cx="1843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F317CA-4AC1-4D37-8230-CB48E71D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485D58-A35D-4287-9F84-40821944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8C98FD-633D-4A01-A5D0-655B8E80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44A9D3-605E-4C2F-9B14-8D80AC6F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E670AE-CC10-4995-912A-1293E131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231AFE-6F63-48FD-ABA3-EA017E5D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70A07A-D4A0-4D59-A15C-A886CFD7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06C1F8-6561-4427-A50E-B070DFA6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45507-EA7C-416E-9CB4-49987CE6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30FEBB-A44C-4C4F-9B12-6D3CD2F3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1ECF37-076D-44F1-830A-6313F830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948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8212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51948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8212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3971F8-A7D1-49C4-B7D2-0974DC5A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93B7B8-4DE5-4198-B513-6EC93453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-5073120"/>
            <a:ext cx="1843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0108D5-3E22-42B0-B326-B669C0F4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228478-CA7C-4789-9DAE-EB232A1A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710C48-5BE7-4A75-B47C-4E1294E0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F66E22-E504-40DF-ACDB-FE119159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F1BDE8-E77E-494A-A461-ECE1C4E0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D3EE1B-0EFD-44A2-8974-241579DB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-5073120"/>
            <a:ext cx="1843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B2CD9-BE85-4879-B694-CA30AFDC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8623F2-1D76-49EA-A3C5-BBC151B7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160DFB-2032-4C35-ACA9-E796FEFB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006A7F-AE7B-4A67-8CF8-8659621E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5CD562-1E1D-4026-8D2D-BE62415F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948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8212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51948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8212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1EDF8E-D99C-4B92-90D0-2C38723D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1EA85-D95D-4D0D-A9BA-3CC99314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B8AA3-BA0E-4E3E-991C-D36D8FB3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06A76-6096-4EA9-BE90-A5A7C903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D933A-7938-4CEA-AC0B-B088B5D1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957CB-C712-4560-B134-57ADA08C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-5073120"/>
            <a:ext cx="1843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30D2-9826-4D50-8704-32019B341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7B9BF-10B8-4D40-9310-954BFC07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BE8D1-06C2-45C6-AAA6-404D3054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1AB6D-9481-4B89-A48F-82E2C014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A7543-8767-4928-870E-81BDC7DE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48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212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948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212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7CAC5-6043-46F7-B0B9-9295C65B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59103-DC1C-4E90-B757-C59A3B77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-5073120"/>
            <a:ext cx="1843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294C7-27CA-4275-9B67-E3A854A0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3594C-9F92-4C13-B8B4-BEF017F6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8C64B-F63A-4194-8ABB-5B74E62E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F5721-130C-4844-A20B-6D59B75D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9328-EA5C-48BA-BE93-D01793A865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0A5A4-5812-4603-B10C-26B5F079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93F08-2AE9-4E5D-BF6F-CE71F176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9561B-E1E5-45C2-BDA0-E010A136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60F0E-8BFF-410B-8301-853E1E95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650B9-883D-4F39-87D4-C16C86D4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791D8-20C1-416D-A300-0A4A9D9C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948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212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1948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212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C9D6D-2E2A-41AE-BA7C-B50366D4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EBBA8-B654-41E5-8217-3D601DBC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-5073120"/>
            <a:ext cx="1843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7EDE70-F319-4BA0-AD71-503CE525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4A89A-0B2E-4F04-8723-F1AE9439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AD3F2-36E9-47F0-82FF-EBED6E00B9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E4C00-A5EC-4EC5-A72E-BD4064ED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39979B-7EFA-4835-9483-4C40900C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5683C6-125D-43B3-AFF3-364B7605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9C232-D610-4233-A73F-D4E65F13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D47238-9F72-4FB1-B8EC-D5B558CC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F7E152-EAFA-47E6-A687-CCB67ED3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1D05C-10E2-409A-BD7B-FE8CC004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B0288F-56D5-4D46-BC71-2C1F94A8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48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12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51948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12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F0EF13-9093-481B-ACE8-021C86AB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30167-4E8B-403F-BB9B-346D2577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6D5A9-8BC0-4750-9B47-7F4E6BDE5A8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-5073120"/>
            <a:ext cx="1843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5D8122-EBC4-437E-88F7-D25F6B70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6E295-9EB4-449E-BC65-666E1419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C9B75-7FCF-4DAD-B700-E4688B64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2EFDC-3CC2-4E95-BB45-03C4D2A5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BFAED-9915-485D-89C8-2BDCD8DF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5760A-5E18-40CD-A0F4-41ADE746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E593E0-5FDA-46A3-B9D0-AF7B7659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85456-01C0-4974-8C5A-3CB63142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DB1BB-0406-4917-960B-BF537AF6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C03C3-5DCB-4A67-A7C7-9FFFDE94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F984F-1764-4DAD-840A-03AD8E05D9D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948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8212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51948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8212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0802A-B732-41F6-8B76-7202BFF6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C0DD41-2AFB-46F0-9B15-A337CEFB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-5073120"/>
            <a:ext cx="1843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7DEE81-F528-4F9B-90ED-963D1B7E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E18DE3-9DFB-476F-8ED4-CFF5FACD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194C78-3337-40DD-B2A7-E6BD2F86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CF56A-F679-49E2-85BA-83FACA85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E1F337-383E-4713-A3C6-89199F13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30F37-7073-45F5-9ACD-C9D1897C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019AA-EAED-4561-9CCB-C0B2F755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FB1402-6E8B-4633-B692-470E29FF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2067-6821-414B-8896-6A7986E4D2A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D46ECD-AFB2-4F7D-B1EC-882CB9B6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2CACB-2923-4082-96BD-6220709C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948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8212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51948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8212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9ED95-219A-4B4E-B7DF-B52DF2FD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A1F4DF-C50A-4F63-B191-5D1AEDA0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-5073120"/>
            <a:ext cx="1843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29E8E-ABF4-4E8C-BF03-8823B176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2ED0B4-7EC4-4935-8985-9D3D87E0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A985E6-8D3D-45E6-A72E-3D4CFB43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CE1DE9-855F-43F7-9517-3646593B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F8B04B-29FF-44A1-8930-9A986853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83649-A2D8-4926-935F-93946EC6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C37B-C1CD-4835-8FA3-5D80A7FA84E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703E6-5775-4EEE-9917-F6845EED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8BCB98-9F24-4984-A298-EA9CCA5F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7A66E4-4884-4ADA-9A85-8EBEC9C9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547EED-2261-4910-927B-5E31522B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948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8212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51948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8212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587FD6-BF20-436E-8FF2-E5ABA7EB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423743-C572-4262-8738-B99B07D0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-5073120"/>
            <a:ext cx="1843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752EA4-32C0-413F-BEE1-D7F6720F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107B81-A3A6-46F5-92D7-10EF069E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021021-0823-4746-A138-8D325435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E027A7-8EE2-4C3A-95C2-D699CFE4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7CC5-9ECE-416E-A247-434B627C222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C42A5A-29CA-42F7-896A-ACCB428B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0B794B-0C8E-4160-BBB7-FA95F9CC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098933-D581-4E79-8EA4-617B75B0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A48AC5-6D22-4829-9FFC-04D014CE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2590200"/>
            <a:ext cx="18432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C8C8CE-8127-42B8-AB06-029BB295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51880" y="-1626192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51880" y="2590200"/>
            <a:ext cx="896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14E388-9005-4E83-9C46-22CD68DE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948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2120" y="-1626192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51948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82120" y="2590200"/>
            <a:ext cx="59040" cy="172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137F3E-D939-41CB-A26C-2CCD5164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23022E-C38B-4458-9C93-E8B9125B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-5073120"/>
            <a:ext cx="1843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AF58C1-372F-4158-8001-0E64BB14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D53950-BBE8-4C00-A1B1-92216412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74da3e9e8f63t.jpg"/>
          <p:cNvPicPr/>
          <p:nvPr/>
        </p:nvPicPr>
        <p:blipFill>
          <a:blip r:embed="rId2"/>
          <a:stretch/>
        </p:blipFill>
        <p:spPr>
          <a:xfrm>
            <a:off x="6010200" y="2225520"/>
            <a:ext cx="2981520" cy="459612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7" descr="1370355673_sun.gif"/>
          <p:cNvPicPr/>
          <p:nvPr/>
        </p:nvPicPr>
        <p:blipFill>
          <a:blip r:embed="rId3"/>
          <a:stretch/>
        </p:blipFill>
        <p:spPr>
          <a:xfrm>
            <a:off x="152280" y="152280"/>
            <a:ext cx="1447920" cy="158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D8FC-7BC1-4BA4-A2FA-015F1CB62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10"/>
          <p:cNvSpPr/>
          <p:nvPr/>
        </p:nvSpPr>
        <p:spPr>
          <a:xfrm>
            <a:off x="152280" y="640080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a662"/>
                </a:solidFill>
                <a:latin typeface="Calibri"/>
                <a:ea typeface="Times New Roman"/>
              </a:rPr>
              <a:t>http://lara3172.blogspot.ru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7" descr="74da3e9e8f63t.jpg"/>
          <p:cNvPicPr/>
          <p:nvPr/>
        </p:nvPicPr>
        <p:blipFill>
          <a:blip r:embed="rId2"/>
          <a:stretch/>
        </p:blipFill>
        <p:spPr>
          <a:xfrm>
            <a:off x="6010200" y="2225520"/>
            <a:ext cx="2981520" cy="459612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7" descr="1370355673_sun.gif"/>
          <p:cNvPicPr/>
          <p:nvPr/>
        </p:nvPicPr>
        <p:blipFill>
          <a:blip r:embed="rId3"/>
          <a:stretch/>
        </p:blipFill>
        <p:spPr>
          <a:xfrm>
            <a:off x="152280" y="152280"/>
            <a:ext cx="1447920" cy="158292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10"/>
          <p:cNvSpPr/>
          <p:nvPr/>
        </p:nvSpPr>
        <p:spPr>
          <a:xfrm>
            <a:off x="152280" y="640080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a662"/>
                </a:solidFill>
                <a:latin typeface="Calibri"/>
                <a:ea typeface="Times New Roman"/>
              </a:rPr>
              <a:t>http://lara3172.blogspot.ru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1657-9826-4C10-9C6D-A280E2DF2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Рисунок 7" descr="74da3e9e8f63t.jpg"/>
          <p:cNvPicPr/>
          <p:nvPr/>
        </p:nvPicPr>
        <p:blipFill>
          <a:blip r:embed="rId2"/>
          <a:stretch/>
        </p:blipFill>
        <p:spPr>
          <a:xfrm>
            <a:off x="6010200" y="2225520"/>
            <a:ext cx="2981520" cy="459612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7" descr="1370355673_sun.gif"/>
          <p:cNvPicPr/>
          <p:nvPr/>
        </p:nvPicPr>
        <p:blipFill>
          <a:blip r:embed="rId3"/>
          <a:stretch/>
        </p:blipFill>
        <p:spPr>
          <a:xfrm>
            <a:off x="152280" y="152280"/>
            <a:ext cx="1447920" cy="158292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10"/>
          <p:cNvSpPr/>
          <p:nvPr/>
        </p:nvSpPr>
        <p:spPr>
          <a:xfrm>
            <a:off x="152280" y="640080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a662"/>
                </a:solidFill>
                <a:latin typeface="Calibri"/>
                <a:ea typeface="Times New Roman"/>
              </a:rPr>
              <a:t>http://lara3172.blogspot.ru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53E3-950A-45B6-B440-680E7DB76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Рисунок 7" descr="74da3e9e8f63t.jpg"/>
          <p:cNvPicPr/>
          <p:nvPr/>
        </p:nvPicPr>
        <p:blipFill>
          <a:blip r:embed="rId2"/>
          <a:stretch/>
        </p:blipFill>
        <p:spPr>
          <a:xfrm>
            <a:off x="6010200" y="2225520"/>
            <a:ext cx="2981520" cy="45961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7" descr="1370355673_sun.gif"/>
          <p:cNvPicPr/>
          <p:nvPr/>
        </p:nvPicPr>
        <p:blipFill>
          <a:blip r:embed="rId3"/>
          <a:stretch/>
        </p:blipFill>
        <p:spPr>
          <a:xfrm>
            <a:off x="152280" y="152280"/>
            <a:ext cx="1447920" cy="158292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10"/>
          <p:cNvSpPr/>
          <p:nvPr/>
        </p:nvSpPr>
        <p:spPr>
          <a:xfrm>
            <a:off x="152280" y="640080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a662"/>
                </a:solidFill>
                <a:latin typeface="Calibri"/>
                <a:ea typeface="Times New Roman"/>
              </a:rPr>
              <a:t>http://lara3172.blogspot.ru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09D0-B731-44B4-9665-8C6D5BA95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7" descr="74da3e9e8f63t.jpg"/>
          <p:cNvPicPr/>
          <p:nvPr/>
        </p:nvPicPr>
        <p:blipFill>
          <a:blip r:embed="rId2"/>
          <a:stretch/>
        </p:blipFill>
        <p:spPr>
          <a:xfrm>
            <a:off x="6010200" y="2225520"/>
            <a:ext cx="2981520" cy="4596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1370355673_sun.gif"/>
          <p:cNvPicPr/>
          <p:nvPr/>
        </p:nvPicPr>
        <p:blipFill>
          <a:blip r:embed="rId3"/>
          <a:stretch/>
        </p:blipFill>
        <p:spPr>
          <a:xfrm>
            <a:off x="152280" y="152280"/>
            <a:ext cx="1447920" cy="15829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0"/>
          <p:cNvSpPr/>
          <p:nvPr/>
        </p:nvSpPr>
        <p:spPr>
          <a:xfrm>
            <a:off x="152280" y="640080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a662"/>
                </a:solidFill>
                <a:latin typeface="Calibri"/>
                <a:ea typeface="Times New Roman"/>
              </a:rPr>
              <a:t>http://lara3172.blogspot.ru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8" descr="74da3e9e8f63t.jpg"/>
          <p:cNvPicPr/>
          <p:nvPr/>
        </p:nvPicPr>
        <p:blipFill>
          <a:blip r:embed="rId4"/>
          <a:stretch/>
        </p:blipFill>
        <p:spPr>
          <a:xfrm>
            <a:off x="6010200" y="2225520"/>
            <a:ext cx="2981520" cy="4596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B1EF-9801-48E0-8385-5DB196BA7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7" descr="74da3e9e8f63t.jpg"/>
          <p:cNvPicPr/>
          <p:nvPr/>
        </p:nvPicPr>
        <p:blipFill>
          <a:blip r:embed="rId2"/>
          <a:stretch/>
        </p:blipFill>
        <p:spPr>
          <a:xfrm>
            <a:off x="6010200" y="2225520"/>
            <a:ext cx="2981520" cy="45961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1370355673_sun.gif"/>
          <p:cNvPicPr/>
          <p:nvPr/>
        </p:nvPicPr>
        <p:blipFill>
          <a:blip r:embed="rId3"/>
          <a:stretch/>
        </p:blipFill>
        <p:spPr>
          <a:xfrm>
            <a:off x="152280" y="152280"/>
            <a:ext cx="1447920" cy="15829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0"/>
          <p:cNvSpPr/>
          <p:nvPr/>
        </p:nvSpPr>
        <p:spPr>
          <a:xfrm>
            <a:off x="152280" y="640080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a662"/>
                </a:solidFill>
                <a:latin typeface="Calibri"/>
                <a:ea typeface="Times New Roman"/>
              </a:rPr>
              <a:t>http://lara3172.blogspot.ru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Капля 8"/>
          <p:cNvSpPr/>
          <p:nvPr/>
        </p:nvSpPr>
        <p:spPr>
          <a:xfrm>
            <a:off x="228600" y="990720"/>
            <a:ext cx="5791320" cy="5638680"/>
          </a:xfrm>
          <a:custGeom>
            <a:avLst/>
            <a:gdLst>
              <a:gd name="textAreaLeft" fmla="*/ 848160 w 5791320"/>
              <a:gd name="textAreaRight" fmla="*/ 4943160 w 5791320"/>
              <a:gd name="textAreaTop" fmla="*/ 825480 h 5638680"/>
              <a:gd name="textAreaBottom" fmla="*/ 4813200 h 5638680"/>
            </a:gdLst>
            <a:ahLst/>
            <a:rect l="textAreaLeft" t="textAreaTop" r="textAreaRight" b="textAreaBottom"/>
            <a:pathLst>
              <a:path w="5791200" h="5638800">
                <a:moveTo>
                  <a:pt x="0" y="2819400"/>
                </a:moveTo>
                <a:lnTo>
                  <a:pt x="0" y="2819400"/>
                </a:lnTo>
                <a:arcTo wR="2895600" hR="2819400" stAng="-10799996" swAng="5400003"/>
                <a:lnTo>
                  <a:pt x="4343397" y="0"/>
                </a:lnTo>
                <a:lnTo>
                  <a:pt x="5791198" y="0"/>
                </a:lnTo>
                <a:lnTo>
                  <a:pt x="5791200" y="2114550"/>
                </a:lnTo>
                <a:arcTo wR="0" hR="704851" stAng="0" swAng="0"/>
                <a:lnTo>
                  <a:pt x="5367148" y="5225909"/>
                </a:lnTo>
                <a:arcTo wR="-1447801" hR="1409700" stAng="2654166" swAng="10799998"/>
                <a:close/>
              </a:path>
            </a:pathLst>
          </a:custGeom>
          <a:solidFill>
            <a:srgbClr val="fcd5b5">
              <a:alpha val="20000"/>
            </a:srgbClr>
          </a:solidFill>
          <a:ln cap="rnd" w="25560">
            <a:solidFill>
              <a:srgbClr val="fac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9" descr="74da3e9e8f63t.jpg"/>
          <p:cNvPicPr/>
          <p:nvPr/>
        </p:nvPicPr>
        <p:blipFill>
          <a:blip r:embed="rId4"/>
          <a:stretch/>
        </p:blipFill>
        <p:spPr>
          <a:xfrm>
            <a:off x="6229440" y="2541600"/>
            <a:ext cx="2774880" cy="4273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E655-0888-479C-BBBE-BD65E6A13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7" descr="74da3e9e8f63t.jpg"/>
          <p:cNvPicPr/>
          <p:nvPr/>
        </p:nvPicPr>
        <p:blipFill>
          <a:blip r:embed="rId2"/>
          <a:stretch/>
        </p:blipFill>
        <p:spPr>
          <a:xfrm>
            <a:off x="6010200" y="2225520"/>
            <a:ext cx="2981520" cy="45961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1370355673_sun.gif"/>
          <p:cNvPicPr/>
          <p:nvPr/>
        </p:nvPicPr>
        <p:blipFill>
          <a:blip r:embed="rId3"/>
          <a:stretch/>
        </p:blipFill>
        <p:spPr>
          <a:xfrm>
            <a:off x="152280" y="152280"/>
            <a:ext cx="1447920" cy="15829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0"/>
          <p:cNvSpPr/>
          <p:nvPr/>
        </p:nvSpPr>
        <p:spPr>
          <a:xfrm>
            <a:off x="152280" y="640080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a662"/>
                </a:solidFill>
                <a:latin typeface="Calibri"/>
                <a:ea typeface="Times New Roman"/>
              </a:rPr>
              <a:t>http://lara3172.blogspot.ru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A259-B0B8-4200-A6C8-A501A3816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7" descr="74da3e9e8f63t.jpg"/>
          <p:cNvPicPr/>
          <p:nvPr/>
        </p:nvPicPr>
        <p:blipFill>
          <a:blip r:embed="rId2"/>
          <a:stretch/>
        </p:blipFill>
        <p:spPr>
          <a:xfrm>
            <a:off x="6010200" y="2225520"/>
            <a:ext cx="2981520" cy="45961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7" descr="1370355673_sun.gif"/>
          <p:cNvPicPr/>
          <p:nvPr/>
        </p:nvPicPr>
        <p:blipFill>
          <a:blip r:embed="rId3"/>
          <a:stretch/>
        </p:blipFill>
        <p:spPr>
          <a:xfrm>
            <a:off x="152280" y="152280"/>
            <a:ext cx="1447920" cy="158292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0"/>
          <p:cNvSpPr/>
          <p:nvPr/>
        </p:nvSpPr>
        <p:spPr>
          <a:xfrm>
            <a:off x="152280" y="640080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a662"/>
                </a:solidFill>
                <a:latin typeface="Calibri"/>
                <a:ea typeface="Times New Roman"/>
              </a:rPr>
              <a:t>http://lara3172.blogspot.ru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9FD9-F749-41FB-9FA9-42FDDCDD0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7" descr="74da3e9e8f63t.jpg"/>
          <p:cNvPicPr/>
          <p:nvPr/>
        </p:nvPicPr>
        <p:blipFill>
          <a:blip r:embed="rId2"/>
          <a:stretch/>
        </p:blipFill>
        <p:spPr>
          <a:xfrm>
            <a:off x="6010200" y="2225520"/>
            <a:ext cx="2981520" cy="45961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7" descr="1370355673_sun.gif"/>
          <p:cNvPicPr/>
          <p:nvPr/>
        </p:nvPicPr>
        <p:blipFill>
          <a:blip r:embed="rId3"/>
          <a:stretch/>
        </p:blipFill>
        <p:spPr>
          <a:xfrm>
            <a:off x="152280" y="152280"/>
            <a:ext cx="1447920" cy="15829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0"/>
          <p:cNvSpPr/>
          <p:nvPr/>
        </p:nvSpPr>
        <p:spPr>
          <a:xfrm>
            <a:off x="152280" y="640080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a662"/>
                </a:solidFill>
                <a:latin typeface="Calibri"/>
                <a:ea typeface="Times New Roman"/>
              </a:rPr>
              <a:t>http://lara3172.blogspot.ru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F74D-AEFA-42FD-AED1-E4F8F096F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7" descr="74da3e9e8f63t.jpg"/>
          <p:cNvPicPr/>
          <p:nvPr/>
        </p:nvPicPr>
        <p:blipFill>
          <a:blip r:embed="rId2"/>
          <a:stretch/>
        </p:blipFill>
        <p:spPr>
          <a:xfrm>
            <a:off x="6010200" y="2225520"/>
            <a:ext cx="2981520" cy="459612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7" descr="1370355673_sun.gif"/>
          <p:cNvPicPr/>
          <p:nvPr/>
        </p:nvPicPr>
        <p:blipFill>
          <a:blip r:embed="rId3"/>
          <a:stretch/>
        </p:blipFill>
        <p:spPr>
          <a:xfrm>
            <a:off x="152280" y="152280"/>
            <a:ext cx="1447920" cy="15829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10"/>
          <p:cNvSpPr/>
          <p:nvPr/>
        </p:nvSpPr>
        <p:spPr>
          <a:xfrm>
            <a:off x="152280" y="640080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a662"/>
                </a:solidFill>
                <a:latin typeface="Calibri"/>
                <a:ea typeface="Times New Roman"/>
              </a:rPr>
              <a:t>http://lara3172.blogspot.ru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D063-4BCE-4D5F-95FC-D5F057572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Рисунок 7" descr="74da3e9e8f63t.jpg"/>
          <p:cNvPicPr/>
          <p:nvPr/>
        </p:nvPicPr>
        <p:blipFill>
          <a:blip r:embed="rId2"/>
          <a:stretch/>
        </p:blipFill>
        <p:spPr>
          <a:xfrm>
            <a:off x="6010200" y="2225520"/>
            <a:ext cx="2981520" cy="459612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7" descr="1370355673_sun.gif"/>
          <p:cNvPicPr/>
          <p:nvPr/>
        </p:nvPicPr>
        <p:blipFill>
          <a:blip r:embed="rId3"/>
          <a:stretch/>
        </p:blipFill>
        <p:spPr>
          <a:xfrm>
            <a:off x="152280" y="152280"/>
            <a:ext cx="1447920" cy="15829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10"/>
          <p:cNvSpPr/>
          <p:nvPr/>
        </p:nvSpPr>
        <p:spPr>
          <a:xfrm>
            <a:off x="152280" y="640080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a662"/>
                </a:solidFill>
                <a:latin typeface="Calibri"/>
                <a:ea typeface="Times New Roman"/>
              </a:rPr>
              <a:t>http://lara3172.blogspot.ru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4F0C-4569-413B-8980-FA225336C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7" descr="74da3e9e8f63t.jpg"/>
          <p:cNvPicPr/>
          <p:nvPr/>
        </p:nvPicPr>
        <p:blipFill>
          <a:blip r:embed="rId2"/>
          <a:stretch/>
        </p:blipFill>
        <p:spPr>
          <a:xfrm>
            <a:off x="6010200" y="2225520"/>
            <a:ext cx="2981520" cy="45961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7" descr="1370355673_sun.gif"/>
          <p:cNvPicPr/>
          <p:nvPr/>
        </p:nvPicPr>
        <p:blipFill>
          <a:blip r:embed="rId3"/>
          <a:stretch/>
        </p:blipFill>
        <p:spPr>
          <a:xfrm>
            <a:off x="152280" y="152280"/>
            <a:ext cx="1447920" cy="158292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10"/>
          <p:cNvSpPr/>
          <p:nvPr/>
        </p:nvSpPr>
        <p:spPr>
          <a:xfrm>
            <a:off x="152280" y="640080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a662"/>
                </a:solidFill>
                <a:latin typeface="Calibri"/>
                <a:ea typeface="Times New Roman"/>
              </a:rPr>
              <a:t>http://lara3172.blogspot.ru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-16261920"/>
            <a:ext cx="184320" cy="360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C3B9-F8A2-4DDD-B4D9-03AD228B8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амое дорогое для человека -его семья. Семье, детям, отношениям в семье посвящено много сказок, рассказов, стихотворений и других произведе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те проблем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560" y="1535400"/>
            <a:ext cx="5753160" cy="258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Мама не наказывает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но мама наказывает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Содержимое 5" descr="IMG_3535.jpg"/>
          <p:cNvPicPr/>
          <p:nvPr/>
        </p:nvPicPr>
        <p:blipFill>
          <a:blip r:embed="rId1"/>
          <a:srcRect l="258" t="46217" r="1218" b="40256"/>
          <a:stretch/>
        </p:blipFill>
        <p:spPr>
          <a:xfrm>
            <a:off x="228600" y="3598920"/>
            <a:ext cx="5791320" cy="1614600"/>
          </a:xfrm>
          <a:prstGeom prst="rect">
            <a:avLst/>
          </a:prstGeom>
          <a:ln w="0">
            <a:noFill/>
          </a:ln>
        </p:spPr>
      </p:pic>
      <p:sp>
        <p:nvSpPr>
          <p:cNvPr id="592" name="TextBox 5"/>
          <p:cNvSpPr/>
          <p:nvPr/>
        </p:nvSpPr>
        <p:spPr>
          <a:xfrm>
            <a:off x="3889440" y="586728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ловарь Ожег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 :</a:t>
            </a:r>
            <a:br>
              <a:rPr sz="60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выразительное чтение были Л.Н. Толстого «Лучше всех», выполнить задания № 2, 3 в тетради на странице 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1"/>
          <p:cNvSpPr/>
          <p:nvPr/>
        </p:nvSpPr>
        <p:spPr>
          <a:xfrm>
            <a:off x="457200" y="2362320"/>
            <a:ext cx="8758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годня на уроке я узнал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годня я сумел 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не понравилось…потому ч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Облако 4"/>
          <p:cNvSpPr/>
          <p:nvPr/>
        </p:nvSpPr>
        <p:spPr>
          <a:xfrm>
            <a:off x="228600" y="3048120"/>
            <a:ext cx="3048120" cy="1676160"/>
          </a:xfrm>
          <a:custGeom>
            <a:avLst/>
            <a:gdLst>
              <a:gd name="textAreaLeft" fmla="*/ 420120 w 3048120"/>
              <a:gd name="textAreaRight" fmla="*/ 2411280 w 3048120"/>
              <a:gd name="textAreaTop" fmla="*/ 253080 h 1676160"/>
              <a:gd name="textAreaBottom" fmla="*/ 1345320 h 16761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6d9f1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Выноска-облако 6"/>
          <p:cNvSpPr/>
          <p:nvPr/>
        </p:nvSpPr>
        <p:spPr>
          <a:xfrm>
            <a:off x="1676520" y="762120"/>
            <a:ext cx="4800600" cy="2590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b0f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ОЛОД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блако 5"/>
          <p:cNvSpPr/>
          <p:nvPr/>
        </p:nvSpPr>
        <p:spPr>
          <a:xfrm>
            <a:off x="990720" y="4038480"/>
            <a:ext cx="4572000" cy="2667240"/>
          </a:xfrm>
          <a:custGeom>
            <a:avLst/>
            <a:gdLst>
              <a:gd name="textAreaLeft" fmla="*/ 630000 w 4572000"/>
              <a:gd name="textAreaRight" fmla="*/ 3616920 w 4572000"/>
              <a:gd name="textAreaTop" fmla="*/ 402840 h 2667240"/>
              <a:gd name="textAreaBottom" fmla="*/ 2140920 h 26672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2f2f2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Сказка про цифры &quot; ДЕТсад"/>
          <p:cNvPicPr/>
          <p:nvPr/>
        </p:nvPicPr>
        <p:blipFill>
          <a:blip r:embed="rId1"/>
          <a:stretch/>
        </p:blipFill>
        <p:spPr>
          <a:xfrm>
            <a:off x="3009960" y="4267080"/>
            <a:ext cx="1552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ь на вопросы, и ты узнаешь, чем мы будем занимать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Объект 3" descr="6.jpg"/>
          <p:cNvPicPr/>
          <p:nvPr/>
        </p:nvPicPr>
        <p:blipFill>
          <a:blip r:embed="rId1"/>
          <a:stretch/>
        </p:blipFill>
        <p:spPr>
          <a:xfrm>
            <a:off x="838080" y="2209680"/>
            <a:ext cx="4343400" cy="3962520"/>
          </a:xfrm>
          <a:prstGeom prst="rect">
            <a:avLst/>
          </a:prstGeom>
          <a:ln w="0">
            <a:noFill/>
          </a:ln>
        </p:spPr>
      </p:pic>
      <p:sp>
        <p:nvSpPr>
          <p:cNvPr id="533" name="TextBox 4"/>
          <p:cNvSpPr/>
          <p:nvPr/>
        </p:nvSpPr>
        <p:spPr>
          <a:xfrm>
            <a:off x="5797080" y="2971800"/>
            <a:ext cx="95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7929360" y="3505320"/>
            <a:ext cx="73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6"/>
          <p:cNvSpPr/>
          <p:nvPr/>
        </p:nvSpPr>
        <p:spPr>
          <a:xfrm>
            <a:off x="4840560" y="4527720"/>
            <a:ext cx="7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7320240" y="4527720"/>
            <a:ext cx="7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8"/>
          <p:cNvSpPr/>
          <p:nvPr/>
        </p:nvSpPr>
        <p:spPr>
          <a:xfrm>
            <a:off x="6008400" y="4876920"/>
            <a:ext cx="74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вый разде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66680" y="1828440"/>
            <a:ext cx="4889520" cy="1446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и 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Oval 12"/>
          <p:cNvSpPr/>
          <p:nvPr/>
        </p:nvSpPr>
        <p:spPr>
          <a:xfrm>
            <a:off x="3571920" y="2500200"/>
            <a:ext cx="2428920" cy="209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c00000"/>
                </a:solidFill>
                <a:latin typeface="Calibri"/>
              </a:rPr>
              <a:t>7 Я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5"/>
          <p:cNvSpPr/>
          <p:nvPr/>
        </p:nvSpPr>
        <p:spPr>
          <a:xfrm>
            <a:off x="2928960" y="214200"/>
            <a:ext cx="1857240" cy="88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4"/>
          <p:cNvSpPr/>
          <p:nvPr/>
        </p:nvSpPr>
        <p:spPr>
          <a:xfrm>
            <a:off x="5000760" y="214200"/>
            <a:ext cx="1571400" cy="906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а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6"/>
          <p:cNvSpPr/>
          <p:nvPr/>
        </p:nvSpPr>
        <p:spPr>
          <a:xfrm>
            <a:off x="928800" y="4500720"/>
            <a:ext cx="2500200" cy="84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баб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7"/>
          <p:cNvSpPr/>
          <p:nvPr/>
        </p:nvSpPr>
        <p:spPr>
          <a:xfrm>
            <a:off x="857160" y="1071720"/>
            <a:ext cx="2643120" cy="82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дед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9"/>
          <p:cNvSpPr/>
          <p:nvPr/>
        </p:nvSpPr>
        <p:spPr>
          <a:xfrm>
            <a:off x="1071720" y="2214720"/>
            <a:ext cx="1981080" cy="83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д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8"/>
          <p:cNvSpPr/>
          <p:nvPr/>
        </p:nvSpPr>
        <p:spPr>
          <a:xfrm>
            <a:off x="1000080" y="3286080"/>
            <a:ext cx="1981080" cy="81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тё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"/>
          <p:cNvSpPr/>
          <p:nvPr/>
        </p:nvSpPr>
        <p:spPr>
          <a:xfrm>
            <a:off x="6429240" y="1857240"/>
            <a:ext cx="2071800" cy="839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бра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"/>
          <p:cNvSpPr/>
          <p:nvPr/>
        </p:nvSpPr>
        <p:spPr>
          <a:xfrm>
            <a:off x="6357960" y="928800"/>
            <a:ext cx="2000160" cy="83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ёс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1"/>
          <p:cNvSpPr/>
          <p:nvPr/>
        </p:nvSpPr>
        <p:spPr>
          <a:xfrm>
            <a:off x="6357960" y="4143240"/>
            <a:ext cx="2357280" cy="92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с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0"/>
          <p:cNvSpPr/>
          <p:nvPr/>
        </p:nvSpPr>
        <p:spPr>
          <a:xfrm>
            <a:off x="1785960" y="5643720"/>
            <a:ext cx="2714760" cy="93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25"/>
          <p:cNvSpPr/>
          <p:nvPr/>
        </p:nvSpPr>
        <p:spPr>
          <a:xfrm>
            <a:off x="4929120" y="5286240"/>
            <a:ext cx="3071880" cy="1390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заимо-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"/>
          <p:cNvSpPr/>
          <p:nvPr/>
        </p:nvSpPr>
        <p:spPr>
          <a:xfrm>
            <a:off x="6715080" y="2786040"/>
            <a:ext cx="2027160" cy="927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луча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13"/>
          <p:cNvCxnSpPr/>
          <p:nvPr/>
        </p:nvCxnSpPr>
        <p:spPr>
          <a:xfrm flipH="1" flipV="1">
            <a:off x="4142520" y="1142640"/>
            <a:ext cx="42948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18"/>
          <p:cNvCxnSpPr/>
          <p:nvPr/>
        </p:nvCxnSpPr>
        <p:spPr>
          <a:xfrm flipH="1">
            <a:off x="3071520" y="3679920"/>
            <a:ext cx="42912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AutoShape 17"/>
          <p:cNvCxnSpPr/>
          <p:nvPr/>
        </p:nvCxnSpPr>
        <p:spPr>
          <a:xfrm flipH="1" flipV="1">
            <a:off x="3071160" y="2785680"/>
            <a:ext cx="5720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AutoShape 16"/>
          <p:cNvCxnSpPr/>
          <p:nvPr/>
        </p:nvCxnSpPr>
        <p:spPr>
          <a:xfrm flipH="1" flipV="1">
            <a:off x="3357000" y="1785600"/>
            <a:ext cx="85788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AutoShape 15"/>
          <p:cNvCxnSpPr/>
          <p:nvPr/>
        </p:nvCxnSpPr>
        <p:spPr>
          <a:xfrm flipV="1">
            <a:off x="5214960" y="1213920"/>
            <a:ext cx="35784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AutoShape 14"/>
          <p:cNvCxnSpPr/>
          <p:nvPr/>
        </p:nvCxnSpPr>
        <p:spPr>
          <a:xfrm flipV="1">
            <a:off x="5500800" y="1571400"/>
            <a:ext cx="94032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AutoShape 21"/>
          <p:cNvCxnSpPr/>
          <p:nvPr/>
        </p:nvCxnSpPr>
        <p:spPr>
          <a:xfrm>
            <a:off x="5857920" y="4071960"/>
            <a:ext cx="6433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AutoShape 20"/>
          <p:cNvCxnSpPr/>
          <p:nvPr/>
        </p:nvCxnSpPr>
        <p:spPr>
          <a:xfrm flipV="1">
            <a:off x="5857560" y="2499480"/>
            <a:ext cx="57204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AutoShape 19"/>
          <p:cNvCxnSpPr/>
          <p:nvPr/>
        </p:nvCxnSpPr>
        <p:spPr>
          <a:xfrm flipV="1">
            <a:off x="6000840" y="3357000"/>
            <a:ext cx="64332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AutoShape 24"/>
          <p:cNvCxnSpPr/>
          <p:nvPr/>
        </p:nvCxnSpPr>
        <p:spPr>
          <a:xfrm>
            <a:off x="5357880" y="4643280"/>
            <a:ext cx="2865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AutoShape 23"/>
          <p:cNvCxnSpPr/>
          <p:nvPr/>
        </p:nvCxnSpPr>
        <p:spPr>
          <a:xfrm flipH="1">
            <a:off x="3857400" y="4643280"/>
            <a:ext cx="524160" cy="87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AutoShape 22"/>
          <p:cNvCxnSpPr/>
          <p:nvPr/>
        </p:nvCxnSpPr>
        <p:spPr>
          <a:xfrm flipH="1">
            <a:off x="3428280" y="4285800"/>
            <a:ext cx="42948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5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0"/>
          <p:cNvSpPr/>
          <p:nvPr/>
        </p:nvSpPr>
        <p:spPr>
          <a:xfrm>
            <a:off x="4377960" y="-686880"/>
            <a:ext cx="38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0" descr="http://www.otoys.ru/picturesNew/book/b_978-5-93833-845-6_1.jpg"/>
          <p:cNvPicPr/>
          <p:nvPr/>
        </p:nvPicPr>
        <p:blipFill>
          <a:blip r:embed="rId1"/>
          <a:stretch/>
        </p:blipFill>
        <p:spPr>
          <a:xfrm>
            <a:off x="4137120" y="2019240"/>
            <a:ext cx="1643040" cy="2497320"/>
          </a:xfrm>
          <a:prstGeom prst="rect">
            <a:avLst/>
          </a:prstGeom>
          <a:ln w="0">
            <a:noFill/>
          </a:ln>
        </p:spPr>
      </p:pic>
      <p:sp>
        <p:nvSpPr>
          <p:cNvPr id="568" name="AutoShape 2">
            <a:hlinkClick r:id="rId2" action="ppaction://hlinksldjump"/>
          </p:cNvPr>
          <p:cNvSpPr/>
          <p:nvPr/>
        </p:nvSpPr>
        <p:spPr>
          <a:xfrm>
            <a:off x="8286840" y="6072120"/>
            <a:ext cx="541080" cy="539640"/>
          </a:xfrm>
          <a:custGeom>
            <a:avLst/>
            <a:gdLst>
              <a:gd name="textAreaLeft" fmla="*/ 34920 w 541080"/>
              <a:gd name="textAreaRight" fmla="*/ 506160 w 5410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0829" y="3837"/>
                </a:moveTo>
                <a:lnTo>
                  <a:pt x="13405" y="6448"/>
                </a:lnTo>
                <a:lnTo>
                  <a:pt x="13405" y="4707"/>
                </a:lnTo>
                <a:lnTo>
                  <a:pt x="15181" y="4707"/>
                </a:lnTo>
                <a:lnTo>
                  <a:pt x="15181" y="8224"/>
                </a:lnTo>
                <a:lnTo>
                  <a:pt x="17792" y="10800"/>
                </a:lnTo>
                <a:lnTo>
                  <a:pt x="16138" y="10800"/>
                </a:lnTo>
                <a:lnTo>
                  <a:pt x="16138" y="17989"/>
                </a:lnTo>
                <a:lnTo>
                  <a:pt x="5520" y="17989"/>
                </a:lnTo>
                <a:lnTo>
                  <a:pt x="5520" y="10800"/>
                </a:lnTo>
                <a:lnTo>
                  <a:pt x="3866" y="10800"/>
                </a:lnTo>
                <a:close/>
              </a:path>
              <a:path fill="darkenLess" w="21658" h="21600">
                <a:moveTo>
                  <a:pt x="13405" y="6448"/>
                </a:moveTo>
                <a:lnTo>
                  <a:pt x="13405" y="4707"/>
                </a:lnTo>
                <a:lnTo>
                  <a:pt x="15181" y="4707"/>
                </a:lnTo>
                <a:lnTo>
                  <a:pt x="15181" y="8224"/>
                </a:lnTo>
                <a:close/>
              </a:path>
              <a:path fill="darkenLess" w="21658" h="21600">
                <a:moveTo>
                  <a:pt x="9906" y="14299"/>
                </a:moveTo>
                <a:lnTo>
                  <a:pt x="11751" y="14299"/>
                </a:lnTo>
                <a:lnTo>
                  <a:pt x="11751" y="17989"/>
                </a:lnTo>
                <a:lnTo>
                  <a:pt x="16138" y="17989"/>
                </a:lnTo>
                <a:lnTo>
                  <a:pt x="16138" y="10800"/>
                </a:lnTo>
                <a:lnTo>
                  <a:pt x="5520" y="10800"/>
                </a:lnTo>
                <a:lnTo>
                  <a:pt x="5520" y="17989"/>
                </a:lnTo>
                <a:lnTo>
                  <a:pt x="9906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595440" y="110808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8 - 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писатель, прозаик, публицист, филосо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Прямоугольник 3" descr=""/>
          <p:cNvPicPr/>
          <p:nvPr/>
        </p:nvPicPr>
        <p:blipFill>
          <a:blip r:embed="rId4"/>
          <a:stretch/>
        </p:blipFill>
        <p:spPr>
          <a:xfrm>
            <a:off x="1952640" y="-162000"/>
            <a:ext cx="3987720" cy="12193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http://www.hemenkitap.com/urunler/yazarlar/Tolstoy_140-190_for_collage.jpg"/>
          <p:cNvPicPr/>
          <p:nvPr/>
        </p:nvPicPr>
        <p:blipFill>
          <a:blip r:embed="rId5"/>
          <a:stretch/>
        </p:blipFill>
        <p:spPr>
          <a:xfrm>
            <a:off x="6294600" y="285840"/>
            <a:ext cx="2630160" cy="35719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0" descr="http://www.gulyanda.kz/tools/images/image.php?source=9990001047542.jpg&amp;standart=10&amp;image.jpg"/>
          <p:cNvPicPr/>
          <p:nvPr/>
        </p:nvPicPr>
        <p:blipFill>
          <a:blip r:embed="rId6"/>
          <a:stretch/>
        </p:blipFill>
        <p:spPr>
          <a:xfrm>
            <a:off x="268200" y="4605480"/>
            <a:ext cx="1714680" cy="22222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2" descr="http://veneraamat.ee/components/Catalog/pics/4f31a851d7e11/0.jpg"/>
          <p:cNvPicPr/>
          <p:nvPr/>
        </p:nvPicPr>
        <p:blipFill>
          <a:blip r:embed="rId7"/>
          <a:stretch/>
        </p:blipFill>
        <p:spPr>
          <a:xfrm>
            <a:off x="1023840" y="2182680"/>
            <a:ext cx="1857600" cy="23907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4" descr="http://www.karusel-toys.ru/images/catalog/image1.php?namephoto=s_70451.jpg"/>
          <p:cNvPicPr/>
          <p:nvPr/>
        </p:nvPicPr>
        <p:blipFill>
          <a:blip r:embed="rId8"/>
          <a:stretch/>
        </p:blipFill>
        <p:spPr>
          <a:xfrm>
            <a:off x="2428920" y="4516560"/>
            <a:ext cx="1714320" cy="23112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6" descr="http://domovenokedic.ru/uploads/posts/2011-04/1302086063_h5bg3rifxkd9hvq.jpeg"/>
          <p:cNvPicPr/>
          <p:nvPr/>
        </p:nvPicPr>
        <p:blipFill>
          <a:blip r:embed="rId9"/>
          <a:stretch/>
        </p:blipFill>
        <p:spPr>
          <a:xfrm>
            <a:off x="6786720" y="392904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8" descr="http://cv01.twirpx.net/0531/0531621.jpg"/>
          <p:cNvPicPr/>
          <p:nvPr/>
        </p:nvPicPr>
        <p:blipFill>
          <a:blip r:embed="rId10"/>
          <a:stretch/>
        </p:blipFill>
        <p:spPr>
          <a:xfrm>
            <a:off x="4597560" y="4432320"/>
            <a:ext cx="185724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984807"/>
                </a:solidFill>
                <a:latin typeface="Times New Roman"/>
              </a:rPr>
              <a:t>«Что нужно для счастья? Тихая семейная жизнь… с возможностью</a:t>
            </a:r>
            <a:br>
              <a:rPr sz="3200"/>
            </a:br>
            <a:r>
              <a:rPr b="1" i="1" lang="ru-RU" sz="3200" spc="-1" strike="noStrike">
                <a:solidFill>
                  <a:srgbClr val="984807"/>
                </a:solidFill>
                <a:latin typeface="Times New Roman"/>
              </a:rPr>
              <a:t>делать добро людям».</a:t>
            </a:r>
            <a:r>
              <a:rPr b="1" i="1" lang="ru-RU" sz="3200" spc="-1" strike="noStrike">
                <a:solidFill>
                  <a:srgbClr val="984807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984807"/>
                </a:solidFill>
                <a:latin typeface="Times New Roman"/>
              </a:rPr>
              <a:t>                                                                            </a:t>
            </a:r>
            <a:r>
              <a:rPr b="1" i="1" lang="en-US" sz="3200" spc="-1" strike="noStrike">
                <a:solidFill>
                  <a:srgbClr val="984807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84807"/>
                </a:solidFill>
                <a:latin typeface="Times New Roman"/>
              </a:rPr>
              <a:t>(Л.Н. Толсто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10" descr="Л. Толстой в кругу семьи"/>
          <p:cNvPicPr/>
          <p:nvPr/>
        </p:nvPicPr>
        <p:blipFill>
          <a:blip r:embed="rId1"/>
          <a:stretch/>
        </p:blipFill>
        <p:spPr>
          <a:xfrm>
            <a:off x="685800" y="2362320"/>
            <a:ext cx="5334120" cy="3733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086600" cy="350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Нынче утром обхожу сад и, как всегда, вспоминаю о матери,  о «маменьке», которую я совсем  не помню, но которая осталась для меня святым идеалом…»                                                                                           (Л.Н.Толсто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Picture 25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124440" cy="4038840"/>
          </a:xfrm>
          <a:prstGeom prst="rect">
            <a:avLst/>
          </a:prstGeom>
          <a:ln w="381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абота в парах: </a:t>
            </a:r>
            <a:br>
              <a:rPr sz="4000"/>
            </a:br>
            <a:r>
              <a:rPr b="0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(подбираем эпитеты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328400" y="1479600"/>
            <a:ext cx="3438360" cy="58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 мамочки глаза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олосы у мамы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амины руки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лыбка у мамы -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слов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91960" y="1895400"/>
            <a:ext cx="566424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ать, наказывая своих детей, </a:t>
            </a:r>
            <a:br>
              <a:rPr sz="3200"/>
            </a:b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е причиняет им б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3"/>
          <p:cNvSpPr/>
          <p:nvPr/>
        </p:nvSpPr>
        <p:spPr>
          <a:xfrm>
            <a:off x="2286000" y="3886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477720" y="3014640"/>
            <a:ext cx="3316320" cy="90000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Нет милее дружка, </a:t>
            </a:r>
            <a:br>
              <a:rPr sz="20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как родная мату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1295280" y="4079880"/>
            <a:ext cx="3834000" cy="91440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 ребенка заболит пальчик,</a:t>
            </a:r>
            <a:br>
              <a:rPr sz="2400"/>
            </a:b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а у матери - серд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2379600" y="5257800"/>
            <a:ext cx="3316320" cy="90000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лепой щенок </a:t>
            </a:r>
            <a:br>
              <a:rPr sz="2400"/>
            </a:b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 тот к матери полз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ga</dc:creator>
  <dc:description/>
  <dc:language>en-US</dc:language>
  <cp:lastModifiedBy>Pc</cp:lastModifiedBy>
  <dcterms:modified xsi:type="dcterms:W3CDTF">2017-02-26T19:53:18Z</dcterms:modified>
  <cp:revision>31</cp:revision>
  <dc:subject/>
  <dc:title>Слайд 1</dc:title>
</cp:coreProperties>
</file>