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4CB-AF95-440F-99B6-D93301ED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9A8-73EE-404F-9862-397696F5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636-8C42-4494-8A86-ECE76C06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463-E77A-45CF-9C8F-1E2D657A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76B5-9FEA-42D6-BD7E-47528203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923-6F1E-42CD-9A63-E56123F1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F70-10CD-4810-A64F-30B9C83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DB9C-9998-46D7-A588-500F10AC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2B2-4164-4003-8491-800A5E85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41D6-FB22-426F-9B47-0086731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6BA-1695-4373-9ECD-C351679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32D-DE73-411E-B097-2CD5DB32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ABD-CADD-48E3-9E20-1CB2B34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DA40-1091-4571-8771-54A227B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C47-2BD9-4F64-B37D-28F4742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F59F-979D-4876-AE57-D03A1623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879-5F82-4343-9A01-CF1B4126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5F5F-95A1-4447-B280-69E86192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BBFE-53DB-4765-B6FE-DDD2D7B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C6B6-1EEA-45BB-A78F-C2C673BB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0E8C-8853-4AFA-93B6-EF80718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61E8-0166-4E9C-9FD1-74AC3A4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D31-D6A6-48CE-BC81-D1C4326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5F2D-FE7A-40F7-BCD6-BB11A953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A253-3C0C-4D2F-A34E-CD27587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0B0F-65BE-42CA-A46B-15DB78F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532E-68CC-40BF-9E95-7DA0C6D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F4B2-A728-4C65-992B-75C2759A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DE68-391E-4908-9641-4AE9FA08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A115-A9A1-4FC2-9B36-FCD86DFB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2849-5FD2-4F06-804C-D7992FC2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62281-2676-4AC8-9E7B-6F646AA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CBEB-F52E-435D-900A-CBE323C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BDE-C260-42FC-8C8E-3F4ECCA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684C-8F76-49F6-A5D5-7A32DBF6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6948-6496-4A8A-81BF-601DB5C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7B0D-716F-444A-91E4-CB5F6C2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3C5C-BF97-4390-B29A-ABA263BB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B957-FEA1-4273-A091-A19E651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C8D8-CC08-4854-A262-EB9C3A9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C56E-AA6F-4BE6-AA7F-E9F3ADD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4EE7-A5E0-4838-99E1-DFF207A0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CE1A-D08D-40D0-9DAB-8816333D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7B3E-F062-4FF5-91FA-14857257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E18-688B-4A65-8C1D-A165089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220C-10F1-4FF5-9098-5E99443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9E75-6458-48B5-ACB3-F0B86F7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8FF4-68D3-489C-AC09-23D28D5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5AF7-0604-4938-A31C-405E5E73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2925-60C0-47CE-ADB8-DCF441D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F870-4534-41DA-AAAC-D5356E0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780D-B690-4BE5-91C1-33692CD4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819D1-556F-4AC9-8257-3B31F83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8A0A-7539-40E9-8591-295E3D20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920F-609D-4211-9F4B-EABB4C2D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D16-857C-4DE5-BF17-6403B80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36E1-61AB-4A3C-91E7-21B9666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33E2-2794-44FC-BA99-A4894780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4F57-6370-48A7-A658-0D03322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B1BE-A5B1-4C8B-BF06-947BC6C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BD88-9E81-40C5-B641-A859FD0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71DD-9ADC-42D6-BA00-2CF0DEB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08E9-D9C2-45B6-89CA-6592A4B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EC37-0E8F-4552-9AF3-92E7315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F3DC-C945-4ABB-BF10-DE97D08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372C-DD88-4A82-B796-4B8AFAD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9F4-655F-4E0E-83FC-111718A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70CF-F198-42A0-BB75-5CB90CD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BE0F-6A84-4BB0-A6A8-A2A2200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A188-9085-4B2A-B92E-FE6F28CC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A4E2-504B-4766-9C4A-306B0ED4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BA09-F327-459C-996F-8193D4C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9700E-288C-4089-B350-74C6960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980A-2AF5-4BD7-9CBE-AC4071A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EAB4-1E8F-4527-8749-6B257D54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1ED77-25E6-4807-A4D6-373A9E5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A405-57B7-490F-BD51-58F5E80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B56-606E-4422-95F2-A5707745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2634-2C54-4D26-9360-756599E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255B-0748-4FBA-93E5-B251203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98C9-40A2-4A5B-93B2-102FA53D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6117-2062-4AA9-A79E-E113212A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582F-B07F-407F-8641-2A576856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F32-F5F2-4DCC-92F6-00F29E3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E54-05A5-45E8-B66A-9751B7EE4A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71D6-3A1C-4ED7-912D-B750266BB2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ED3-1730-4BE9-8E85-D7C1638D47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BBB1-29E0-43B4-89C4-E3C81720D2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CF5-4220-4C4B-8BE4-2F6B27DF49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D4C-E52D-42DA-A717-CBB05262F3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58B7-6D5E-44A1-9C9D-008A0FC78D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s://im3-tub-ru.yandex.net/i?id=48698b5b01a440d587a8975f32118073&amp;n=33&amp;h=166&amp;w=480"/>
          <p:cNvPicPr/>
          <p:nvPr/>
        </p:nvPicPr>
        <p:blipFill>
          <a:blip r:embed="rId1"/>
          <a:stretch/>
        </p:blipFill>
        <p:spPr>
          <a:xfrm>
            <a:off x="0" y="0"/>
            <a:ext cx="8893080" cy="3075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130480"/>
            <a:ext cx="8856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Сказка о дружбе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треугольника и квадрата</a:t>
            </a: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s://im1-tub-ru.yandex.net/i?id=14c2aeddafa9a14d3f94091ff28108b1&amp;n=33&amp;h=215&amp;w=324"/>
          <p:cNvPicPr/>
          <p:nvPr/>
        </p:nvPicPr>
        <p:blipFill>
          <a:blip r:embed="rId1"/>
          <a:stretch/>
        </p:blipFill>
        <p:spPr>
          <a:xfrm>
            <a:off x="0" y="0"/>
            <a:ext cx="91821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-360" y="-36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-то в далёкой стране 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Математик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в маленьком городке 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Геометр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ил очень добрый 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Квадрат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551640" cy="464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42920" y="115920"/>
            <a:ext cx="7850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ик был очень красивый! У него была модная причёска, румянец под щёчками и выглядел он как добрая, порядочная геометрическая фигур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http://1.bp.blogspot.com/-BU4kgm7zZLc/U9Ifqej6CCI/AAAAAAABCfc/PtBxlPk5x3c/s1600/rect%C3%A1ngulo+coloreado.jpg"/>
          <p:cNvPicPr/>
          <p:nvPr/>
        </p:nvPicPr>
        <p:blipFill>
          <a:blip r:embed="rId1"/>
          <a:stretch/>
        </p:blipFill>
        <p:spPr>
          <a:xfrm>
            <a:off x="2411280" y="2133720"/>
            <a:ext cx="566892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3924360" y="3952800"/>
            <a:ext cx="3457440" cy="290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s://vatikam.s3.amazonaws.com/uploads/portfolio_module/image/17430/portfolio_aa1bfdaf16.jpg"/>
          <p:cNvPicPr/>
          <p:nvPr/>
        </p:nvPicPr>
        <p:blipFill>
          <a:blip r:embed="rId2"/>
          <a:stretch/>
        </p:blipFill>
        <p:spPr>
          <a:xfrm>
            <a:off x="1042920" y="4913280"/>
            <a:ext cx="3500640" cy="194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1619280" y="1628640"/>
            <a:ext cx="3643200" cy="2913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1187280" y="189000"/>
            <a:ext cx="75297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окрестностях этого города у жителей были дома в форме своих хозяев. Например у Кружка был домик в форме круга , Ромбика домик в форме ромбика и так дале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https://im2-tub-ru.yandex.net/i?id=4975da82e524909eece310626e8b2bdd&amp;n=33&amp;h=150&amp;w=150"/>
          <p:cNvPicPr/>
          <p:nvPr/>
        </p:nvPicPr>
        <p:blipFill>
          <a:blip r:embed="rId4"/>
          <a:stretch/>
        </p:blipFill>
        <p:spPr>
          <a:xfrm>
            <a:off x="1187280" y="3068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3924360" y="2317680"/>
            <a:ext cx="4032360" cy="4540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186920" y="260280"/>
            <a:ext cx="7385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ик был очень добрый, честный и хороший. Его очень любили жители городка Геометрия. Любили настолько,  чт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се жители  построили домики в виде квадрат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http://1.bp.blogspot.com/-BU4kgm7zZLc/U9Ifqej6CCI/AAAAAAABCfc/PtBxlPk5x3c/s1600/rect%C3%A1ngulo+coloreado.jpg"/>
          <p:cNvPicPr/>
          <p:nvPr/>
        </p:nvPicPr>
        <p:blipFill>
          <a:blip r:embed="rId2"/>
          <a:stretch/>
        </p:blipFill>
        <p:spPr>
          <a:xfrm>
            <a:off x="1042920" y="4149720"/>
            <a:ext cx="383400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404280"/>
            <a:ext cx="7529760" cy="57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 вот однажды в город приехал злой Треугольни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535320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042920" y="3657600"/>
            <a:ext cx="350532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34960" y="259920"/>
            <a:ext cx="7385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воим вспыльчивым нравом , подлой, хулиганской душой он сразу не полюбился геометричанам (жителям города Геометрия).   Треугольнику Квадратик сразу не понравился. Он построил дом не в виде квадрата , а в виде треугольника. Он хулиганил, писал гадости на заборах по ночам, а утром говорил что это делал Квадрат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https://img1.postila.ru/storage/12704000/12700177/264f55594491b77f4e3b7faffc15eb5c.jpg"/>
          <p:cNvPicPr/>
          <p:nvPr/>
        </p:nvPicPr>
        <p:blipFill>
          <a:blip r:embed="rId2"/>
          <a:stretch/>
        </p:blipFill>
        <p:spPr>
          <a:xfrm>
            <a:off x="4211640" y="4186080"/>
            <a:ext cx="308304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186920" y="259920"/>
            <a:ext cx="7385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 никто не верил Треугольнику. И Квадратик не обращал на это внимание. И  тогда рассерженный Треугольник решил похитить квадратика – влезть  ночью в окно его дома, связать и увезти в лес. Но когда ночью он полез в окно он не удержался , упал и сломал ног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16000" y="189000"/>
            <a:ext cx="760104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сё закончилось бы крайне печально, но Квадратик был настолько добр , что он выходил Треугольника , кормил его с ложки супом , читал сказки и треугольник выздоровел. И тогда он понял какой Квадратик хороший и стал таким же. С тех пор они с Квадратиком лучшие друзь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https://im3-tub-ru.yandex.net/i?id=48698b5b01a440d587a8975f32118073&amp;n=33&amp;h=166&amp;w=480"/>
          <p:cNvPicPr/>
          <p:nvPr/>
        </p:nvPicPr>
        <p:blipFill>
          <a:blip r:embed="rId1"/>
          <a:stretch/>
        </p:blipFill>
        <p:spPr>
          <a:xfrm>
            <a:off x="0" y="3782880"/>
            <a:ext cx="889308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0:52:59Z</dcterms:created>
  <dc:creator>ДЛЯ ВСЕХ</dc:creator>
  <dc:description/>
  <dc:language>en-US</dc:language>
  <cp:lastModifiedBy>АгафоноваЕГ</cp:lastModifiedBy>
  <dcterms:modified xsi:type="dcterms:W3CDTF">2017-09-15T09:34:08Z</dcterms:modified>
  <cp:revision>12</cp:revision>
  <dc:subject/>
  <dc:title>МАТЕМАТЕМОТИЧЕСКАЯ </dc:title>
</cp:coreProperties>
</file>