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25B-E2AF-46EF-8B01-B48B42D6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6D7-7DBB-44F0-B1BC-9C7114E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4AB-B934-4CCA-9D78-D5FF8F7E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1F3-2DAE-450B-9B81-523C9D11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6E8A-CBCB-4FCE-B9C7-E928603D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2495-4364-4BB1-BB71-0D0AF327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C76C-7235-4D67-A601-F90FFFC3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0324-7BF3-4470-823B-9ADED3FC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3188-89A4-40ED-8298-C467EA79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B262-4D02-4306-9BAA-3539C3E9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EF3-855A-4702-88B4-6629564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67E-159E-4E1A-B7F5-9481A8E2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0A59-4D35-44B9-8CBB-3ED8C974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555-5771-47C3-8822-439C675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8139-C7A0-4A3B-B38D-46FA7D6A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31FF-66B5-4018-AF32-30BD077E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AF2-0637-4565-BDB6-93F4CB7F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8697-E146-48B3-8908-3CDD5250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CFAE-6C99-4B46-879C-A90BB37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11EE-CDD7-4A08-B2A8-B7670C0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BAE9-EB73-4D66-ACFB-9439B41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2458-03B0-43EB-B28E-8F19FDED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C15-4D4B-4979-BBDC-DAE8B20B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4D1C-9139-4929-B945-9A89A4E2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AF4B-5515-42C7-BF0B-5CA4341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5C80-B154-4A37-8B5A-9B8D034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8961-74B2-4469-A590-D7D4114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2C72-3F86-4F0A-ABC6-DABD1A7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45EF-223D-4FDA-9335-4C3F1BE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F624-32A1-46FE-8415-5944C84B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A83C-CDB8-4FEF-AE5C-1609E24A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A0A0-D5EF-495E-87A3-043B0676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DE75-9472-4EFA-A3DC-366B7F5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049-53BC-4220-A9BA-C137202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C736-D546-46EE-8268-8CEF375A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91DE-B454-45A1-9BD9-544C11E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AC40-E433-4842-B1A6-205B1CB6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DD0D-444E-4AD7-B7F6-8229CF8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2800-374D-4B4E-96AE-DD5AA1F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89F2-7AE3-4CB7-B803-D529025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41CF-13A8-417D-87ED-AC886858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2F91-C453-499D-B11E-07E59865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7037-DC89-404A-9055-FB00935C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62EA-2926-4F85-BC24-697F1F33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738-2082-4B48-9649-C857C2A3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89C4F-0A96-45BA-8D69-BD33A65F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FAC5-D944-48B2-87A3-4B0630B7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967F-5764-4A78-8B80-53887FBD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F0D2-E3A2-4130-91EF-5200CC7E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F921-527A-4BFB-ACEF-46ACD5C2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83F73-6F0E-45FC-B689-9EBE4E1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C3D1-30F2-413F-BEC3-F0E2B4B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1549-784A-42F4-91D7-6734BE2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E818-1CC9-4F86-9EAC-6767FD6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E3C4-7E4F-450C-8BC4-F3BC5EA3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E7F-1D0F-479D-AA2E-E3F63B9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34F9-AA20-4CBB-8FA7-F616457C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30CE-3D96-4AD2-858D-B041BD24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4D0D4-8000-446B-B2C7-0774DA1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E7379-53D6-4450-BCFD-28B341B3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EA765-C615-4986-A055-ACF3C35A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ED55-1307-4388-BB96-4732D7F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00AD-00AF-4764-95CD-15DD2A6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86BD-E158-499D-8B88-F1FCDD6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024B-1D1C-49EC-B32B-CFEEE6D1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9A13-6391-4344-89FC-4BAA393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D47-D180-4159-A9BB-30E8363D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EB2F-EA91-472F-959D-19CC4E8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39CBA-EDB7-4D73-A417-8D6345A4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D5AAD-F6B7-4C36-9640-68ABA638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E2F9E-224F-416C-8DAF-3E085D75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1EEE-088E-455F-BA8F-43064981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6AACB-AE33-4FE2-B9D0-FB37DC51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6BE12-A1A2-4F65-A328-3A20856E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1FBF-0104-4B3A-A84E-D5ED1DF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B51F5-960D-4E02-8AFA-4EFE47E7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0635-E5C2-4DAD-8967-592F749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73D-3E38-4367-83C2-5798082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FBB23-F236-44A0-A151-87FA1E41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4AF1-D623-47D2-A588-016E3E7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047CD-DC65-49A4-8F35-70693C7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9C210-4763-44F1-B573-D5166484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EA4A-FDD5-49E0-A126-54ADDFAF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BBD-1AA5-4337-840D-F83C0EE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596-CDA5-4072-AFB7-9BD8E219E8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D889-1EAC-45F6-A466-3AF429DDB1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9017-0B98-4870-AA21-7709ED83B3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C0D4-B0EE-4284-9FE6-E1E8C50AB9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B732-BA06-41D6-BC32-E05203C776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86F2-F4CA-4308-A1BF-D609B8AEBF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CE4F-C81D-4830-A390-5B7F32F56B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s://im3-tub-ru.yandex.net/i?id=48698b5b01a440d587a8975f32118073&amp;n=33&amp;h=166&amp;w=480"/>
          <p:cNvPicPr/>
          <p:nvPr/>
        </p:nvPicPr>
        <p:blipFill>
          <a:blip r:embed="rId1"/>
          <a:stretch/>
        </p:blipFill>
        <p:spPr>
          <a:xfrm>
            <a:off x="0" y="0"/>
            <a:ext cx="8893080" cy="3075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130480"/>
            <a:ext cx="8856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Сказка о дружбе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треугольника и квадрата</a:t>
            </a: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ttps://im1-tub-ru.yandex.net/i?id=14c2aeddafa9a14d3f94091ff28108b1&amp;n=33&amp;h=215&amp;w=324"/>
          <p:cNvPicPr/>
          <p:nvPr/>
        </p:nvPicPr>
        <p:blipFill>
          <a:blip r:embed="rId1"/>
          <a:stretch/>
        </p:blipFill>
        <p:spPr>
          <a:xfrm>
            <a:off x="0" y="0"/>
            <a:ext cx="91821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-360" y="-360"/>
            <a:ext cx="88930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гда-то в далёкой стране </a:t>
            </a:r>
            <a:r>
              <a:rPr b="0" lang="ru-RU" sz="2800" spc="-1" strike="noStrike">
                <a:solidFill>
                  <a:srgbClr val="00b050"/>
                </a:solidFill>
                <a:latin typeface="Corbel"/>
              </a:rPr>
              <a:t>Математике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в маленьком городке </a:t>
            </a:r>
            <a:r>
              <a:rPr b="0" lang="ru-RU" sz="2800" spc="-1" strike="noStrike">
                <a:solidFill>
                  <a:srgbClr val="00b050"/>
                </a:solidFill>
                <a:latin typeface="Corbel"/>
              </a:rPr>
              <a:t>Геометри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ил очень добрый 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Квадрат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551640" cy="464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42920" y="115920"/>
            <a:ext cx="7850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ик был очень красивый! У него была модная причёска, румянец под щёчками и выглядел он как добрая, порядочная геометрическая фигур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http://1.bp.blogspot.com/-BU4kgm7zZLc/U9Ifqej6CCI/AAAAAAABCfc/PtBxlPk5x3c/s1600/rect%C3%A1ngulo+coloreado.jpg"/>
          <p:cNvPicPr/>
          <p:nvPr/>
        </p:nvPicPr>
        <p:blipFill>
          <a:blip r:embed="rId1"/>
          <a:stretch/>
        </p:blipFill>
        <p:spPr>
          <a:xfrm>
            <a:off x="2411280" y="2133720"/>
            <a:ext cx="566892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3924360" y="3952800"/>
            <a:ext cx="3457440" cy="290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https://vatikam.s3.amazonaws.com/uploads/portfolio_module/image/17430/portfolio_aa1bfdaf16.jpg"/>
          <p:cNvPicPr/>
          <p:nvPr/>
        </p:nvPicPr>
        <p:blipFill>
          <a:blip r:embed="rId2"/>
          <a:stretch/>
        </p:blipFill>
        <p:spPr>
          <a:xfrm>
            <a:off x="1042920" y="4913280"/>
            <a:ext cx="3500640" cy="194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1619280" y="1628640"/>
            <a:ext cx="3643200" cy="2913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1187280" y="189000"/>
            <a:ext cx="75297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окрестностях этого города у жителей были дома в форме своих хозяев. Например у Кружка был домик в форме круга , Ромбика домик в форме ромбика и так дале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https://im2-tub-ru.yandex.net/i?id=4975da82e524909eece310626e8b2bdd&amp;n=33&amp;h=150&amp;w=150"/>
          <p:cNvPicPr/>
          <p:nvPr/>
        </p:nvPicPr>
        <p:blipFill>
          <a:blip r:embed="rId4"/>
          <a:stretch/>
        </p:blipFill>
        <p:spPr>
          <a:xfrm>
            <a:off x="1187280" y="3068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3924360" y="2317680"/>
            <a:ext cx="4032360" cy="4540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186920" y="260280"/>
            <a:ext cx="7385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ик был очень добрый, честный и хороший. Его очень любили жители городка Геометрия. Любили настолько,  чт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се жители  построили домики в виде квадрат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http://1.bp.blogspot.com/-BU4kgm7zZLc/U9Ifqej6CCI/AAAAAAABCfc/PtBxlPk5x3c/s1600/rect%C3%A1ngulo+coloreado.jpg"/>
          <p:cNvPicPr/>
          <p:nvPr/>
        </p:nvPicPr>
        <p:blipFill>
          <a:blip r:embed="rId2"/>
          <a:stretch/>
        </p:blipFill>
        <p:spPr>
          <a:xfrm>
            <a:off x="1042920" y="4149720"/>
            <a:ext cx="383400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404280"/>
            <a:ext cx="7529760" cy="57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 вот однажды в город приехал злой Треугольни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535320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042920" y="3657600"/>
            <a:ext cx="3505320" cy="3200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34960" y="259920"/>
            <a:ext cx="7385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воим вспыльчивым нравом , подлой, хулиганской душой он сразу не полюбился геометричанам (жителям города Геометрия).   Треугольнику Квадратик сразу не понравился. Он построил дом не в виде квадрата , а в виде треугольника. Он хулиганил, писал гадости на заборах по ночам, а утром говорил что это делал Квадрат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https://img1.postila.ru/storage/12704000/12700177/264f55594491b77f4e3b7faffc15eb5c.jpg"/>
          <p:cNvPicPr/>
          <p:nvPr/>
        </p:nvPicPr>
        <p:blipFill>
          <a:blip r:embed="rId2"/>
          <a:stretch/>
        </p:blipFill>
        <p:spPr>
          <a:xfrm>
            <a:off x="4211640" y="4186080"/>
            <a:ext cx="308304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186920" y="259920"/>
            <a:ext cx="7385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 никто не верил Треугольнику. И Квадратик не обращал на это внимание. И  тогда рассерженный Треугольник решил похитить квадратика – влезть  ночью в окно его дома, связать и увезти в лес. Но когда ночью он полез в окно он не удержался , упал и сломал ног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16000" y="189000"/>
            <a:ext cx="760104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сё закончилось бы крайне печально, но Квадратик был настолько добр , что он выходил Треугольника , кормил его с ложки супом , читал сказки и треугольник выздоровел. И тогда он понял какой Квадратик хороший и стал таким же. С тех пор они с Квадратиком лучшие друзь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https://im3-tub-ru.yandex.net/i?id=48698b5b01a440d587a8975f32118073&amp;n=33&amp;h=166&amp;w=480"/>
          <p:cNvPicPr/>
          <p:nvPr/>
        </p:nvPicPr>
        <p:blipFill>
          <a:blip r:embed="rId1"/>
          <a:stretch/>
        </p:blipFill>
        <p:spPr>
          <a:xfrm>
            <a:off x="0" y="3782880"/>
            <a:ext cx="889308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0:52:59Z</dcterms:created>
  <dc:creator>ДЛЯ ВСЕХ</dc:creator>
  <dc:description/>
  <dc:language>en-US</dc:language>
  <cp:lastModifiedBy>АгафоноваЕГ</cp:lastModifiedBy>
  <dcterms:modified xsi:type="dcterms:W3CDTF">2017-09-15T09:34:08Z</dcterms:modified>
  <cp:revision>12</cp:revision>
  <dc:subject/>
  <dc:title>МАТЕМАТЕМОТИЧЕСКАЯ </dc:title>
</cp:coreProperties>
</file>