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7091-D91F-4E6E-9813-3175330A80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CDA7-B52C-44BE-B8F0-4ABB17186E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075E-33E6-415E-8776-D937E769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BAB3-FD48-427A-A21E-B43B8B06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A87-AB00-4C77-AAED-ADBB98B9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A3FF-6B6D-4A1E-85E4-9FF10378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F7A2-6206-48BC-97B6-F0755A55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9CD8-7254-479E-902B-54116F8E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761-C425-45F3-9479-35EB30FB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57A-1082-49C0-B5C8-DE678BA3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049-8316-43A7-943C-B2884DE6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107D-3DA9-4BCF-B990-DE0A8734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D2FB-F187-4E4E-A708-3039B88C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C0BC-D967-414D-99BA-9F81C2FA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4A2D-6D37-4903-B892-4AF8DDD239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7280" y="571320"/>
            <a:ext cx="6786720" cy="30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Орфографический словарь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360" y="1341000"/>
            <a:ext cx="662472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описание слов с непроизносимым согласным звуком в кор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СПОМНИ  ПРАВИ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411280" y="1844640"/>
            <a:ext cx="673272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Чтобы правильно обозначить буквой непроизносимый согласный звук в корне слова, надо подобрать такое однокоренное слово, в котором этот согласный произносится отчётлив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347640" y="22320"/>
            <a:ext cx="649116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Здра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твуйте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ес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ица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крес…ность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раз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ик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рекрасный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релес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ый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це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ер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це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час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ивый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трос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ик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чу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тво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чес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ый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чудесный,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347640" y="188640"/>
            <a:ext cx="671508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Здра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твуйте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ес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т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ица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крес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т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ость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раз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ик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рекрасный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релес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т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ый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це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ер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це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час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т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ивый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трос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т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ик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чу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тво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чес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т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ый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чудесный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зови прави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123640" y="836280"/>
            <a:ext cx="71643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Звезда    Скворец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Правописание   безударной гласной в корне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с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Герб         Уз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описание парных     согласны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Сердце    Солнце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описание слов с непроизносимы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гласным звуком  в корне с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Подъезд    Съезд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описание слов с разделительны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вёрдым знаком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7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ловарик – памятник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«Удвойные согласны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340000" y="1163160"/>
            <a:ext cx="223200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А</a:t>
            </a:r>
            <a:r>
              <a:rPr b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кк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урат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а</a:t>
            </a:r>
            <a:r>
              <a:rPr b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лл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е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анте</a:t>
            </a:r>
            <a:r>
              <a:rPr b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нн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а</a:t>
            </a:r>
            <a:r>
              <a:rPr b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пп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ет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а</a:t>
            </a:r>
            <a:r>
              <a:rPr b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лл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е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ба</a:t>
            </a:r>
            <a:r>
              <a:rPr b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сс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ей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а</a:t>
            </a:r>
            <a:r>
              <a:rPr b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нн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гра</a:t>
            </a:r>
            <a:r>
              <a:rPr b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м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иску</a:t>
            </a:r>
            <a:r>
              <a:rPr b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сс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ка</a:t>
            </a:r>
            <a:r>
              <a:rPr b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сс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килогра</a:t>
            </a:r>
            <a:r>
              <a:rPr b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м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292720" y="708120"/>
            <a:ext cx="2592360" cy="329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4427640" y="1146240"/>
            <a:ext cx="2305080" cy="5730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6588000" y="1127160"/>
            <a:ext cx="255600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11280" y="220464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вод: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учился пользоваться орфографическим словарём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* составить словарик – памятку на тему : «Удвоенные согласные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Прямоугольник 3" descr=""/>
          <p:cNvPicPr/>
          <p:nvPr/>
        </p:nvPicPr>
        <p:blipFill>
          <a:blip r:embed="rId1"/>
          <a:stretch/>
        </p:blipFill>
        <p:spPr>
          <a:xfrm>
            <a:off x="2554200" y="268200"/>
            <a:ext cx="6248520" cy="58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ь свой словарь на изученную орфограмм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95640" y="1916280"/>
            <a:ext cx="669744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: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знать что такое орфографический словарь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учиться пользоваться орфографическим словаре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авить словарик - памятку на тему: «Удвоенные согласны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476280"/>
            <a:ext cx="65628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Что такое орфографический словар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56000" y="2277720"/>
            <a:ext cx="6346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Орфографический словарь - это словарь, в котором все слова написаны правильно, без ошибок,  в алфавитном поряд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Мы обращаемся к нему, когда не знаем как правильно пишется слово или хотим проверить слов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правь ошиб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55640" y="1844280"/>
            <a:ext cx="6491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На прашлагодние  ашипк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Сматреть мне трудно без улыпки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Пишу я лучче многих в класе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Мне падарил падарок  вася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Я изучяла весь енварь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Арфаграфичиский славарь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.Яс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ОВЕРЬ  СЕБ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На пр</a:t>
            </a:r>
            <a:r>
              <a:rPr b="0" lang="ru-RU" sz="3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шл</a:t>
            </a:r>
            <a:r>
              <a:rPr b="0" lang="ru-RU" sz="3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годние  </a:t>
            </a:r>
            <a:r>
              <a:rPr b="0" lang="ru-RU" sz="3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ши</a:t>
            </a:r>
            <a:r>
              <a:rPr b="0" lang="ru-RU" sz="34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к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ru-RU" sz="3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треть мне трудно без улы</a:t>
            </a:r>
            <a:r>
              <a:rPr b="0" lang="ru-RU" sz="34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ки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Пишу я луч</a:t>
            </a:r>
            <a:r>
              <a:rPr b="0" lang="ru-RU" sz="3400" spc="-1" strike="noStrike">
                <a:solidFill>
                  <a:srgbClr val="ff0000"/>
                </a:solidFill>
                <a:latin typeface="Calibri"/>
              </a:rPr>
              <a:t>Ш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е многих в кла</a:t>
            </a:r>
            <a:r>
              <a:rPr b="0" lang="ru-RU" sz="3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се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Мне п</a:t>
            </a:r>
            <a:r>
              <a:rPr b="0" lang="ru-RU" sz="3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дарил п</a:t>
            </a:r>
            <a:r>
              <a:rPr b="0" lang="ru-RU" sz="3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дарок  </a:t>
            </a:r>
            <a:r>
              <a:rPr b="0" lang="ru-RU" sz="34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ася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Я изуч</a:t>
            </a:r>
            <a:r>
              <a:rPr b="0" lang="ru-RU" sz="3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ла весь </a:t>
            </a:r>
            <a:r>
              <a:rPr b="0" lang="ru-RU" sz="34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нварь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0" lang="ru-RU" sz="3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графич</a:t>
            </a:r>
            <a:r>
              <a:rPr b="0" lang="ru-RU" sz="3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ский сл</a:t>
            </a:r>
            <a:r>
              <a:rPr b="0" lang="ru-RU" sz="3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варь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.Яс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описание слов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с безударными гласными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 корн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СПОМНИ ПРАВИЛ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68000" y="1557360"/>
            <a:ext cx="65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Чтобы проверить безударную гласную в корне слова , нужно подобрать такое однокоренное слово, где эта гласная будет под ударение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76360" y="259920"/>
            <a:ext cx="67150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в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ы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в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да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ьмо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в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ц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рь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вик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ь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563640" y="188640"/>
            <a:ext cx="54198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в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ы – дв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в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да – звёз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ьмо - пись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в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ц – скворуш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рь - сл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вик- снег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ь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7T05:10:30Z</dcterms:created>
  <dc:creator>Admin</dc:creator>
  <dc:description/>
  <dc:language>en-US</dc:language>
  <cp:lastModifiedBy>АгафоноваЕГ</cp:lastModifiedBy>
  <dcterms:modified xsi:type="dcterms:W3CDTF">2017-09-15T09:30:11Z</dcterms:modified>
  <cp:revision>35</cp:revision>
  <dc:subject/>
  <dc:title>Правописание слов с безударными гласными в корне</dc:title>
</cp:coreProperties>
</file>