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C259-485C-4530-9C77-151EC80CCF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8396-A022-4B26-B34E-A0CB0131CD9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D41-48C3-4614-A0F8-34B8DBC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3BF-9136-45C7-9D86-AC86889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B3-81EC-4BB3-9BB9-97B6095D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ED8-D6A2-4098-A96C-2D03F8DF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B8B2-57A0-4E85-AE24-45D2CC3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EB2-9844-4C56-8226-C878FFD5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E00C-3C0C-459D-ADCE-385E7EA4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6104-6859-4AD6-9BE2-49442918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2212-1D1E-4A15-970C-448B1CA1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1C34-8707-4890-9884-3BD2CA0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B74-2185-4C37-83DC-C2C7FFF3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AEC-98B1-46C1-BB73-A851D3C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0D04-73E5-455E-A340-6D92CE8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7E9-0A58-4ABD-8E8B-28DB176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8CAE-58EB-4D78-B285-62BBF4A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0B6-2822-4A13-823A-5D0A1F71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6219-37FF-4ADC-8042-6032969F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F26-EA3D-40CB-8275-FF55324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68D-1C47-447C-9DA0-E61F31C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C6A-8408-428B-8A0E-E1941293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9E7-E09C-444C-9E91-A23D1672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408-01BE-4DB4-9ECB-3438EF3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072-170B-4EC3-8C78-BA9D49C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764-B1FF-4B9E-ABBA-6B03473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428-9519-4ADF-B9A8-70807CC305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EEB-D8A9-4B4C-8274-BBF9D69E308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g-fotki.yandex.ru/get/3107/lady-may2006.33/0_25afe_1adffe01_X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1219.vkontakte.ru/u2163629/57352186/x_5ecb896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5.nnm.ru/e/a/f/4/f/e57c536ca587fb2caaed0bc8aa8_prev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-324000" y="159120"/>
            <a:ext cx="972036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Тема :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"Алексей Пантелеев «Главный инженер»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Поход в «Музейный Дом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Репродукция картины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f1f1"/>
                </a:solidFill>
                <a:latin typeface="Times New Roman"/>
                <a:ea typeface="Times New Roman"/>
              </a:rPr>
              <a:t>Александра Дейнеки «Окраина Москвы»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482760" y="189000"/>
            <a:ext cx="4593960" cy="6669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0" descr="http://img-fotki.yandex.ru/get/3107/lady-may2006.33/0_25afe_1adffe01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91120" y="260280"/>
            <a:ext cx="3728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http://im5-tub.yandex.net/i?id=12673391-01"/>
          <p:cNvPicPr/>
          <p:nvPr/>
        </p:nvPicPr>
        <p:blipFill>
          <a:blip r:embed="rId2"/>
          <a:stretch/>
        </p:blipFill>
        <p:spPr>
          <a:xfrm>
            <a:off x="324000" y="0"/>
            <a:ext cx="4319280" cy="6381720"/>
          </a:xfrm>
          <a:prstGeom prst="rect">
            <a:avLst/>
          </a:prstGeom>
          <a:ln w="0">
            <a:noFill/>
          </a:ln>
        </p:spPr>
      </p:pic>
      <p:pic>
        <p:nvPicPr>
          <p:cNvPr id="152" name="i-main-pic" descr="Картинка 15 из 2729"/>
          <p:cNvPicPr/>
          <p:nvPr/>
        </p:nvPicPr>
        <p:blipFill>
          <a:blip r:embed="rId3"/>
          <a:stretch/>
        </p:blipFill>
        <p:spPr>
          <a:xfrm>
            <a:off x="4648320" y="0"/>
            <a:ext cx="40384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457200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" descr="http://im5-tub.yandex.net/i?id=12673391-01"/>
          <p:cNvPicPr/>
          <p:nvPr/>
        </p:nvPicPr>
        <p:blipFill>
          <a:blip r:embed="rId2"/>
          <a:stretch/>
        </p:blipFill>
        <p:spPr>
          <a:xfrm>
            <a:off x="68400" y="0"/>
            <a:ext cx="450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http://maslovka.info/images/555/DEYNEKAAA-14.jpg"/>
          <p:cNvPicPr/>
          <p:nvPr/>
        </p:nvPicPr>
        <p:blipFill>
          <a:blip r:embed="rId1"/>
          <a:stretch/>
        </p:blipFill>
        <p:spPr>
          <a:xfrm>
            <a:off x="2771640" y="260280"/>
            <a:ext cx="35766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539640" y="54590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лександр Александрович Дейнека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1899–1969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http://www.deineka.ru/images/works/okraina_moskwy_1941.jpg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4932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357120" y="550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Окраина Москвы. Ноябрь 1941 года». Автор А.Дейне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24000" y="1268280"/>
          <a:ext cx="8424720" cy="5127840"/>
        </p:xfrm>
        <a:graphic>
          <a:graphicData uri="http://schemas.openxmlformats.org/drawingml/2006/table">
            <a:tbl>
              <a:tblPr/>
              <a:tblGrid>
                <a:gridCol w="658800"/>
                <a:gridCol w="514080"/>
                <a:gridCol w="514440"/>
                <a:gridCol w="514440"/>
                <a:gridCol w="514440"/>
                <a:gridCol w="606240"/>
                <a:gridCol w="504720"/>
                <a:gridCol w="503280"/>
                <a:gridCol w="443160"/>
                <a:gridCol w="514080"/>
                <a:gridCol w="514440"/>
                <a:gridCol w="514440"/>
                <a:gridCol w="514440"/>
                <a:gridCol w="514080"/>
                <a:gridCol w="514440"/>
                <a:gridCol w="565200"/>
              </a:tblGrid>
              <a:tr h="825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22"/>
          <p:cNvSpPr/>
          <p:nvPr/>
        </p:nvSpPr>
        <p:spPr>
          <a:xfrm>
            <a:off x="1116000" y="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Трусость, патриотизм, решительность, слабость, бдительность, смелость, находчивость, безответственность, храбр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11280" y="836640"/>
          <a:ext cx="8229600" cy="5272200"/>
        </p:xfrm>
        <a:graphic>
          <a:graphicData uri="http://schemas.openxmlformats.org/drawingml/2006/table">
            <a:tbl>
              <a:tblPr/>
              <a:tblGrid>
                <a:gridCol w="514080"/>
                <a:gridCol w="514440"/>
                <a:gridCol w="514440"/>
                <a:gridCol w="514440"/>
                <a:gridCol w="514080"/>
                <a:gridCol w="606600"/>
                <a:gridCol w="504720"/>
                <a:gridCol w="503280"/>
                <a:gridCol w="442800"/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</a:tblGrid>
              <a:tr h="825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Arial"/>
              </a:rPr>
              <a:t>Стр. 130-146 ответить на вопросы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Arial"/>
              </a:rPr>
              <a:t>Составить рассказ-характеристику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500040" y="428760"/>
            <a:ext cx="84297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озовый – урок прошёл удачно: я активно участвовал в работе класса, с заданиями справился успешно. Я очень доволен собой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Жёлтый – сегодня на уроке не все задания оказались такими уж лёгкими. Мне было трудно, но я справился. Я вполне доволен собой!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Голубой – Задания на уроке оказались слишком трудными. Мне нужна помощь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1086120"/>
            <a:ext cx="89359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Verdana"/>
              </a:rPr>
              <a:t>«Кто с мечом к нам  придёт,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Verdana"/>
              </a:rPr>
              <a:t>тот от меча и погибнет»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А. Невски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24000" y="27198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9440" y="24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чему рассказ так назван?</a:t>
            </a:r>
            <a:br>
              <a:rPr sz="57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чему автор в начале рассказа говорит не только о награждении Леши, но и о награждении немецкого лейтенанта Фридриха Буша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84360" y="339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дробнее остановиться на образе главного геро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81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i-main-pic" descr="Картинка 3 из 3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0"/>
            <a:ext cx="83581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i-main-pic" descr="Картинка 16 из 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188640"/>
            <a:ext cx="91440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1.  </a:t>
            </a:r>
            <a:r>
              <a:rPr b="1" lang="ru-RU" sz="4400" spc="-1" strike="noStrike">
                <a:solidFill>
                  <a:srgbClr val="eaeaea"/>
                </a:solidFill>
                <a:latin typeface="Verdana"/>
              </a:rPr>
              <a:t>До  вечера Леша Михайлов ходил сам не сво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Verdana"/>
              </a:rPr>
              <a:t>2. У печки стоял высокий красноармеец в полушубке и в кожаном  шоферском шлеме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Verdana"/>
              </a:rPr>
              <a:t>3. «Только бы не заплакать», - еще раз  подумал Леша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39600" y="189000"/>
            <a:ext cx="885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4.  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У Леши не попадали в рукава руки, когда он натягивал свое пальтишко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5.  Леша попрощался с матерью и пошел к выходу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6.   Полковник поднял глаза и тоже как будто удивился, что Леша такой маленький и тщедушный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79280" y="36360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eaeaea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И тут он не выдержал, и слезы прорвались оттуда, где они до сих пор прятались, и заклокотали у него в горл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buClr>
                <a:srgbClr val="eaeaea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Леша давно уже проглотил слезы и слушал полковника с таким вниманием, что даже рот открыл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9.   Леша Михайлов жив, здоров и учится в 9 класс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еша Михайлов – он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58680" y="181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1500120"/>
            <a:ext cx="268740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2"/>
          <a:stretch/>
        </p:blipFill>
        <p:spPr>
          <a:xfrm>
            <a:off x="5791320" y="1311120"/>
            <a:ext cx="3322440" cy="212112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9" descr=""/>
          <p:cNvPicPr/>
          <p:nvPr/>
        </p:nvPicPr>
        <p:blipFill>
          <a:blip r:embed="rId3"/>
          <a:stretch/>
        </p:blipFill>
        <p:spPr>
          <a:xfrm>
            <a:off x="128520" y="3333600"/>
            <a:ext cx="2309760" cy="21164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1" descr=""/>
          <p:cNvPicPr/>
          <p:nvPr/>
        </p:nvPicPr>
        <p:blipFill>
          <a:blip r:embed="rId4"/>
          <a:stretch/>
        </p:blipFill>
        <p:spPr>
          <a:xfrm>
            <a:off x="4767120" y="3975120"/>
            <a:ext cx="4748400" cy="2571840"/>
          </a:xfrm>
          <a:prstGeom prst="rect">
            <a:avLst/>
          </a:prstGeom>
          <a:ln w="0">
            <a:noFill/>
          </a:ln>
        </p:spPr>
      </p:pic>
      <p:cxnSp>
        <p:nvCxnSpPr>
          <p:cNvPr id="140" name="Прямая со стрелкой 16"/>
          <p:cNvCxnSpPr/>
          <p:nvPr/>
        </p:nvCxnSpPr>
        <p:spPr>
          <a:xfrm flipH="1">
            <a:off x="1042200" y="1052280"/>
            <a:ext cx="3025080" cy="477000"/>
          </a:xfrm>
          <a:prstGeom prst="straightConnector1">
            <a:avLst/>
          </a:prstGeom>
          <a:ln w="38160">
            <a:solidFill>
              <a:srgbClr val="0affff"/>
            </a:solidFill>
            <a:miter/>
            <a:tailEnd len="med" type="arrow" w="med"/>
          </a:ln>
        </p:spPr>
      </p:cxnSp>
      <p:cxnSp>
        <p:nvCxnSpPr>
          <p:cNvPr id="141" name="Прямая со стрелкой 18"/>
          <p:cNvCxnSpPr/>
          <p:nvPr/>
        </p:nvCxnSpPr>
        <p:spPr>
          <a:xfrm flipH="1">
            <a:off x="2267640" y="1052280"/>
            <a:ext cx="1799640" cy="3672360"/>
          </a:xfrm>
          <a:prstGeom prst="straightConnector1">
            <a:avLst/>
          </a:prstGeom>
          <a:ln w="38160">
            <a:solidFill>
              <a:srgbClr val="0affff"/>
            </a:solidFill>
            <a:miter/>
            <a:tailEnd len="med" type="arrow" w="med"/>
          </a:ln>
        </p:spPr>
      </p:cxnSp>
      <p:cxnSp>
        <p:nvCxnSpPr>
          <p:cNvPr id="142" name="Прямая со стрелкой 20"/>
          <p:cNvCxnSpPr/>
          <p:nvPr/>
        </p:nvCxnSpPr>
        <p:spPr>
          <a:xfrm>
            <a:off x="4066920" y="1052640"/>
            <a:ext cx="1080" cy="3456720"/>
          </a:xfrm>
          <a:prstGeom prst="straightConnector1">
            <a:avLst/>
          </a:prstGeom>
          <a:ln w="38160">
            <a:solidFill>
              <a:srgbClr val="0affff"/>
            </a:solidFill>
            <a:miter/>
            <a:tailEnd len="med" type="arrow" w="med"/>
          </a:ln>
        </p:spPr>
      </p:cxnSp>
      <p:cxnSp>
        <p:nvCxnSpPr>
          <p:cNvPr id="143" name="Прямая со стрелкой 22"/>
          <p:cNvCxnSpPr/>
          <p:nvPr/>
        </p:nvCxnSpPr>
        <p:spPr>
          <a:xfrm>
            <a:off x="4066920" y="1052280"/>
            <a:ext cx="2508840" cy="1454760"/>
          </a:xfrm>
          <a:prstGeom prst="straightConnector1">
            <a:avLst/>
          </a:prstGeom>
          <a:ln w="38160">
            <a:solidFill>
              <a:srgbClr val="0affff"/>
            </a:solidFill>
            <a:miter/>
            <a:tailEnd len="med" type="arrow" w="med"/>
          </a:ln>
        </p:spPr>
      </p:cxnSp>
      <p:cxnSp>
        <p:nvCxnSpPr>
          <p:cNvPr id="144" name="Прямая со стрелкой 24"/>
          <p:cNvCxnSpPr/>
          <p:nvPr/>
        </p:nvCxnSpPr>
        <p:spPr>
          <a:xfrm>
            <a:off x="4067280" y="1052640"/>
            <a:ext cx="2666160" cy="3456720"/>
          </a:xfrm>
          <a:prstGeom prst="straightConnector1">
            <a:avLst/>
          </a:prstGeom>
          <a:ln w="38160">
            <a:solidFill>
              <a:srgbClr val="0affff"/>
            </a:solidFill>
            <a:miter/>
            <a:tailEnd len="med" type="arrow" w="med"/>
          </a:ln>
        </p:spPr>
      </p:cxnSp>
      <p:pic>
        <p:nvPicPr>
          <p:cNvPr id="145" name="Прямоугольник 13" descr=""/>
          <p:cNvPicPr/>
          <p:nvPr/>
        </p:nvPicPr>
        <p:blipFill>
          <a:blip r:embed="rId5"/>
          <a:stretch/>
        </p:blipFill>
        <p:spPr>
          <a:xfrm>
            <a:off x="2316240" y="4565520"/>
            <a:ext cx="24685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2:47:54Z</dcterms:created>
  <dc:creator>медиатека_2</dc:creator>
  <dc:description/>
  <dc:language>en-US</dc:language>
  <cp:lastModifiedBy>user</cp:lastModifiedBy>
  <dcterms:modified xsi:type="dcterms:W3CDTF">2014-03-17T16:21:53Z</dcterms:modified>
  <cp:revision>51</cp:revision>
  <dc:subject/>
  <dc:title>Великая Отечественная война 1941-1945 г.</dc:title>
</cp:coreProperties>
</file>