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voltage.wav" ContentType="audio/x-wav"/>
  <Override PartName="/ppt/media/image8.png" ContentType="image/png"/>
  <Override PartName="/ppt/media/image7.wmf" ContentType="image/x-wmf"/>
  <Override PartName="/ppt/media/image12.png" ContentType="image/png"/>
  <Override PartName="/ppt/media/wind.wav" ContentType="audio/x-wav"/>
  <Override PartName="/ppt/media/image16.png" ContentType="image/png"/>
  <Override PartName="/ppt/media/image6.wmf" ContentType="image/x-wmf"/>
  <Override PartName="/ppt/media/laser.wav" ContentType="audio/x-wav"/>
  <Override PartName="/ppt/media/image4.jpeg" ContentType="image/jpeg"/>
  <Override PartName="/ppt/media/image2.png" ContentType="image/png"/>
  <Override PartName="/ppt/media/explode.wav" ContentType="audio/x-wav"/>
  <Override PartName="/ppt/media/bomb.wav" ContentType="audio/x-wav"/>
  <Override PartName="/ppt/media/drumroll.wav" ContentType="audio/x-wav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coin.wav" ContentType="audio/x-wav"/>
  <Override PartName="/ppt/media/image13.jpeg" ContentType="image/jpeg"/>
  <Override PartName="/ppt/media/hammer.wav" ContentType="audio/x-wav"/>
  <Override PartName="/ppt/media/image11.jpeg" ContentType="image/jpeg"/>
  <Override PartName="/ppt/media/image1.jpeg" ContentType="image/jpeg"/>
  <Override PartName="/ppt/media/image5.png" ContentType="image/png"/>
  <Override PartName="/ppt/media/image1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52A9-41F8-49B8-91C3-67B57F48E5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0A5A-39C8-4D56-9043-DD56444561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отри дале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3BD8-B4EF-4F77-89FF-E47B03E4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A7D-E65D-4B0E-8ECC-FD6E5FD8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E8D86-3CA8-4B7C-A8EA-110A3A63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00E55-BAA0-4FBE-8A61-EB6A425A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6D99F-FADB-4D73-AE17-76D2E3CF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79764-A8B0-43AC-A22F-6456B53E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2E45A-8397-458B-9424-F594445F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C5BAF-EF1A-445A-8217-B67CB51C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849BF-4C32-485C-A922-36A1EDBE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2C349-6A78-405F-9417-54A45A9A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B793F-3A55-447B-A24B-A50E69A4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960C-8A07-44AE-9E9A-93277D3F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BB11-85EF-435A-ACFC-BC9265D9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5069-C272-4E46-A673-836C6337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1146-CD81-4066-B1D2-30C8C23A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864A-3AC0-4379-9141-9016A075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6F1A-4FF1-4D64-9496-A76BDE89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1B81-E60E-4BB9-934B-303BBC2B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DE0D-29B3-48BD-8730-86CB5CAF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0455-45D0-4AF5-BF41-3F0BBBB1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2E05-55A3-40E0-8148-C1702287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AB34-5D36-472E-8D5E-E6C2D9B5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49A0-F6BC-4562-ADA7-97E0EFB5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946C-386D-4F92-B7E7-6A1CCC3B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1F07-3038-4EC7-ABFC-7448E56F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5C0C-4569-4744-967E-631B473C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EEB24-3A30-4F48-9D39-0D6D3987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C59BE-A1F3-4B52-97FF-246DCB46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E01DF-9332-47C2-A19F-0EC76F2C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F0059-6056-46ED-8A25-81F85579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A7CFB-B452-4D77-BF0B-2904986B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5DA3-EECC-4717-B237-81C679DF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7D3D2-60A3-4561-9634-CC04F256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CE0BA-E17C-4A37-90F8-0A93F84C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88165-A47E-4A8C-A48F-41171F22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DC06F-BFF6-4B54-93FE-A4331FC9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B06A8-C7A2-44B4-90EC-C6A769C8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2727E-3381-47EA-B0B3-0B1C33F7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6B872-8351-4A7D-A813-5F24FFBF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2F145-E4B3-47DF-A6FB-1AF2B088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26AC5-21CD-40A5-BE6D-6E6320E8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DC856-40B7-4AE1-AA64-7E859289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8C6-E504-484E-8EEE-14D8C7FB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B7DE4-7070-45FD-B291-DB165982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B1E82-AD0D-40F0-8F4C-385F0B96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E1BC9-34A3-4D29-9B2C-442832E2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9F43A-50F5-4DCD-AF56-F667A4E2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49E4D-0E34-4FF5-9B9E-766B14EF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690AC-6A7D-47AE-887B-C2F57AC0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441BF-F5A3-408F-BF23-62E931F5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4D61A-4696-4DB1-BDA6-A41AC1B7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85C91-D05C-433A-883C-C220F418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EB421-D86B-4462-9E92-DDE23716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C7E-A85F-41A5-B6CF-E8B6FA61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4C6BC-D7AE-4AAA-AFB2-B3E37CE6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EADC4-008F-46CF-9CA6-E57200EC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07DD7-EDB6-4349-89B0-AB7CF524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4DFFB-022F-4EEB-A607-71679623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39B6B-6AFC-4D67-A7E1-37530CF2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F793B-0D25-4EA8-8E71-96A36825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38F43-93C4-41DC-A6DB-DA14094D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C545A-6E1E-4E76-969F-32AFDC82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272D5-4369-4CC7-8248-0704A4C3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FED7A-2213-4DDA-93CC-57A8B968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3F1-A7B8-4F62-BD30-E870BB57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31FBA-AD49-4E7A-98F5-426590FA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E46B0-EE72-4745-894B-DE33E355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044E9-6958-4E25-9A59-FA9C3817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AAE48-E36F-4A8B-9183-35DC7CC6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0C784-E6EC-40DD-93E0-77F6CE1B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D98E3-EFE2-44DE-A3EB-CC768CED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BE51B-D765-4C78-AC35-124248A7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C32E5-B4BC-43BA-B425-59D75AF7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005EE-2050-4F88-A4E9-30C76EAB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23911-BB12-4921-AE4C-3D618C53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165-13AF-4AC5-8D65-97CE667D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D9A8A-3615-4ED0-9426-2DC122A3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7C175-6F90-43CC-B021-0BFB7AC6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54E71-2F7D-463C-ACC7-2FBE4290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C1CCB-8B5C-4B63-AFBB-4A472AC7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0D8D3-46E3-4BEF-B420-1CE169EF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24A1E-1C32-4D87-B46E-74E57557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720FF-0289-46DE-B429-DE42B24D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CD207-46BD-4CAC-9037-DA7235E7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36641-6F81-4FB7-AC77-365B5E1B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78B86-60F1-4B70-86C8-28B18835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9309-57C3-4728-A01B-4BE539F3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F68FB-479D-456C-B8E8-44EA4ABE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C0484-4E03-4CF3-9599-6027473B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B373F-BB55-4082-B20D-90ACEFCB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936ED-DAB9-4992-B670-F507C798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3BA5A-7C23-470C-96BA-6A85396A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C4010-39C2-4BEE-9088-E6B562CD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068C2-93AA-4AD5-9594-696497C1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FBAF3-E65E-49B3-9F75-8D1FDA14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33BC4-8903-4E73-BCE5-5F0F71B3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F3548-04DA-4323-AF6E-E9D3C0F0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9601-97D7-4D3B-9766-6E78E7EF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9F3B0-2857-4661-970F-4A393CDC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CF4F9-6C1E-4AB8-BBE5-BFF03B36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B2F30-425A-468E-A87A-E7141DD2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9EFD9-321D-4071-B106-8617A1FA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FAF3C-A93F-4BC9-B264-37ABBE7F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602DB-DCD1-410E-A970-060D9D37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EDC9E-75AF-4CBE-BEE1-44AD62E9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833DF-B0B1-4903-BFE1-CEB3554D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76777-6F73-41A0-9F58-9912A0C2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A90FD-8063-46D4-9D73-50346A45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CCF7-1755-42CF-AF46-FB6F0AC11893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EDD1-B839-4BC4-9879-258559AC30FC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9608-1C15-4990-857D-7EC4F166C8F5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3B38-8816-4AB2-B8C8-0E914F38310A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CD77-2EFE-4007-827D-D02E1A800F77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ED9B-6695-4BFD-89CA-4F20CF763F52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3B3C-BA7B-44A6-BA1E-0B9ACA82E6E8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2259-B672-4C45-BFE7-58FE4D62A80C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54FB-452A-404B-A729-9A6FCF92CD56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audio" Target="../media/drumroll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6.pn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audio" Target="../media/wind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audio" Target="../media/wind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1071720" y="2071440"/>
            <a:ext cx="7000560" cy="31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Опасные ситуации </a:t>
            </a:r>
            <a:endParaRPr b="0" lang="en-US" sz="54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на дорогах</a:t>
            </a:r>
            <a:endParaRPr b="0" lang="en-US" sz="54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7" name="AutoShape 9"/>
          <p:cNvSpPr/>
          <p:nvPr/>
        </p:nvSpPr>
        <p:spPr>
          <a:xfrm>
            <a:off x="4143240" y="142920"/>
            <a:ext cx="857520" cy="757080"/>
          </a:xfrm>
          <a:custGeom>
            <a:avLst/>
            <a:gdLst/>
            <a:ahLst/>
            <a:rect l="l" t="t" r="r" b="b"/>
            <a:pathLst>
              <a:path w="857250" h="757238">
                <a:moveTo>
                  <a:pt x="1" y="289238"/>
                </a:moveTo>
                <a:lnTo>
                  <a:pt x="327442" y="289240"/>
                </a:lnTo>
                <a:lnTo>
                  <a:pt x="428625" y="0"/>
                </a:lnTo>
                <a:lnTo>
                  <a:pt x="529808" y="289240"/>
                </a:lnTo>
                <a:lnTo>
                  <a:pt x="857249" y="289238"/>
                </a:lnTo>
                <a:lnTo>
                  <a:pt x="592342" y="467997"/>
                </a:lnTo>
                <a:lnTo>
                  <a:pt x="693529" y="757236"/>
                </a:lnTo>
                <a:lnTo>
                  <a:pt x="428625" y="578474"/>
                </a:lnTo>
                <a:lnTo>
                  <a:pt x="163721" y="757236"/>
                </a:lnTo>
                <a:lnTo>
                  <a:pt x="264908" y="467997"/>
                </a:lnTo>
                <a:lnTo>
                  <a:pt x="1" y="289238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6"/>
          <p:cNvSpPr/>
          <p:nvPr/>
        </p:nvSpPr>
        <p:spPr>
          <a:xfrm>
            <a:off x="142920" y="1500120"/>
            <a:ext cx="1785960" cy="3429000"/>
          </a:xfrm>
          <a:custGeom>
            <a:avLst/>
            <a:gdLst>
              <a:gd name="textAreaLeft" fmla="*/ 735840 w 1785960"/>
              <a:gd name="textAreaRight" fmla="*/ 1050120 w 1785960"/>
              <a:gd name="textAreaTop" fmla="*/ 1413000 h 3429000"/>
              <a:gd name="textAreaBottom" fmla="*/ 201600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6"/>
          <p:cNvSpPr/>
          <p:nvPr/>
        </p:nvSpPr>
        <p:spPr>
          <a:xfrm>
            <a:off x="7215120" y="1643040"/>
            <a:ext cx="1785960" cy="3429000"/>
          </a:xfrm>
          <a:custGeom>
            <a:avLst/>
            <a:gdLst>
              <a:gd name="textAreaLeft" fmla="*/ 735840 w 1785960"/>
              <a:gd name="textAreaRight" fmla="*/ 1050120 w 1785960"/>
              <a:gd name="textAreaTop" fmla="*/ 1413000 h 3429000"/>
              <a:gd name="textAreaBottom" fmla="*/ 201600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285840" y="139680"/>
            <a:ext cx="8686800" cy="1189080"/>
          </a:xfrm>
          <a:prstGeom prst="rect">
            <a:avLst/>
          </a:prstGeom>
          <a:ln w="0">
            <a:noFill/>
          </a:ln>
        </p:spPr>
      </p:pic>
      <p:sp>
        <p:nvSpPr>
          <p:cNvPr id="445" name="Line 4"/>
          <p:cNvSpPr/>
          <p:nvPr/>
        </p:nvSpPr>
        <p:spPr>
          <a:xfrm flipH="1">
            <a:off x="5571720" y="2214720"/>
            <a:ext cx="1714680" cy="0"/>
          </a:xfrm>
          <a:prstGeom prst="line">
            <a:avLst/>
          </a:prstGeom>
          <a:ln w="57240">
            <a:solidFill>
              <a:srgbClr val="85dfd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7"/>
          <p:cNvSpPr/>
          <p:nvPr/>
        </p:nvSpPr>
        <p:spPr>
          <a:xfrm>
            <a:off x="5572080" y="3571920"/>
            <a:ext cx="25002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5572080" y="4929120"/>
            <a:ext cx="3429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43280" y="1714680"/>
            <a:ext cx="3357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3 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20 км</a:t>
            </a:r>
            <a:r>
              <a:rPr b="0" lang="en-US" sz="2400" spc="-1" strike="noStrike">
                <a:solidFill>
                  <a:srgbClr val="02303e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4500720" y="307188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11 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40 км</a:t>
            </a:r>
            <a:r>
              <a:rPr b="0" lang="en-US" sz="2400" spc="-1" strike="noStrike">
                <a:solidFill>
                  <a:srgbClr val="02303e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5286240" y="4429080"/>
            <a:ext cx="2857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23 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60 км</a:t>
            </a:r>
            <a:r>
              <a:rPr b="0" lang="en-US" sz="2400" spc="-1" strike="noStrike">
                <a:solidFill>
                  <a:srgbClr val="02303e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928800" y="5786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2303e"/>
                </a:solidFill>
                <a:latin typeface="Times New Roman"/>
              </a:rPr>
              <a:t>Даже переходя дорогу на зеленый свет светофора, будь предельно внимательным и осторожны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icture 12" descr="http://res.cloudinary.com/festsinfo/image/upload/v1372528764/Booking_Railway_Tickets_With_a_Simple_SMS_Service_Goes_Live_tdmv8i.jpg"/>
          <p:cNvPicPr/>
          <p:nvPr/>
        </p:nvPicPr>
        <p:blipFill>
          <a:blip r:embed="rId2"/>
          <a:stretch/>
        </p:blipFill>
        <p:spPr>
          <a:xfrm>
            <a:off x="500040" y="1714680"/>
            <a:ext cx="4645080" cy="36432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3"/>
          <p:cNvSpPr/>
          <p:nvPr/>
        </p:nvSpPr>
        <p:spPr>
          <a:xfrm>
            <a:off x="1143000" y="2143080"/>
            <a:ext cx="74674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303e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2303e"/>
                </a:solidFill>
                <a:latin typeface="Times New Roman"/>
              </a:rPr>
              <a:t>На расстоянии 16 метров от пешеходного перехода одновременно затормозили два автомобиля. Тормозной путь первого составил 13 метров, второго – на 4 метра больше. </a:t>
            </a:r>
            <a:r>
              <a:rPr b="0" lang="ru-RU" sz="3200" spc="-1" strike="noStrike">
                <a:solidFill>
                  <a:srgbClr val="02303e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303e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2303e"/>
                </a:solidFill>
                <a:latin typeface="Times New Roman"/>
              </a:rPr>
              <a:t>Кто из водителей будет считаться нарушившим правила после остановки  и почему ?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4"/>
          <p:cNvSpPr/>
          <p:nvPr/>
        </p:nvSpPr>
        <p:spPr>
          <a:xfrm>
            <a:off x="304920" y="304920"/>
            <a:ext cx="8686800" cy="1523880"/>
          </a:xfrm>
          <a:custGeom>
            <a:avLst/>
            <a:gdLst>
              <a:gd name="textAreaLeft" fmla="*/ 2171520 w 8686800"/>
              <a:gd name="textAreaRight" fmla="*/ 6515280 w 8686800"/>
              <a:gd name="textAreaTop" fmla="*/ 0 h 1523880"/>
              <a:gd name="textAreaBottom" fmla="*/ 1333440 h 15238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f6fc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2714760" y="571680"/>
            <a:ext cx="39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ЕШИ ЗАДАЧУ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4"/>
          <p:cNvSpPr/>
          <p:nvPr/>
        </p:nvSpPr>
        <p:spPr>
          <a:xfrm>
            <a:off x="357120" y="1500120"/>
            <a:ext cx="6643800" cy="41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2303e"/>
                </a:solidFill>
                <a:latin typeface="Times New Roman"/>
              </a:rPr>
              <a:t>Вова Иванов подошел к перекрестку и увидел, что светофор горит сразу тремя цветами: красным, желтым и зеленым, а в середине перекрестка размахивает белым жезлом милиционер. Как поступит Вова?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2303e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Подождет, пока зажжется четвертый цвет – синий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2303e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Решит что попал на праздничную иллюминацию, немного посмотрит ее и пойдет домой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2303e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Перейдет перекресток, как захочет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2303e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Перейдет перекресток, подчиняясь сигналам регулировщика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5" descr="BD07304_"/>
          <p:cNvPicPr/>
          <p:nvPr/>
        </p:nvPicPr>
        <p:blipFill>
          <a:blip r:embed="rId1"/>
          <a:stretch/>
        </p:blipFill>
        <p:spPr>
          <a:xfrm>
            <a:off x="6934320" y="2743200"/>
            <a:ext cx="2209680" cy="3184560"/>
          </a:xfrm>
          <a:prstGeom prst="rect">
            <a:avLst/>
          </a:prstGeom>
          <a:ln w="0">
            <a:noFill/>
          </a:ln>
        </p:spPr>
      </p:pic>
      <p:pic>
        <p:nvPicPr>
          <p:cNvPr id="458" name="Rectangle 2" descr=""/>
          <p:cNvPicPr/>
          <p:nvPr/>
        </p:nvPicPr>
        <p:blipFill>
          <a:blip r:embed="rId2"/>
          <a:stretch/>
        </p:blipFill>
        <p:spPr>
          <a:xfrm>
            <a:off x="285840" y="96840"/>
            <a:ext cx="8686800" cy="1195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3"/>
          <p:cNvSpPr/>
          <p:nvPr/>
        </p:nvSpPr>
        <p:spPr>
          <a:xfrm>
            <a:off x="428760" y="21420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2303e"/>
                </a:solidFill>
                <a:latin typeface="Times New Roman"/>
              </a:rPr>
              <a:t>Автомобиль стал неотъемлемым спутником прогресса общества, он оказывает неоценимую помощь человеку как в перевозке грузов, так и в перевозке пассажиров. Вместе с тем он становится и причиной несчастных случаев. Человек беззащитен перед движущимся автомобилем, тем более, если это ребенок. Стоит ли подвергать себя опасности, если есть надежные средства безопасного поведения на дороге, надо только ими пользоваться. А средства эти просты -  </a:t>
            </a:r>
            <a:r>
              <a:rPr b="1" lang="ru-RU" sz="2400" spc="-1" strike="noStrike">
                <a:solidFill>
                  <a:srgbClr val="02303e"/>
                </a:solidFill>
                <a:latin typeface="Times New Roman"/>
              </a:rPr>
              <a:t>глубокие знания и культура поведения на улиц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571680" y="585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Соблюдайте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равила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Д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рожного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Д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вижения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icture 10" descr="http://www.tulapressa.ru/wp-content/images/5336d892957288.83297075.jpg"/>
          <p:cNvPicPr/>
          <p:nvPr/>
        </p:nvPicPr>
        <p:blipFill>
          <a:blip r:embed="rId1"/>
          <a:stretch/>
        </p:blipFill>
        <p:spPr>
          <a:xfrm>
            <a:off x="3214800" y="3786120"/>
            <a:ext cx="2865240" cy="1951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00040" y="1268280"/>
            <a:ext cx="82152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3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закрепление и совершенствование</a:t>
            </a:r>
            <a:endParaRPr b="0" lang="en-US" sz="3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знаний учащихся по правилам дорожного</a:t>
            </a:r>
            <a:endParaRPr b="0" lang="en-US" sz="3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движения, безопасного поведения на дорогах.</a:t>
            </a:r>
            <a:endParaRPr b="0" lang="en-US" sz="3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Задачи:</a:t>
            </a:r>
            <a:endParaRPr b="0" lang="en-US" sz="3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1.Формирование четкого представления, что ПДД – это закон для всех участников движения;</a:t>
            </a:r>
            <a:endParaRPr b="0" lang="en-US" sz="3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2.Развитие чувства осторожности при нахождении на дорогах;</a:t>
            </a:r>
            <a:endParaRPr b="0" lang="en-US" sz="3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3.Формирование навыков соблюдения ПДД. </a:t>
            </a:r>
            <a:endParaRPr b="0" lang="en-US" sz="3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Прямоугольник 2"/>
          <p:cNvSpPr/>
          <p:nvPr/>
        </p:nvSpPr>
        <p:spPr>
          <a:xfrm>
            <a:off x="571680" y="142920"/>
            <a:ext cx="80722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Мы с вами живем в небольшом городе, но даже и здесь мы    сталкиваемся с опасными ситуациями возникающими из-за  транспорта на дорогах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Человек в наше время не может представить свое существование без транспорта. Он стал неотъемлемой частью нашей жизни. Мы так привыкли к транспорту, что порой забываем об опасности.</a:t>
            </a:r>
            <a:br>
              <a:rPr sz="1900"/>
            </a:b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Под колесами машин ежегодно в дорожно-транспортных происшествиях погибает в нашей стране около 40 000 человек, из них каждый десятый – РЕБЕНОК. 180 000 человек получают травмы.</a:t>
            </a:r>
            <a:br>
              <a:rPr sz="1900"/>
            </a:b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   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Поэтому все важнее становится ваше умение правильно ходить по дорогам, улицам и площадям. Так что вы должны </a:t>
            </a:r>
            <a:r>
              <a:rPr b="1" lang="ru-RU" sz="1900" spc="-1" strike="noStrike">
                <a:solidFill>
                  <a:srgbClr val="0d0d0d"/>
                </a:solidFill>
                <a:latin typeface="Times New Roman"/>
              </a:rPr>
              <a:t>запомнить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 – от ваших знаний ПДД зависит ваша жизнь, и ваше здоровье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Picture 2" descr="http://lib.exdat.com/tw_files2/urls_12/65/d-64532/64532_html_m2adad09f.jpg"/>
          <p:cNvPicPr/>
          <p:nvPr/>
        </p:nvPicPr>
        <p:blipFill>
          <a:blip r:embed="rId1"/>
          <a:stretch/>
        </p:blipFill>
        <p:spPr>
          <a:xfrm>
            <a:off x="2843280" y="3860640"/>
            <a:ext cx="3298680" cy="2854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AutoShape 3"/>
          <p:cNvSpPr/>
          <p:nvPr/>
        </p:nvSpPr>
        <p:spPr>
          <a:xfrm>
            <a:off x="1143000" y="52578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4"/>
          <p:cNvSpPr/>
          <p:nvPr/>
        </p:nvSpPr>
        <p:spPr>
          <a:xfrm>
            <a:off x="4343400" y="5715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5"/>
          <p:cNvSpPr/>
          <p:nvPr/>
        </p:nvSpPr>
        <p:spPr>
          <a:xfrm>
            <a:off x="7238880" y="52578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6"/>
          <p:cNvSpPr/>
          <p:nvPr/>
        </p:nvSpPr>
        <p:spPr>
          <a:xfrm>
            <a:off x="2476440" y="4800600"/>
            <a:ext cx="4648320" cy="609480"/>
          </a:xfrm>
          <a:custGeom>
            <a:avLst/>
            <a:gdLst>
              <a:gd name="textAreaLeft" fmla="*/ 1162080 w 4648320"/>
              <a:gd name="textAreaRight" fmla="*/ 3486240 w 46483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809880" y="4876920"/>
            <a:ext cx="1981440" cy="4093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ДД - зако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8"/>
          <p:cNvSpPr/>
          <p:nvPr/>
        </p:nvSpPr>
        <p:spPr>
          <a:xfrm>
            <a:off x="304920" y="457200"/>
            <a:ext cx="533160" cy="4572000"/>
          </a:xfrm>
          <a:custGeom>
            <a:avLst/>
            <a:gdLst>
              <a:gd name="textAreaLeft" fmla="*/ 219600 w 533160"/>
              <a:gd name="textAreaRight" fmla="*/ 313560 w 533160"/>
              <a:gd name="textAreaTop" fmla="*/ 1883880 h 4572000"/>
              <a:gd name="textAreaBottom" fmla="*/ 268812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8305920" y="304920"/>
            <a:ext cx="533160" cy="4724280"/>
          </a:xfrm>
          <a:custGeom>
            <a:avLst/>
            <a:gdLst>
              <a:gd name="textAreaLeft" fmla="*/ 219600 w 533160"/>
              <a:gd name="textAreaRight" fmla="*/ 313560 w 533160"/>
              <a:gd name="textAreaTop" fmla="*/ 1946520 h 4724280"/>
              <a:gd name="textAreaBottom" fmla="*/ 2777760 h 472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Прямоугольник 9"/>
          <p:cNvSpPr/>
          <p:nvPr/>
        </p:nvSpPr>
        <p:spPr>
          <a:xfrm>
            <a:off x="1071720" y="1285920"/>
            <a:ext cx="70722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Недисциплинированное поведение детей и подростков, особенно в местах с интенсивным движением, является основной причиной дорожно–транспортных происшествий с тяжелыми последствиями. Знать и соблюдать дисциплину, Правила дорожного движения должны не только водители всех автотранспортных средств, но и пешеходы, и пассажиры. 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d0d0d"/>
                </a:solidFill>
                <a:latin typeface="Times New Roman"/>
              </a:rPr>
              <a:t>Правила движения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 – закон улиц и дорог для всех. Этот закон надо строго выполнять.</a:t>
            </a:r>
            <a:br>
              <a:rPr sz="1900"/>
            </a:b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    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</a:rPr>
              <a:t>Лица, нарушившие правила, несут ответственность в соответствии с действующим законодательством.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545680" cy="1000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99680" y="1571760"/>
            <a:ext cx="6643800" cy="427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bf5f9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На наземных переходах;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На остановках общественного транспорта;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У магазинов, школ, театров;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На дорогах вне населенных пунктов;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В местах скопления людей.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pic>
        <p:nvPicPr>
          <p:cNvPr id="423" name="Picture 4" descr="PE02043_"/>
          <p:cNvPicPr/>
          <p:nvPr/>
        </p:nvPicPr>
        <p:blipFill>
          <a:blip r:embed="rId2"/>
          <a:stretch/>
        </p:blipFill>
        <p:spPr>
          <a:xfrm>
            <a:off x="6357960" y="2000160"/>
            <a:ext cx="2286000" cy="26575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838080" y="304920"/>
            <a:ext cx="76201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5" name="Picture 5" descr="BD07304_"/>
          <p:cNvPicPr/>
          <p:nvPr/>
        </p:nvPicPr>
        <p:blipFill>
          <a:blip r:embed="rId1"/>
          <a:stretch/>
        </p:blipFill>
        <p:spPr>
          <a:xfrm>
            <a:off x="6107040" y="3616200"/>
            <a:ext cx="2703600" cy="3043440"/>
          </a:xfrm>
          <a:prstGeom prst="rect">
            <a:avLst/>
          </a:prstGeom>
          <a:ln w="0">
            <a:noFill/>
          </a:ln>
        </p:spPr>
      </p:pic>
      <p:pic>
        <p:nvPicPr>
          <p:cNvPr id="426" name="Rectangle 2" descr=""/>
          <p:cNvPicPr/>
          <p:nvPr/>
        </p:nvPicPr>
        <p:blipFill>
          <a:blip r:embed="rId2"/>
          <a:stretch/>
        </p:blipFill>
        <p:spPr>
          <a:xfrm>
            <a:off x="639720" y="158760"/>
            <a:ext cx="8004240" cy="8953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5"/>
          <p:cNvSpPr/>
          <p:nvPr/>
        </p:nvSpPr>
        <p:spPr>
          <a:xfrm>
            <a:off x="571680" y="1500120"/>
            <a:ext cx="8177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ой скоростью движения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омной разрушительной силой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ьшим количеством перевозимых людей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ой пожароопасностью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68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68" fill="hold"/>
                                        <p:tgtEl>
                                          <p:spTgt spid="4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68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762120" y="231840"/>
            <a:ext cx="7699320" cy="8222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BD21313_"/>
          <p:cNvPicPr/>
          <p:nvPr/>
        </p:nvPicPr>
        <p:blipFill>
          <a:blip r:embed="rId2"/>
          <a:stretch/>
        </p:blipFill>
        <p:spPr>
          <a:xfrm>
            <a:off x="380880" y="6288120"/>
            <a:ext cx="8534520" cy="33012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5"/>
          <p:cNvSpPr/>
          <p:nvPr/>
        </p:nvSpPr>
        <p:spPr>
          <a:xfrm>
            <a:off x="571680" y="1785960"/>
            <a:ext cx="8143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23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Пересекай проезжую часть по пешеходным переходам, 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при их отсутствии – на перекрестках по линии тротуаров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или обочин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23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Строго подчиняйся сигналам светофора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23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Не ослабляй внимания при желтом сигнале светофора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23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Не перебегай улицу, а переходи ее шагом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23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Не успев перейти улицу перед приближающимся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транспортом, не мечись, остановись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23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Будь внимательным и осторожным в ненастную погоду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23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Не останавливайся в непосредственной близости от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проходящего автомобиля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23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При приближении специальных автомобилей 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</a:rPr>
              <a:t>включенным звуковым сигналом отходи в сторону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5" descr="BD21313_"/>
          <p:cNvPicPr/>
          <p:nvPr/>
        </p:nvPicPr>
        <p:blipFill>
          <a:blip r:embed="rId3"/>
          <a:stretch/>
        </p:blipFill>
        <p:spPr>
          <a:xfrm>
            <a:off x="428760" y="1285920"/>
            <a:ext cx="8534160" cy="33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http://www.yrok.net.ua/_ld/36/74678804.jpeg"/>
          <p:cNvPicPr/>
          <p:nvPr/>
        </p:nvPicPr>
        <p:blipFill>
          <a:blip r:embed="rId4"/>
          <a:stretch/>
        </p:blipFill>
        <p:spPr>
          <a:xfrm>
            <a:off x="7321680" y="3832200"/>
            <a:ext cx="1593720" cy="21891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  <p:sndAc>
      <p:stSnd>
        <p:snd r:embed="rId5" name="wind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285840" y="13968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7"/>
          <p:cNvSpPr/>
          <p:nvPr/>
        </p:nvSpPr>
        <p:spPr>
          <a:xfrm>
            <a:off x="324000" y="32130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380880" y="1371600"/>
            <a:ext cx="3619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проспекты, и бульвары –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юду улицы шумны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ходи по тротуару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лько с правой стороны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ут шалить, мешать народу 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За-пре-ща-ет-ся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ть примерным пешеходом</a:t>
            </a:r>
            <a:br>
              <a:rPr sz="2000"/>
            </a:br>
            <a:r>
              <a:rPr b="0" lang="ru-RU" sz="2000" spc="-1" strike="noStrike">
                <a:solidFill>
                  <a:srgbClr val="00b050"/>
                </a:solidFill>
                <a:latin typeface="Times New Roman"/>
              </a:rPr>
              <a:t>Разрешается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едешь ты в трамва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вокруг тебя народ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толкаясь, не зевая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ходи скорей вперед.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5143680" y="1357200"/>
            <a:ext cx="3733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хать «зайцем», как известн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за-пре-ща-ет-ся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упить старушке место</a:t>
            </a:r>
            <a:br>
              <a:rPr sz="2000"/>
            </a:br>
            <a:r>
              <a:rPr b="0" lang="ru-RU" sz="2000" spc="-1" strike="noStrike">
                <a:solidFill>
                  <a:srgbClr val="00b050"/>
                </a:solidFill>
                <a:latin typeface="Times New Roman"/>
              </a:rPr>
              <a:t>разрешается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ты гуляешь прост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равно вперед гляд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ез шумный перекресто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орожно проход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ход при красном свете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за-пре-ща-ет-ся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зеленом даже детям</a:t>
            </a:r>
            <a:br>
              <a:rPr sz="2000"/>
            </a:br>
            <a:r>
              <a:rPr b="0" lang="ru-RU" sz="2000" spc="-1" strike="noStrike">
                <a:solidFill>
                  <a:srgbClr val="00b050"/>
                </a:solidFill>
                <a:latin typeface="Times New Roman"/>
              </a:rPr>
              <a:t>разрешается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13"/>
          <p:cNvSpPr/>
          <p:nvPr/>
        </p:nvSpPr>
        <p:spPr>
          <a:xfrm>
            <a:off x="785880" y="5286240"/>
            <a:ext cx="1714320" cy="1357560"/>
          </a:xfrm>
          <a:custGeom>
            <a:avLst/>
            <a:gdLst/>
            <a:ahLst/>
            <a:rect l="l" t="t" r="r" b="b"/>
            <a:pathLst>
              <a:path w="1714500" h="1357313">
                <a:moveTo>
                  <a:pt x="2" y="518446"/>
                </a:moveTo>
                <a:lnTo>
                  <a:pt x="654884" y="518450"/>
                </a:lnTo>
                <a:lnTo>
                  <a:pt x="857250" y="0"/>
                </a:lnTo>
                <a:lnTo>
                  <a:pt x="1059616" y="518450"/>
                </a:lnTo>
                <a:lnTo>
                  <a:pt x="1714498" y="518446"/>
                </a:lnTo>
                <a:lnTo>
                  <a:pt x="1184685" y="838862"/>
                </a:lnTo>
                <a:lnTo>
                  <a:pt x="1387059" y="1357310"/>
                </a:lnTo>
                <a:lnTo>
                  <a:pt x="857250" y="1036888"/>
                </a:lnTo>
                <a:lnTo>
                  <a:pt x="327441" y="1357310"/>
                </a:lnTo>
                <a:lnTo>
                  <a:pt x="529815" y="838862"/>
                </a:lnTo>
                <a:lnTo>
                  <a:pt x="2" y="51844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15"/>
          <p:cNvSpPr/>
          <p:nvPr/>
        </p:nvSpPr>
        <p:spPr>
          <a:xfrm>
            <a:off x="3857760" y="1357200"/>
            <a:ext cx="1000080" cy="1071720"/>
          </a:xfrm>
          <a:custGeom>
            <a:avLst/>
            <a:gdLst/>
            <a:ahLst/>
            <a:rect l="l" t="t" r="r" b="b"/>
            <a:pathLst>
              <a:path w="1000125" h="1071562">
                <a:moveTo>
                  <a:pt x="1" y="409299"/>
                </a:moveTo>
                <a:lnTo>
                  <a:pt x="382016" y="409302"/>
                </a:lnTo>
                <a:lnTo>
                  <a:pt x="500063" y="0"/>
                </a:lnTo>
                <a:lnTo>
                  <a:pt x="618109" y="409302"/>
                </a:lnTo>
                <a:lnTo>
                  <a:pt x="1000124" y="409299"/>
                </a:lnTo>
                <a:lnTo>
                  <a:pt x="691066" y="662259"/>
                </a:lnTo>
                <a:lnTo>
                  <a:pt x="809117" y="1071559"/>
                </a:lnTo>
                <a:lnTo>
                  <a:pt x="500063" y="818595"/>
                </a:lnTo>
                <a:lnTo>
                  <a:pt x="191008" y="1071559"/>
                </a:lnTo>
                <a:lnTo>
                  <a:pt x="309059" y="662259"/>
                </a:lnTo>
                <a:lnTo>
                  <a:pt x="1" y="40929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15"/>
          <p:cNvSpPr/>
          <p:nvPr/>
        </p:nvSpPr>
        <p:spPr>
          <a:xfrm>
            <a:off x="3857760" y="3000240"/>
            <a:ext cx="1000080" cy="1071720"/>
          </a:xfrm>
          <a:custGeom>
            <a:avLst/>
            <a:gdLst/>
            <a:ahLst/>
            <a:rect l="l" t="t" r="r" b="b"/>
            <a:pathLst>
              <a:path w="1000125" h="1071563">
                <a:moveTo>
                  <a:pt x="1" y="409300"/>
                </a:moveTo>
                <a:lnTo>
                  <a:pt x="382016" y="409302"/>
                </a:lnTo>
                <a:lnTo>
                  <a:pt x="500063" y="0"/>
                </a:lnTo>
                <a:lnTo>
                  <a:pt x="618109" y="409302"/>
                </a:lnTo>
                <a:lnTo>
                  <a:pt x="1000124" y="409300"/>
                </a:lnTo>
                <a:lnTo>
                  <a:pt x="691066" y="662260"/>
                </a:lnTo>
                <a:lnTo>
                  <a:pt x="809117" y="1071560"/>
                </a:lnTo>
                <a:lnTo>
                  <a:pt x="500063" y="818596"/>
                </a:lnTo>
                <a:lnTo>
                  <a:pt x="191008" y="1071560"/>
                </a:lnTo>
                <a:lnTo>
                  <a:pt x="309059" y="662260"/>
                </a:lnTo>
                <a:lnTo>
                  <a:pt x="1" y="4093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15"/>
          <p:cNvSpPr/>
          <p:nvPr/>
        </p:nvSpPr>
        <p:spPr>
          <a:xfrm>
            <a:off x="3857760" y="4786200"/>
            <a:ext cx="1000080" cy="1071720"/>
          </a:xfrm>
          <a:custGeom>
            <a:avLst/>
            <a:gdLst/>
            <a:ahLst/>
            <a:rect l="l" t="t" r="r" b="b"/>
            <a:pathLst>
              <a:path w="1000125" h="1071562">
                <a:moveTo>
                  <a:pt x="1" y="409299"/>
                </a:moveTo>
                <a:lnTo>
                  <a:pt x="382016" y="409302"/>
                </a:lnTo>
                <a:lnTo>
                  <a:pt x="500063" y="0"/>
                </a:lnTo>
                <a:lnTo>
                  <a:pt x="618109" y="409302"/>
                </a:lnTo>
                <a:lnTo>
                  <a:pt x="1000124" y="409299"/>
                </a:lnTo>
                <a:lnTo>
                  <a:pt x="691066" y="662259"/>
                </a:lnTo>
                <a:lnTo>
                  <a:pt x="809117" y="1071559"/>
                </a:lnTo>
                <a:lnTo>
                  <a:pt x="500063" y="818595"/>
                </a:lnTo>
                <a:lnTo>
                  <a:pt x="191008" y="1071559"/>
                </a:lnTo>
                <a:lnTo>
                  <a:pt x="309059" y="662259"/>
                </a:lnTo>
                <a:lnTo>
                  <a:pt x="1" y="40929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13"/>
          <p:cNvSpPr/>
          <p:nvPr/>
        </p:nvSpPr>
        <p:spPr>
          <a:xfrm>
            <a:off x="6000840" y="5286240"/>
            <a:ext cx="1714320" cy="1357560"/>
          </a:xfrm>
          <a:custGeom>
            <a:avLst/>
            <a:gdLst/>
            <a:ahLst/>
            <a:rect l="l" t="t" r="r" b="b"/>
            <a:pathLst>
              <a:path w="1714500" h="1357313">
                <a:moveTo>
                  <a:pt x="2" y="518446"/>
                </a:moveTo>
                <a:lnTo>
                  <a:pt x="654884" y="518450"/>
                </a:lnTo>
                <a:lnTo>
                  <a:pt x="857250" y="0"/>
                </a:lnTo>
                <a:lnTo>
                  <a:pt x="1059616" y="518450"/>
                </a:lnTo>
                <a:lnTo>
                  <a:pt x="1714498" y="518446"/>
                </a:lnTo>
                <a:lnTo>
                  <a:pt x="1184685" y="838862"/>
                </a:lnTo>
                <a:lnTo>
                  <a:pt x="1387059" y="1357310"/>
                </a:lnTo>
                <a:lnTo>
                  <a:pt x="857250" y="1036888"/>
                </a:lnTo>
                <a:lnTo>
                  <a:pt x="327441" y="1357310"/>
                </a:lnTo>
                <a:lnTo>
                  <a:pt x="529815" y="838862"/>
                </a:lnTo>
                <a:lnTo>
                  <a:pt x="2" y="51844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2000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68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68" fill="hold"/>
                                        <p:tgtEl>
                                          <p:spTgt spid="4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68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723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Есть одно важное физическое свойство у всех видов транспорта. Запомни его: никакое транспортное средство, набравшее скорость, не может остановиться сразу, а будет некоторое время двигаться еще по инерции.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аже сильное торможение не в силах моментально остановить трамвай или машину. Таким образом, до полной остановки, транспортное средство пройдет еще какое-то расстояние. Это расстояние, которое оно проходит с момента торможения до полной остановки, называется тормозным путем.  Чем больше скорость и вес мотоцикла или автобуса, поезда или парохода, тем его тормозной путь больше.</a:t>
            </a:r>
            <a:endParaRPr b="0" lang="en-US" sz="2000" spc="-1" strike="noStrike">
              <a:solidFill>
                <a:srgbClr val="04617b"/>
              </a:solidFill>
              <a:latin typeface="Franklin Gothic Medium"/>
            </a:endParaRPr>
          </a:p>
        </p:txBody>
      </p:sp>
      <p:pic>
        <p:nvPicPr>
          <p:cNvPr id="443" name="Picture 7" descr="http://62.img.avito.st/640x480/1158625362.jpg"/>
          <p:cNvPicPr/>
          <p:nvPr/>
        </p:nvPicPr>
        <p:blipFill>
          <a:blip r:embed="rId1"/>
          <a:stretch/>
        </p:blipFill>
        <p:spPr>
          <a:xfrm>
            <a:off x="4932360" y="4869000"/>
            <a:ext cx="398628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4:53:21Z</dcterms:created>
  <dc:creator>Администратор</dc:creator>
  <dc:description/>
  <dc:language>en-US</dc:language>
  <cp:lastModifiedBy>Юля</cp:lastModifiedBy>
  <dcterms:modified xsi:type="dcterms:W3CDTF">2016-10-10T01:51:31Z</dcterms:modified>
  <cp:revision>34</cp:revision>
  <dc:subject/>
  <dc:title>Опасные ситуации на дорогах.</dc:title>
</cp:coreProperties>
</file>