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voltage.wav" ContentType="audio/x-wav"/>
  <Override PartName="/ppt/media/image8.png" ContentType="image/png"/>
  <Override PartName="/ppt/media/image7.wmf" ContentType="image/x-wmf"/>
  <Override PartName="/ppt/media/image12.png" ContentType="image/png"/>
  <Override PartName="/ppt/media/wind.wav" ContentType="audio/x-wav"/>
  <Override PartName="/ppt/media/image16.png" ContentType="image/png"/>
  <Override PartName="/ppt/media/image6.wmf" ContentType="image/x-wmf"/>
  <Override PartName="/ppt/media/laser.wav" ContentType="audio/x-wav"/>
  <Override PartName="/ppt/media/image4.jpeg" ContentType="image/jpeg"/>
  <Override PartName="/ppt/media/image2.png" ContentType="image/png"/>
  <Override PartName="/ppt/media/explode.wav" ContentType="audio/x-wav"/>
  <Override PartName="/ppt/media/bomb.wav" ContentType="audio/x-wav"/>
  <Override PartName="/ppt/media/drumroll.wav" ContentType="audio/x-wav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coin.wav" ContentType="audio/x-wav"/>
  <Override PartName="/ppt/media/image13.jpeg" ContentType="image/jpeg"/>
  <Override PartName="/ppt/media/hammer.wav" ContentType="audio/x-wav"/>
  <Override PartName="/ppt/media/image11.jpeg" ContentType="image/jpeg"/>
  <Override PartName="/ppt/media/image1.jpeg" ContentType="image/jpeg"/>
  <Override PartName="/ppt/media/image5.png" ContentType="image/pn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188-6042-4872-8FF2-1C014D065A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C99-C7CA-4768-BE08-1B4A0995D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 дал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92C-A8D0-4459-B278-1DC81D6C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C8F-C544-417D-B9F1-DFD51D2D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DD9D2-BDF7-4514-8D8C-0423624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A5F78-3D92-4BE8-B47D-4C6D2E6C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44FCE-2194-431E-9149-D65A9460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F8FFE-C192-4CCA-AB99-F271202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03CB8-C5C9-48CA-86A4-B273AA7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D500A-DFDF-4BFB-887D-E292898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5F618-CDDE-48D7-B5DF-4A37EA2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66E6E-C0C8-4FE0-B506-6CE9AD16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A5F7E-EC32-45D7-BB06-E1EBDA9B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1DE-69B9-405E-91D4-AD5ED2E0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722-8C18-4A5B-9C19-E2109FE4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EDEB-2B90-497C-86DC-34D1DE9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084A-1D88-429B-9405-5EC24E74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8F2-DC4B-4FF7-AD6C-D25144A0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5F43-AE5C-4944-8C9B-5802DAA1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A210-494E-42CF-919A-C9B06AD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CC1-AAC8-4895-80DB-5E99116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4AE-38AE-4C3F-901A-DA8CC7B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B4-9998-4950-BA4C-87D999C4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C8A0-123E-4D4C-8A81-5FDD9C3E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AB27-67DC-458A-B847-99DE604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73C-EF46-4C98-8F9F-4301D8F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28E3-DCDF-454B-93F4-1784B39E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2352-5269-4A9B-A921-EBC0F66B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51A7-CD66-4713-99A1-086DC639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AEDE-3532-4394-B54D-1D3AD45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8206-36C5-4B84-B5CA-B75DABDD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FE89-0CBD-4952-8CA0-CF7422F9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9070-0EF0-4FB7-9131-8953629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3D9-5A6A-41CC-9CC4-66EDD65A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BDCE-B143-406B-9E0B-D2B31CD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92F0-41AB-4037-8B6B-E6BED832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07B8-0474-4EE2-ACDE-F98A57B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54F9-D637-4DC5-BFA2-76715D9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98A7-C955-4111-BD50-EABA9C96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AB71-EA4A-47BC-93C0-E5EF0070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F61D-E69E-4C15-89C8-8412105F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263D-F5CD-4BB5-935B-ADC87943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A79B-E083-4D5D-A269-0FBAAF5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1E7B-B31D-42DC-9545-8F847A61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877-D24F-4E12-ACA6-3F50DC51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D89A-439A-4E2D-869A-0DDC145E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9D12-FF12-413D-AED2-35A54EF3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F1AE-BC1C-4D64-932D-B9B60EF3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08E03-FBBE-4343-820B-37896CD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0FFC-259E-4D8E-B07B-1ACDDC3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BE18-265D-49FC-82F0-86E780F2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EE3E-116C-4E4B-9CDC-3A3FA8FD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14F5-E0CE-4227-92B3-108F5B62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3426-19B3-43C7-81FA-7C17373E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A084-2AAC-460C-AD4C-BD88886B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459-62E5-4636-96B1-099A86E8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6833-9FF7-4BAF-88DD-E826044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C5685-B0C1-42D9-8D8A-B8E06F79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66F6-5A7E-4EE2-9C53-E9678860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A5C8-186E-4DAC-940B-67082AC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DF32-7AD2-46B0-930F-F117BF2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1B68-77E0-4039-B297-E4243B5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51A3-4AF1-4D6A-AAEF-6EE0A41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A6C47-6297-45FB-B733-584C57D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E9D2-DECB-4764-AD65-8B590787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5198-E2B7-4CD7-B267-80F6B978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596-01D1-407C-AB58-7E4829D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6DC3-180C-4B41-BEE5-C64BD18F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90C1-A9BC-4FF5-8926-9E93AD17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6745-F94D-428A-8356-991948C8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51EB-E3E3-4B7F-8A64-61BE5218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D391-29A4-4EF1-8F49-B0AC378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A6C58-C29C-4725-B818-B8E97351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7BBF7-322E-4EB0-8C06-4FB4123E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F83A-309D-44DB-82E2-5B6A60E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48C3-7B92-4481-8A9D-B3F39E6E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BEB7-2188-4F02-B484-6169BA8F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001-F04C-49C7-A07F-EEFADB04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4DF0-5FF9-4F9A-A4A0-1E68495E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858D-11A9-45C1-8943-405C0AF0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AE9A-61DF-49C0-9251-2F01E501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4858-8386-4E27-BA12-4ABDCF2B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A4B0-6AD5-4D2A-B095-AD32ACCE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D0DA-0775-46C3-A436-E13F9B5E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A0E8E-EAC3-44AD-B90B-D89B5ADB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8161C-1AD9-4F32-B24A-3F819442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1A85-5200-43F8-8B92-22717604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B26F-D971-4509-8F16-AB5A7EE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06B-71D8-4BD1-BD16-6C8BF249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160A-7973-4461-8B59-A3F473EA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6D70-9C6E-4721-9526-ADFB5DF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0A5F-4895-49A6-BE0A-CE68B20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857F-E878-40C4-BF9D-3C9D7B3D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D52A2-F2CE-4B24-BC7F-8389A43C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2702-3AC6-441A-A610-69936A27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ED9A-1346-454C-92B4-AF7A9F7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1618E-DE77-4DDC-9A25-0CAC3591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06E73-0786-4076-B738-8DF4D4D0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8DDB2-2CCD-4054-9530-A754E40D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5E2-DBA4-4C92-B66C-AF412FD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CCF5-1802-4688-9699-384F6DEA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124CD-85B0-4B66-A05D-E922080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A31DA-E611-4F10-82BE-72C0AD1C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20CC-8090-4617-9355-12A0394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07D6-36D0-4232-9669-2C2AF46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3C24-7D64-4162-B9B0-836145DE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C7389-D800-4AF1-A0F6-DCE57866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C3547-66DC-43BA-89C8-BB453B65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06988-7B48-479E-A8E3-68C4BA4C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B12C2-4CC1-4E35-B5C6-1C15AAD9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389-F025-4E63-B89F-F1543A17E961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46F-DD37-4796-BEFF-5A3E217C3FA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ABF3-E082-457B-877A-7DEA3340398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D4D6-9D4C-4DE7-9707-A3ADB56E007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A64-6E1C-436B-A9BD-676F432E36E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FB07-C91F-4701-8027-06040175B070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DCDB-CFD9-4035-B7DE-89E2BEDF0070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511-28B5-4B90-A291-BBDBB2405199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AA80-0567-413C-8DE3-C3A3CC9AF911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drumroll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audio" Target="../media/wind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71720" y="2071440"/>
            <a:ext cx="7000560" cy="31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Опасные ситуации </a:t>
            </a:r>
            <a:endParaRPr b="0" lang="en-US" sz="5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на дорогах</a:t>
            </a:r>
            <a:endParaRPr b="0" lang="en-US" sz="54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4143240" y="142920"/>
            <a:ext cx="857520" cy="757080"/>
          </a:xfrm>
          <a:custGeom>
            <a:avLst/>
            <a:gdLst/>
            <a:ahLst/>
            <a:rect l="l" t="t" r="r" b="b"/>
            <a:pathLst>
              <a:path w="857250" h="757238">
                <a:moveTo>
                  <a:pt x="1" y="289238"/>
                </a:moveTo>
                <a:lnTo>
                  <a:pt x="327442" y="289240"/>
                </a:lnTo>
                <a:lnTo>
                  <a:pt x="428625" y="0"/>
                </a:lnTo>
                <a:lnTo>
                  <a:pt x="529808" y="289240"/>
                </a:lnTo>
                <a:lnTo>
                  <a:pt x="857249" y="289238"/>
                </a:lnTo>
                <a:lnTo>
                  <a:pt x="592342" y="467997"/>
                </a:lnTo>
                <a:lnTo>
                  <a:pt x="693529" y="757236"/>
                </a:lnTo>
                <a:lnTo>
                  <a:pt x="428625" y="578474"/>
                </a:lnTo>
                <a:lnTo>
                  <a:pt x="163721" y="757236"/>
                </a:lnTo>
                <a:lnTo>
                  <a:pt x="264908" y="467997"/>
                </a:lnTo>
                <a:lnTo>
                  <a:pt x="1" y="28923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42920" y="1500120"/>
            <a:ext cx="1785960" cy="3429000"/>
          </a:xfrm>
          <a:custGeom>
            <a:avLst/>
            <a:gdLst>
              <a:gd name="textAreaLeft" fmla="*/ 735840 w 1785960"/>
              <a:gd name="textAreaRight" fmla="*/ 1050120 w 1785960"/>
              <a:gd name="textAreaTop" fmla="*/ 1413000 h 3429000"/>
              <a:gd name="textAreaBottom" fmla="*/ 201600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7215120" y="1643040"/>
            <a:ext cx="1785960" cy="3429000"/>
          </a:xfrm>
          <a:custGeom>
            <a:avLst/>
            <a:gdLst>
              <a:gd name="textAreaLeft" fmla="*/ 735840 w 1785960"/>
              <a:gd name="textAreaRight" fmla="*/ 1050120 w 1785960"/>
              <a:gd name="textAreaTop" fmla="*/ 1413000 h 3429000"/>
              <a:gd name="textAreaBottom" fmla="*/ 201600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686800" cy="1189080"/>
          </a:xfrm>
          <a:prstGeom prst="rect">
            <a:avLst/>
          </a:prstGeom>
          <a:ln w="0">
            <a:noFill/>
          </a:ln>
        </p:spPr>
      </p:pic>
      <p:sp>
        <p:nvSpPr>
          <p:cNvPr id="445" name="Line 4"/>
          <p:cNvSpPr/>
          <p:nvPr/>
        </p:nvSpPr>
        <p:spPr>
          <a:xfrm flipH="1">
            <a:off x="5571720" y="2214720"/>
            <a:ext cx="1714680" cy="0"/>
          </a:xfrm>
          <a:prstGeom prst="line">
            <a:avLst/>
          </a:prstGeom>
          <a:ln w="57240">
            <a:solidFill>
              <a:srgbClr val="85dfd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5572080" y="3571920"/>
            <a:ext cx="2500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5572080" y="49291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43280" y="1714680"/>
            <a:ext cx="335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3 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20 км</a:t>
            </a:r>
            <a:r>
              <a:rPr b="0" lang="en-US" sz="2400" spc="-1" strike="noStrike">
                <a:solidFill>
                  <a:srgbClr val="02303e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500720" y="30718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11 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40 км</a:t>
            </a:r>
            <a:r>
              <a:rPr b="0" lang="en-US" sz="2400" spc="-1" strike="noStrike">
                <a:solidFill>
                  <a:srgbClr val="02303e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5286240" y="4429080"/>
            <a:ext cx="285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23 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60 км</a:t>
            </a:r>
            <a:r>
              <a:rPr b="0" lang="en-US" sz="2400" spc="-1" strike="noStrike">
                <a:solidFill>
                  <a:srgbClr val="02303e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928800" y="5786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Times New Roman"/>
              </a:rPr>
              <a:t>Даже переходя дорогу на зеленый свет светофора, будь предельно внимательным и осторожны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2" descr="http://res.cloudinary.com/festsinfo/image/upload/v1372528764/Booking_Railway_Tickets_With_a_Simple_SMS_Service_Goes_Live_tdmv8i.jpg"/>
          <p:cNvPicPr/>
          <p:nvPr/>
        </p:nvPicPr>
        <p:blipFill>
          <a:blip r:embed="rId2"/>
          <a:stretch/>
        </p:blipFill>
        <p:spPr>
          <a:xfrm>
            <a:off x="500040" y="1714680"/>
            <a:ext cx="464508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1143000" y="2143080"/>
            <a:ext cx="7467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На расстоянии 16 метров от пешеходного перехода одновременно затормозили два автомобиля. Тормозной путь первого составил 13 метров, второго – на 4 метра больше. </a:t>
            </a: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Кто из водителей будет считаться нарушившим правила после остановки  и почему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304920" y="304920"/>
            <a:ext cx="8686800" cy="1523880"/>
          </a:xfrm>
          <a:custGeom>
            <a:avLst/>
            <a:gdLst>
              <a:gd name="textAreaLeft" fmla="*/ 2171520 w 8686800"/>
              <a:gd name="textAreaRight" fmla="*/ 6515280 w 8686800"/>
              <a:gd name="textAreaTop" fmla="*/ 0 h 1523880"/>
              <a:gd name="textAreaBottom" fmla="*/ 1333440 h 15238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f6fc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2714760" y="5716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ШИ ЗАДАЧ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4"/>
          <p:cNvSpPr/>
          <p:nvPr/>
        </p:nvSpPr>
        <p:spPr>
          <a:xfrm>
            <a:off x="357120" y="1500120"/>
            <a:ext cx="6643800" cy="41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2303e"/>
                </a:solidFill>
                <a:latin typeface="Times New Roman"/>
              </a:rPr>
              <a:t>Вова Иванов подошел к перекрестку и увидел, что светофор горит сразу тремя цветами: красным, желтым и зеленым, а в середине перекрестка размахивает белым жезлом милиционер. Как поступит Вова?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одождет, пока зажжется четвертый цвет – сини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Решит что попал на праздничную иллюминацию, немного посмотрит ее и пойдет домо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ерейдет перекресток, как захочет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ерейдет перекресток, подчиняясь сигналам регулировщик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5" descr="BD07304_"/>
          <p:cNvPicPr/>
          <p:nvPr/>
        </p:nvPicPr>
        <p:blipFill>
          <a:blip r:embed="rId1"/>
          <a:stretch/>
        </p:blipFill>
        <p:spPr>
          <a:xfrm>
            <a:off x="6934320" y="2743200"/>
            <a:ext cx="2209680" cy="3184560"/>
          </a:xfrm>
          <a:prstGeom prst="rect">
            <a:avLst/>
          </a:prstGeom>
          <a:ln w="0">
            <a:noFill/>
          </a:ln>
        </p:spPr>
      </p:pic>
      <p:pic>
        <p:nvPicPr>
          <p:cNvPr id="458" name="Rectangle 2" descr=""/>
          <p:cNvPicPr/>
          <p:nvPr/>
        </p:nvPicPr>
        <p:blipFill>
          <a:blip r:embed="rId2"/>
          <a:stretch/>
        </p:blipFill>
        <p:spPr>
          <a:xfrm>
            <a:off x="285840" y="96840"/>
            <a:ext cx="8686800" cy="119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3"/>
          <p:cNvSpPr/>
          <p:nvPr/>
        </p:nvSpPr>
        <p:spPr>
          <a:xfrm>
            <a:off x="428760" y="21420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Автомобиль стал неотъемлемым спутником прогресса общества, он оказывает неоценимую помощь человеку как в перевозке грузов, так и в перевозке пассажиров. Вместе с тем он становится и причиной несчастных случаев. Человек беззащитен перед движущимся автомобилем, тем более, если это ребенок. Стоит ли подвергать себя опасности, если есть надежные средства безопасного поведения на дороге, надо только ими пользоваться. А средства эти просты -  </a:t>
            </a:r>
            <a:r>
              <a:rPr b="1" lang="ru-RU" sz="2400" spc="-1" strike="noStrike">
                <a:solidFill>
                  <a:srgbClr val="02303e"/>
                </a:solidFill>
                <a:latin typeface="Times New Roman"/>
              </a:rPr>
              <a:t>глубокие знания и культура поведения на улиц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71680" y="585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облюдайт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равила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рожног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ижения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10" descr="http://www.tulapressa.ru/wp-content/images/5336d892957288.83297075.jpg"/>
          <p:cNvPicPr/>
          <p:nvPr/>
        </p:nvPicPr>
        <p:blipFill>
          <a:blip r:embed="rId1"/>
          <a:stretch/>
        </p:blipFill>
        <p:spPr>
          <a:xfrm>
            <a:off x="3214800" y="3786120"/>
            <a:ext cx="286524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268280"/>
            <a:ext cx="82152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акрепление и совершенствование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наний учащихся по правилам дорожного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движения, безопасного поведения на дорогах.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адачи: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1.Формирование четкого представления, что ПДД – это закон для всех участников движения;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2.Развитие чувства осторожности при нахождении на дорогах;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3.Формирование навыков соблюдения ПДД. 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2"/>
          <p:cNvSpPr/>
          <p:nvPr/>
        </p:nvSpPr>
        <p:spPr>
          <a:xfrm>
            <a:off x="571680" y="142920"/>
            <a:ext cx="8072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Мы с вами живем в небольшом городе, но даже и здесь мы    сталкиваемся с опасными ситуациями возникающими из-за  транспорта на дорогах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Человек в наше время не может представить свое существование без транспорта. Он стал неотъемлемой частью нашей жизни. Мы так привыкли к транспорту, что порой забываем об опасности.</a:t>
            </a:r>
            <a:br>
              <a:rPr sz="1900"/>
            </a:b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Под колесами машин ежегодно в дорожно-транспортных происшествиях погибает в нашей стране около 40 000 человек, из них каждый десятый – РЕБЕНОК. 180 000 человек получают травмы.</a:t>
            </a:r>
            <a:br>
              <a:rPr sz="1900"/>
            </a:b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Поэтому все важнее становится ваше умение правильно ходить по дорогам, улицам и площадям. Так что вы должны </a:t>
            </a:r>
            <a:r>
              <a:rPr b="1" lang="ru-RU" sz="1900" spc="-1" strike="noStrike">
                <a:solidFill>
                  <a:srgbClr val="0d0d0d"/>
                </a:solidFill>
                <a:latin typeface="Times New Roman"/>
              </a:rPr>
              <a:t>запомнить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– от ваших знаний ПДД зависит ваша жизнь, и ваше здоровье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2" descr="http://lib.exdat.com/tw_files2/urls_12/65/d-64532/64532_html_m2adad09f.jpg"/>
          <p:cNvPicPr/>
          <p:nvPr/>
        </p:nvPicPr>
        <p:blipFill>
          <a:blip r:embed="rId1"/>
          <a:stretch/>
        </p:blipFill>
        <p:spPr>
          <a:xfrm>
            <a:off x="2843280" y="3860640"/>
            <a:ext cx="329868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3"/>
          <p:cNvSpPr/>
          <p:nvPr/>
        </p:nvSpPr>
        <p:spPr>
          <a:xfrm>
            <a:off x="1143000" y="5257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4343400" y="571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238880" y="5257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2476440" y="4800600"/>
            <a:ext cx="4648320" cy="609480"/>
          </a:xfrm>
          <a:custGeom>
            <a:avLst/>
            <a:gdLst>
              <a:gd name="textAreaLeft" fmla="*/ 1162080 w 4648320"/>
              <a:gd name="textAreaRight" fmla="*/ 3486240 w 46483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09880" y="4876920"/>
            <a:ext cx="1981440" cy="4093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ДД - зако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304920" y="457200"/>
            <a:ext cx="533160" cy="4572000"/>
          </a:xfrm>
          <a:custGeom>
            <a:avLst/>
            <a:gdLst>
              <a:gd name="textAreaLeft" fmla="*/ 219600 w 533160"/>
              <a:gd name="textAreaRight" fmla="*/ 313560 w 533160"/>
              <a:gd name="textAreaTop" fmla="*/ 1883880 h 4572000"/>
              <a:gd name="textAreaBottom" fmla="*/ 268812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8305920" y="304920"/>
            <a:ext cx="533160" cy="4724280"/>
          </a:xfrm>
          <a:custGeom>
            <a:avLst/>
            <a:gdLst>
              <a:gd name="textAreaLeft" fmla="*/ 219600 w 533160"/>
              <a:gd name="textAreaRight" fmla="*/ 313560 w 533160"/>
              <a:gd name="textAreaTop" fmla="*/ 1946520 h 4724280"/>
              <a:gd name="textAreaBottom" fmla="*/ 27777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9"/>
          <p:cNvSpPr/>
          <p:nvPr/>
        </p:nvSpPr>
        <p:spPr>
          <a:xfrm>
            <a:off x="1071720" y="1285920"/>
            <a:ext cx="70722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Недисциплинированное поведение детей и подростков, особенно в местах с интенсивным движением, является основной причиной дорожно–транспортных происшествий с тяжелыми последствиями. Знать и соблюдать дисциплину, Правила дорожного движения должны не только водители всех автотранспортных средств, но и пешеходы, и пассажиры.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d0d0d"/>
                </a:solidFill>
                <a:latin typeface="Times New Roman"/>
              </a:rPr>
              <a:t>Правила движения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– закон улиц и дорог для всех. Этот закон надо строго выполнять.</a:t>
            </a:r>
            <a:br>
              <a:rPr sz="1900"/>
            </a:b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Лица, нарушившие правила, несут ответственность в соответствии с действующим законодательством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5456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99680" y="1571760"/>
            <a:ext cx="6643800" cy="427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bf5f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наземных переходах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остановках общественного транспорта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У магазинов, школ, театров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дорогах вне населенных пунктов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В местах скопления людей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23" name="Picture 4" descr="PE02043_"/>
          <p:cNvPicPr/>
          <p:nvPr/>
        </p:nvPicPr>
        <p:blipFill>
          <a:blip r:embed="rId2"/>
          <a:stretch/>
        </p:blipFill>
        <p:spPr>
          <a:xfrm>
            <a:off x="6357960" y="2000160"/>
            <a:ext cx="228600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838080" y="3049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5" name="Picture 5" descr="BD07304_"/>
          <p:cNvPicPr/>
          <p:nvPr/>
        </p:nvPicPr>
        <p:blipFill>
          <a:blip r:embed="rId1"/>
          <a:stretch/>
        </p:blipFill>
        <p:spPr>
          <a:xfrm>
            <a:off x="6107040" y="3616200"/>
            <a:ext cx="2703600" cy="3043440"/>
          </a:xfrm>
          <a:prstGeom prst="rect">
            <a:avLst/>
          </a:prstGeom>
          <a:ln w="0">
            <a:noFill/>
          </a:ln>
        </p:spPr>
      </p:pic>
      <p:pic>
        <p:nvPicPr>
          <p:cNvPr id="426" name="Rectangle 2" descr=""/>
          <p:cNvPicPr/>
          <p:nvPr/>
        </p:nvPicPr>
        <p:blipFill>
          <a:blip r:embed="rId2"/>
          <a:stretch/>
        </p:blipFill>
        <p:spPr>
          <a:xfrm>
            <a:off x="639720" y="158760"/>
            <a:ext cx="8004240" cy="8953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5"/>
          <p:cNvSpPr/>
          <p:nvPr/>
        </p:nvSpPr>
        <p:spPr>
          <a:xfrm>
            <a:off x="571680" y="1500120"/>
            <a:ext cx="817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й скоростью движени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ой разрушительной сило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им количеством перевозимых люде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й пожароопасностью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4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762120" y="231840"/>
            <a:ext cx="7699320" cy="8222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BD21313_"/>
          <p:cNvPicPr/>
          <p:nvPr/>
        </p:nvPicPr>
        <p:blipFill>
          <a:blip r:embed="rId2"/>
          <a:stretch/>
        </p:blipFill>
        <p:spPr>
          <a:xfrm>
            <a:off x="380880" y="6288120"/>
            <a:ext cx="8534520" cy="3301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571680" y="1785960"/>
            <a:ext cx="8143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ересекай проезжую часть по пешеходным переходам, 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ри их отсутствии – на перекрестках по линии тротуаро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или обочин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Строго подчиняйся сигналам светофора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ослабляй внимания при желтом сигнале светофора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перебегай улицу, а переходи ее шагом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успев перейти улицу перед приближающимся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транспортом, не мечись, остановись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Будь внимательным и осторожным в ненастную погоду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останавливайся в непосредственной близости о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роходящего автомобиля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ри приближении специальных автомобилей 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включенным звуковым сигналом отходи в сторону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5" descr="BD21313_"/>
          <p:cNvPicPr/>
          <p:nvPr/>
        </p:nvPicPr>
        <p:blipFill>
          <a:blip r:embed="rId3"/>
          <a:stretch/>
        </p:blipFill>
        <p:spPr>
          <a:xfrm>
            <a:off x="428760" y="1285920"/>
            <a:ext cx="8534160" cy="33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http://www.yrok.net.ua/_ld/36/74678804.jpeg"/>
          <p:cNvPicPr/>
          <p:nvPr/>
        </p:nvPicPr>
        <p:blipFill>
          <a:blip r:embed="rId4"/>
          <a:stretch/>
        </p:blipFill>
        <p:spPr>
          <a:xfrm>
            <a:off x="7321680" y="3832200"/>
            <a:ext cx="159372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5" name="wind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7"/>
          <p:cNvSpPr/>
          <p:nvPr/>
        </p:nvSpPr>
        <p:spPr>
          <a:xfrm>
            <a:off x="324000" y="32130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380880" y="1371600"/>
            <a:ext cx="361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оспекты, и бульвары –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юду улицы шумн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ди по тротуар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ько с правой сторон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ут шалить, мешать народу 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ь примерным пешеходом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Разрешается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едешь ты в трамва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округ тебя народ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олкаясь, не зева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ди скорей вперед.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143680" y="1357200"/>
            <a:ext cx="3733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хать «зайцем», как извес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упить старушке место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разрешается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ты гуляешь прост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равно вперед гляд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шумный перекрест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орожно проход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 при красном свет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зеленом даже детям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разрешается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13"/>
          <p:cNvSpPr/>
          <p:nvPr/>
        </p:nvSpPr>
        <p:spPr>
          <a:xfrm>
            <a:off x="785880" y="5286240"/>
            <a:ext cx="1714320" cy="1357560"/>
          </a:xfrm>
          <a:custGeom>
            <a:avLst/>
            <a:gdLst/>
            <a:ahLst/>
            <a:rect l="l" t="t" r="r" b="b"/>
            <a:pathLst>
              <a:path w="1714500" h="1357313">
                <a:moveTo>
                  <a:pt x="2" y="518446"/>
                </a:moveTo>
                <a:lnTo>
                  <a:pt x="654884" y="518450"/>
                </a:lnTo>
                <a:lnTo>
                  <a:pt x="857250" y="0"/>
                </a:lnTo>
                <a:lnTo>
                  <a:pt x="1059616" y="518450"/>
                </a:lnTo>
                <a:lnTo>
                  <a:pt x="1714498" y="518446"/>
                </a:lnTo>
                <a:lnTo>
                  <a:pt x="1184685" y="838862"/>
                </a:lnTo>
                <a:lnTo>
                  <a:pt x="1387059" y="1357310"/>
                </a:lnTo>
                <a:lnTo>
                  <a:pt x="857250" y="1036888"/>
                </a:lnTo>
                <a:lnTo>
                  <a:pt x="327441" y="1357310"/>
                </a:lnTo>
                <a:lnTo>
                  <a:pt x="529815" y="838862"/>
                </a:lnTo>
                <a:lnTo>
                  <a:pt x="2" y="51844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15"/>
          <p:cNvSpPr/>
          <p:nvPr/>
        </p:nvSpPr>
        <p:spPr>
          <a:xfrm>
            <a:off x="3857760" y="1357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" y="409299"/>
                </a:moveTo>
                <a:lnTo>
                  <a:pt x="382016" y="409302"/>
                </a:lnTo>
                <a:lnTo>
                  <a:pt x="500063" y="0"/>
                </a:lnTo>
                <a:lnTo>
                  <a:pt x="618109" y="409302"/>
                </a:lnTo>
                <a:lnTo>
                  <a:pt x="1000124" y="409299"/>
                </a:lnTo>
                <a:lnTo>
                  <a:pt x="691066" y="662259"/>
                </a:lnTo>
                <a:lnTo>
                  <a:pt x="809117" y="1071559"/>
                </a:lnTo>
                <a:lnTo>
                  <a:pt x="500063" y="818595"/>
                </a:lnTo>
                <a:lnTo>
                  <a:pt x="191008" y="1071559"/>
                </a:lnTo>
                <a:lnTo>
                  <a:pt x="309059" y="662259"/>
                </a:lnTo>
                <a:lnTo>
                  <a:pt x="1" y="40929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15"/>
          <p:cNvSpPr/>
          <p:nvPr/>
        </p:nvSpPr>
        <p:spPr>
          <a:xfrm>
            <a:off x="3857760" y="3000240"/>
            <a:ext cx="1000080" cy="1071720"/>
          </a:xfrm>
          <a:custGeom>
            <a:avLst/>
            <a:gdLst/>
            <a:ahLst/>
            <a:rect l="l" t="t" r="r" b="b"/>
            <a:pathLst>
              <a:path w="1000125" h="1071563">
                <a:moveTo>
                  <a:pt x="1" y="409300"/>
                </a:moveTo>
                <a:lnTo>
                  <a:pt x="382016" y="409302"/>
                </a:lnTo>
                <a:lnTo>
                  <a:pt x="500063" y="0"/>
                </a:lnTo>
                <a:lnTo>
                  <a:pt x="618109" y="409302"/>
                </a:lnTo>
                <a:lnTo>
                  <a:pt x="1000124" y="409300"/>
                </a:lnTo>
                <a:lnTo>
                  <a:pt x="691066" y="662260"/>
                </a:lnTo>
                <a:lnTo>
                  <a:pt x="809117" y="1071560"/>
                </a:lnTo>
                <a:lnTo>
                  <a:pt x="500063" y="818596"/>
                </a:lnTo>
                <a:lnTo>
                  <a:pt x="191008" y="1071560"/>
                </a:lnTo>
                <a:lnTo>
                  <a:pt x="309059" y="662260"/>
                </a:lnTo>
                <a:lnTo>
                  <a:pt x="1" y="4093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5"/>
          <p:cNvSpPr/>
          <p:nvPr/>
        </p:nvSpPr>
        <p:spPr>
          <a:xfrm>
            <a:off x="3857760" y="4786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" y="409299"/>
                </a:moveTo>
                <a:lnTo>
                  <a:pt x="382016" y="409302"/>
                </a:lnTo>
                <a:lnTo>
                  <a:pt x="500063" y="0"/>
                </a:lnTo>
                <a:lnTo>
                  <a:pt x="618109" y="409302"/>
                </a:lnTo>
                <a:lnTo>
                  <a:pt x="1000124" y="409299"/>
                </a:lnTo>
                <a:lnTo>
                  <a:pt x="691066" y="662259"/>
                </a:lnTo>
                <a:lnTo>
                  <a:pt x="809117" y="1071559"/>
                </a:lnTo>
                <a:lnTo>
                  <a:pt x="500063" y="818595"/>
                </a:lnTo>
                <a:lnTo>
                  <a:pt x="191008" y="1071559"/>
                </a:lnTo>
                <a:lnTo>
                  <a:pt x="309059" y="662259"/>
                </a:lnTo>
                <a:lnTo>
                  <a:pt x="1" y="40929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6000840" y="5286240"/>
            <a:ext cx="1714320" cy="1357560"/>
          </a:xfrm>
          <a:custGeom>
            <a:avLst/>
            <a:gdLst/>
            <a:ahLst/>
            <a:rect l="l" t="t" r="r" b="b"/>
            <a:pathLst>
              <a:path w="1714500" h="1357313">
                <a:moveTo>
                  <a:pt x="2" y="518446"/>
                </a:moveTo>
                <a:lnTo>
                  <a:pt x="654884" y="518450"/>
                </a:lnTo>
                <a:lnTo>
                  <a:pt x="857250" y="0"/>
                </a:lnTo>
                <a:lnTo>
                  <a:pt x="1059616" y="518450"/>
                </a:lnTo>
                <a:lnTo>
                  <a:pt x="1714498" y="518446"/>
                </a:lnTo>
                <a:lnTo>
                  <a:pt x="1184685" y="838862"/>
                </a:lnTo>
                <a:lnTo>
                  <a:pt x="1387059" y="1357310"/>
                </a:lnTo>
                <a:lnTo>
                  <a:pt x="857250" y="1036888"/>
                </a:lnTo>
                <a:lnTo>
                  <a:pt x="327441" y="1357310"/>
                </a:lnTo>
                <a:lnTo>
                  <a:pt x="529815" y="838862"/>
                </a:lnTo>
                <a:lnTo>
                  <a:pt x="2" y="51844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2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723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сть одно важное физическое свойство у всех видов транспорта. Запомни его: никакое транспортное средство, набравшее скорость, не может остановиться сразу, а будет некоторое время двигаться еще по инерции.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же сильное торможение не в силах моментально остановить трамвай или машину. Таким образом, до полной остановки, транспортное средство пройдет еще какое-то расстояние. Это расстояние, которое оно проходит с момента торможения до полной остановки, называется тормозным путем.  Чем больше скорость и вес мотоцикла или автобуса, поезда или парохода, тем его тормозной путь больше.</a:t>
            </a:r>
            <a:endParaRPr b="0" lang="en-US" sz="2000" spc="-1" strike="noStrike">
              <a:solidFill>
                <a:srgbClr val="04617b"/>
              </a:solidFill>
              <a:latin typeface="Franklin Gothic Medium"/>
            </a:endParaRPr>
          </a:p>
        </p:txBody>
      </p:sp>
      <p:pic>
        <p:nvPicPr>
          <p:cNvPr id="443" name="Picture 7" descr="http://62.img.avito.st/640x480/1158625362.jpg"/>
          <p:cNvPicPr/>
          <p:nvPr/>
        </p:nvPicPr>
        <p:blipFill>
          <a:blip r:embed="rId1"/>
          <a:stretch/>
        </p:blipFill>
        <p:spPr>
          <a:xfrm>
            <a:off x="4932360" y="4869000"/>
            <a:ext cx="398628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4:53:21Z</dcterms:created>
  <dc:creator>Администратор</dc:creator>
  <dc:description/>
  <dc:language>en-US</dc:language>
  <cp:lastModifiedBy>Юля</cp:lastModifiedBy>
  <dcterms:modified xsi:type="dcterms:W3CDTF">2016-10-10T01:51:31Z</dcterms:modified>
  <cp:revision>34</cp:revision>
  <dc:subject/>
  <dc:title>Опасные ситуации на дорогах.</dc:title>
</cp:coreProperties>
</file>