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8.gif" ContentType="image/gif"/>
  <Override PartName="/ppt/media/image4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4D0-4ABB-4643-A789-D7C2367E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7EF-2383-4FE7-922A-3516FF8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3C3-3CF8-4708-AB18-E73AAF0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DE3-E91A-4CB3-AD5A-065CF0EB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7EB-110B-4553-8C38-7BD68577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4CB4-F830-4766-A88D-187F4F76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2C6-B223-45FF-A849-532E623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E9FF-EAC5-4D11-B357-528B77F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5F30-6AFD-4D4B-8E4A-44231F2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CA6D-DF11-4732-BB34-A3E7412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22D-2E78-47BB-92A2-B02638D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FA9-BC6A-4494-894F-4727469E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DD9-FF03-45B8-8AAD-433B2BD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1541-36C5-4763-8725-47BD2D4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C36-73D0-4C65-BD0F-A752BD6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7926-E917-4917-98AE-3A528B8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E25-E90E-47E7-9539-8241BA8F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06A-E630-4556-90F6-3B4B99A0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D8A6-A331-4946-B972-EEBAD589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0856-2154-4D48-90BF-F87D0B4A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2E4D-2299-4A90-A4F7-3E67930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A85-B9D9-4B52-9AC6-8D638D1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E372-56F9-4DEF-A4B0-E524C99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3F91-AEE4-446A-A6D4-70307B1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51DD-BA33-4ADE-BBC8-94AD1347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3CAC-2563-40DC-A961-C0499F3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8229-96CF-4BF4-88B3-25D4189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8B66-CB7F-497F-AD78-528E9764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C262-ED0F-4E1E-92D1-68B4306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B2E3-C7D0-426A-83EB-E64E7A9A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89CA-60C7-499F-A97B-75596AB7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8EBB-A2BA-4030-B3FC-87D0DCB3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66A-FDCD-46E6-BD92-509E04D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8F92-214A-43BA-A9FD-E19EBCD1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CDE2-CAC9-48DB-B9D3-10A148F4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898F-EEAC-4C61-ABE0-FB6BD9BA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6B8C-062C-4D2E-90F8-1075105B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2815-7C14-4B7D-938C-0803BB7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D695-D4D5-4897-A569-8910666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706A-14B5-4DFE-B06B-B011FC3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C40B-6951-4841-BDB8-DE6FF2F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0C23-8887-43D9-82C6-A8BE8FA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CC41-F8C1-4402-A65C-5CEDDB64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C64-29CE-49D7-A1F0-915D0045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A9E9-A6EB-40A7-9CEA-8BB949EE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05FD-11C8-4647-B56A-8290BED4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BCD4-D558-4115-8C62-2B23D6E5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2EF8-FC3C-4AB4-9F02-29C0C83A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EE4A-EAB5-4A3C-A98B-BA82326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4551-7F77-40C3-8A73-20ACD7B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F3B6-1A37-4557-9B86-077F5B38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47BD-073D-4D43-BA0C-F843F28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1D73-8D11-41F1-A2E5-23EBA36E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DE955-5FA3-4000-9468-0A042F4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B60-0AF1-4D65-81EA-C4F4BB3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2A25-8012-4399-87A4-F8C737A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8E36-88F8-42D6-9F3C-77C387C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CC8B-5916-4E8B-A0B6-AE0645DB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C42-E297-4891-B58D-07B7DF1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89C-796F-41BC-996F-C93A4B8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2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4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5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C69-FA60-459D-B881-6CF2CC2F91B9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рямоугольник 9"/>
          <p:cNvGrpSpPr/>
          <p:nvPr/>
        </p:nvGrpSpPr>
        <p:grpSpPr>
          <a:xfrm>
            <a:off x="0" y="1908000"/>
            <a:ext cx="9144000" cy="3200040"/>
            <a:chOff x="0" y="1908000"/>
            <a:chExt cx="9144000" cy="3200040"/>
          </a:xfrm>
        </p:grpSpPr>
        <p:pic>
          <p:nvPicPr>
            <p:cNvPr id="49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0" y="1910520"/>
              <a:ext cx="9144000" cy="31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1908000"/>
              <a:ext cx="914256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grpSp>
        <p:nvGrpSpPr>
          <p:cNvPr id="51" name="Прямоугольник 10"/>
          <p:cNvGrpSpPr/>
          <p:nvPr/>
        </p:nvGrpSpPr>
        <p:grpSpPr>
          <a:xfrm>
            <a:off x="0" y="1792440"/>
            <a:ext cx="9144000" cy="72360"/>
            <a:chOff x="0" y="1792440"/>
            <a:chExt cx="9144000" cy="72360"/>
          </a:xfrm>
        </p:grpSpPr>
        <p:pic>
          <p:nvPicPr>
            <p:cNvPr id="5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0" y="1792440"/>
              <a:ext cx="9144000" cy="6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1794960"/>
              <a:ext cx="914076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grpSp>
        <p:nvGrpSpPr>
          <p:cNvPr id="54" name="Прямоугольник 11"/>
          <p:cNvGrpSpPr/>
          <p:nvPr/>
        </p:nvGrpSpPr>
        <p:grpSpPr>
          <a:xfrm>
            <a:off x="0" y="5145120"/>
            <a:ext cx="9144000" cy="72720"/>
            <a:chOff x="0" y="5145120"/>
            <a:chExt cx="9144000" cy="72720"/>
          </a:xfrm>
        </p:grpSpPr>
        <p:pic>
          <p:nvPicPr>
            <p:cNvPr id="5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0" y="514800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5145120"/>
              <a:ext cx="914076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B4F-8911-4978-B770-A197B3B33383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37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138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40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141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143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144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145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47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148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C328-A8B0-4ACD-B1CC-7F11BF8DE59D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92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193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95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196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198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199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200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02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203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610-23C5-4150-9DC3-3C0BAE8A6C5B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247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248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50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251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253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254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255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57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258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B534-80D8-443C-83E7-3FFDCA983CF1}" type="slidenum">
              <a:rPr b="0" lang="ru-RU" sz="6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8720" y="259920"/>
            <a:ext cx="8304120" cy="23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Book Antiqua"/>
              </a:rPr>
              <a:t>Пожарная безопасность.</a:t>
            </a:r>
            <a:br>
              <a:rPr sz="4700"/>
            </a:br>
            <a:r>
              <a:rPr b="1" lang="ru-RU" sz="4700" spc="-1" strike="noStrike">
                <a:solidFill>
                  <a:srgbClr val="ff0000"/>
                </a:solidFill>
                <a:latin typeface="Book Antiqua"/>
              </a:rPr>
              <a:t> Правила личной безопасности при пожаре.  </a:t>
            </a:r>
            <a:endParaRPr b="1" lang="en-US" sz="47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56200" y="6081480"/>
            <a:ext cx="26654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474747"/>
                </a:solidFill>
                <a:latin typeface="Arial"/>
                <a:ea typeface="Arial"/>
              </a:rPr>
              <a:t>Дойников Владимир 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474747"/>
                </a:solidFill>
                <a:latin typeface="Arial"/>
                <a:ea typeface="Arial"/>
              </a:rPr>
              <a:t>11 Б класс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2195640" y="2616120"/>
            <a:ext cx="449100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99640" y="30240"/>
            <a:ext cx="71312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500" spc="-1" strike="noStrike">
                <a:solidFill>
                  <a:srgbClr val="800000"/>
                </a:solidFill>
                <a:latin typeface="Book Antiqua"/>
              </a:rPr>
              <a:t>Недопустимо:</a:t>
            </a:r>
            <a:r>
              <a:rPr b="1" lang="ru-RU" sz="2500" spc="-1" strike="noStrike">
                <a:solidFill>
                  <a:srgbClr val="800000"/>
                </a:solidFill>
                <a:latin typeface="Book Antiqua"/>
              </a:rPr>
              <a:t> </a:t>
            </a:r>
            <a:r>
              <a:rPr b="1" lang="ru-RU" sz="2500" spc="-1" strike="noStrike">
                <a:solidFill>
                  <a:srgbClr val="323232"/>
                </a:solidFill>
                <a:latin typeface="Book Antiqua"/>
              </a:rPr>
              <a:t>  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бороться с огнем самостоятельно, не вызвав пожарных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гасить водой воспламенившиеся электроприборы, не отключив от электросети (можно получить удар током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открывать окна и двери, чтобы выпустить дым (горение усилится из-за притока воздуха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ользоваться лифтом, если пламенем охвачена уже значительная площадь (можно застрять и задохнуться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ытаться выйти через задымленный коридор или лестницу (дым токсичен, горячий воздух может обжечь легкие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опускаться по водосточным трубам и стоякам с помощью простыней и веревок (падение почти всегда неизбежно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рыгать из окна (выше 3-го этажа каждый второй прыжок смертелен!)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24000" y="189000"/>
            <a:ext cx="431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Указом Екатерины II от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5 декабря 1763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Петербурге учреждается пожарная команда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782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году по царскому указу в штат каждой полицейской части города Петербурга вводится брандмейстер или огнегасительный мастер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Для вывоза пожарного инвентаря при полицейских частях имелись специальные пожарные лошади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5" name="Picture 4" descr="pictur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716360" y="333360"/>
            <a:ext cx="4248360" cy="619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505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24 июля 1803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первые в России организуется профессиональная пожарная охрана. 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863 году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Московский машиностроительный завод начал выпускать паровые пожарные насосы с конной тягой. Завод изготовлял также и центробежные насосы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7 апреля 1918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Председатель Совета народных Комиссаров РСФСР подписал Декрет "Об организации государственных мер борьбы с огнем"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 rot="5400000">
            <a:off x="2445120" y="-564480"/>
            <a:ext cx="3817800" cy="56134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611280" y="4292640"/>
            <a:ext cx="7846920" cy="2046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К концу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927</a:t>
            </a: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 года на вооружении пожарной охраны страны насчитывалось уже окол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400 пожарных автомобилей</a:t>
            </a: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. Организовалось массовое производство ручных пожарных насосов и огнетушителей. </a:t>
            </a: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День пожарной охраны отмечается ежегодно 30 апреля</a:t>
            </a:r>
            <a:r>
              <a:rPr b="1" lang="ru-RU" sz="1800" spc="-1" strike="noStrike">
                <a:solidFill>
                  <a:srgbClr val="323232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55720" y="-100440"/>
            <a:ext cx="79963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Правила поведения при пожаре.</a:t>
            </a:r>
            <a:r>
              <a:rPr b="1" lang="ru-RU" sz="3600" spc="-1" strike="noStrike">
                <a:solidFill>
                  <a:srgbClr val="323232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474747"/>
                </a:solidFill>
                <a:latin typeface="Book Antiqua"/>
              </a:rPr>
              <a:t>Статистика пожаров по России показывает, что более 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70%</a:t>
            </a:r>
            <a:r>
              <a:rPr b="0" lang="ru-RU" sz="2800" spc="-1" strike="noStrike">
                <a:solidFill>
                  <a:srgbClr val="474747"/>
                </a:solidFill>
                <a:latin typeface="Book Antiqua"/>
              </a:rPr>
              <a:t> пожаров происходит в жилье и в местах с массовым пребыванием людей.  Здесь же гибель и травматизм людей от дыма и огня составляет 9 случаев из 10.</a:t>
            </a:r>
            <a:endParaRPr b="0" lang="en-US" sz="2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474747"/>
              </a:solidFill>
              <a:latin typeface="Book Antiqu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87280" y="4005360"/>
            <a:ext cx="8569080" cy="2232000"/>
            <a:chOff x="287280" y="4005360"/>
            <a:chExt cx="8569080" cy="2232000"/>
          </a:xfrm>
        </p:grpSpPr>
        <p:pic>
          <p:nvPicPr>
            <p:cNvPr id="313" name="Picture 5" descr="Плакат1"/>
            <p:cNvPicPr/>
            <p:nvPr/>
          </p:nvPicPr>
          <p:blipFill>
            <a:blip r:embed="rId1"/>
            <a:stretch/>
          </p:blipFill>
          <p:spPr>
            <a:xfrm>
              <a:off x="287280" y="4005360"/>
              <a:ext cx="366552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Плакат1"/>
            <p:cNvPicPr/>
            <p:nvPr/>
          </p:nvPicPr>
          <p:blipFill>
            <a:blip r:embed="rId2"/>
            <a:stretch/>
          </p:blipFill>
          <p:spPr>
            <a:xfrm>
              <a:off x="3952800" y="4005360"/>
              <a:ext cx="234576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Плакат1"/>
            <p:cNvPicPr/>
            <p:nvPr/>
          </p:nvPicPr>
          <p:blipFill>
            <a:blip r:embed="rId3"/>
            <a:stretch/>
          </p:blipFill>
          <p:spPr>
            <a:xfrm>
              <a:off x="6298920" y="4005360"/>
              <a:ext cx="255744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-181080" y="1125360"/>
            <a:ext cx="5329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5e8e8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Verdana"/>
              </a:rPr>
              <a:t>Пожар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- это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неконтролируемый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быстропротекающий при высокой температуре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химический процесс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сопровождающийся выделением большого количества теплоты, уничтожающий материальные ценности и создающий опасность для жизни людей.</a:t>
            </a: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5e8e8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Как правило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пожар возникает из-за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несоблюдения мер предосторожности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при работе с огнём и нарушения правил противопожарной безопасности.</a:t>
            </a: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</p:txBody>
      </p:sp>
      <p:pic>
        <p:nvPicPr>
          <p:cNvPr id="317" name="Рисунок 2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58596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23232"/>
                </a:solidFill>
                <a:latin typeface="Book Antiqua"/>
              </a:rPr>
              <a:t>Основными причинами пожаров  являются:</a:t>
            </a:r>
            <a:endParaRPr b="1" lang="en-US" sz="40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8000" y="1628280"/>
            <a:ext cx="4174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неосторожное обращение с огнём, курение  и приготовление пищи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– более 4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- аварийная работа электробытовых приборов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более 2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Book Antiqua"/>
              </a:rPr>
              <a:t>- шалость детей с огнём </a:t>
            </a: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около 1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проведение электрогазосварочных  и ремонтных работ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около 1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- деятельность коммерческих структур, размещающих свои взрывопожароопасные производства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примерно 10%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00680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23232"/>
                </a:solidFill>
                <a:latin typeface="Book Antiqua"/>
              </a:rPr>
              <a:t>ПАМЯТКА ПО СОБЛЮДЕНИЮ ПРАВИЛ ПОЖАРНОЙ БЕЗОПАСНОСТИ</a:t>
            </a:r>
            <a:endParaRPr b="1" lang="en-US" sz="32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Если ты почувствовал запах дыма или увидел огонь, сразу позвони пожарным. Если огонь тебе не угрожает, сделать это можно с домашнего телефона. В других случаях лучше сразу покинуть квартиру, а затем вызвать пожарных по телефону </a:t>
            </a: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112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. 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Обязательно сообщи о пожаре взрослым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По телефону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ты должен точно назвать пожарным свой адрес: улицу, дом, квартиру. Чётко произнеси свои имя и фамилию. Если сможешь, объясни, что именно горит. Постарайся говорить спокойно и не торопясь.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Постарайся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ответить на все вопросы оператора - как лучше подъехать к твоему дому, какой код домофона и т. д.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Помни: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любая твоя информация поможет специалистам быстрее справиться с огнем, оператор не задаст тебе ни одного лишнего вопроса.</a:t>
            </a: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3" name="Picture 4" descr="j0346565"/>
          <p:cNvPicPr/>
          <p:nvPr/>
        </p:nvPicPr>
        <p:blipFill>
          <a:blip r:embed="rId1"/>
          <a:stretch/>
        </p:blipFill>
        <p:spPr>
          <a:xfrm>
            <a:off x="8201160" y="3933720"/>
            <a:ext cx="755640" cy="6746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324" name="Picture 5" descr="image00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00000" y="836640"/>
            <a:ext cx="647640" cy="59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5056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 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Выходя из горящего помещения</a:t>
            </a: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, плотно закрой за собой все двери, чтобы задержать распространение огня на 10-15 минут - этого времени достаточно, чтобы дом смогли покинуть твои родные и соседи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Помни:</a:t>
            </a: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 от твоих первых действий зависит, насколько быстро будет распространяться дым и огонь по подъезду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ЗНАЙ</a:t>
            </a: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: вызов пожарной команды просто так, из шалости или любопытства, не только отвлечёт спасателей от настоящего происшествия, но и будет иметь весьма неприятные последствия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Book Antiqua"/>
              </a:rPr>
              <a:t>Заведомо ложный вызов пожарных</a:t>
            </a: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 (так же, как и милиции, "скорой помощи", других специальных служб) является нарушением закона и наказывается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штрафом, который придётся заплатить твоим родителям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74747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6" name="Picture 4" descr="j0346565"/>
          <p:cNvPicPr/>
          <p:nvPr/>
        </p:nvPicPr>
        <p:blipFill>
          <a:blip r:embed="rId1"/>
          <a:stretch/>
        </p:blipFill>
        <p:spPr>
          <a:xfrm>
            <a:off x="4284720" y="5589720"/>
            <a:ext cx="1042920" cy="930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00:47Z</dcterms:created>
  <dc:creator>Дойников Владимир</dc:creator>
  <dc:description/>
  <dc:language>en-US</dc:language>
  <cp:lastModifiedBy>ШК489</cp:lastModifiedBy>
  <dcterms:modified xsi:type="dcterms:W3CDTF">2017-09-15T14:40:04Z</dcterms:modified>
  <cp:revision>148</cp:revision>
  <dc:subject/>
  <dc:title>Слайд 1</dc:title>
</cp:coreProperties>
</file>