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8.gif" ContentType="image/gif"/>
  <Override PartName="/ppt/media/image4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000-1BE6-4EDC-A652-9945CF05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359-F0A9-4C0C-A2C7-16BA7F65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C79-A9D1-41F1-9CC8-CC6535F7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5FC-9CC2-459C-B410-EC1356E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373-8FAD-44DB-980B-044B6E9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58C0-D34B-40D8-B78A-FF409C06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7662-2561-403F-8EBA-B075FD9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F446-8570-4C48-A3B4-3C35644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6481-2B57-4DCB-BE32-E048524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40E7-AF8F-4217-8DA3-F0490DE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41B-EBD5-435B-98BF-0524837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E7EA-8A0F-4B5B-9C0D-424DB1D9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A98C-723D-4E2A-B36F-064321C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B078-0E49-44F6-9236-BE7237A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7E2-1A51-4C39-B2A5-20652C2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5844-6C97-4963-A625-5F9218AC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0822-4F51-4BD4-8E7D-26C8B812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EB0-525A-40F2-942F-020A37EF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F10E-2863-4A1F-B384-9FBE055F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75CB-1D36-42CA-85FE-F9812BB1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257C-1D1F-4A27-868B-228860A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E7F-0CF7-42E1-B2F1-D869604B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61A6-BE09-43DE-ABA4-E72800CF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7C46-71AD-4D3B-BCE2-FDEE4DB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52EA-E09B-487F-A63D-919980B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F4B5-4E7A-4046-90A7-85F58FF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7C97-D771-40E6-A6BA-A29FDC2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3319-7E5A-4EEB-991C-ECEE7F5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AEC8-E517-446C-89DC-B8592227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064E-E334-42EE-A978-9CE47B32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4459-A63D-4E3D-81F7-410BE344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E0F4-F56F-4038-B555-BED7A288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A2E-72CD-4D40-9E17-F1C0FA7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D307-300A-4EFC-A4B2-510924DE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AF57-3456-4B3D-AE6A-7806A0EE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792C-1AB8-4F0B-A966-3C02EA54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2332-06CB-4C50-949F-4E1DDCF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C368-0671-48E6-B51E-F165594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5086-A384-4390-9CB0-970D04C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1892-3638-4B12-B5CB-A4CCAE6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58A9-81E6-4C63-90D6-01F80CC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862D-45C5-434E-82AD-2C5DD788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4669-AB5C-4D0A-9ED5-C0C4C87C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A9E-6888-4DEF-97F8-2971664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DCCF-6599-4946-BB02-3527521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DC95-DF74-49D6-9F32-7FA2332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DD85-9A6F-4E60-924E-28611B8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B429-E8F5-4606-B98D-E25866F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19D2-15EB-478D-BCCC-7F68FB4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83B7-780E-448F-8170-B6E6C042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006560" y="466200"/>
            <a:ext cx="713088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EFCC-7CAF-482A-9376-9BE3A76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A930-3894-4F19-914B-07DC145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67AA4-D156-43D4-B88A-AAC787C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B5FF-B89D-4D9E-8A27-D4F6736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B80-53F9-49A3-99F3-A5405F8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639E-395E-497C-B672-EFDB20D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4B21-3ED8-476E-BC97-68AD933B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1748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28400" y="190152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00656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1748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28400" y="4057560"/>
            <a:ext cx="22957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37CE-F9A4-4EBD-9134-6549D63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05756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25E-7CBF-4FF7-871C-86C55CE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6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901520"/>
            <a:ext cx="347976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6560" y="4057560"/>
            <a:ext cx="713088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756-408C-4815-A0A1-09B8F99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2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4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5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73E-03C7-4DE6-948A-0AA5EF50C10E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рямоугольник 9"/>
          <p:cNvGrpSpPr/>
          <p:nvPr/>
        </p:nvGrpSpPr>
        <p:grpSpPr>
          <a:xfrm>
            <a:off x="0" y="1908000"/>
            <a:ext cx="9144000" cy="3200040"/>
            <a:chOff x="0" y="1908000"/>
            <a:chExt cx="9144000" cy="3200040"/>
          </a:xfrm>
        </p:grpSpPr>
        <p:pic>
          <p:nvPicPr>
            <p:cNvPr id="49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0" y="1910520"/>
              <a:ext cx="9144000" cy="31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1908000"/>
              <a:ext cx="914256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grpSp>
        <p:nvGrpSpPr>
          <p:cNvPr id="51" name="Прямоугольник 10"/>
          <p:cNvGrpSpPr/>
          <p:nvPr/>
        </p:nvGrpSpPr>
        <p:grpSpPr>
          <a:xfrm>
            <a:off x="0" y="1792440"/>
            <a:ext cx="9144000" cy="72360"/>
            <a:chOff x="0" y="1792440"/>
            <a:chExt cx="9144000" cy="72360"/>
          </a:xfrm>
        </p:grpSpPr>
        <p:pic>
          <p:nvPicPr>
            <p:cNvPr id="5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0" y="1792440"/>
              <a:ext cx="9144000" cy="6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1794960"/>
              <a:ext cx="914076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grpSp>
        <p:nvGrpSpPr>
          <p:cNvPr id="54" name="Прямоугольник 11"/>
          <p:cNvGrpSpPr/>
          <p:nvPr/>
        </p:nvGrpSpPr>
        <p:grpSpPr>
          <a:xfrm>
            <a:off x="0" y="5145120"/>
            <a:ext cx="9144000" cy="72720"/>
            <a:chOff x="0" y="5145120"/>
            <a:chExt cx="9144000" cy="72720"/>
          </a:xfrm>
        </p:grpSpPr>
        <p:pic>
          <p:nvPicPr>
            <p:cNvPr id="5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0" y="514800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5145120"/>
              <a:ext cx="914076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23232"/>
                </a:solidFill>
                <a:latin typeface="Verdan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B9C-382A-46E4-AE0E-D77DBE9226D1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37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138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40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141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143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144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145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47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148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051-38B6-4709-AA8A-E64C036CCDCE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192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193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195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196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198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199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200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02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203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5781-7967-4A73-A133-88E69347C04A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8"/>
          <p:cNvGrpSpPr/>
          <p:nvPr/>
        </p:nvGrpSpPr>
        <p:grpSpPr>
          <a:xfrm>
            <a:off x="0" y="6480000"/>
            <a:ext cx="9142560" cy="378000"/>
            <a:chOff x="0" y="6480000"/>
            <a:chExt cx="9142560" cy="378000"/>
          </a:xfrm>
        </p:grpSpPr>
        <p:grpSp>
          <p:nvGrpSpPr>
            <p:cNvPr id="247" name="Прямоугольник 6"/>
            <p:cNvGrpSpPr/>
            <p:nvPr/>
          </p:nvGrpSpPr>
          <p:grpSpPr>
            <a:xfrm>
              <a:off x="0" y="6583680"/>
              <a:ext cx="9142560" cy="274320"/>
              <a:chOff x="0" y="6583680"/>
              <a:chExt cx="9142560" cy="274320"/>
            </a:xfrm>
          </p:grpSpPr>
          <p:pic>
            <p:nvPicPr>
              <p:cNvPr id="248" name="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583680"/>
                <a:ext cx="914256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0" y="6583680"/>
                <a:ext cx="914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50" name="Прямоугольник 7"/>
            <p:cNvGrpSpPr/>
            <p:nvPr/>
          </p:nvGrpSpPr>
          <p:grpSpPr>
            <a:xfrm>
              <a:off x="0" y="6480000"/>
              <a:ext cx="9142560" cy="73080"/>
              <a:chOff x="0" y="6480000"/>
              <a:chExt cx="9142560" cy="73080"/>
            </a:xfrm>
          </p:grpSpPr>
          <p:pic>
            <p:nvPicPr>
              <p:cNvPr id="251" name="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480000"/>
                <a:ext cx="914256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0" y="6480000"/>
                <a:ext cx="914112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grpSp>
        <p:nvGrpSpPr>
          <p:cNvPr id="253" name="Группа 9"/>
          <p:cNvGrpSpPr/>
          <p:nvPr/>
        </p:nvGrpSpPr>
        <p:grpSpPr>
          <a:xfrm>
            <a:off x="1440" y="0"/>
            <a:ext cx="9141120" cy="378360"/>
            <a:chOff x="1440" y="0"/>
            <a:chExt cx="9141120" cy="378360"/>
          </a:xfrm>
        </p:grpSpPr>
        <p:grpSp>
          <p:nvGrpSpPr>
            <p:cNvPr id="254" name="Прямоугольник 10"/>
            <p:cNvGrpSpPr/>
            <p:nvPr/>
          </p:nvGrpSpPr>
          <p:grpSpPr>
            <a:xfrm>
              <a:off x="1440" y="0"/>
              <a:ext cx="9141120" cy="274320"/>
              <a:chOff x="1440" y="0"/>
              <a:chExt cx="9141120" cy="274320"/>
            </a:xfrm>
          </p:grpSpPr>
          <p:pic>
            <p:nvPicPr>
              <p:cNvPr id="255" name="Прямоугольник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" y="0"/>
                <a:ext cx="914112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 rot="10800000">
                <a:off x="2880" y="0"/>
                <a:ext cx="9138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  <p:grpSp>
          <p:nvGrpSpPr>
            <p:cNvPr id="257" name="Прямоугольник 11"/>
            <p:cNvGrpSpPr/>
            <p:nvPr/>
          </p:nvGrpSpPr>
          <p:grpSpPr>
            <a:xfrm>
              <a:off x="1440" y="304920"/>
              <a:ext cx="9141120" cy="73440"/>
              <a:chOff x="1440" y="304920"/>
              <a:chExt cx="9141120" cy="73440"/>
            </a:xfrm>
          </p:grpSpPr>
          <p:pic>
            <p:nvPicPr>
              <p:cNvPr id="258" name="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" y="305280"/>
                <a:ext cx="914112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10800000">
                <a:off x="2880" y="304560"/>
                <a:ext cx="91382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23232"/>
                  </a:solidFill>
                  <a:latin typeface="Verdana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323232"/>
                </a:solidFill>
                <a:latin typeface="Book Antiqua"/>
              </a:rPr>
              <a:t>Click to edit the title text format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006560" y="1901520"/>
            <a:ext cx="71308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1" marL="44460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2" marL="68580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3" marL="92556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4" marL="1165320" indent="-17172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5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lvl="6" marL="1165320" indent="-171720">
              <a:lnSpc>
                <a:spcPct val="90000"/>
              </a:lnSpc>
              <a:spcBef>
                <a:spcPts val="1349"/>
              </a:spcBef>
              <a:buClr>
                <a:srgbClr val="323232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74747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8F51-7876-4EDB-A676-3AAE5B2A1ED6}" type="slidenum">
              <a:rPr b="0" lang="ru-RU" sz="6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8720" y="259920"/>
            <a:ext cx="8304120" cy="23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Book Antiqua"/>
              </a:rPr>
              <a:t>Пожарная безопасность.</a:t>
            </a:r>
            <a:br>
              <a:rPr sz="4700"/>
            </a:br>
            <a:r>
              <a:rPr b="1" lang="ru-RU" sz="4700" spc="-1" strike="noStrike">
                <a:solidFill>
                  <a:srgbClr val="ff0000"/>
                </a:solidFill>
                <a:latin typeface="Book Antiqua"/>
              </a:rPr>
              <a:t> Правила личной безопасности при пожаре.  </a:t>
            </a:r>
            <a:endParaRPr b="1" lang="en-US" sz="47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56200" y="6081480"/>
            <a:ext cx="26654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474747"/>
                </a:solidFill>
                <a:latin typeface="Arial"/>
                <a:ea typeface="Arial"/>
              </a:rPr>
              <a:t>Дойников Владимир 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474747"/>
                </a:solidFill>
                <a:latin typeface="Arial"/>
                <a:ea typeface="Arial"/>
              </a:rPr>
              <a:t>11 Б класс</a:t>
            </a:r>
            <a:endParaRPr b="0" lang="en-US" sz="15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2195640" y="2616120"/>
            <a:ext cx="449100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99640" y="30240"/>
            <a:ext cx="71312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500" spc="-1" strike="noStrike">
                <a:solidFill>
                  <a:srgbClr val="800000"/>
                </a:solidFill>
                <a:latin typeface="Book Antiqua"/>
              </a:rPr>
              <a:t>Недопустимо:</a:t>
            </a:r>
            <a:r>
              <a:rPr b="1" lang="ru-RU" sz="2500" spc="-1" strike="noStrike">
                <a:solidFill>
                  <a:srgbClr val="800000"/>
                </a:solidFill>
                <a:latin typeface="Book Antiqua"/>
              </a:rPr>
              <a:t> </a:t>
            </a:r>
            <a:r>
              <a:rPr b="1" lang="ru-RU" sz="2500" spc="-1" strike="noStrike">
                <a:solidFill>
                  <a:srgbClr val="323232"/>
                </a:solidFill>
                <a:latin typeface="Book Antiqua"/>
              </a:rPr>
              <a:t>  </a:t>
            </a:r>
            <a:endParaRPr b="1" lang="en-US" sz="25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бороться с огнем самостоятельно, не вызвав пожарных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гасить водой воспламенившиеся электроприборы, не отключив от электросети (можно получить удар током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открывать окна и двери, чтобы выпустить дым (горение усилится из-за притока воздуха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ользоваться лифтом, если пламенем охвачена уже значительная площадь (можно застрять и задохнуться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ытаться выйти через задымленный коридор или лестницу (дым токсичен, горячий воздух может обжечь легкие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опускаться по водосточным трубам и стоякам с помощью простыней и веревок (падение почти всегда неизбежно!)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Book Antiqua"/>
              </a:rPr>
              <a:t>прыгать из окна (выше 3-го этажа каждый второй прыжок смертелен!)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24000" y="189000"/>
            <a:ext cx="431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Указом Екатерины II от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5 декабря 1763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Петербурге учреждается пожарная команда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782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году по царскому указу в штат каждой полицейской части города Петербурга вводится брандмейстер или огнегасительный мастер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2680" indent="-1695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Для вывоза пожарного инвентаря при полицейских частях имелись специальные пожарные лошади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5" name="Picture 4" descr="pictur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716360" y="333360"/>
            <a:ext cx="4248360" cy="619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505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24 июля 1803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первые в России организуется профессиональная пожарная охрана. 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863 году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Московский машиностроительный завод начал выпускать паровые пожарные насосы с конной тягой. Завод изготовлял также и центробежные насосы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17 апреля 1918 года </a:t>
            </a:r>
            <a:r>
              <a:rPr b="0" lang="ru-RU" sz="2400" spc="-1" strike="noStrike">
                <a:solidFill>
                  <a:srgbClr val="474747"/>
                </a:solidFill>
                <a:latin typeface="Book Antiqua"/>
              </a:rPr>
              <a:t>Председатель Совета народных Комиссаров РСФСР подписал Декрет "Об организации государственных мер борьбы с огнем".</a:t>
            </a:r>
            <a:endParaRPr b="0" lang="en-US" sz="24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 rot="5400000">
            <a:off x="2445120" y="-564480"/>
            <a:ext cx="3817800" cy="56134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611280" y="4292640"/>
            <a:ext cx="7846920" cy="2046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К концу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927</a:t>
            </a: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 года на вооружении пожарной охраны страны насчитывалось уже окол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400 пожарных автомобилей</a:t>
            </a:r>
            <a:r>
              <a:rPr b="0" lang="ru-RU" sz="1800" spc="-1" strike="noStrike">
                <a:solidFill>
                  <a:srgbClr val="323232"/>
                </a:solidFill>
                <a:latin typeface="Verdana"/>
              </a:rPr>
              <a:t>. Организовалось массовое производство ручных пожарных насосов и огнетушителей. </a:t>
            </a: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День пожарной охраны отмечается ежегодно 30 апреля</a:t>
            </a:r>
            <a:r>
              <a:rPr b="1" lang="ru-RU" sz="1800" spc="-1" strike="noStrike">
                <a:solidFill>
                  <a:srgbClr val="323232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3232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55720" y="-100440"/>
            <a:ext cx="79963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Правила поведения при пожаре.</a:t>
            </a:r>
            <a:r>
              <a:rPr b="1" lang="ru-RU" sz="3600" spc="-1" strike="noStrike">
                <a:solidFill>
                  <a:srgbClr val="323232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474747"/>
                </a:solidFill>
                <a:latin typeface="Book Antiqua"/>
              </a:rPr>
              <a:t>Статистика пожаров по России показывает, что более 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70%</a:t>
            </a:r>
            <a:r>
              <a:rPr b="0" lang="ru-RU" sz="2800" spc="-1" strike="noStrike">
                <a:solidFill>
                  <a:srgbClr val="474747"/>
                </a:solidFill>
                <a:latin typeface="Book Antiqua"/>
              </a:rPr>
              <a:t> пожаров происходит в жилье и в местах с массовым пребыванием людей.  Здесь же гибель и травматизм людей от дыма и огня составляет 9 случаев из 10.</a:t>
            </a:r>
            <a:endParaRPr b="0" lang="en-US" sz="2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474747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474747"/>
              </a:solidFill>
              <a:latin typeface="Book Antiqu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87280" y="4005360"/>
            <a:ext cx="8569080" cy="2232000"/>
            <a:chOff x="287280" y="4005360"/>
            <a:chExt cx="8569080" cy="2232000"/>
          </a:xfrm>
        </p:grpSpPr>
        <p:pic>
          <p:nvPicPr>
            <p:cNvPr id="313" name="Picture 5" descr="Плакат1"/>
            <p:cNvPicPr/>
            <p:nvPr/>
          </p:nvPicPr>
          <p:blipFill>
            <a:blip r:embed="rId1"/>
            <a:stretch/>
          </p:blipFill>
          <p:spPr>
            <a:xfrm>
              <a:off x="287280" y="4005360"/>
              <a:ext cx="366552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Плакат1"/>
            <p:cNvPicPr/>
            <p:nvPr/>
          </p:nvPicPr>
          <p:blipFill>
            <a:blip r:embed="rId2"/>
            <a:stretch/>
          </p:blipFill>
          <p:spPr>
            <a:xfrm>
              <a:off x="3952800" y="4005360"/>
              <a:ext cx="234576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Плакат1"/>
            <p:cNvPicPr/>
            <p:nvPr/>
          </p:nvPicPr>
          <p:blipFill>
            <a:blip r:embed="rId3"/>
            <a:stretch/>
          </p:blipFill>
          <p:spPr>
            <a:xfrm>
              <a:off x="6298920" y="4005360"/>
              <a:ext cx="255744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-181080" y="1125360"/>
            <a:ext cx="5329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5e8e8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Verdana"/>
              </a:rPr>
              <a:t>Пожар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- это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неконтролируемый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быстропротекающий при высокой температуре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химический процесс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сопровождающийся выделением большого количества теплоты, уничтожающий материальные ценности и создающий опасность для жизни людей.</a:t>
            </a: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5e8e8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Как правило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, пожар возникает из-за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Verdana"/>
              </a:rPr>
              <a:t>несоблюдения мер предосторожности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при работе с огнём и нарушения правил противопожарной безопасности.</a:t>
            </a:r>
            <a:endParaRPr b="1" lang="en-US" sz="2000" spc="-1" strike="noStrike">
              <a:solidFill>
                <a:srgbClr val="323232"/>
              </a:solidFill>
              <a:latin typeface="Verdana"/>
            </a:endParaRPr>
          </a:p>
        </p:txBody>
      </p:sp>
      <p:pic>
        <p:nvPicPr>
          <p:cNvPr id="317" name="Рисунок 2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58596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6560" y="466200"/>
            <a:ext cx="713088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23232"/>
                </a:solidFill>
                <a:latin typeface="Book Antiqua"/>
              </a:rPr>
              <a:t>Основными причинами пожаров  являются:</a:t>
            </a:r>
            <a:endParaRPr b="1" lang="en-US" sz="40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8000" y="1628280"/>
            <a:ext cx="4174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неосторожное обращение с огнём, курение  и приготовление пищи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– более 4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- аварийная работа электробытовых приборов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более 2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Book Antiqua"/>
              </a:rPr>
              <a:t>- шалость детей с огнём </a:t>
            </a: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около 1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проведение электрогазосварочных  и ремонтных работ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около 10%;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3312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- деятельность коммерческих структур, размещающих свои взрывопожароопасные производства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примерно 10%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00680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23232"/>
                </a:solidFill>
                <a:latin typeface="Book Antiqua"/>
              </a:rPr>
              <a:t>ПАМЯТКА ПО СОБЛЮДЕНИЮ ПРАВИЛ ПОЖАРНОЙ БЕЗОПАСНОСТИ</a:t>
            </a:r>
            <a:endParaRPr b="1" lang="en-US" sz="3200" spc="-1" strike="noStrike">
              <a:solidFill>
                <a:srgbClr val="323232"/>
              </a:solidFill>
              <a:latin typeface="Book Antiq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Если ты почувствовал запах дыма или увидел огонь, сразу позвони пожарным. Если огонь тебе не угрожает, сделать это можно с домашнего телефона. В других случаях лучше сразу покинуть квартиру, а затем вызвать пожарных по телефону </a:t>
            </a: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112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. 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Обязательно сообщи о пожаре взрослым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По телефону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ты должен точно назвать пожарным свой адрес: улицу, дом, квартиру. Чётко произнеси свои имя и фамилию. Если сможешь, объясни, что именно горит. Постарайся говорить спокойно и не торопясь.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Book Antiqua"/>
              </a:rPr>
              <a:t>Постарайся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ответить на все вопросы оператора - как лучше подъехать к твоему дому, какой код домофона и т. д.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Помни:</a:t>
            </a: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 любая твоя информация поможет специалистам быстрее справиться с огнем, оператор не задаст тебе ни одного лишнего вопроса.</a:t>
            </a: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3" name="Picture 4" descr="j0346565"/>
          <p:cNvPicPr/>
          <p:nvPr/>
        </p:nvPicPr>
        <p:blipFill>
          <a:blip r:embed="rId1"/>
          <a:stretch/>
        </p:blipFill>
        <p:spPr>
          <a:xfrm>
            <a:off x="8201160" y="3933720"/>
            <a:ext cx="755640" cy="6746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324" name="Picture 5" descr="image00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00000" y="836640"/>
            <a:ext cx="647640" cy="59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5056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 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Выходя из горящего помещения</a:t>
            </a: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, плотно закрой за собой все двери, чтобы задержать распространение огня на 10-15 минут - этого времени достаточно, чтобы дом смогли покинуть твои родные и соседи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Помни:</a:t>
            </a: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 от твоих первых действий зависит, насколько быстро будет распространяться дым и огонь по подъезду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Book Antiqua"/>
              </a:rPr>
              <a:t>ЗНАЙ</a:t>
            </a: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: вызов пожарной команды просто так, из шалости или любопытства, не только отвлечёт спасателей от настоящего происшествия, но и будет иметь весьма неприятные последствия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Arial"/>
              <a:buChar char="▪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Book Antiqua"/>
              </a:rPr>
              <a:t>Заведомо ложный вызов пожарных</a:t>
            </a: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 (так же, как и милиции, "скорой помощи", других специальных служб) является нарушением закона и наказывается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штрафом, который придётся заплатить твоим родителям.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  <a:p>
            <a:pPr marL="20484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74747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474747"/>
              </a:solidFill>
              <a:latin typeface="Book Antiqua"/>
            </a:endParaRPr>
          </a:p>
        </p:txBody>
      </p:sp>
      <p:pic>
        <p:nvPicPr>
          <p:cNvPr id="326" name="Picture 4" descr="j0346565"/>
          <p:cNvPicPr/>
          <p:nvPr/>
        </p:nvPicPr>
        <p:blipFill>
          <a:blip r:embed="rId1"/>
          <a:stretch/>
        </p:blipFill>
        <p:spPr>
          <a:xfrm>
            <a:off x="4284720" y="5589720"/>
            <a:ext cx="1042920" cy="930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00:47Z</dcterms:created>
  <dc:creator>Дойников Владимир</dc:creator>
  <dc:description/>
  <dc:language>en-US</dc:language>
  <cp:lastModifiedBy>ШК489</cp:lastModifiedBy>
  <dcterms:modified xsi:type="dcterms:W3CDTF">2017-09-15T14:40:04Z</dcterms:modified>
  <cp:revision>148</cp:revision>
  <dc:subject/>
  <dc:title>Слайд 1</dc:title>
</cp:coreProperties>
</file>