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871-A0DC-43A7-B921-09EA098F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E99-8D32-4457-A8B0-FE7BDE7D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D60-41F5-4EDC-A598-D46FABC6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E21-6641-424F-AF86-D4CB0C6B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204C-74EB-4013-9176-43494A9B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04B9-E063-40DF-A2E9-D590A2C5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7AE5-0582-4BBE-A2CD-76C306CC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0F13-7501-4878-B534-CA02B026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1E46-DB6C-4A47-807B-71F2526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98FB-F933-44DA-87E5-3B235054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8C22-8ABE-4BB7-B0EA-E105735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DAE-434F-4222-BDD8-DC5AA16F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C598-207D-4C0E-986F-A863BE0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2317-002F-48B6-A33E-711077A8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06CC-0290-4E10-87BF-3E388E23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899-A216-49B6-AB21-784436A5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DBC1-21E4-4A6B-9605-30B3E645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4C56-25A9-4CB8-9654-551FE866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6370-CAC5-4020-ADB6-A31BE340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ADF6-870D-417F-B55A-D92F9B02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52B3-EE39-4C33-B25B-213C3EA5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FDE8-380C-4EFD-B2CA-39A5B00E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F6E-2371-45A0-A990-D87BF075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A753-B125-465C-852D-C9A9275F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3BC8-EF80-49CF-9A4E-B14EAD6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C023-34FA-424A-B219-EC4FB44B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B977-B21A-469E-9D7A-EAE1D830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6F8E-1F86-4473-A1DE-B8A0F6CD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EC8D-DFF9-408E-AC6E-6AFCA065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297E-6C55-4E22-9C32-104AB652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39F78-BDCF-4826-8DBB-0CEEA3E6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7A39-BAF0-4A11-A7BA-4C4DD36B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161E-15AC-4ECD-8A98-CC660CD3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BB3-2336-4623-95EE-E9F961F8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17C7-4C79-4C3E-A79F-350A6BC2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6E099-2741-4384-AD22-800BE4D3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9C2D-CE37-420A-BD0F-0E75F891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8DE9-3D65-47CA-8DDC-43387C8E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523E4-5D38-40AF-9BC1-3D1A5BD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2DF7-53F4-40D7-8517-D30AA8E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334A6-5108-4706-87B2-65A3FAA6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6735-95DA-4EC5-9111-E0A2FEC9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2C22-5EFF-4A93-98B0-34F9F3D6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CF0-BF35-47DC-A8C7-9E9A7A47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AE7-2303-4ADB-A2E4-5D40F479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AD4-DA46-4CD2-BE88-86419AD8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796-FD04-4DF7-B723-B4375391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BB7-D113-4549-BDD2-6E7DCE9A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C006-329F-416E-9362-53C7A9FCFA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EEC8-4289-4275-9836-42861951C3E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DBF5-7FDF-4E56-9FC7-6626E35D3EF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AFDD-9D96-488C-A697-94282D4805B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2491920"/>
            <a:ext cx="734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5c00"/>
                </a:solidFill>
                <a:latin typeface="Trebuchet MS"/>
              </a:rPr>
              <a:t>« Мебель в нашем доме»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416200" y="5589000"/>
            <a:ext cx="358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галова Ольга Михайл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ДОУ ЦРР д/с №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696000" cy="367344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2" descr=""/>
          <p:cNvPicPr/>
          <p:nvPr/>
        </p:nvPicPr>
        <p:blipFill>
          <a:blip r:embed="rId2"/>
          <a:stretch/>
        </p:blipFill>
        <p:spPr>
          <a:xfrm>
            <a:off x="1792440" y="4280040"/>
            <a:ext cx="68086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SWScan00002"/>
          <p:cNvPicPr/>
          <p:nvPr/>
        </p:nvPicPr>
        <p:blipFill>
          <a:blip r:embed="rId1"/>
          <a:stretch/>
        </p:blipFill>
        <p:spPr>
          <a:xfrm>
            <a:off x="2340000" y="333360"/>
            <a:ext cx="3672000" cy="431316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2" descr=""/>
          <p:cNvPicPr/>
          <p:nvPr/>
        </p:nvPicPr>
        <p:blipFill>
          <a:blip r:embed="rId2"/>
          <a:stretch/>
        </p:blipFill>
        <p:spPr>
          <a:xfrm>
            <a:off x="1262160" y="4919760"/>
            <a:ext cx="75578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002200" cy="39592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2" descr=""/>
          <p:cNvPicPr/>
          <p:nvPr/>
        </p:nvPicPr>
        <p:blipFill>
          <a:blip r:embed="rId2"/>
          <a:stretch/>
        </p:blipFill>
        <p:spPr>
          <a:xfrm>
            <a:off x="396720" y="5048280"/>
            <a:ext cx="79790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400720" cy="489600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2" descr=""/>
          <p:cNvPicPr/>
          <p:nvPr/>
        </p:nvPicPr>
        <p:blipFill>
          <a:blip r:embed="rId2"/>
          <a:stretch/>
        </p:blipFill>
        <p:spPr>
          <a:xfrm>
            <a:off x="324000" y="5145120"/>
            <a:ext cx="8496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396720" y="4286160"/>
            <a:ext cx="7912080" cy="15652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"/>
          <p:cNvPicPr/>
          <p:nvPr/>
        </p:nvPicPr>
        <p:blipFill>
          <a:blip r:embed="rId2"/>
          <a:stretch/>
        </p:blipFill>
        <p:spPr>
          <a:xfrm>
            <a:off x="1116000" y="650880"/>
            <a:ext cx="6408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1792440" y="4286160"/>
            <a:ext cx="6516360" cy="15652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61214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SWScan00001"/>
          <p:cNvPicPr/>
          <p:nvPr/>
        </p:nvPicPr>
        <p:blipFill>
          <a:blip r:embed="rId1"/>
          <a:stretch/>
        </p:blipFill>
        <p:spPr>
          <a:xfrm>
            <a:off x="2700360" y="333360"/>
            <a:ext cx="3743280" cy="522936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2" descr=""/>
          <p:cNvPicPr/>
          <p:nvPr/>
        </p:nvPicPr>
        <p:blipFill>
          <a:blip r:embed="rId2"/>
          <a:stretch/>
        </p:blipFill>
        <p:spPr>
          <a:xfrm>
            <a:off x="396720" y="5467320"/>
            <a:ext cx="82598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"/>
          <p:cNvPicPr/>
          <p:nvPr/>
        </p:nvPicPr>
        <p:blipFill>
          <a:blip r:embed="rId1"/>
          <a:stretch/>
        </p:blipFill>
        <p:spPr>
          <a:xfrm>
            <a:off x="84240" y="146160"/>
            <a:ext cx="9059760" cy="5443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68360" y="5805360"/>
            <a:ext cx="842472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25560" algn="ctr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5560" algn="ctr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5560" algn="ctr">
              <a:lnSpc>
                <a:spcPct val="8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cc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6:33:29Z</dcterms:created>
  <dc:creator>АНДРЕЙ</dc:creator>
  <dc:description/>
  <dc:language>en-US</dc:language>
  <cp:lastModifiedBy>ОЛЯ</cp:lastModifiedBy>
  <cp:lastPrinted>2017-09-15T07:42:38Z</cp:lastPrinted>
  <dcterms:modified xsi:type="dcterms:W3CDTF">2017-09-15T07:44:48Z</dcterms:modified>
  <cp:revision>34</cp:revision>
  <dc:subject/>
  <dc:title>Слайд 1</dc:title>
</cp:coreProperties>
</file>