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7E2-07E8-4E9C-B31E-C88276C3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2BC-3B5F-405F-B039-95E55650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952E-13AD-4612-A418-22A522E8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2C6-F473-4CE6-BF5A-18CBAB29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5D49-3BC0-4574-87F9-1ED6FD36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460D-5CDA-4E28-87F6-BACE0AD8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183E-5CA9-4D5D-ADCC-E23A5CD4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5C7C-423D-4276-8D79-D6F170A6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A46F-AC38-4567-B72D-2F588E28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576A-3915-4A94-81E5-143898D1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4441-0749-498F-B2A6-65FC7612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35CB-87BF-40AD-8832-D1317335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363E-255C-41A1-BC9A-BD5DEE01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FBD8-1E56-403A-B44F-AEFAC0BE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8B63-09AC-473F-A672-EE048BAD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DBBA-2327-4FED-8A63-31B18783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640E-A8F0-4073-B8E7-99E30F46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B448-B9BC-4666-83AC-4C1C0D8C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3F0-73A2-489F-A388-B9BA4055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37E-931D-451F-BBCC-FFA4B8C3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DDDB-6184-489F-99B5-FA464949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4877-22E2-4E4F-AB2E-31D0F849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A22-AAFE-45E3-B8C9-30227AD5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EF33-870A-46C5-93DE-EC4D5FFD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240"/>
                <a:chOff x="852840" y="4051080"/>
                <a:chExt cx="1833120" cy="16682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3800"/>
                    <a:gd name="textAreaBottom" fmla="*/ 1244160 h 12438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0480"/>
                    <a:gd name="textAreaBottom" fmla="*/ 510840 h 5104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480" y="5567400"/>
                  <a:ext cx="200880" cy="860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F4E9-8E16-4BE8-BAA9-7B8A5FDAFD3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8640" y="62280"/>
              <a:ext cx="3621600" cy="6130800"/>
              <a:chOff x="5408640" y="62280"/>
              <a:chExt cx="362160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7760"/>
                <a:ext cx="2116800" cy="235224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0 h 2352240"/>
                  <a:gd name="textAreaBottom" fmla="*/ 2352240 h 23522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56960"/>
                <a:ext cx="906840" cy="84096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360 h 840960"/>
                  <a:gd name="textAreaBottom" fmla="*/ 841680 h 8409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8760"/>
                <a:ext cx="439920" cy="39420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-360 h 394200"/>
                  <a:gd name="textAreaBottom" fmla="*/ 394200 h 39420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4640"/>
                <a:ext cx="388800" cy="5493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49360"/>
                  <a:gd name="textAreaBottom" fmla="*/ 550080 h 5493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5280" y="2647440"/>
                <a:ext cx="163440" cy="33048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0480"/>
                  <a:gd name="textAreaBottom" fmla="*/ 331200 h 33048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200" y="1243080"/>
                <a:ext cx="190440" cy="1425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7240"/>
                <a:ext cx="523800" cy="32616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1600"/>
                  <a:gd name="textAreaBottom" fmla="*/ 3262320 h 32616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>
                  <a:gd name="textAreaLeft" fmla="*/ 0 w 315000"/>
                  <a:gd name="textAreaRight" fmla="*/ 315360 w 3150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6E29-415A-4DB5-81FB-97E9D7418D1F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5"/>
          <p:cNvSpPr/>
          <p:nvPr/>
        </p:nvSpPr>
        <p:spPr>
          <a:xfrm>
            <a:off x="1816200" y="3587760"/>
            <a:ext cx="599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Составитель:учитель истории и обществознания, педагог дополнительного образован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Зайцева О.Н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2016-2017 гг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МОУ Репьёвская СОШ им. Героя Советского Союза Карпова Н. Ф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Прямоугольник 5" descr=""/>
          <p:cNvPicPr/>
          <p:nvPr/>
        </p:nvPicPr>
        <p:blipFill>
          <a:blip r:embed="rId1"/>
          <a:stretch/>
        </p:blipFill>
        <p:spPr>
          <a:xfrm>
            <a:off x="822240" y="324000"/>
            <a:ext cx="72849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1" descr=""/>
          <p:cNvPicPr/>
          <p:nvPr/>
        </p:nvPicPr>
        <p:blipFill>
          <a:blip r:embed="rId1"/>
          <a:stretch/>
        </p:blipFill>
        <p:spPr>
          <a:xfrm>
            <a:off x="1590840" y="165240"/>
            <a:ext cx="5962320" cy="108396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4" descr=""/>
          <p:cNvPicPr/>
          <p:nvPr/>
        </p:nvPicPr>
        <p:blipFill>
          <a:blip r:embed="rId2"/>
          <a:stretch/>
        </p:blipFill>
        <p:spPr>
          <a:xfrm>
            <a:off x="317520" y="1176480"/>
            <a:ext cx="8655120" cy="658800"/>
          </a:xfrm>
          <a:prstGeom prst="rect">
            <a:avLst/>
          </a:prstGeom>
          <a:ln w="0">
            <a:noFill/>
          </a:ln>
        </p:spPr>
      </p:pic>
      <p:sp>
        <p:nvSpPr>
          <p:cNvPr id="197" name="Блок-схема: процесс 5"/>
          <p:cNvSpPr/>
          <p:nvPr/>
        </p:nvSpPr>
        <p:spPr>
          <a:xfrm>
            <a:off x="395280" y="1844640"/>
            <a:ext cx="2521080" cy="1655640"/>
          </a:xfrm>
          <a:prstGeom prst="flowChartProcess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Блок-схема: процесс 6"/>
          <p:cNvSpPr/>
          <p:nvPr/>
        </p:nvSpPr>
        <p:spPr>
          <a:xfrm>
            <a:off x="3132000" y="1844640"/>
            <a:ext cx="2880000" cy="1692360"/>
          </a:xfrm>
          <a:prstGeom prst="flowChartProcess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Блок-схема: процесс 7"/>
          <p:cNvSpPr/>
          <p:nvPr/>
        </p:nvSpPr>
        <p:spPr>
          <a:xfrm>
            <a:off x="6227640" y="1773360"/>
            <a:ext cx="2376720" cy="1692000"/>
          </a:xfrm>
          <a:prstGeom prst="flowChartProcess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611280" y="20606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«Связь поколений»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3276720" y="184464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«История  образования в с.Репьёвка»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6372360" y="206064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«Дети войны»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Прямоугольник 13"/>
          <p:cNvSpPr/>
          <p:nvPr/>
        </p:nvSpPr>
        <p:spPr>
          <a:xfrm>
            <a:off x="3203640" y="4076640"/>
            <a:ext cx="2808360" cy="163512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TextBox 14"/>
          <p:cNvSpPr/>
          <p:nvPr/>
        </p:nvSpPr>
        <p:spPr>
          <a:xfrm flipH="1">
            <a:off x="3202920" y="407664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«Моя семья в годы войны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Прямоугольник 1" descr=""/>
          <p:cNvPicPr/>
          <p:nvPr/>
        </p:nvPicPr>
        <p:blipFill>
          <a:blip r:embed="rId1"/>
          <a:stretch/>
        </p:blipFill>
        <p:spPr>
          <a:xfrm>
            <a:off x="1590840" y="66600"/>
            <a:ext cx="5962320" cy="12384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3"/>
          <p:cNvSpPr/>
          <p:nvPr/>
        </p:nvSpPr>
        <p:spPr>
          <a:xfrm>
            <a:off x="1692360" y="148428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«Имя Героя – школе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«Школьный музей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«Живая история»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одержимое 3" descr="IMG_0747.JPG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3"/>
          <p:cNvSpPr/>
          <p:nvPr/>
        </p:nvSpPr>
        <p:spPr>
          <a:xfrm>
            <a:off x="468360" y="4762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41"/>
                </a:solidFill>
                <a:latin typeface="Verdana"/>
              </a:rPr>
              <a:t>«Дети войны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3"/>
          <p:cNvSpPr/>
          <p:nvPr/>
        </p:nvSpPr>
        <p:spPr>
          <a:xfrm>
            <a:off x="3929040" y="428760"/>
            <a:ext cx="1214640" cy="1000080"/>
          </a:xfrm>
          <a:prstGeom prst="rect">
            <a:avLst/>
          </a:prstGeom>
          <a:solidFill>
            <a:srgbClr val="004d4d"/>
          </a:solidFill>
          <a:ln w="25560">
            <a:solidFill>
              <a:srgbClr val="fff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4ee6b"/>
                </a:solidFill>
                <a:latin typeface="Verdana"/>
              </a:rPr>
              <a:t>я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1857240" y="1357200"/>
            <a:ext cx="1285920" cy="571680"/>
          </a:xfrm>
          <a:prstGeom prst="rect">
            <a:avLst/>
          </a:prstGeom>
          <a:solidFill>
            <a:srgbClr val="c6f07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Мельникова Альбина Фаатовна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Прямоугольник 5"/>
          <p:cNvSpPr/>
          <p:nvPr/>
        </p:nvSpPr>
        <p:spPr>
          <a:xfrm>
            <a:off x="6000840" y="1357200"/>
            <a:ext cx="1285920" cy="571680"/>
          </a:xfrm>
          <a:prstGeom prst="rect">
            <a:avLst/>
          </a:prstGeom>
          <a:solidFill>
            <a:srgbClr val="71c6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Кондрашов Дмитрий Александрович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Прямоугольник 6"/>
          <p:cNvSpPr/>
          <p:nvPr/>
        </p:nvSpPr>
        <p:spPr>
          <a:xfrm>
            <a:off x="857160" y="2286000"/>
            <a:ext cx="1285920" cy="571680"/>
          </a:xfrm>
          <a:prstGeom prst="rect">
            <a:avLst/>
          </a:prstGeom>
          <a:solidFill>
            <a:srgbClr val="c6f07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Шиябова Римма Мугутасимовна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Прямоугольник 7"/>
          <p:cNvSpPr/>
          <p:nvPr/>
        </p:nvSpPr>
        <p:spPr>
          <a:xfrm>
            <a:off x="4857840" y="2286000"/>
            <a:ext cx="1285920" cy="571680"/>
          </a:xfrm>
          <a:prstGeom prst="rect">
            <a:avLst/>
          </a:prstGeom>
          <a:solidFill>
            <a:srgbClr val="71c6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Котова Тамара Тимофеевн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Прямоугольник 8"/>
          <p:cNvSpPr/>
          <p:nvPr/>
        </p:nvSpPr>
        <p:spPr>
          <a:xfrm>
            <a:off x="2786040" y="2286000"/>
            <a:ext cx="1285920" cy="571680"/>
          </a:xfrm>
          <a:prstGeom prst="rect">
            <a:avLst/>
          </a:prstGeom>
          <a:solidFill>
            <a:srgbClr val="c6f07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Хисамутдинов Фаат Ханафеевич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Прямоугольник 9"/>
          <p:cNvSpPr/>
          <p:nvPr/>
        </p:nvSpPr>
        <p:spPr>
          <a:xfrm>
            <a:off x="7143840" y="2214720"/>
            <a:ext cx="1285920" cy="571320"/>
          </a:xfrm>
          <a:prstGeom prst="rect">
            <a:avLst/>
          </a:prstGeom>
          <a:solidFill>
            <a:srgbClr val="71c6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Кондрашов Александр Иванович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Прямоугольник 10"/>
          <p:cNvSpPr/>
          <p:nvPr/>
        </p:nvSpPr>
        <p:spPr>
          <a:xfrm>
            <a:off x="1143000" y="4286160"/>
            <a:ext cx="1285920" cy="571680"/>
          </a:xfrm>
          <a:prstGeom prst="rect">
            <a:avLst/>
          </a:prstGeom>
          <a:solidFill>
            <a:srgbClr val="c6f07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Байгурова Роз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Прямоугольник 11"/>
          <p:cNvSpPr/>
          <p:nvPr/>
        </p:nvSpPr>
        <p:spPr>
          <a:xfrm>
            <a:off x="142920" y="3357720"/>
            <a:ext cx="1285920" cy="571320"/>
          </a:xfrm>
          <a:prstGeom prst="rect">
            <a:avLst/>
          </a:prstGeom>
          <a:solidFill>
            <a:srgbClr val="c6f07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Шиябов Мугутасим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Прямоугольник 12"/>
          <p:cNvSpPr/>
          <p:nvPr/>
        </p:nvSpPr>
        <p:spPr>
          <a:xfrm>
            <a:off x="2286000" y="3143160"/>
            <a:ext cx="1285920" cy="571680"/>
          </a:xfrm>
          <a:prstGeom prst="rect">
            <a:avLst/>
          </a:prstGeom>
          <a:solidFill>
            <a:srgbClr val="c6f07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Хисамутдинов Ханавей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Прямоугольник 13"/>
          <p:cNvSpPr/>
          <p:nvPr/>
        </p:nvSpPr>
        <p:spPr>
          <a:xfrm>
            <a:off x="2928960" y="4286160"/>
            <a:ext cx="1285920" cy="571680"/>
          </a:xfrm>
          <a:prstGeom prst="rect">
            <a:avLst/>
          </a:prstGeom>
          <a:solidFill>
            <a:srgbClr val="c6f07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Абдурахманова Нури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Прямоугольник 14"/>
          <p:cNvSpPr/>
          <p:nvPr/>
        </p:nvSpPr>
        <p:spPr>
          <a:xfrm>
            <a:off x="4429080" y="3571920"/>
            <a:ext cx="1285920" cy="571320"/>
          </a:xfrm>
          <a:prstGeom prst="rect">
            <a:avLst/>
          </a:prstGeom>
          <a:solidFill>
            <a:srgbClr val="71c6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Котов Тимофей Кузьмич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Прямоугольник 15"/>
          <p:cNvSpPr/>
          <p:nvPr/>
        </p:nvSpPr>
        <p:spPr>
          <a:xfrm>
            <a:off x="6500880" y="4143240"/>
            <a:ext cx="1285920" cy="571680"/>
          </a:xfrm>
          <a:prstGeom prst="rect">
            <a:avLst/>
          </a:prstGeom>
          <a:solidFill>
            <a:srgbClr val="71c6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догова Евдокия Фёдоровн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Прямоугольник 16"/>
          <p:cNvSpPr/>
          <p:nvPr/>
        </p:nvSpPr>
        <p:spPr>
          <a:xfrm>
            <a:off x="6429240" y="3071880"/>
            <a:ext cx="1285920" cy="571320"/>
          </a:xfrm>
          <a:prstGeom prst="rect">
            <a:avLst/>
          </a:prstGeom>
          <a:solidFill>
            <a:srgbClr val="71c6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Кондрашова Лидия Ивановн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Прямоугольник 17"/>
          <p:cNvSpPr/>
          <p:nvPr/>
        </p:nvSpPr>
        <p:spPr>
          <a:xfrm>
            <a:off x="7858080" y="3286080"/>
            <a:ext cx="1285920" cy="571680"/>
          </a:xfrm>
          <a:prstGeom prst="rect">
            <a:avLst/>
          </a:prstGeom>
          <a:solidFill>
            <a:srgbClr val="71c6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Кондрашов Иван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Прямоугольник 18"/>
          <p:cNvSpPr/>
          <p:nvPr/>
        </p:nvSpPr>
        <p:spPr>
          <a:xfrm>
            <a:off x="285840" y="5286240"/>
            <a:ext cx="1285920" cy="571680"/>
          </a:xfrm>
          <a:prstGeom prst="rect">
            <a:avLst/>
          </a:prstGeom>
          <a:solidFill>
            <a:srgbClr val="c6f07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айгуро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Прямоугольник 19"/>
          <p:cNvSpPr/>
          <p:nvPr/>
        </p:nvSpPr>
        <p:spPr>
          <a:xfrm>
            <a:off x="1928880" y="5357880"/>
            <a:ext cx="1285920" cy="571320"/>
          </a:xfrm>
          <a:prstGeom prst="rect">
            <a:avLst/>
          </a:prstGeom>
          <a:solidFill>
            <a:srgbClr val="c6f07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Шувалов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Прямоугольник 20"/>
          <p:cNvSpPr/>
          <p:nvPr/>
        </p:nvSpPr>
        <p:spPr>
          <a:xfrm>
            <a:off x="4071960" y="5500800"/>
            <a:ext cx="1285920" cy="571320"/>
          </a:xfrm>
          <a:prstGeom prst="rect">
            <a:avLst/>
          </a:prstGeom>
          <a:solidFill>
            <a:srgbClr val="71c6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Котов Кузьма Иванович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Прямоугольник 21"/>
          <p:cNvSpPr/>
          <p:nvPr/>
        </p:nvSpPr>
        <p:spPr>
          <a:xfrm>
            <a:off x="5072040" y="4643280"/>
            <a:ext cx="1285920" cy="571680"/>
          </a:xfrm>
          <a:prstGeom prst="rect">
            <a:avLst/>
          </a:prstGeom>
          <a:solidFill>
            <a:srgbClr val="71c6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Котова Татьяна Ивановн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Прямоугольник 22"/>
          <p:cNvSpPr/>
          <p:nvPr/>
        </p:nvSpPr>
        <p:spPr>
          <a:xfrm>
            <a:off x="6429240" y="5715000"/>
            <a:ext cx="1285920" cy="571680"/>
          </a:xfrm>
          <a:prstGeom prst="rect">
            <a:avLst/>
          </a:prstGeom>
          <a:solidFill>
            <a:srgbClr val="71c6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догова Евдокия Степановн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Прямоугольник 23"/>
          <p:cNvSpPr/>
          <p:nvPr/>
        </p:nvSpPr>
        <p:spPr>
          <a:xfrm>
            <a:off x="7572240" y="5000760"/>
            <a:ext cx="1285920" cy="571320"/>
          </a:xfrm>
          <a:prstGeom prst="rect">
            <a:avLst/>
          </a:prstGeom>
          <a:solidFill>
            <a:srgbClr val="71c6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догов Фёдор Иванович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Стрелка углом вверх 35"/>
          <p:cNvSpPr/>
          <p:nvPr/>
        </p:nvSpPr>
        <p:spPr>
          <a:xfrm rot="10800000">
            <a:off x="2500200" y="713520"/>
            <a:ext cx="1285920" cy="500040"/>
          </a:xfrm>
          <a:custGeom>
            <a:avLst/>
            <a:gdLst>
              <a:gd name="textAreaLeft" fmla="*/ 0 w 1285920"/>
              <a:gd name="textAreaRight" fmla="*/ 1223640 w 1285920"/>
              <a:gd name="textAreaTop" fmla="*/ 375120 h 500040"/>
              <a:gd name="textAreaBottom" fmla="*/ 500400 h 500040"/>
            </a:gdLst>
            <a:ahLst/>
            <a:rect l="textAreaLeft" t="textAreaTop" r="textAreaRight" b="textAreaBottom"/>
            <a:pathLst>
              <a:path w="1285875" h="500063">
                <a:moveTo>
                  <a:pt x="0" y="375047"/>
                </a:moveTo>
                <a:lnTo>
                  <a:pt x="1098351" y="375047"/>
                </a:lnTo>
                <a:lnTo>
                  <a:pt x="1098351" y="125016"/>
                </a:lnTo>
                <a:lnTo>
                  <a:pt x="1035844" y="125016"/>
                </a:lnTo>
                <a:lnTo>
                  <a:pt x="1160859" y="0"/>
                </a:lnTo>
                <a:lnTo>
                  <a:pt x="1285875" y="125016"/>
                </a:lnTo>
                <a:lnTo>
                  <a:pt x="1223367" y="125016"/>
                </a:lnTo>
                <a:lnTo>
                  <a:pt x="1223367" y="500063"/>
                </a:lnTo>
                <a:lnTo>
                  <a:pt x="0" y="500063"/>
                </a:lnTo>
                <a:close/>
              </a:path>
            </a:pathLst>
          </a:custGeom>
          <a:solidFill>
            <a:srgbClr val="95d819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Стрелка углом вверх 36"/>
          <p:cNvSpPr/>
          <p:nvPr/>
        </p:nvSpPr>
        <p:spPr>
          <a:xfrm flipV="1">
            <a:off x="5286240" y="713160"/>
            <a:ext cx="1214640" cy="500040"/>
          </a:xfrm>
          <a:custGeom>
            <a:avLst/>
            <a:gdLst>
              <a:gd name="textAreaLeft" fmla="*/ 0 w 1214640"/>
              <a:gd name="textAreaRight" fmla="*/ 1152360 w 1214640"/>
              <a:gd name="textAreaTop" fmla="*/ 374760 h 500040"/>
              <a:gd name="textAreaBottom" fmla="*/ 500040 h 500040"/>
            </a:gdLst>
            <a:ahLst/>
            <a:rect l="textAreaLeft" t="textAreaTop" r="textAreaRight" b="textAreaBottom"/>
            <a:pathLst>
              <a:path w="1214438" h="500063">
                <a:moveTo>
                  <a:pt x="0" y="375047"/>
                </a:moveTo>
                <a:lnTo>
                  <a:pt x="1026914" y="375047"/>
                </a:lnTo>
                <a:lnTo>
                  <a:pt x="1026914" y="182878"/>
                </a:lnTo>
                <a:lnTo>
                  <a:pt x="964407" y="182878"/>
                </a:lnTo>
                <a:lnTo>
                  <a:pt x="1089422" y="0"/>
                </a:lnTo>
                <a:lnTo>
                  <a:pt x="1214438" y="182878"/>
                </a:lnTo>
                <a:lnTo>
                  <a:pt x="1151930" y="182878"/>
                </a:lnTo>
                <a:lnTo>
                  <a:pt x="1151930" y="500063"/>
                </a:lnTo>
                <a:lnTo>
                  <a:pt x="0" y="500063"/>
                </a:lnTo>
                <a:close/>
              </a:path>
            </a:pathLst>
          </a:custGeom>
          <a:solidFill>
            <a:srgbClr val="0093f5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Стрелка углом вверх 37"/>
          <p:cNvSpPr/>
          <p:nvPr/>
        </p:nvSpPr>
        <p:spPr>
          <a:xfrm rot="10800000">
            <a:off x="999720" y="1714320"/>
            <a:ext cx="785880" cy="500040"/>
          </a:xfrm>
          <a:custGeom>
            <a:avLst/>
            <a:gdLst>
              <a:gd name="textAreaLeft" fmla="*/ 0 w 785880"/>
              <a:gd name="textAreaRight" fmla="*/ 723600 w 785880"/>
              <a:gd name="textAreaTop" fmla="*/ 375120 h 500040"/>
              <a:gd name="textAreaBottom" fmla="*/ 500400 h 500040"/>
            </a:gdLst>
            <a:ahLst/>
            <a:rect l="textAreaLeft" t="textAreaTop" r="textAreaRight" b="textAreaBottom"/>
            <a:pathLst>
              <a:path w="785813" h="500063">
                <a:moveTo>
                  <a:pt x="0" y="375047"/>
                </a:moveTo>
                <a:lnTo>
                  <a:pt x="598289" y="375047"/>
                </a:lnTo>
                <a:lnTo>
                  <a:pt x="598289" y="125016"/>
                </a:lnTo>
                <a:lnTo>
                  <a:pt x="535782" y="125016"/>
                </a:lnTo>
                <a:lnTo>
                  <a:pt x="660797" y="0"/>
                </a:lnTo>
                <a:lnTo>
                  <a:pt x="785813" y="125016"/>
                </a:lnTo>
                <a:lnTo>
                  <a:pt x="723305" y="125016"/>
                </a:lnTo>
                <a:lnTo>
                  <a:pt x="723305" y="500063"/>
                </a:lnTo>
                <a:lnTo>
                  <a:pt x="0" y="500063"/>
                </a:lnTo>
                <a:close/>
              </a:path>
            </a:pathLst>
          </a:custGeom>
          <a:solidFill>
            <a:srgbClr val="95d819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Стрелка углом вверх 38"/>
          <p:cNvSpPr/>
          <p:nvPr/>
        </p:nvSpPr>
        <p:spPr>
          <a:xfrm rot="10800000">
            <a:off x="356760" y="2714400"/>
            <a:ext cx="500040" cy="500040"/>
          </a:xfrm>
          <a:custGeom>
            <a:avLst/>
            <a:gdLst>
              <a:gd name="textAreaLeft" fmla="*/ 0 w 500040"/>
              <a:gd name="textAreaRight" fmla="*/ 437760 w 500040"/>
              <a:gd name="textAreaTop" fmla="*/ 375120 h 500040"/>
              <a:gd name="textAreaBottom" fmla="*/ 500400 h 500040"/>
            </a:gdLst>
            <a:ahLst/>
            <a:rect l="textAreaLeft" t="textAreaTop" r="textAreaRight" b="textAreaBottom"/>
            <a:pathLst>
              <a:path w="500062" h="500063">
                <a:moveTo>
                  <a:pt x="0" y="375048"/>
                </a:moveTo>
                <a:lnTo>
                  <a:pt x="312539" y="375048"/>
                </a:lnTo>
                <a:lnTo>
                  <a:pt x="312539" y="125016"/>
                </a:lnTo>
                <a:lnTo>
                  <a:pt x="250031" y="125016"/>
                </a:lnTo>
                <a:lnTo>
                  <a:pt x="375047" y="0"/>
                </a:lnTo>
                <a:lnTo>
                  <a:pt x="500062" y="125016"/>
                </a:lnTo>
                <a:lnTo>
                  <a:pt x="437554" y="125016"/>
                </a:lnTo>
                <a:lnTo>
                  <a:pt x="437554" y="500063"/>
                </a:lnTo>
                <a:lnTo>
                  <a:pt x="0" y="500063"/>
                </a:lnTo>
                <a:close/>
              </a:path>
            </a:pathLst>
          </a:custGeom>
          <a:solidFill>
            <a:srgbClr val="95d819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Стрелка углом вверх 39"/>
          <p:cNvSpPr/>
          <p:nvPr/>
        </p:nvSpPr>
        <p:spPr>
          <a:xfrm rot="10800000">
            <a:off x="499680" y="4643280"/>
            <a:ext cx="500040" cy="500400"/>
          </a:xfrm>
          <a:custGeom>
            <a:avLst/>
            <a:gdLst>
              <a:gd name="textAreaLeft" fmla="*/ 0 w 500040"/>
              <a:gd name="textAreaRight" fmla="*/ 437760 w 500040"/>
              <a:gd name="textAreaTop" fmla="*/ 375480 h 500400"/>
              <a:gd name="textAreaBottom" fmla="*/ 500760 h 500400"/>
            </a:gdLst>
            <a:ahLst/>
            <a:rect l="textAreaLeft" t="textAreaTop" r="textAreaRight" b="textAreaBottom"/>
            <a:pathLst>
              <a:path w="500062" h="500062">
                <a:moveTo>
                  <a:pt x="0" y="375047"/>
                </a:moveTo>
                <a:lnTo>
                  <a:pt x="312539" y="375047"/>
                </a:lnTo>
                <a:lnTo>
                  <a:pt x="312539" y="125016"/>
                </a:lnTo>
                <a:lnTo>
                  <a:pt x="250031" y="125016"/>
                </a:lnTo>
                <a:lnTo>
                  <a:pt x="375047" y="0"/>
                </a:lnTo>
                <a:lnTo>
                  <a:pt x="500062" y="125016"/>
                </a:lnTo>
                <a:lnTo>
                  <a:pt x="437554" y="125016"/>
                </a:lnTo>
                <a:lnTo>
                  <a:pt x="437554" y="500062"/>
                </a:lnTo>
                <a:lnTo>
                  <a:pt x="0" y="500062"/>
                </a:lnTo>
                <a:close/>
              </a:path>
            </a:pathLst>
          </a:custGeom>
          <a:solidFill>
            <a:srgbClr val="95d819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Стрелка углом вверх 40"/>
          <p:cNvSpPr/>
          <p:nvPr/>
        </p:nvSpPr>
        <p:spPr>
          <a:xfrm rot="10800000">
            <a:off x="5143680" y="1642680"/>
            <a:ext cx="785520" cy="500040"/>
          </a:xfrm>
          <a:custGeom>
            <a:avLst/>
            <a:gdLst>
              <a:gd name="textAreaLeft" fmla="*/ 0 w 785520"/>
              <a:gd name="textAreaRight" fmla="*/ 723240 w 785520"/>
              <a:gd name="textAreaTop" fmla="*/ 375120 h 500040"/>
              <a:gd name="textAreaBottom" fmla="*/ 500400 h 500040"/>
            </a:gdLst>
            <a:ahLst/>
            <a:rect l="textAreaLeft" t="textAreaTop" r="textAreaRight" b="textAreaBottom"/>
            <a:pathLst>
              <a:path w="785813" h="500062">
                <a:moveTo>
                  <a:pt x="0" y="375047"/>
                </a:moveTo>
                <a:lnTo>
                  <a:pt x="598290" y="375047"/>
                </a:lnTo>
                <a:lnTo>
                  <a:pt x="598290" y="125016"/>
                </a:lnTo>
                <a:lnTo>
                  <a:pt x="535782" y="125016"/>
                </a:lnTo>
                <a:lnTo>
                  <a:pt x="660798" y="0"/>
                </a:lnTo>
                <a:lnTo>
                  <a:pt x="785813" y="125016"/>
                </a:lnTo>
                <a:lnTo>
                  <a:pt x="723305" y="125016"/>
                </a:lnTo>
                <a:lnTo>
                  <a:pt x="723305" y="500062"/>
                </a:lnTo>
                <a:lnTo>
                  <a:pt x="0" y="500062"/>
                </a:lnTo>
                <a:close/>
              </a:path>
            </a:pathLst>
          </a:custGeom>
          <a:solidFill>
            <a:srgbClr val="0093f5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Стрелка углом вверх 41"/>
          <p:cNvSpPr/>
          <p:nvPr/>
        </p:nvSpPr>
        <p:spPr>
          <a:xfrm rot="10800000">
            <a:off x="2356920" y="2571480"/>
            <a:ext cx="357480" cy="500040"/>
          </a:xfrm>
          <a:custGeom>
            <a:avLst/>
            <a:gdLst>
              <a:gd name="textAreaLeft" fmla="*/ 0 w 357480"/>
              <a:gd name="textAreaRight" fmla="*/ 312840 w 357480"/>
              <a:gd name="textAreaTop" fmla="*/ 410760 h 500040"/>
              <a:gd name="textAreaBottom" fmla="*/ 500400 h 500040"/>
            </a:gdLst>
            <a:ahLst/>
            <a:rect l="textAreaLeft" t="textAreaTop" r="textAreaRight" b="textAreaBottom"/>
            <a:pathLst>
              <a:path w="357187" h="500063">
                <a:moveTo>
                  <a:pt x="0" y="410766"/>
                </a:moveTo>
                <a:lnTo>
                  <a:pt x="223242" y="410766"/>
                </a:lnTo>
                <a:lnTo>
                  <a:pt x="223242" y="89297"/>
                </a:lnTo>
                <a:lnTo>
                  <a:pt x="178594" y="89297"/>
                </a:lnTo>
                <a:lnTo>
                  <a:pt x="267890" y="0"/>
                </a:lnTo>
                <a:lnTo>
                  <a:pt x="357187" y="89297"/>
                </a:lnTo>
                <a:lnTo>
                  <a:pt x="312539" y="89297"/>
                </a:lnTo>
                <a:lnTo>
                  <a:pt x="312539" y="500063"/>
                </a:lnTo>
                <a:lnTo>
                  <a:pt x="0" y="500063"/>
                </a:lnTo>
                <a:close/>
              </a:path>
            </a:pathLst>
          </a:custGeom>
          <a:solidFill>
            <a:srgbClr val="95d819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Стрелка углом вверх 42"/>
          <p:cNvSpPr/>
          <p:nvPr/>
        </p:nvSpPr>
        <p:spPr>
          <a:xfrm rot="10800000">
            <a:off x="6571800" y="2499840"/>
            <a:ext cx="500040" cy="500040"/>
          </a:xfrm>
          <a:custGeom>
            <a:avLst/>
            <a:gdLst>
              <a:gd name="textAreaLeft" fmla="*/ 0 w 500040"/>
              <a:gd name="textAreaRight" fmla="*/ 437760 w 500040"/>
              <a:gd name="textAreaTop" fmla="*/ 375120 h 500040"/>
              <a:gd name="textAreaBottom" fmla="*/ 500400 h 500040"/>
            </a:gdLst>
            <a:ahLst/>
            <a:rect l="textAreaLeft" t="textAreaTop" r="textAreaRight" b="textAreaBottom"/>
            <a:pathLst>
              <a:path w="500063" h="500062">
                <a:moveTo>
                  <a:pt x="0" y="375047"/>
                </a:moveTo>
                <a:lnTo>
                  <a:pt x="312540" y="375047"/>
                </a:lnTo>
                <a:lnTo>
                  <a:pt x="312540" y="125016"/>
                </a:lnTo>
                <a:lnTo>
                  <a:pt x="250032" y="125016"/>
                </a:lnTo>
                <a:lnTo>
                  <a:pt x="375048" y="0"/>
                </a:lnTo>
                <a:lnTo>
                  <a:pt x="500063" y="125016"/>
                </a:lnTo>
                <a:lnTo>
                  <a:pt x="437555" y="125016"/>
                </a:lnTo>
                <a:lnTo>
                  <a:pt x="437555" y="500062"/>
                </a:lnTo>
                <a:lnTo>
                  <a:pt x="0" y="500062"/>
                </a:lnTo>
                <a:close/>
              </a:path>
            </a:pathLst>
          </a:custGeom>
          <a:solidFill>
            <a:srgbClr val="0093f5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Стрелка углом вверх 43"/>
          <p:cNvSpPr/>
          <p:nvPr/>
        </p:nvSpPr>
        <p:spPr>
          <a:xfrm flipV="1">
            <a:off x="3214800" y="1714680"/>
            <a:ext cx="642960" cy="428400"/>
          </a:xfrm>
          <a:custGeom>
            <a:avLst/>
            <a:gdLst>
              <a:gd name="textAreaLeft" fmla="*/ 0 w 642960"/>
              <a:gd name="textAreaRight" fmla="*/ 589680 w 642960"/>
              <a:gd name="textAreaTop" fmla="*/ 321480 h 428400"/>
              <a:gd name="textAreaBottom" fmla="*/ 428760 h 428400"/>
            </a:gdLst>
            <a:ahLst/>
            <a:rect l="textAreaLeft" t="textAreaTop" r="textAreaRight" b="textAreaBottom"/>
            <a:pathLst>
              <a:path w="642937" h="428625">
                <a:moveTo>
                  <a:pt x="0" y="321469"/>
                </a:moveTo>
                <a:lnTo>
                  <a:pt x="482203" y="321469"/>
                </a:lnTo>
                <a:lnTo>
                  <a:pt x="482203" y="156752"/>
                </a:lnTo>
                <a:lnTo>
                  <a:pt x="428625" y="156752"/>
                </a:lnTo>
                <a:lnTo>
                  <a:pt x="535781" y="0"/>
                </a:lnTo>
                <a:lnTo>
                  <a:pt x="642937" y="156752"/>
                </a:lnTo>
                <a:lnTo>
                  <a:pt x="589359" y="156752"/>
                </a:lnTo>
                <a:lnTo>
                  <a:pt x="589359" y="428625"/>
                </a:lnTo>
                <a:lnTo>
                  <a:pt x="0" y="428625"/>
                </a:lnTo>
                <a:close/>
              </a:path>
            </a:pathLst>
          </a:custGeom>
          <a:solidFill>
            <a:srgbClr val="95d819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Стрелка углом вверх 44"/>
          <p:cNvSpPr/>
          <p:nvPr/>
        </p:nvSpPr>
        <p:spPr>
          <a:xfrm flipV="1">
            <a:off x="7358040" y="1571040"/>
            <a:ext cx="785880" cy="500040"/>
          </a:xfrm>
          <a:custGeom>
            <a:avLst/>
            <a:gdLst>
              <a:gd name="textAreaLeft" fmla="*/ 0 w 785880"/>
              <a:gd name="textAreaRight" fmla="*/ 723600 w 785880"/>
              <a:gd name="textAreaTop" fmla="*/ 374760 h 500040"/>
              <a:gd name="textAreaBottom" fmla="*/ 500040 h 500040"/>
            </a:gdLst>
            <a:ahLst/>
            <a:rect l="textAreaLeft" t="textAreaTop" r="textAreaRight" b="textAreaBottom"/>
            <a:pathLst>
              <a:path w="785812" h="500063">
                <a:moveTo>
                  <a:pt x="0" y="375047"/>
                </a:moveTo>
                <a:lnTo>
                  <a:pt x="598288" y="375047"/>
                </a:lnTo>
                <a:lnTo>
                  <a:pt x="598288" y="182878"/>
                </a:lnTo>
                <a:lnTo>
                  <a:pt x="535781" y="182878"/>
                </a:lnTo>
                <a:lnTo>
                  <a:pt x="660796" y="0"/>
                </a:lnTo>
                <a:lnTo>
                  <a:pt x="785812" y="182878"/>
                </a:lnTo>
                <a:lnTo>
                  <a:pt x="723304" y="182878"/>
                </a:lnTo>
                <a:lnTo>
                  <a:pt x="723304" y="500063"/>
                </a:lnTo>
                <a:lnTo>
                  <a:pt x="0" y="500063"/>
                </a:lnTo>
                <a:close/>
              </a:path>
            </a:pathLst>
          </a:custGeom>
          <a:solidFill>
            <a:srgbClr val="0093f5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Стрелка вниз 45"/>
          <p:cNvSpPr/>
          <p:nvPr/>
        </p:nvSpPr>
        <p:spPr>
          <a:xfrm>
            <a:off x="1714680" y="2928960"/>
            <a:ext cx="214200" cy="12859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95d81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Стрелка вниз 46"/>
          <p:cNvSpPr/>
          <p:nvPr/>
        </p:nvSpPr>
        <p:spPr>
          <a:xfrm>
            <a:off x="2143080" y="492912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95d81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Стрелка вниз 47"/>
          <p:cNvSpPr/>
          <p:nvPr/>
        </p:nvSpPr>
        <p:spPr>
          <a:xfrm>
            <a:off x="3786120" y="2928960"/>
            <a:ext cx="214560" cy="128592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95d81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Стрелка вниз 48"/>
          <p:cNvSpPr/>
          <p:nvPr/>
        </p:nvSpPr>
        <p:spPr>
          <a:xfrm>
            <a:off x="5000760" y="292896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93f5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Стрелка вниз 50"/>
          <p:cNvSpPr/>
          <p:nvPr/>
        </p:nvSpPr>
        <p:spPr>
          <a:xfrm>
            <a:off x="5357880" y="421488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0093f5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Стрелка вниз 51"/>
          <p:cNvSpPr/>
          <p:nvPr/>
        </p:nvSpPr>
        <p:spPr>
          <a:xfrm>
            <a:off x="4643280" y="4214880"/>
            <a:ext cx="214560" cy="121428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0093f5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Стрелка вниз 52"/>
          <p:cNvSpPr/>
          <p:nvPr/>
        </p:nvSpPr>
        <p:spPr>
          <a:xfrm rot="19500000">
            <a:off x="5905440" y="2779200"/>
            <a:ext cx="206280" cy="151308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0093f5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Стрелка вниз 53"/>
          <p:cNvSpPr/>
          <p:nvPr/>
        </p:nvSpPr>
        <p:spPr>
          <a:xfrm>
            <a:off x="8143920" y="278604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0093f5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Стрелка вниз 54"/>
          <p:cNvSpPr/>
          <p:nvPr/>
        </p:nvSpPr>
        <p:spPr>
          <a:xfrm>
            <a:off x="6929280" y="4786200"/>
            <a:ext cx="214560" cy="85752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93f5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Стрелка углом вверх 55"/>
          <p:cNvSpPr/>
          <p:nvPr/>
        </p:nvSpPr>
        <p:spPr>
          <a:xfrm flipV="1">
            <a:off x="7858080" y="4428360"/>
            <a:ext cx="785880" cy="500040"/>
          </a:xfrm>
          <a:custGeom>
            <a:avLst/>
            <a:gdLst>
              <a:gd name="textAreaLeft" fmla="*/ 0 w 785880"/>
              <a:gd name="textAreaRight" fmla="*/ 723600 w 785880"/>
              <a:gd name="textAreaTop" fmla="*/ 374760 h 500040"/>
              <a:gd name="textAreaBottom" fmla="*/ 500040 h 500040"/>
            </a:gdLst>
            <a:ahLst/>
            <a:rect l="textAreaLeft" t="textAreaTop" r="textAreaRight" b="textAreaBottom"/>
            <a:pathLst>
              <a:path w="785813" h="500063">
                <a:moveTo>
                  <a:pt x="0" y="375047"/>
                </a:moveTo>
                <a:lnTo>
                  <a:pt x="598289" y="375047"/>
                </a:lnTo>
                <a:lnTo>
                  <a:pt x="598289" y="182878"/>
                </a:lnTo>
                <a:lnTo>
                  <a:pt x="535782" y="182878"/>
                </a:lnTo>
                <a:lnTo>
                  <a:pt x="660797" y="0"/>
                </a:lnTo>
                <a:lnTo>
                  <a:pt x="785813" y="182878"/>
                </a:lnTo>
                <a:lnTo>
                  <a:pt x="723305" y="182878"/>
                </a:lnTo>
                <a:lnTo>
                  <a:pt x="723305" y="500063"/>
                </a:lnTo>
                <a:lnTo>
                  <a:pt x="0" y="500063"/>
                </a:lnTo>
                <a:close/>
              </a:path>
            </a:pathLst>
          </a:custGeom>
          <a:solidFill>
            <a:srgbClr val="0093f5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Box 49"/>
          <p:cNvSpPr/>
          <p:nvPr/>
        </p:nvSpPr>
        <p:spPr>
          <a:xfrm>
            <a:off x="3489840" y="0"/>
            <a:ext cx="40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«Мое родословие» Кондрашова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118944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Программа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Calibri"/>
              </a:rPr>
              <a:t>«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Наш край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Calibri"/>
              </a:rPr>
              <a:t>»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 изучается через кружок и занятия в музе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Программа рассчитана на 1 год изучения каждого уровня, изучив первый уровень, дети переходят к изучению второго. Для изучения всего материала программы потребуется 2 год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Особенностью программы является то, что каждый уровень обучения опирается на работу школьного музея. Он включает поисковую работу, пополнение музейных материалов, оформление альбомов и фотоальбомов, экспозиций, написание и защиту исследовательских рабо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Прямоугольник 3" descr=""/>
          <p:cNvPicPr/>
          <p:nvPr/>
        </p:nvPicPr>
        <p:blipFill>
          <a:blip r:embed="rId1"/>
          <a:stretch/>
        </p:blipFill>
        <p:spPr>
          <a:xfrm>
            <a:off x="1590840" y="-96840"/>
            <a:ext cx="59623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0" y="524520"/>
            <a:ext cx="9144000" cy="57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понимания необходимости сохранения общественной памяти народа, обеспечения преемственности поколени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объяснения исторически сложившихся норм социального поведе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конструктивного общения с людьми  старшего поколения, национальной и религиозной принадлежност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определения предмета собственного интереса в истории  нашего края и расширение знаний о нем в архиве, библиотеке, музее, Интернете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написания творческих работ (рефератов, докладов, эссе, презентаций, родословных, исследовательских работ), выполнение проектов, проведения экскурсий, интервьюирова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4" name="Прямоугольник 3" descr=""/>
          <p:cNvPicPr/>
          <p:nvPr/>
        </p:nvPicPr>
        <p:blipFill>
          <a:blip r:embed="rId1"/>
          <a:stretch/>
        </p:blipFill>
        <p:spPr>
          <a:xfrm>
            <a:off x="444600" y="-208080"/>
            <a:ext cx="82548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0" y="11358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Программа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Calibri"/>
              </a:rPr>
              <a:t>«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Наш край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Calibri"/>
              </a:rPr>
              <a:t>»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 изучается через кружок и занятия в музе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Программа рассчитана на 1 год изучения каждого уровня, изучив первый уровень, дети переходят к изучению второго. Для изучения всего материала программы потребуется 2 год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Особенностью программы является то, что каждый уровень обучения опирается на работу школьного музея. Он включает поисковую работу, пополнение музейных материалов, оформление альбомов и фотоальбомов, экспозиций, написание исследовательских работ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6" name="Прямоугольник 3" descr=""/>
          <p:cNvPicPr/>
          <p:nvPr/>
        </p:nvPicPr>
        <p:blipFill>
          <a:blip r:embed="rId1"/>
          <a:stretch/>
        </p:blipFill>
        <p:spPr>
          <a:xfrm>
            <a:off x="1590840" y="-85680"/>
            <a:ext cx="596232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0" y="333360"/>
          <a:ext cx="9144000" cy="6413400"/>
        </p:xfrm>
        <a:graphic>
          <a:graphicData uri="http://schemas.openxmlformats.org/drawingml/2006/table">
            <a:tbl>
              <a:tblPr/>
              <a:tblGrid>
                <a:gridCol w="696960"/>
                <a:gridCol w="2906640"/>
                <a:gridCol w="1384200"/>
                <a:gridCol w="1386000"/>
                <a:gridCol w="1384200"/>
                <a:gridCol w="1386000"/>
              </a:tblGrid>
              <a:tr h="320760"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Тема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Теория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Практика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Экскурсии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Всего,</a:t>
                      </a:r>
                      <a:r>
                        <a:rPr b="0" i="1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ч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21924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Введение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Наш край в древности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Основание Симбирска и освоение края в 17- 18 веках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Как появилось село Репьёвка?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Моя малая Родина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Бабушкины посиделки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Изучение семейных традиций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Природа нашего края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«Красная книга родного края»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Памятники истории нашего края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Творческий  конкурс – «Старая фотография рассказала…»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Моя родословная – нарисовать родословное древо.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История школы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Симбирск и губерния в 19 веке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Бестужевы и Репьёвка. Культурное наследие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Листая Книгу памяти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4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Rectangle 1"/>
          <p:cNvSpPr/>
          <p:nvPr/>
        </p:nvSpPr>
        <p:spPr>
          <a:xfrm>
            <a:off x="2138400" y="-31320"/>
            <a:ext cx="48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Calibri"/>
              </a:rPr>
              <a:t>Учебно-тематическое планирование кружка 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  <a:ea typeface="Calibri"/>
              </a:rPr>
              <a:t>«</a:t>
            </a: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Calibri"/>
              </a:rPr>
              <a:t>Наш край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  <a:ea typeface="Calibri"/>
              </a:rPr>
              <a:t>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79280" y="333360"/>
          <a:ext cx="8569440" cy="6518160"/>
        </p:xfrm>
        <a:graphic>
          <a:graphicData uri="http://schemas.openxmlformats.org/drawingml/2006/table">
            <a:tbl>
              <a:tblPr/>
              <a:tblGrid>
                <a:gridCol w="647640"/>
                <a:gridCol w="2716560"/>
                <a:gridCol w="1292040"/>
                <a:gridCol w="1292400"/>
                <a:gridCol w="1326960"/>
                <a:gridCol w="1293840"/>
              </a:tblGrid>
              <a:tr h="414360"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Теор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Практик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Экскурси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Всего,</a:t>
                      </a:r>
                      <a:r>
                        <a:rPr b="0" i="1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ч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525600"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Моя малая родина – часть Росси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Исчезнувшие сел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Социально- экономическое развитие края в 20 век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Культурная жизнь села в 20 веке. Наш край богат талантами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Трудные 90 – е годы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Листая книгу Памят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Современное образование. Мой профессиональный выбо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2280"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Юбилейные даты:2017 год – это 100-летие российской революции, 2018 – 100 лет со дня начала Гражданской войны, 2020 год – 150 лет со дня рождения Владимира Ленина, 2021 год – 140 лет со дня рождения Александра Керенского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Rectangle 1"/>
          <p:cNvSpPr/>
          <p:nvPr/>
        </p:nvSpPr>
        <p:spPr>
          <a:xfrm>
            <a:off x="0" y="97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Calibri"/>
              </a:rPr>
              <a:t>Учебно-тематическое планирование кружка 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  <a:ea typeface="Calibri"/>
              </a:rPr>
              <a:t>«</a:t>
            </a: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Calibri"/>
              </a:rPr>
              <a:t>Наш край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  <a:ea typeface="Calibri"/>
              </a:rPr>
              <a:t>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2"/>
          <p:cNvSpPr/>
          <p:nvPr/>
        </p:nvSpPr>
        <p:spPr>
          <a:xfrm>
            <a:off x="395280" y="1197000"/>
            <a:ext cx="856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езультатом  1 года обучения является участие в празднике, написание и защита рефератов, оформление альбомов, презентаций, выступление на школьной  конференци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179280" y="1628640"/>
            <a:ext cx="85694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Verdana"/>
              </a:rPr>
              <a:t>Направленность программы « Наш край 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одержанию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является краеведческо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функциональному предназначению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- учебно-познавательной. Предполагает изучение истории своего кра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форме организаци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—  кружково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времени реализаци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—  двухгодично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Прямоугольник 5" descr=""/>
          <p:cNvPicPr/>
          <p:nvPr/>
        </p:nvPicPr>
        <p:blipFill>
          <a:blip r:embed="rId1"/>
          <a:stretch/>
        </p:blipFill>
        <p:spPr>
          <a:xfrm>
            <a:off x="822240" y="414360"/>
            <a:ext cx="80042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0" y="5036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Результат 2 года обучен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Формой итогового контроля качества работы обучающихся является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способность заниматься исследовательской деятельностью индивидуально и в творческих группах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составление творческих отчетов и написание исследовательских работ краеведческого материала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выступление на районных конференциях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оформление музейных экспозиций, выставок-передвижек, фотоальбомов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проведение экскурсий, интервьюирован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 flipV="1" rot="10800000">
            <a:off x="248760" y="1268640"/>
            <a:ext cx="8355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Конвенция о правах ребенка (принята 20 ноября 1989 г. Резолюцией 44/25 Генеральной Ассамблеи ООН)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Закон РФ «Об образовании в Российской Федерации» от 29 декабря 2012 года № 273-ФЗ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новой концепции   - Историко – культурного стандарт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Прямоугольник 1" descr=""/>
          <p:cNvPicPr/>
          <p:nvPr/>
        </p:nvPicPr>
        <p:blipFill>
          <a:blip r:embed="rId1"/>
          <a:stretch/>
        </p:blipFill>
        <p:spPr>
          <a:xfrm>
            <a:off x="2189160" y="165240"/>
            <a:ext cx="4754520" cy="657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395280" y="112536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Интегрированный подход при изучение, исследовании истории Российского государства и населяющих его народов, истории регионов и локальной истории (прошлое родного  села,региона)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468360" y="227664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Обращение к ярким примерам трудовых и воинских подвигов многих поколений .Величие побед и тяжесть поражений убедительно раскрываются через жизнь и судьбы людей, присутствие « обычных людей» в конкретных событиях. Характеристика ценностей, мотивов поведения люде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468360" y="407664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Углублено изучение повседневной жизни людей в различные исторические эпох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539640" y="501336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Расширена работа с пожилыми жителями  села, живыми носителями изучаемой истории, культуры и традиций с. Репьёвка и соседних сел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Прямоугольник 1" descr=""/>
          <p:cNvPicPr/>
          <p:nvPr/>
        </p:nvPicPr>
        <p:blipFill>
          <a:blip r:embed="rId1"/>
          <a:stretch/>
        </p:blipFill>
        <p:spPr>
          <a:xfrm>
            <a:off x="1371600" y="-23760"/>
            <a:ext cx="6407280" cy="12063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468360" y="1197000"/>
            <a:ext cx="84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«Портрет»выпускника основной школы ориентирован на становление таких личностных характеристик как  любовь к  своему краю и Отечеству. Уважение к своему народу, его культуре и духовным традициям, активность и заинтересованность в  познании мира,  умение учиться, осознавать важность образования и самообразования для жизни и деятельности, социальная активность, уважение закона и правопорядка, соизмерение своих поступков с нравственными ценностями, осознание своих обязанностей перед семьёй, обществом, Отечество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Первым шагом к воспитанию такого человека может стать историческое краеведение.  Знание своего края, его прошлого и настоящего необходимо для непосредственного участия в его преобразовании, поскольку родной край - живая, деятельная частица всей страны. Краеведение, несомненно, рождает чувство патриотизма - глубокой любви к Родин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Прямоугольник 2" descr=""/>
          <p:cNvPicPr/>
          <p:nvPr/>
        </p:nvPicPr>
        <p:blipFill>
          <a:blip r:embed="rId1"/>
          <a:stretch/>
        </p:blipFill>
        <p:spPr>
          <a:xfrm>
            <a:off x="1590840" y="384120"/>
            <a:ext cx="5962320" cy="108432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3"/>
          <p:cNvSpPr/>
          <p:nvPr/>
        </p:nvSpPr>
        <p:spPr>
          <a:xfrm>
            <a:off x="684360" y="185904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Ставится не только образовательная задача - усвоение ребенком суммы сведений, краеведческих знаний, но и идет  процесс воспитания, формирования просвещенной личност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Таких нравственных качеств, как патриотизм, гражданственность, ответственность за судьбу села, страны, воспитание общей культур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539640" y="433080"/>
            <a:ext cx="799308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Создание условий для формирования у школьников способности к саморазвитию, самосознанию, самовоспитанию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Раскрыть их творческий и интеллектуальный потенциа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Способствовать духовно ценностной и практической ориентации учащихся в их жизненном пространстве и социальной адаптац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Прямоугольник 3" descr=""/>
          <p:cNvPicPr/>
          <p:nvPr/>
        </p:nvPicPr>
        <p:blipFill>
          <a:blip r:embed="rId1"/>
          <a:stretch/>
        </p:blipFill>
        <p:spPr>
          <a:xfrm>
            <a:off x="1590840" y="-96840"/>
            <a:ext cx="596232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 flipV="1" rot="10800000">
            <a:off x="324000" y="481320"/>
            <a:ext cx="8496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  <a:ea typeface="Calibri"/>
              </a:rPr>
              <a:t>Социально - педагогические(воспитание чувства любви к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Calibri"/>
              </a:rPr>
              <a:t>«</a:t>
            </a:r>
            <a:r>
              <a:rPr b="1" lang="en-US" sz="2000" spc="-1" strike="noStrike">
                <a:solidFill>
                  <a:srgbClr val="006699"/>
                </a:solidFill>
                <a:latin typeface="Times New Roman"/>
                <a:ea typeface="Calibri"/>
              </a:rPr>
              <a:t>малой родине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Calibri"/>
              </a:rPr>
              <a:t>»</a:t>
            </a:r>
            <a:r>
              <a:rPr b="1" lang="en-US" sz="2000" spc="-1" strike="noStrike">
                <a:solidFill>
                  <a:srgbClr val="006699"/>
                </a:solidFill>
                <a:latin typeface="Times New Roman"/>
                <a:ea typeface="Calibri"/>
              </a:rPr>
              <a:t>, гордости, сопричастности и ответственности за историю своей страны, воспитание бережного отношения к историческому наследию)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  <a:ea typeface="Calibri"/>
              </a:rPr>
              <a:t>Обучающие (обеспечить усвоение знаний по истории семьи, села, исторических личностей, связанных с историей края, изучение основ поисковой, исследовательской работы)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  <a:ea typeface="Calibri"/>
              </a:rPr>
              <a:t>Познавательные (формировать навыки работы с историческими источниками, мемуарной, научно-популярной литературой и периодической печатью)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  <a:ea typeface="Calibri"/>
              </a:rPr>
              <a:t>Развивающие (развитие потребности к самостоятельному изучению истории родного края; интеллектуальное, творческое развитие учащихся через самостоятельную исследовательскую деятельность)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  <a:ea typeface="Calibri"/>
              </a:rPr>
              <a:t>Мотивационные (создание комфортной обстановки и атмосферы сотрудничества, формирование желания продолжить образование по выбранной дисциплине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Прямоугольник 3" descr=""/>
          <p:cNvPicPr/>
          <p:nvPr/>
        </p:nvPicPr>
        <p:blipFill>
          <a:blip r:embed="rId1"/>
          <a:stretch/>
        </p:blipFill>
        <p:spPr>
          <a:xfrm>
            <a:off x="1616040" y="66600"/>
            <a:ext cx="593712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3492360" y="549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Прямоугольник 2" descr=""/>
          <p:cNvPicPr/>
          <p:nvPr/>
        </p:nvPicPr>
        <p:blipFill>
          <a:blip r:embed="rId1"/>
          <a:stretch/>
        </p:blipFill>
        <p:spPr>
          <a:xfrm>
            <a:off x="1060560" y="165240"/>
            <a:ext cx="7022880" cy="657000"/>
          </a:xfrm>
          <a:prstGeom prst="rect">
            <a:avLst/>
          </a:prstGeom>
          <a:ln w="0">
            <a:noFill/>
          </a:ln>
        </p:spPr>
      </p:pic>
      <p:cxnSp>
        <p:nvCxnSpPr>
          <p:cNvPr id="187" name="Прямая со стрелкой 7"/>
          <p:cNvCxnSpPr/>
          <p:nvPr/>
        </p:nvCxnSpPr>
        <p:spPr>
          <a:xfrm flipH="1">
            <a:off x="4066920" y="1268280"/>
            <a:ext cx="505440" cy="432720"/>
          </a:xfrm>
          <a:prstGeom prst="straightConnector1">
            <a:avLst/>
          </a:prstGeom>
          <a:ln w="9360">
            <a:solidFill>
              <a:srgbClr val="e8f5cc"/>
            </a:solidFill>
            <a:miter/>
            <a:tailEnd len="med" type="arrow" w="med"/>
          </a:ln>
        </p:spPr>
      </p:cxnSp>
      <p:sp>
        <p:nvSpPr>
          <p:cNvPr id="188" name="Прямоугольник 20"/>
          <p:cNvSpPr/>
          <p:nvPr/>
        </p:nvSpPr>
        <p:spPr>
          <a:xfrm>
            <a:off x="3059280" y="907920"/>
            <a:ext cx="3025440" cy="1944720"/>
          </a:xfrm>
          <a:prstGeom prst="rect">
            <a:avLst/>
          </a:prstGeom>
          <a:solidFill>
            <a:srgbClr val="b8e7ff"/>
          </a:solidFill>
          <a:ln w="25560">
            <a:solidFill>
              <a:srgbClr val="d5e0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Музейная  педагоги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Стрелка вниз 21"/>
          <p:cNvSpPr/>
          <p:nvPr/>
        </p:nvSpPr>
        <p:spPr>
          <a:xfrm>
            <a:off x="1403280" y="3068640"/>
            <a:ext cx="792360" cy="93672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Стрелка вниз 22"/>
          <p:cNvSpPr/>
          <p:nvPr/>
        </p:nvSpPr>
        <p:spPr>
          <a:xfrm>
            <a:off x="4211640" y="3141720"/>
            <a:ext cx="792000" cy="1008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Стрелка вниз 23"/>
          <p:cNvSpPr/>
          <p:nvPr/>
        </p:nvSpPr>
        <p:spPr>
          <a:xfrm>
            <a:off x="7164360" y="2924280"/>
            <a:ext cx="863640" cy="93636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Овал 24"/>
          <p:cNvSpPr/>
          <p:nvPr/>
        </p:nvSpPr>
        <p:spPr>
          <a:xfrm>
            <a:off x="900000" y="4292640"/>
            <a:ext cx="2016360" cy="1944720"/>
          </a:xfrm>
          <a:prstGeom prst="ellipse">
            <a:avLst/>
          </a:prstGeom>
          <a:gradFill rotWithShape="0">
            <a:gsLst>
              <a:gs pos="0">
                <a:srgbClr val="acb8bf"/>
              </a:gs>
              <a:gs pos="100000">
                <a:srgbClr val="e1f1fc"/>
              </a:gs>
            </a:gsLst>
            <a:lin ang="16200000"/>
          </a:gradFill>
          <a:ln w="9360">
            <a:solidFill>
              <a:srgbClr val="e5f2f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Экскурс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Овал 25"/>
          <p:cNvSpPr/>
          <p:nvPr/>
        </p:nvSpPr>
        <p:spPr>
          <a:xfrm>
            <a:off x="3419640" y="4365720"/>
            <a:ext cx="2160360" cy="1871640"/>
          </a:xfrm>
          <a:prstGeom prst="ellipse">
            <a:avLst/>
          </a:prstGeom>
          <a:gradFill rotWithShape="0">
            <a:gsLst>
              <a:gs pos="0">
                <a:srgbClr val="acb8bf"/>
              </a:gs>
              <a:gs pos="100000">
                <a:srgbClr val="e1f1fc"/>
              </a:gs>
            </a:gsLst>
            <a:lin ang="16200000"/>
          </a:gradFill>
          <a:ln w="9360">
            <a:solidFill>
              <a:srgbClr val="e5f2f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Работа с фондам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Овал 26"/>
          <p:cNvSpPr/>
          <p:nvPr/>
        </p:nvSpPr>
        <p:spPr>
          <a:xfrm>
            <a:off x="5796000" y="4076640"/>
            <a:ext cx="3348000" cy="2521080"/>
          </a:xfrm>
          <a:prstGeom prst="ellipse">
            <a:avLst/>
          </a:prstGeom>
          <a:gradFill rotWithShape="0">
            <a:gsLst>
              <a:gs pos="0">
                <a:srgbClr val="acb8bf"/>
              </a:gs>
              <a:gs pos="100000">
                <a:srgbClr val="e1f1fc"/>
              </a:gs>
            </a:gsLst>
            <a:lin ang="16200000"/>
          </a:gradFill>
          <a:ln w="9360">
            <a:solidFill>
              <a:srgbClr val="e5f2f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росветительская деятельнос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2T08:12:06Z</dcterms:created>
  <dc:creator>User</dc:creator>
  <dc:description/>
  <dc:language>en-US</dc:language>
  <cp:lastModifiedBy>User</cp:lastModifiedBy>
  <dcterms:modified xsi:type="dcterms:W3CDTF">2017-09-15T19:10:53Z</dcterms:modified>
  <cp:revision>65</cp:revision>
  <dc:subject/>
  <dc:title>Слайд 1</dc:title>
</cp:coreProperties>
</file>