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24F-DFCA-4688-AEC6-5A39CB3E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8C3-5C30-45BD-80CC-0B7FAD09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6EB-EE07-44FF-B92E-2E236B69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512-7D01-4CA3-B6A7-0436DD6D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5EC-837D-4CC2-B3D4-82D1D611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F7C-DE6B-4B1C-B93E-D63D2BB1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8A6-CF36-4EE4-96D6-37927F50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7C2-1651-44B9-9395-BBA68A8B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979-FE7E-4902-A707-0AACF74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E5B-079B-4A03-876C-6573E2F8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01C-0400-451F-A43C-30204B0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03C-7C7C-4D75-9924-757A4BD6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BCD9-B459-491E-A08E-B1462CEEA8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9036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ДО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Детский сад № 137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развивающего вида с приоритетным осуществлением деятельности по направлению физического развития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932000" y="1095120"/>
            <a:ext cx="410364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Gothic"/>
              </a:rPr>
              <a:t>Наталья Валерьевна Пущиенк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д рождения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8.02.1971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ние: ФГБОУ ВПО «Ивановский государственный университет» (28.02.2013 г.)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ециальность по диплому: «Дошкольная педагогика и психолог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валификация по диплому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подаватель дошкольной педагогики и психолог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нимаемая должность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валификационная категория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от 27.04.1010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дагогический стаж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аж по специальности:20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аж работы в МДОУ «Детский сад № 137»: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8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entury Gothic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star7"/>
          <p:cNvPicPr/>
          <p:nvPr/>
        </p:nvPicPr>
        <p:blipFill>
          <a:blip r:embed="rId1"/>
          <a:stretch/>
        </p:blipFill>
        <p:spPr>
          <a:xfrm>
            <a:off x="2627280" y="530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IMG_6905.JPG"/>
          <p:cNvPicPr/>
          <p:nvPr/>
        </p:nvPicPr>
        <p:blipFill>
          <a:blip r:embed="rId2"/>
          <a:stretch/>
        </p:blipFill>
        <p:spPr>
          <a:xfrm>
            <a:off x="465120" y="1916280"/>
            <a:ext cx="3319560" cy="27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Rectangle 8"/>
          <p:cNvSpPr/>
          <p:nvPr/>
        </p:nvSpPr>
        <p:spPr>
          <a:xfrm>
            <a:off x="0" y="4797360"/>
            <a:ext cx="493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Моё педагогическое кре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едите в мир театра малыш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он узнает, как сказка хорош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никнется и мудростью, и добро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с чувством сказочным пойдет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изненной тро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Поп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entury Gothic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308320" y="115920"/>
            <a:ext cx="4419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Визитная карт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Особенности развивающей предметно-пространственной сред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075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ющие цент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дак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дожественная литерату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уется 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1"/>
          <a:stretch/>
        </p:blipFill>
        <p:spPr>
          <a:xfrm>
            <a:off x="3132000" y="3122640"/>
            <a:ext cx="2963880" cy="315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Диапазон личного вклада педагога в развитие образования и степень его новизн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7640" y="1557360"/>
            <a:ext cx="5040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представления у детей старшего возраста о национальностях Нижегородской области     (русские, татары, мордва, чуваш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ражать творческие способности детей средствами театрального искусств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эмоциональную отзывчивость и восприимчивость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артистические способности детей и взрослых, умение передавать эмоциональное состояние героев мимикой, жестами, телодвижением   через театрализованную деятель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ывать у детей любовь и интерес к сказке; прививать навыки вежливого пове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ть робким и застенчивым детям включаться в театрализованную иг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F:\Планы по работе\фото группа Солнышко\Солнышко в ладошке фото\Изображение 015.jpg"/>
          <p:cNvPicPr/>
          <p:nvPr/>
        </p:nvPicPr>
        <p:blipFill>
          <a:blip r:embed="rId1"/>
          <a:stretch/>
        </p:blipFill>
        <p:spPr>
          <a:xfrm>
            <a:off x="5384880" y="2637000"/>
            <a:ext cx="3225600" cy="308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Заголовок 1"/>
          <p:cNvSpPr/>
          <p:nvPr/>
        </p:nvSpPr>
        <p:spPr>
          <a:xfrm>
            <a:off x="108000" y="709560"/>
            <a:ext cx="9036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Проект «Развитие речи детей через театрализован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деятельность по сказке «Тере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108000" y="214200"/>
            <a:ext cx="8928000" cy="69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ff"/>
                </a:solidFill>
                <a:uFillTx/>
                <a:latin typeface="Arial"/>
              </a:rPr>
              <a:t>Предвари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.Чтение русской, татарской, мордовской, чувашской сказкок «Теремок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.Беседа по содержанию сказок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3. Показ сказки «Теремок» на фланелеграф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. Просмотр диафильма «Теремок» (русская народная сказка), «Терем мухи» (мордовская сказка), «Гора Самоцветов» (татарская сказк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Имитирование и подражание героям сказки по национальностя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6.Слушание национальных песено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7.Показ настольного театра «Теремок» (по русской сказке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8. На НОД по изобразительной деятельности и в повседневной жизни изображали героев сказки «Теремок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ff"/>
                </a:solidFill>
                <a:uFillTx/>
                <a:latin typeface="Arial"/>
              </a:rPr>
              <a:t>Методы и приёмы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дбор литературы (русских, татарских , мордовских, чувашских народных сказок), чтение, изучение, анализ; рассматривание иллюстраций, обсуждение характера героев; изготовление костюмов для персонажей; подборка оформления сцен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ff"/>
                </a:solidFill>
                <a:uFillTx/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ьские собрания, вечер вопросов и ответов, анкетирование, день открытых дверей, консультации, «Почтовый ящик», в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ыставка книг, индивидуальные беседы, досуг, выставка фотографий, творческие совместные выставки, папки-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Итоговое выступ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3297240" cy="452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F:\Планы по работе\фото группа Солнышко\Солнышко в ладошке фото\Изображение 050.jpg"/>
          <p:cNvPicPr/>
          <p:nvPr/>
        </p:nvPicPr>
        <p:blipFill>
          <a:blip r:embed="rId2"/>
          <a:stretch/>
        </p:blipFill>
        <p:spPr>
          <a:xfrm>
            <a:off x="3780000" y="1557360"/>
            <a:ext cx="483840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0560" y="764640"/>
            <a:ext cx="8569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агностика выразительности речи детей старшей группы (сентябрь,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-36360" y="-27000"/>
            <a:ext cx="9144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Результативность профессиональной педагогической деятельности и достигнутые эффек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0" y="3832200"/>
            <a:ext cx="9107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агностика выразительности речи детей старшей группы (май,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Диаграмма 8"/>
          <p:cNvGraphicFramePr/>
          <p:nvPr/>
        </p:nvGraphicFramePr>
        <p:xfrm>
          <a:off x="755640" y="1413000"/>
          <a:ext cx="7632720" cy="246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Диаграмма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63272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Диаграмма 9"/>
          <p:cNvGraphicFramePr/>
          <p:nvPr/>
        </p:nvGraphicFramePr>
        <p:xfrm>
          <a:off x="1476360" y="4581360"/>
          <a:ext cx="6551640" cy="18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Диаграмма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4581360"/>
                    <a:ext cx="655164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ивность профессиональной педагогической деятельности и достигнутые эффек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28800"/>
            <a:ext cx="56786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«Курочка ряба и десять утят» (3-4 го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«Репка» (4-5 л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«Теремок» с использованием и многонационального фольклора (5-6 л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отеки игр и упражнений: «Развитие речевого дыхания», «Логоритмические упражнения», «Скороговорки и чистоговорки», «Играем пальчиками и развиваем речь», «Сказки оживают», «Фольклорные произведения», «Сказки к театрам», «Театральные игры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отека мнемотаб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формле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ьбом: «Виды театр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пка  передвижка  «Мир театр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репортаж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омендации «Домашний кукольный театр», «Расскажи детям сказку», буклеты, консультации, разработки родительских собраний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629320" y="1914480"/>
            <a:ext cx="331164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5649840" y="4365720"/>
            <a:ext cx="3291120" cy="22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Транслируемость практических достижений профессиональной деятельности педагогического работни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1071360"/>
            <a:ext cx="47149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а развивающая среда в групп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 – активные субъекты 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на серия консультаций, мастер-класс и практикум для педагог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ла открытые образовательные ситуации для студентов педагогического коллед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вовала в городском ресурсном центре «Духовно-нравственное воспитание дете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ла персональный сайт 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портале и персональную страницу на сайте Д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вовала и являюсь победителем городских и  нескольких педагогических Интернет- конк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4560" y="1071360"/>
            <a:ext cx="442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alibri"/>
              </a:rPr>
              <a:t>Предлагаемый опыт рабо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alibri"/>
              </a:rPr>
              <a:t>будет интересен</a:t>
            </a:r>
            <a:r>
              <a:rPr b="0" lang="ru-RU" sz="18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ям и родителям руководителям театральных кружк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ам педагогического колледж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м, кто заинтересован во все­стороннем развитии дошкольников в нашем городе и Интернет-сообщ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alibri"/>
              </a:rPr>
              <a:t>Пл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овать кружковую рабо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ть диагностику выразительности речи на младший и средний дошкольный возра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ть проект для подготовительной груп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ширить медиате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олнить РПП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олжать транслирование опы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73188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ониторинг в детском саду», под общ. ред. Г.А. Гогоберид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римерная основная программа «Детство», под общ. ред. Г.А. Гогоберид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festival@1september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 Сайт фестиваль педагогических идей «Открытый урок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estiva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ptember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rticles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/568565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ева М.М., Яшина В.И. Речевое развитие дошколь­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пина Е. А. Театрализованная деятельность детей в детском саду: игры, упражнения, сцена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анова Е.В, Савельева А.М. От навыков к творчеств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готский Л.С. Мышление и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докина Н.Д., Евдокимова Е.С. Семейный театр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заренко О.И. Диагностика и развитие выразительности речи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онтьев А.А. Основы теории речев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ханёва М. Д. Театрализованные занятия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гунова Е.В. Театральная педагогика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рокина Н. Ф. Играем в кукольный теат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ин ФА. Развитие речи детей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шакова О.С., Гавриш Н.В. Знакомим с литературой детей 3-5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мичева М.Ф. Воспитание у детей правильного произно­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Щёткин А.В. Театральная деятельность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шина В.И., Алексеева М.М., Методика развития речи и обучения родному языку дошколь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13320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«Тема презентации»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ff"/>
                </a:solidFill>
                <a:latin typeface="Century Gothic"/>
              </a:rPr>
              <a:t>Система развития выразительности речи детей дошкольного возраста на основе театрализован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F:\Планы по работе\фото группа Солнышко\Конкурс Юдина 27.03.14\100CANON\IMG_6873.JPG"/>
          <p:cNvPicPr/>
          <p:nvPr/>
        </p:nvPicPr>
        <p:blipFill>
          <a:blip r:embed="rId1"/>
          <a:stretch/>
        </p:blipFill>
        <p:spPr>
          <a:xfrm>
            <a:off x="2484360" y="2276640"/>
            <a:ext cx="4761000" cy="292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Условия формирования личного вклада педагога в развитие образован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6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Научно-исследовательские усло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учение психолого-педагогической литературы по теме работы (Л.С. Выготский, А.А. Леонтьев)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Методические усло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учение методической литературы (В.В. Гербова, Ф.А. Сохин,  М.Д. Махане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Организационно-педагогические усло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следование уровня речевого развити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развивающей предметно-пространственной среды в группе ДОУ и д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ведение работы с детьми по развитию речи средствами 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анслирование опыта работы по теме среди педагогов ДОУ, города, в Интернет-сообщест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7066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Теоретическое обоснование личного вклада педагога в развитие образован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бъект 1"/>
          <p:cNvSpPr/>
          <p:nvPr/>
        </p:nvSpPr>
        <p:spPr>
          <a:xfrm>
            <a:off x="2232000" y="3068640"/>
            <a:ext cx="4680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6"/>
          <p:cNvSpPr/>
          <p:nvPr/>
        </p:nvSpPr>
        <p:spPr>
          <a:xfrm>
            <a:off x="3059280" y="3068640"/>
            <a:ext cx="3582720" cy="1106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инцип деятельностного подхода к развитию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867280" y="350028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2928960" y="5500800"/>
            <a:ext cx="33116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ая прямоугольная выноска 16"/>
          <p:cNvSpPr/>
          <p:nvPr/>
        </p:nvSpPr>
        <p:spPr>
          <a:xfrm>
            <a:off x="500040" y="5300640"/>
            <a:ext cx="3451320" cy="1081080"/>
          </a:xfrm>
          <a:prstGeom prst="wedgeRoundRectCallout">
            <a:avLst>
              <a:gd name="adj1" fmla="val 41046"/>
              <a:gd name="adj2" fmla="val -16269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взаимосвязи сенсорного, умственного и речевого развит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ая прямоугольная выноска 17"/>
          <p:cNvSpPr/>
          <p:nvPr/>
        </p:nvSpPr>
        <p:spPr>
          <a:xfrm>
            <a:off x="736560" y="1773360"/>
            <a:ext cx="2990880" cy="795240"/>
          </a:xfrm>
          <a:prstGeom prst="wedgeRoundRectCallout">
            <a:avLst>
              <a:gd name="adj1" fmla="val 53370"/>
              <a:gd name="adj2" fmla="val 1196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развития языкового чутья («чувства язык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ая прямоугольная выноска 13"/>
          <p:cNvSpPr/>
          <p:nvPr/>
        </p:nvSpPr>
        <p:spPr>
          <a:xfrm>
            <a:off x="5335560" y="5222880"/>
            <a:ext cx="3340080" cy="1236600"/>
          </a:xfrm>
          <a:prstGeom prst="wedgeRoundRectCallout">
            <a:avLst>
              <a:gd name="adj1" fmla="val -40273"/>
              <a:gd name="adj2" fmla="val -13846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взаимосвязи работы с различными сторонами речи, развития речи как  целостного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ая прямоугольная выноска 14"/>
          <p:cNvSpPr/>
          <p:nvPr/>
        </p:nvSpPr>
        <p:spPr>
          <a:xfrm>
            <a:off x="7072200" y="3000240"/>
            <a:ext cx="2071800" cy="1246320"/>
          </a:xfrm>
          <a:prstGeom prst="wedgeRoundRectCallout">
            <a:avLst>
              <a:gd name="adj1" fmla="val -75287"/>
              <a:gd name="adj2" fmla="val 1269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обогащения мотивации речев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ая прямоугольная выноска 18"/>
          <p:cNvSpPr/>
          <p:nvPr/>
        </p:nvSpPr>
        <p:spPr>
          <a:xfrm>
            <a:off x="5232240" y="1413000"/>
            <a:ext cx="3359160" cy="939600"/>
          </a:xfrm>
          <a:prstGeom prst="wedgeRoundRectCallout">
            <a:avLst>
              <a:gd name="adj1" fmla="val -47875"/>
              <a:gd name="adj2" fmla="val 12642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обеспечения активной речевой прак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ая прямоугольная выноска 19"/>
          <p:cNvSpPr/>
          <p:nvPr/>
        </p:nvSpPr>
        <p:spPr>
          <a:xfrm>
            <a:off x="492120" y="3035160"/>
            <a:ext cx="2071800" cy="1244880"/>
          </a:xfrm>
          <a:prstGeom prst="wedgeRoundRectCallout">
            <a:avLst>
              <a:gd name="adj1" fmla="val 78499"/>
              <a:gd name="adj2" fmla="val 419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формирования элементарного осознания явлений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728280"/>
            <a:ext cx="8928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ff"/>
                </a:solidFill>
                <a:latin typeface="Calibri"/>
              </a:rPr>
              <a:t>Цель: </a:t>
            </a:r>
            <a:r>
              <a:rPr b="1" lang="ru-RU" sz="2200" spc="-1" strike="noStrike">
                <a:solidFill>
                  <a:srgbClr val="f79646"/>
                </a:solidFill>
                <a:latin typeface="Calibri"/>
              </a:rPr>
              <a:t>формирование выразительности речи детей</a:t>
            </a:r>
            <a:br>
              <a:rPr sz="2200"/>
            </a:br>
            <a:r>
              <a:rPr b="1" lang="ru-RU" sz="2200" spc="-1" strike="noStrike">
                <a:solidFill>
                  <a:srgbClr val="f79646"/>
                </a:solidFill>
                <a:latin typeface="Calibri"/>
              </a:rPr>
              <a:t>через систему проектов посредством театрализованной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1557360" y="2637000"/>
            <a:ext cx="2484360" cy="3662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0" y="1844640"/>
            <a:ext cx="4114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ff"/>
                </a:solidFill>
                <a:latin typeface="Calibri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Выявить уровень развития речи детей, педагогической компетентности и заинтересованности родителей воспитанников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зработать систему работы со всеми субъектами образовательного процесса по развитию выразительности речи дет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звивать  вербальные и невербальные средства выразительности речи дет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вышать педагогическую компетентность родителей и приобщать их к совместной с детьми и педагогами ДОУ театрализованной деятельност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57200" y="20628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Цель и задачи педагогическо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Ведущая педагогическая иде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alibri"/>
              </a:rPr>
              <a:t>Театрализованная деятельность с использованием метода проектов позволит развивать выразительность речи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3668760" cy="278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3489480" cy="28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«Деятельностный аспект личного вклада педагога </a:t>
            </a: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в развитие образован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052640"/>
            <a:ext cx="8534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Место в структур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86920" y="1773360"/>
            <a:ext cx="3745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посредственно образовательная деятель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тельной деятельности в режимных момен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стоятельной деятельност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ятельность в сем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F:\Планы по работе\фото группа Солнышко\Театр\DSCN3788.JPG"/>
          <p:cNvPicPr/>
          <p:nvPr/>
        </p:nvPicPr>
        <p:blipFill>
          <a:blip r:embed="rId1"/>
          <a:stretch/>
        </p:blipFill>
        <p:spPr>
          <a:xfrm>
            <a:off x="5219640" y="1928880"/>
            <a:ext cx="3638520" cy="35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Формы театрализованной деятель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7"/>
          <p:cNvSpPr/>
          <p:nvPr/>
        </p:nvSpPr>
        <p:spPr>
          <a:xfrm>
            <a:off x="3011400" y="2994120"/>
            <a:ext cx="3500640" cy="842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еатрализова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835200" y="1440000"/>
            <a:ext cx="2199960" cy="95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вместная театрализованная деятельность взрослых и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9"/>
          <p:cNvSpPr/>
          <p:nvPr/>
        </p:nvSpPr>
        <p:spPr>
          <a:xfrm>
            <a:off x="3286080" y="1413000"/>
            <a:ext cx="3071880" cy="108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атрализованное развл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2"/>
          <p:cNvCxnSpPr>
            <a:stCxn id="75" idx="0"/>
          </p:cNvCxnSpPr>
          <p:nvPr/>
        </p:nvCxnSpPr>
        <p:spPr>
          <a:xfrm>
            <a:off x="4762440" y="2993760"/>
            <a:ext cx="807120" cy="84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Прямоугольник 20"/>
          <p:cNvSpPr/>
          <p:nvPr/>
        </p:nvSpPr>
        <p:spPr>
          <a:xfrm>
            <a:off x="214200" y="2643120"/>
            <a:ext cx="21970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мостоятельная театрализовано-художествен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1"/>
          <p:cNvSpPr/>
          <p:nvPr/>
        </p:nvSpPr>
        <p:spPr>
          <a:xfrm>
            <a:off x="571680" y="4071960"/>
            <a:ext cx="23572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ещение детьми театров совместно 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2"/>
          <p:cNvSpPr/>
          <p:nvPr/>
        </p:nvSpPr>
        <p:spPr>
          <a:xfrm>
            <a:off x="1000080" y="5186520"/>
            <a:ext cx="2357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атрализованные игры-спектак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3"/>
          <p:cNvSpPr/>
          <p:nvPr/>
        </p:nvSpPr>
        <p:spPr>
          <a:xfrm>
            <a:off x="3368520" y="4454640"/>
            <a:ext cx="27860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ни-игры в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4"/>
          <p:cNvSpPr/>
          <p:nvPr/>
        </p:nvSpPr>
        <p:spPr>
          <a:xfrm>
            <a:off x="6215040" y="5100480"/>
            <a:ext cx="250020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ни-игры на музыкальных занят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5"/>
          <p:cNvSpPr/>
          <p:nvPr/>
        </p:nvSpPr>
        <p:spPr>
          <a:xfrm>
            <a:off x="6581880" y="4000680"/>
            <a:ext cx="2205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атрализованные игры в повседневно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6"/>
          <p:cNvSpPr/>
          <p:nvPr/>
        </p:nvSpPr>
        <p:spPr>
          <a:xfrm>
            <a:off x="6661080" y="272880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атрализованная игра на праздниках развлеч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7"/>
          <p:cNvSpPr/>
          <p:nvPr/>
        </p:nvSpPr>
        <p:spPr>
          <a:xfrm>
            <a:off x="6512040" y="1616040"/>
            <a:ext cx="1768320" cy="88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тод 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Методы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58920"/>
            <a:ext cx="438768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ение воспитателя по книге или рассказывание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сценир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учивание наизу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ковая система обучения (схемы, алгоритмы, мнемотаблицы и мнемодорожки, условные обозна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елир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мотр видеофиль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ушание аудиозапи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весное рис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 про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ровое и индивидуальное п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4720" y="549360"/>
            <a:ext cx="47512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Чтение сказки с акцентированием внимания детей на чертах харак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ализ сказки с наводящими вопрос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Выполнение деть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заданий и упражн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словесному описанию внешности героев сказки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передаче манеры разговора и произношения героев ска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созданию «предлагаемых обстоятельств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изображение различных эмоциональных состояний геро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игрывание отрывков из сказок, этю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ыгрывание импровиз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859280" y="-27000"/>
            <a:ext cx="403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Методические при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28:46Z</dcterms:created>
  <dc:creator>Admin</dc:creator>
  <dc:description/>
  <dc:language>en-US</dc:language>
  <cp:lastModifiedBy>Nata</cp:lastModifiedBy>
  <dcterms:modified xsi:type="dcterms:W3CDTF">2017-09-15T09:19:03Z</dcterms:modified>
  <cp:revision>252</cp:revision>
  <dc:subject/>
  <dc:title>МДОУ центр развития ребенка -детский сад № 63 «Аистенок» Комитет образования администрации города Тамбова</dc:title>
</cp:coreProperties>
</file>