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548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5E19-4578-4CF9-BFC8-D59540D1DB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CDD8-D060-464D-9CFA-8030ABD71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A3C-8CE6-4CA3-8E51-CEA360B5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557-38D1-44B2-A9C0-CE1EC365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790-C0B0-4F54-8BB9-F1C504CE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50B-A496-4E7D-8F65-39F0EBFD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22C5-6FCA-4825-85F8-021B25D8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1D44-2AFC-403E-8111-E91D8FDA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52D6-3492-4E39-8F44-F3A84032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13A3-95B9-4B1F-96CB-8C3F8A97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97BD-09B5-4D2E-A3F3-A7EA2426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3F08-0EB1-4973-B1E0-5334CF73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A1DD-4583-4078-946B-332E53A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32A-347C-4B66-B4F4-061801FC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D74E-E621-4258-AE96-DC1B8110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FD2D-C5D6-4CDF-B700-72DF4C37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74DB-FD27-418E-9F9D-A1B1B395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39FA-2A9F-4EFB-B450-CECCBCC8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3181-A3F9-4A9D-BD3B-9878971B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30D-CB42-4F6D-AA45-C64B9475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CE4-0CAF-409A-AA46-0A1FB63C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02DF-7131-4D02-B131-B0167022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29B-1FA3-486C-9051-213DF2B8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19B-E905-4DCE-88C9-5C827F1E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E2F-F1D9-4F4F-B3BA-677E72E7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674-90F9-4438-B99C-93E198D3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6103-17B8-4B23-B220-2A52616F49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F8FC-59BA-4EF9-B6E3-F62EC12C1CE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652920" cy="2647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rcRect l="0" t="12359" r="0" b="11346"/>
          <a:stretch/>
        </p:blipFill>
        <p:spPr>
          <a:xfrm>
            <a:off x="4067280" y="9360"/>
            <a:ext cx="4762440" cy="363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257040" y="27068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4249800" y="3262320"/>
            <a:ext cx="4579920" cy="3595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0" t="21261" r="0" b="19371"/>
          <a:stretch/>
        </p:blipFill>
        <p:spPr>
          <a:xfrm>
            <a:off x="0" y="71280"/>
            <a:ext cx="3809880" cy="226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782880" y="108000"/>
            <a:ext cx="5238720" cy="39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0" y="2368440"/>
            <a:ext cx="4932360" cy="2719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0" y="4797360"/>
            <a:ext cx="2774880" cy="228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6100920" y="3575160"/>
            <a:ext cx="3377880" cy="3378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6"/>
          <a:stretch/>
        </p:blipFill>
        <p:spPr>
          <a:xfrm>
            <a:off x="2706840" y="5264280"/>
            <a:ext cx="369540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25760" cy="240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4325760" y="0"/>
            <a:ext cx="4667400" cy="3038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22320" y="2349360"/>
            <a:ext cx="4708440" cy="3533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4608360" y="2860560"/>
            <a:ext cx="4611960" cy="35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5"/>
          <a:stretch/>
        </p:blipFill>
        <p:spPr>
          <a:xfrm>
            <a:off x="22320" y="5272200"/>
            <a:ext cx="3181320" cy="1623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6"/>
          <a:stretch/>
        </p:blipFill>
        <p:spPr>
          <a:xfrm>
            <a:off x="3259080" y="5429160"/>
            <a:ext cx="21337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7:43:23Z</dcterms:created>
  <dc:creator>user</dc:creator>
  <dc:description/>
  <dc:language>en-US</dc:language>
  <cp:lastModifiedBy>User</cp:lastModifiedBy>
  <dcterms:modified xsi:type="dcterms:W3CDTF">2017-09-15T11:42:40Z</dcterms:modified>
  <cp:revision>60</cp:revision>
  <dc:subject/>
  <dc:title>АРХИТЕКТУРА Э.В.М.</dc:title>
</cp:coreProperties>
</file>