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362-F137-4E3A-A82E-5ACC15DAD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52F-1874-44B5-8535-2A7A7ACA3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5F3-EA80-4F48-ABFA-EF437010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68D-FF73-4DDB-8068-2F4065D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92C-D2D2-4B1D-A4C0-CCF4D430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E71-980D-4B6F-B185-2D75E3E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02A2-73B7-429C-9919-24D3E555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CA88-BF20-44CC-A259-22B059A2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26D-8053-4FF7-83F1-786CE833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7B3D-E550-4307-8DC2-794310D4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3FA-2E59-4F79-903B-B9A7B52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CD34-3301-478A-875F-73CEC10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6C6-1F38-45A2-9F5D-E069166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E4A-1E97-4A9F-AFF2-7A46CC6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9EE-67AA-48A3-8C35-B44E519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3407-42B7-4E56-8C10-002A601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049-C0A4-446D-A3F3-4FAF902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2018-0D14-4CB0-9B26-44C23ED9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7001-D510-4F7C-AA61-E521E758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BF3-CCB2-4048-8BE9-F296D98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65C-998E-4608-B8A5-B42F553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CD1-197F-43E0-82D3-6FA61A9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E32-BF94-4DAE-89A7-8EB7862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690-4989-4E87-BF27-9EE6B17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2BC-4022-4784-97CF-BC0664C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B06-863B-4A9D-85AB-BD3638C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EC9D-C7E7-453B-96B8-D09C2D1ED2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785-597E-4BD5-AA05-55CF091C94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264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12359" r="0" b="11346"/>
          <a:stretch/>
        </p:blipFill>
        <p:spPr>
          <a:xfrm>
            <a:off x="4067280" y="9360"/>
            <a:ext cx="4762440" cy="363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57040" y="27068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249800" y="3262320"/>
            <a:ext cx="457992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0" t="21261" r="0" b="19371"/>
          <a:stretch/>
        </p:blipFill>
        <p:spPr>
          <a:xfrm>
            <a:off x="0" y="71280"/>
            <a:ext cx="380988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782880" y="10800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2368440"/>
            <a:ext cx="4932360" cy="271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0" y="4797360"/>
            <a:ext cx="2774880" cy="228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6100920" y="3575160"/>
            <a:ext cx="337788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2706840" y="5264280"/>
            <a:ext cx="369540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25760" cy="24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325760" y="0"/>
            <a:ext cx="466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2320" y="2349360"/>
            <a:ext cx="4708440" cy="353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08360" y="2860560"/>
            <a:ext cx="461196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22320" y="5272200"/>
            <a:ext cx="318132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6"/>
          <a:stretch/>
        </p:blipFill>
        <p:spPr>
          <a:xfrm>
            <a:off x="3259080" y="542916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42:40Z</dcterms:modified>
  <cp:revision>60</cp:revision>
  <dc:subject/>
  <dc:title>АРХИТЕКТУРА Э.В.М.</dc:title>
</cp:coreProperties>
</file>