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4E1-FC91-49B1-AD3C-50C64469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E934-0C5D-46BE-A79B-FB9BF7A0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54E-CDB1-4A16-90CC-F1F33F86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8A3-22D3-42EF-A035-87E5CDF3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BE25-08B6-458F-A023-909D5946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F0E6-E417-4284-9CA0-6A36C527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6172-8F3D-4589-8D4B-192A40BD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5888-FA7A-4982-91FE-40E02658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3D78-26C7-46CC-9C9C-0D755BA3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F60C-5F64-4A89-9222-616F9AC7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F8FB-F3D4-447E-8B91-475C119A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1AE-5476-47E7-B908-759E84D4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74B9-8669-4043-B0F5-E2182987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FDE0-A4BD-424E-BD9B-0DF3599B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98ED-FF1F-4DD5-BF45-C0403512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0E21-6034-4611-A0C1-08C54CB0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5384-65A0-4E0D-9B5F-FA7E86D2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FC5-E4BA-4479-B09E-0F045741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1BE-294A-4589-AF85-2A0091C9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BBB-CF68-4F39-9C26-BA6C043A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F60A-4AE0-44FA-B155-6D7A5D11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971-593D-44A3-BA11-E742BBA5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014-F261-4659-A258-DF481457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00D-FA47-41FA-8878-F8C1C17C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885A-6F90-442C-9B40-2F7B60FF586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6C28-EBA1-4773-8E98-EAAE5B7400C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3760" y="0"/>
            <a:ext cx="2127240" cy="2097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2187720" y="-27000"/>
            <a:ext cx="3321000" cy="2697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5526000" y="22320"/>
            <a:ext cx="3583080" cy="2685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4"/>
          <a:stretch/>
        </p:blipFill>
        <p:spPr>
          <a:xfrm>
            <a:off x="-14400" y="2060640"/>
            <a:ext cx="2855880" cy="214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5"/>
          <a:stretch/>
        </p:blipFill>
        <p:spPr>
          <a:xfrm>
            <a:off x="2843280" y="2637000"/>
            <a:ext cx="2701800" cy="271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6"/>
          <a:stretch/>
        </p:blipFill>
        <p:spPr>
          <a:xfrm>
            <a:off x="5504040" y="2637000"/>
            <a:ext cx="3528720" cy="2647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7"/>
          <a:stretch/>
        </p:blipFill>
        <p:spPr>
          <a:xfrm>
            <a:off x="23760" y="4202280"/>
            <a:ext cx="3048120" cy="2655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8"/>
          <a:stretch/>
        </p:blipFill>
        <p:spPr>
          <a:xfrm>
            <a:off x="6842160" y="4665600"/>
            <a:ext cx="2190600" cy="2192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9"/>
          <a:stretch/>
        </p:blipFill>
        <p:spPr>
          <a:xfrm>
            <a:off x="2840040" y="5354640"/>
            <a:ext cx="400212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3760" y="11160"/>
            <a:ext cx="3338640" cy="2506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132000" y="46080"/>
            <a:ext cx="4286520" cy="2924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0" y="2529000"/>
            <a:ext cx="4286160" cy="2381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4859280" y="2781360"/>
            <a:ext cx="4044960" cy="250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5"/>
          <a:stretch/>
        </p:blipFill>
        <p:spPr>
          <a:xfrm>
            <a:off x="560520" y="4910040"/>
            <a:ext cx="3165480" cy="1851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6"/>
          <a:stretch/>
        </p:blipFill>
        <p:spPr>
          <a:xfrm>
            <a:off x="3726000" y="5084640"/>
            <a:ext cx="2536560" cy="1903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7"/>
          <a:stretch/>
        </p:blipFill>
        <p:spPr>
          <a:xfrm>
            <a:off x="6381720" y="5148360"/>
            <a:ext cx="2762280" cy="1839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6461280" y="108000"/>
            <a:ext cx="2582640" cy="26780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6539040" y="2322360"/>
            <a:ext cx="1033200" cy="551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3"/>
          <a:stretch/>
        </p:blipFill>
        <p:spPr>
          <a:xfrm>
            <a:off x="2700360" y="-2700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4"/>
          <a:srcRect l="8577" t="0" r="0" b="0"/>
          <a:stretch/>
        </p:blipFill>
        <p:spPr>
          <a:xfrm>
            <a:off x="5435640" y="2871720"/>
            <a:ext cx="2728800" cy="2017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"/>
          <p:cNvPicPr/>
          <p:nvPr/>
        </p:nvPicPr>
        <p:blipFill>
          <a:blip r:embed="rId5"/>
          <a:stretch/>
        </p:blipFill>
        <p:spPr>
          <a:xfrm>
            <a:off x="23760" y="0"/>
            <a:ext cx="2757600" cy="1773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6"/>
          <a:stretch/>
        </p:blipFill>
        <p:spPr>
          <a:xfrm>
            <a:off x="-1440" y="1719360"/>
            <a:ext cx="2522520" cy="286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7"/>
          <a:stretch/>
        </p:blipFill>
        <p:spPr>
          <a:xfrm>
            <a:off x="2614680" y="2786040"/>
            <a:ext cx="2266920" cy="2706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8"/>
          <a:stretch/>
        </p:blipFill>
        <p:spPr>
          <a:xfrm>
            <a:off x="7289640" y="4294080"/>
            <a:ext cx="1859040" cy="1857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"/>
          <p:cNvPicPr/>
          <p:nvPr/>
        </p:nvPicPr>
        <p:blipFill>
          <a:blip r:embed="rId9"/>
          <a:stretch/>
        </p:blipFill>
        <p:spPr>
          <a:xfrm>
            <a:off x="7754760" y="2522520"/>
            <a:ext cx="1433520" cy="1836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"/>
          <p:cNvPicPr/>
          <p:nvPr/>
        </p:nvPicPr>
        <p:blipFill>
          <a:blip r:embed="rId10"/>
          <a:stretch/>
        </p:blipFill>
        <p:spPr>
          <a:xfrm>
            <a:off x="9360" y="4529160"/>
            <a:ext cx="2546640" cy="254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"/>
          <p:cNvPicPr/>
          <p:nvPr/>
        </p:nvPicPr>
        <p:blipFill>
          <a:blip r:embed="rId11"/>
          <a:stretch/>
        </p:blipFill>
        <p:spPr>
          <a:xfrm>
            <a:off x="4721400" y="4889520"/>
            <a:ext cx="2568240" cy="192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/>
          <p:cNvPicPr/>
          <p:nvPr/>
        </p:nvPicPr>
        <p:blipFill>
          <a:blip r:embed="rId12"/>
          <a:stretch/>
        </p:blipFill>
        <p:spPr>
          <a:xfrm>
            <a:off x="2700360" y="5313240"/>
            <a:ext cx="2021040" cy="1563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4_1"/>
          <p:cNvPicPr/>
          <p:nvPr/>
        </p:nvPicPr>
        <p:blipFill>
          <a:blip r:embed="rId1"/>
          <a:stretch/>
        </p:blipFill>
        <p:spPr>
          <a:xfrm>
            <a:off x="6264360" y="404640"/>
            <a:ext cx="2879640" cy="254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vu02"/>
          <p:cNvPicPr/>
          <p:nvPr/>
        </p:nvPicPr>
        <p:blipFill>
          <a:blip r:embed="rId2"/>
          <a:stretch/>
        </p:blipFill>
        <p:spPr>
          <a:xfrm>
            <a:off x="166680" y="260280"/>
            <a:ext cx="3168720" cy="2024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517920" y="149400"/>
            <a:ext cx="2519280" cy="25192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4"/>
          <a:stretch/>
        </p:blipFill>
        <p:spPr>
          <a:xfrm>
            <a:off x="192240" y="2284560"/>
            <a:ext cx="3375000" cy="2154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5"/>
          <a:stretch/>
        </p:blipFill>
        <p:spPr>
          <a:xfrm>
            <a:off x="3355920" y="2668680"/>
            <a:ext cx="3449520" cy="2585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6"/>
          <a:stretch/>
        </p:blipFill>
        <p:spPr>
          <a:xfrm>
            <a:off x="0" y="4438800"/>
            <a:ext cx="2932200" cy="2419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7"/>
          <a:stretch/>
        </p:blipFill>
        <p:spPr>
          <a:xfrm>
            <a:off x="6734160" y="3021120"/>
            <a:ext cx="2482920" cy="1920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8"/>
          <a:stretch/>
        </p:blipFill>
        <p:spPr>
          <a:xfrm>
            <a:off x="2954160" y="5029200"/>
            <a:ext cx="2481480" cy="1833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9"/>
          <a:stretch/>
        </p:blipFill>
        <p:spPr>
          <a:xfrm>
            <a:off x="5435640" y="5005440"/>
            <a:ext cx="2268360" cy="190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7:43:23Z</dcterms:created>
  <dc:creator>user</dc:creator>
  <dc:description/>
  <dc:language>en-US</dc:language>
  <cp:lastModifiedBy>User</cp:lastModifiedBy>
  <dcterms:modified xsi:type="dcterms:W3CDTF">2017-09-15T11:49:50Z</dcterms:modified>
  <cp:revision>59</cp:revision>
  <dc:subject/>
  <dc:title>АРХИТЕКТУРА Э.В.М.</dc:title>
</cp:coreProperties>
</file>