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264-FCB4-48D0-84BB-3755FE8B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305-B2FC-484B-82A6-582AD74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A5D-C925-46CD-84D2-84661178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96B-E6E2-432C-B0FB-2524E2B4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FA0-5783-4AEF-8485-4312E17C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86B-035F-4A6D-82CF-D34271D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9A20-8DD7-48D7-8525-041594C7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90F-6A22-4FC7-9A33-B5A9ACD1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5113-B421-4117-9C9A-E7FB0D3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6E7F-B68E-4AFE-A779-5D14110A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EB0-87FC-4B77-9127-349A57B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863-02C5-4EB3-9B3D-8BCBF3CC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D1F-0591-455E-BD4E-208D11C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6028-B6F2-478E-BA3B-55F834D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CD6E-7D4B-42A7-A1AF-FA5FAFA1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1AA4-C5E5-4942-A5F8-F2880856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37FC-2BAC-4358-8776-510A792A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63E-9532-447F-8825-7F38322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4B7-5A6C-4C1A-B778-BADD1A7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BFC-5D5E-4F50-8EC5-91584ED6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9F6-C578-4D75-954E-39D8D07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0AF-10EE-4230-8EDC-27E484D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DAA-E791-4C46-97C5-D90D2EA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1E9-DA47-4448-B470-5350EEF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EAC-7B0D-4DFD-A7BD-2F387FD8F7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596-C05F-405A-BBC8-94B8B6C07C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2127240" cy="209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187720" y="-27000"/>
            <a:ext cx="3321000" cy="269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526000" y="22320"/>
            <a:ext cx="3583080" cy="268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-14400" y="2060640"/>
            <a:ext cx="2855880" cy="214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2843280" y="2637000"/>
            <a:ext cx="2701800" cy="271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5504040" y="2637000"/>
            <a:ext cx="352872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7"/>
          <a:stretch/>
        </p:blipFill>
        <p:spPr>
          <a:xfrm>
            <a:off x="23760" y="4202280"/>
            <a:ext cx="304812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42160" y="4665600"/>
            <a:ext cx="2190600" cy="219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2840040" y="5354640"/>
            <a:ext cx="400212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760" y="11160"/>
            <a:ext cx="3338640" cy="250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132000" y="46080"/>
            <a:ext cx="428652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0" y="2529000"/>
            <a:ext cx="4286160" cy="238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4859280" y="2781360"/>
            <a:ext cx="404496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560520" y="4910040"/>
            <a:ext cx="3165480" cy="18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3726000" y="5084640"/>
            <a:ext cx="2536560" cy="190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6381720" y="5148360"/>
            <a:ext cx="2762280" cy="1839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6461280" y="108000"/>
            <a:ext cx="2582640" cy="2678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6539040" y="2322360"/>
            <a:ext cx="1033200" cy="55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2700360" y="-270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rcRect l="8577" t="0" r="0" b="0"/>
          <a:stretch/>
        </p:blipFill>
        <p:spPr>
          <a:xfrm>
            <a:off x="5435640" y="2871720"/>
            <a:ext cx="2728800" cy="201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5"/>
          <a:stretch/>
        </p:blipFill>
        <p:spPr>
          <a:xfrm>
            <a:off x="23760" y="0"/>
            <a:ext cx="275760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6"/>
          <a:stretch/>
        </p:blipFill>
        <p:spPr>
          <a:xfrm>
            <a:off x="-1440" y="1719360"/>
            <a:ext cx="2522520" cy="286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7"/>
          <a:stretch/>
        </p:blipFill>
        <p:spPr>
          <a:xfrm>
            <a:off x="2614680" y="2786040"/>
            <a:ext cx="2266920" cy="270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8"/>
          <a:stretch/>
        </p:blipFill>
        <p:spPr>
          <a:xfrm>
            <a:off x="7289640" y="4294080"/>
            <a:ext cx="1859040" cy="18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9"/>
          <a:stretch/>
        </p:blipFill>
        <p:spPr>
          <a:xfrm>
            <a:off x="7754760" y="2522520"/>
            <a:ext cx="1433520" cy="18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0"/>
          <a:stretch/>
        </p:blipFill>
        <p:spPr>
          <a:xfrm>
            <a:off x="9360" y="4529160"/>
            <a:ext cx="2546640" cy="254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1"/>
          <a:stretch/>
        </p:blipFill>
        <p:spPr>
          <a:xfrm>
            <a:off x="4721400" y="4889520"/>
            <a:ext cx="2568240" cy="192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12"/>
          <a:stretch/>
        </p:blipFill>
        <p:spPr>
          <a:xfrm>
            <a:off x="2700360" y="5313240"/>
            <a:ext cx="2021040" cy="1563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4_1"/>
          <p:cNvPicPr/>
          <p:nvPr/>
        </p:nvPicPr>
        <p:blipFill>
          <a:blip r:embed="rId1"/>
          <a:stretch/>
        </p:blipFill>
        <p:spPr>
          <a:xfrm>
            <a:off x="6264360" y="404640"/>
            <a:ext cx="2879640" cy="254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vu02"/>
          <p:cNvPicPr/>
          <p:nvPr/>
        </p:nvPicPr>
        <p:blipFill>
          <a:blip r:embed="rId2"/>
          <a:stretch/>
        </p:blipFill>
        <p:spPr>
          <a:xfrm>
            <a:off x="166680" y="260280"/>
            <a:ext cx="3168720" cy="202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517920" y="149400"/>
            <a:ext cx="2519280" cy="251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92240" y="2284560"/>
            <a:ext cx="3375000" cy="215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3355920" y="2668680"/>
            <a:ext cx="3449520" cy="25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6"/>
          <a:stretch/>
        </p:blipFill>
        <p:spPr>
          <a:xfrm>
            <a:off x="0" y="4438800"/>
            <a:ext cx="2932200" cy="241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7"/>
          <a:stretch/>
        </p:blipFill>
        <p:spPr>
          <a:xfrm>
            <a:off x="6734160" y="3021120"/>
            <a:ext cx="2482920" cy="192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8"/>
          <a:stretch/>
        </p:blipFill>
        <p:spPr>
          <a:xfrm>
            <a:off x="2954160" y="5029200"/>
            <a:ext cx="2481480" cy="183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9"/>
          <a:stretch/>
        </p:blipFill>
        <p:spPr>
          <a:xfrm>
            <a:off x="5435640" y="5005440"/>
            <a:ext cx="2268360" cy="19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49:50Z</dcterms:modified>
  <cp:revision>59</cp:revision>
  <dc:subject/>
  <dc:title>АРХИТЕКТУРА Э.В.М.</dc:title>
</cp:coreProperties>
</file>