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97A-54E6-4208-999D-4EF8D113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04A-7132-453A-98DD-DD9D1EE1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A96-6BD1-4D94-843E-ACE0EFBB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EC5-B7C4-4E29-AD69-34C53A4B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C7F0-90DD-4FA2-9646-69650C54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34E7-088E-438D-BFDF-18E68DFC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1C0F-7360-4E7E-A39D-7DF92F4D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F678-1BE6-4F74-BD6F-A2C844DA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D1B7-9F34-477B-99CF-2026B8B7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2DBB-551C-4A41-B7E0-FAC27195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A20C-B2E8-4100-9D40-2AA456D1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034-0958-459D-BC40-BCA5E131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F02D-5459-49C7-88E1-C1C130E9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22F7-8732-496A-9B1A-851F1926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1850-31D4-454D-97F8-FEC7944D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4315-C7EB-461D-822A-3784B755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7C0B-DFED-47EE-A83F-DBC4B1F3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9B4-505B-4DFF-BE6C-8B922AB0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8C7-A38D-4E3F-9326-AA8509C5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3EA-6891-4586-BB3D-2F548F84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87D-DC2B-4F26-BF6E-28C4BC3F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457-F2D4-4C2B-BFBE-21B5643B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70D-C025-4CB0-852E-3119DE4F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D02-652F-4970-8661-C1D9C6E9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7DB8-1751-4BCF-BB3A-CE6180F23FC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264E-192B-4553-BD89-F08BC1D4DF5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34920"/>
            <a:ext cx="3389400" cy="3389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0" y="3433680"/>
            <a:ext cx="4565520" cy="3424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5889600" y="34920"/>
            <a:ext cx="3254400" cy="260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3176640" y="34920"/>
            <a:ext cx="2778120" cy="322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5"/>
          <a:stretch/>
        </p:blipFill>
        <p:spPr>
          <a:xfrm>
            <a:off x="5707080" y="3208320"/>
            <a:ext cx="3619440" cy="361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6"/>
          <a:stretch/>
        </p:blipFill>
        <p:spPr>
          <a:xfrm>
            <a:off x="3780000" y="5214960"/>
            <a:ext cx="2342880" cy="1757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7"/>
          <a:stretch/>
        </p:blipFill>
        <p:spPr>
          <a:xfrm>
            <a:off x="3890880" y="3424320"/>
            <a:ext cx="1940040" cy="1939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8"/>
          <a:stretch/>
        </p:blipFill>
        <p:spPr>
          <a:xfrm>
            <a:off x="7093080" y="2214720"/>
            <a:ext cx="2022480" cy="1560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250920" y="3146400"/>
            <a:ext cx="2433600" cy="2227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2"/>
          <a:stretch/>
        </p:blipFill>
        <p:spPr>
          <a:xfrm>
            <a:off x="1955880" y="50760"/>
            <a:ext cx="2784240" cy="3187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5254560" y="836640"/>
            <a:ext cx="3889440" cy="3803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2982960" y="4260960"/>
            <a:ext cx="2597040" cy="2597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"/>
          <p:cNvPicPr/>
          <p:nvPr/>
        </p:nvPicPr>
        <p:blipFill>
          <a:blip r:embed="rId1"/>
          <a:stretch/>
        </p:blipFill>
        <p:spPr>
          <a:xfrm>
            <a:off x="5602320" y="90360"/>
            <a:ext cx="3451320" cy="342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2"/>
          <a:stretch/>
        </p:blipFill>
        <p:spPr>
          <a:xfrm>
            <a:off x="6480" y="2538360"/>
            <a:ext cx="3919320" cy="391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3"/>
          <a:stretch/>
        </p:blipFill>
        <p:spPr>
          <a:xfrm>
            <a:off x="5138640" y="3537000"/>
            <a:ext cx="3322800" cy="3321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4"/>
          <a:srcRect l="0" t="18738" r="0" b="17471"/>
          <a:stretch/>
        </p:blipFill>
        <p:spPr>
          <a:xfrm>
            <a:off x="415800" y="108000"/>
            <a:ext cx="4143600" cy="243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5"/>
          <a:srcRect l="13076" t="0" r="15218" b="0"/>
          <a:stretch/>
        </p:blipFill>
        <p:spPr>
          <a:xfrm>
            <a:off x="3768840" y="2266920"/>
            <a:ext cx="1581120" cy="2206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84240"/>
            <a:ext cx="4762440" cy="392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5148360" y="-98280"/>
            <a:ext cx="3436920" cy="428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rcRect l="0" t="9307" r="0" b="9846"/>
          <a:stretch/>
        </p:blipFill>
        <p:spPr>
          <a:xfrm>
            <a:off x="179280" y="3778200"/>
            <a:ext cx="3810240" cy="307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rcRect l="7850" t="0" r="0" b="0"/>
          <a:stretch/>
        </p:blipFill>
        <p:spPr>
          <a:xfrm>
            <a:off x="3989520" y="4008600"/>
            <a:ext cx="3633480" cy="284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5"/>
          <a:srcRect l="33008" t="33266" r="34935" b="28907"/>
          <a:stretch/>
        </p:blipFill>
        <p:spPr>
          <a:xfrm>
            <a:off x="7294680" y="5002200"/>
            <a:ext cx="1598400" cy="1851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1050CPLUS"/>
          <p:cNvPicPr/>
          <p:nvPr/>
        </p:nvPicPr>
        <p:blipFill>
          <a:blip r:embed="rId1"/>
          <a:stretch/>
        </p:blipFill>
        <p:spPr>
          <a:xfrm>
            <a:off x="4211640" y="0"/>
            <a:ext cx="4176720" cy="3549600"/>
          </a:xfrm>
          <a:prstGeom prst="rect">
            <a:avLst/>
          </a:prstGeom>
          <a:ln w="12600">
            <a:solidFill>
              <a:srgbClr val="969696"/>
            </a:solidFill>
            <a:miter/>
          </a:ln>
        </p:spPr>
      </p:pic>
      <p:pic>
        <p:nvPicPr>
          <p:cNvPr id="109" name="Picture 6" descr="plotter13"/>
          <p:cNvPicPr/>
          <p:nvPr/>
        </p:nvPicPr>
        <p:blipFill>
          <a:blip r:embed="rId2"/>
          <a:stretch/>
        </p:blipFill>
        <p:spPr>
          <a:xfrm>
            <a:off x="0" y="-17640"/>
            <a:ext cx="4211640" cy="3472200"/>
          </a:xfrm>
          <a:prstGeom prst="rect">
            <a:avLst/>
          </a:prstGeom>
          <a:ln w="12600">
            <a:solidFill>
              <a:srgbClr val="969696"/>
            </a:solidFill>
            <a:miter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5302080" y="3549600"/>
            <a:ext cx="3808440" cy="3308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4"/>
          <a:srcRect l="0" t="14890" r="0" b="0"/>
          <a:stretch/>
        </p:blipFill>
        <p:spPr>
          <a:xfrm>
            <a:off x="28440" y="3890880"/>
            <a:ext cx="5288040" cy="2625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28440" y="-31680"/>
            <a:ext cx="4681800" cy="316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4710240" y="65160"/>
            <a:ext cx="4433760" cy="274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74520" y="3130560"/>
            <a:ext cx="5029200" cy="241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5103720" y="2868480"/>
            <a:ext cx="4040280" cy="3030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5"/>
          <a:stretch/>
        </p:blipFill>
        <p:spPr>
          <a:xfrm>
            <a:off x="2589120" y="4757760"/>
            <a:ext cx="3429000" cy="2082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7:43:23Z</dcterms:created>
  <dc:creator>user</dc:creator>
  <dc:description/>
  <dc:language>en-US</dc:language>
  <cp:lastModifiedBy>User</cp:lastModifiedBy>
  <dcterms:modified xsi:type="dcterms:W3CDTF">2017-09-15T11:50:57Z</dcterms:modified>
  <cp:revision>58</cp:revision>
  <dc:subject/>
  <dc:title>АРХИТЕКТУРА Э.В.М.</dc:title>
</cp:coreProperties>
</file>