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D91-50BF-427A-A049-1477D4A1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B43-6835-4F9A-91AC-9025CA18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D6B-F719-4479-8FF0-DE0828E5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705-DBD1-495A-BAA6-7F7BC433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C648-580D-495F-8B2F-34FB50B3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9E7-C232-4B96-918D-2B6BE4A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0073-BD58-473C-809B-E2B23A9F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889F-9E23-44C9-9A04-00CE703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B051-F6BE-4122-8694-14A5E868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FEDB-FCC2-4952-AE65-BC69C3C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21CF-4B5D-4ADC-AF39-9D80B9F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ED7-D05D-4976-AA74-0A316ED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71A1-85C6-45F0-9A1A-5B2975F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2EDC-C94D-40FE-B7C9-03E380F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AFC1-A1A4-45B5-AFE5-7913F66D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C972-1CA1-4283-A13F-C8C833B2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2451-49A2-41D2-8F96-AE425547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E5C-5B30-4859-B9B2-0672AA64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791-B498-488D-A233-4D7A31B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7F1-D3E0-4D5B-A783-8A5F46A8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A26-BCB4-4A0D-B8EA-73BD914A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750-CF0F-47BE-93F4-2C4C4DF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415-A713-4675-B5FF-FB41DEB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2DE-DB6A-4272-A06A-3695E23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496E-0E89-4F32-AF7F-6B35BDD82FB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CA97-B892-4BF4-BA8C-5790923A49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34920"/>
            <a:ext cx="3389400" cy="338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3433680"/>
            <a:ext cx="4565520" cy="3424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5889600" y="34920"/>
            <a:ext cx="3254400" cy="260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3176640" y="34920"/>
            <a:ext cx="2778120" cy="322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5"/>
          <a:stretch/>
        </p:blipFill>
        <p:spPr>
          <a:xfrm>
            <a:off x="5707080" y="3208320"/>
            <a:ext cx="3619440" cy="361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6"/>
          <a:stretch/>
        </p:blipFill>
        <p:spPr>
          <a:xfrm>
            <a:off x="3780000" y="5214960"/>
            <a:ext cx="2342880" cy="17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7"/>
          <a:stretch/>
        </p:blipFill>
        <p:spPr>
          <a:xfrm>
            <a:off x="3890880" y="3424320"/>
            <a:ext cx="1940040" cy="1939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8"/>
          <a:stretch/>
        </p:blipFill>
        <p:spPr>
          <a:xfrm>
            <a:off x="7093080" y="2214720"/>
            <a:ext cx="2022480" cy="1560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250920" y="3146400"/>
            <a:ext cx="2433600" cy="222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1955880" y="50760"/>
            <a:ext cx="2784240" cy="3187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5254560" y="836640"/>
            <a:ext cx="3889440" cy="380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2982960" y="4260960"/>
            <a:ext cx="2597040" cy="2597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5602320" y="90360"/>
            <a:ext cx="3451320" cy="342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2"/>
          <a:stretch/>
        </p:blipFill>
        <p:spPr>
          <a:xfrm>
            <a:off x="6480" y="2538360"/>
            <a:ext cx="3919320" cy="391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3"/>
          <a:stretch/>
        </p:blipFill>
        <p:spPr>
          <a:xfrm>
            <a:off x="5138640" y="3537000"/>
            <a:ext cx="3322800" cy="332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4"/>
          <a:srcRect l="0" t="18738" r="0" b="17471"/>
          <a:stretch/>
        </p:blipFill>
        <p:spPr>
          <a:xfrm>
            <a:off x="415800" y="108000"/>
            <a:ext cx="4143600" cy="24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5"/>
          <a:srcRect l="13076" t="0" r="15218" b="0"/>
          <a:stretch/>
        </p:blipFill>
        <p:spPr>
          <a:xfrm>
            <a:off x="3768840" y="2266920"/>
            <a:ext cx="158112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84240"/>
            <a:ext cx="4762440" cy="39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148360" y="-98280"/>
            <a:ext cx="3436920" cy="428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rcRect l="0" t="9307" r="0" b="9846"/>
          <a:stretch/>
        </p:blipFill>
        <p:spPr>
          <a:xfrm>
            <a:off x="179280" y="3778200"/>
            <a:ext cx="3810240" cy="307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rcRect l="7850" t="0" r="0" b="0"/>
          <a:stretch/>
        </p:blipFill>
        <p:spPr>
          <a:xfrm>
            <a:off x="3989520" y="4008600"/>
            <a:ext cx="3633480" cy="28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rcRect l="33008" t="33266" r="34935" b="28907"/>
          <a:stretch/>
        </p:blipFill>
        <p:spPr>
          <a:xfrm>
            <a:off x="7294680" y="5002200"/>
            <a:ext cx="1598400" cy="1851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1050CPLUS"/>
          <p:cNvPicPr/>
          <p:nvPr/>
        </p:nvPicPr>
        <p:blipFill>
          <a:blip r:embed="rId1"/>
          <a:stretch/>
        </p:blipFill>
        <p:spPr>
          <a:xfrm>
            <a:off x="4211640" y="0"/>
            <a:ext cx="4176720" cy="354960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109" name="Picture 6" descr="plotter13"/>
          <p:cNvPicPr/>
          <p:nvPr/>
        </p:nvPicPr>
        <p:blipFill>
          <a:blip r:embed="rId2"/>
          <a:stretch/>
        </p:blipFill>
        <p:spPr>
          <a:xfrm>
            <a:off x="0" y="-17640"/>
            <a:ext cx="4211640" cy="347220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5302080" y="3549600"/>
            <a:ext cx="3808440" cy="330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rcRect l="0" t="14890" r="0" b="0"/>
          <a:stretch/>
        </p:blipFill>
        <p:spPr>
          <a:xfrm>
            <a:off x="28440" y="3890880"/>
            <a:ext cx="5288040" cy="2625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468180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4710240" y="65160"/>
            <a:ext cx="4433760" cy="274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74520" y="3130560"/>
            <a:ext cx="5029200" cy="241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5103720" y="2868480"/>
            <a:ext cx="4040280" cy="303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5"/>
          <a:stretch/>
        </p:blipFill>
        <p:spPr>
          <a:xfrm>
            <a:off x="2589120" y="4757760"/>
            <a:ext cx="3429000" cy="2082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43:23Z</dcterms:created>
  <dc:creator>user</dc:creator>
  <dc:description/>
  <dc:language>en-US</dc:language>
  <cp:lastModifiedBy>User</cp:lastModifiedBy>
  <dcterms:modified xsi:type="dcterms:W3CDTF">2017-09-15T11:50:57Z</dcterms:modified>
  <cp:revision>58</cp:revision>
  <dc:subject/>
  <dc:title>АРХИТЕКТУРА Э.В.М.</dc:title>
</cp:coreProperties>
</file>