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5C6E-6B4D-4541-840B-4EFE9514D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CC5B-5827-4DFE-B012-FEFE573FB71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6F420-1CEF-4226-9F8A-C93BB418E51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DC4F0-ED16-4A76-81DD-ACC1733EBF4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F3232-E4A5-472C-B045-FA3303466C8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AD81E-0A78-4243-AB56-312A7BA6F05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9EF2D-4290-4179-9DA0-4657AE34CE8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5CBDF-16FD-474B-AB31-5EFE36FA25D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14C50-DC30-4AD6-90A1-D34E85C68B2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38826-84B5-4AA2-8FA3-4616CBFE79B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25F10-A502-43F4-ADA5-A00C842392C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5D31A-144F-419B-979A-3CC72A2AA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4CE7-778D-4DCC-9054-868F5F27E01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BE1FE8-D0E0-4954-9B02-A2FDB72FC46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0662AD-4A87-4C16-9379-38F7C63A26D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B2B0A5-7270-4B1E-8D22-56385B7B673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7604E0-FFC8-47F4-9463-99C48646B4D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720BA3-D36A-41BE-86D1-17D52DD6427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983018-50E6-42FD-9D9B-3DECE1447EE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2EB03F-D78D-4811-BB7C-BA19A7F983D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56CD3A-B65C-4F4C-9402-1E5F4680DDD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D3D20E-883F-4F11-BE69-1F15A23274A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FB6CA8-DA91-4570-8B58-63B6FB5E3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37F7-3203-48BB-938B-6077F24D9B0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EFFCD6-4622-4EA6-A508-4135E20E91F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9AB636-9672-4592-BCEA-FBCA9C159EE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DF45E3-B840-4930-B1D3-310BAB9E409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953ACD-9181-4190-9B1D-89EC552185B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14ED0F-E037-4BED-ACD3-415C5E8AC5D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0B6854-6CA5-40E2-B64A-20BE53454B3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F663D-5C22-4DF8-80B8-2CCA7FA08E8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DB2BA3-51F1-4459-8B7F-52020F9E645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8851E1-C2DB-4515-98B8-0021967E777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7AD573-8ABD-4D14-9BC3-F7AAFA71C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47B82-5418-4292-811A-2CC9CF0D9DF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E5163D-F03E-48D8-AAA3-92DA5C52735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B7B42F-549A-4291-825E-14495EC7692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D268AE-102D-47A6-ABB7-EF009643151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169DA-10EF-4BA6-8873-6C103C5CE66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76CDB-66C6-427A-9AF8-468E1A35AD0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A2E75-50D0-43F5-9C4E-7189047BE86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65D6A-21F5-427C-99A7-B1F9AFF5358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B6964-C590-4F47-83DD-8EA3619DFC8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ACC1A-5A94-475B-B3A3-3D5F0E06CD7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80101-5C73-402C-908E-9150A3ED86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A3ABB-6D48-44A0-B775-19B18C7161E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361D2-C496-466F-9166-71E23F6AEB6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575C2-E6F9-4F22-BE78-5B77191CAA1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00247-90CA-45C7-A603-F98814AE0D0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FC439-FD9B-4D46-BE8E-DDC5980F3D0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6BD6F-A8EF-4C39-B97F-9E316A7D41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337C4-A119-4A0D-B741-34C13125FC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E825A-A794-4813-8816-DB3384A9B0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EB91C-B097-4C0B-9A7F-E491EC2929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01BC-0714-40B1-A56A-0FD04F3422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F1E22-06BB-4D95-AD74-27B1CE8E51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283E-D0C2-41BE-B0ED-B703959CA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8A115-4B67-4A7C-8C72-2A6AD2A8B3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010F2-9F58-41B1-BDDB-757A26338E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3002-A40B-4D82-B840-3CBA25AB61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4B7EF-9D9C-459B-8776-0F5890FF8C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D8CB2-9C5A-4467-BA9E-F97840932A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B417-335F-4295-83AC-21EF8716C9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3B4-76E8-4630-80E5-03459FB27D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5B9-99FA-41DD-AA93-B1CAD6EA76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203-5457-4A68-BB61-565A0FCEFC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82A0-9A52-470E-99AE-262E533177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B975-72E1-491B-AEE8-1F907FD52F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2B26-F0BB-436E-861B-80C5E2BF5B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6A1F-53A1-4BC3-9E3C-62B62EB6D3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96AC-189C-4926-95B4-4D92AFD269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00F-EE58-4D7E-9358-82C0E62DB8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58DC-7336-4C36-A9ED-610192FFD9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B86-8B50-499F-8BB1-B3E66896E4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DA70-D729-4889-A88E-699F82CAE4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CFA27-F5D8-489F-9910-C333406DA6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D493B-78F0-4152-AF1B-516952D9520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131C2-D135-4E80-A0A4-51622A7F5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F8F0-70BB-4AC3-91A5-3B770329B6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FF8DD-EDA4-495F-AAC4-A93CAB152F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F18B8-4F0B-4676-AEBB-E0B2420AB7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5ADD2-38C8-4D48-85BF-9D8BE6AC8D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230A6-EF45-4E82-AB90-9ABAB3CBAE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047CD-72D2-4DB2-905E-6E593532F1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CC612-93D2-4CC4-8F88-FB50FCED19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D572F-F11D-4E36-B5D4-8B1D92DF48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C91A3-188F-4D36-82D4-7A15148A82A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F2EC0-70A8-41A2-9B6C-B6162A131F4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E2F18-72BE-4B1C-BABD-1C87F7905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2B90-1613-4AFE-A4FF-B06BC79AC4B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85FFB-0BB7-4E44-BCAA-54D1A684DFA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94B3E-4926-4165-87B4-A6BA4B99CBA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C1AF6-F1B9-4C60-98AD-DE059ACD845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9D1C4-C0A6-41F1-A30E-A7D7FECE115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1C2D8-D854-480C-98AE-F4464402390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E0F02-4E39-452C-80CF-338291D73A3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D2C87-95CB-4C1A-8C78-D0EBA278047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2BDDC-8D12-4BD5-8314-25727373DA5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68BCF-2FB3-450A-B8AB-D988879A988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2BA76-496D-45DD-AD20-9A0A50F85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8899-0474-4476-8720-56C3142C9CB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DD24B-116F-4FF0-87E0-43EF3875FE3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3ACF-017C-4E71-AE7F-EDB13C23086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4AE2-503C-49E3-8BD3-EC98B0F4141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97D0-F9F6-48C4-AD73-AA36183E08C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D172-8B7D-47F2-BBAA-93D971D63F2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901E-9843-4A2A-AF32-6851A536C4E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5A43-D2CB-4318-9F55-71C1DFEC992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9FA5-7712-4980-B096-A48ACC1CDBB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36B1-B2D9-4B3C-93BD-33ABCF533E9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DBBB-0F95-42F3-A478-1F0B834B9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F3AF-748E-4FA3-95BA-0FB2EE4C6C8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6284-9C19-45BC-B636-7F7BB12AC1A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35B7-EE9E-4E5B-9502-4390F9289DB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BE3D-94E7-4BAB-8B87-629D6062507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2C3048-0ADA-4204-9856-41905B34E14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994DFE-0001-49BC-A7D1-65258A70E23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2923D3-AA76-4E56-8901-5D920810AAE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ABA42D-8192-4656-AB24-337427E85D4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31C00E-3C1B-431B-9D3D-38CF3799990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AA3FA6-11FF-4F7B-AABC-EFA1C7461CE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16429F-6772-4ABD-AF9C-D6B2911F8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7F01-1CA0-44CB-B6DD-91F62AD51F9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1A6C58-ED61-47B7-ACBD-075CA0426E6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ECC74C-013F-4817-B826-28529A7C13C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23A63A-46C0-49C6-AE97-1861C15F14C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083373-D7FE-44E4-8388-D63FA62FC37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3F7536-0903-4BC9-A4F9-995F73619C9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40345-9197-4EE8-8FFE-799A22083D8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B625A-EEB0-41C5-8100-B3BFE773658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8BC52-9B7B-472C-B9CE-A124F66E329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0220A-1694-4038-8B03-FD46A1BF6F2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4E4DB-B5DC-46D1-B616-C57307AA6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34F3-7388-4454-8F65-971277C267D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75E9D-23A1-4D40-AF25-5FC7C59BE30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69DD9-F291-4768-BA16-790C1DB57FF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32CACC-72A6-419D-A0D0-61D0989AFC0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A8B83-FACF-48B2-A307-5B5360F950E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2BC56-641E-4156-A114-8B0B51623E5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8B6AB-EDD7-4EF5-BC30-D1636E7A049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543E6-4929-4981-8A84-B216AA66C36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4A38C-4C52-4D57-801A-6C9130743B3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5D026-CD11-4293-AFB5-125BBAA69E1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F8FC8-1A72-4CAD-8223-D97431F48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9707-258B-42B2-86CC-D41590A51AA8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Num" idx="10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EA60-789C-48BB-87D4-FC827E8662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B96D-D329-4F3E-895E-3E80DCDCAC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1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2C5D-D9BC-4FD3-8609-8D5571E0CD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FD08-A432-4DB8-BB86-C2CCA5FE62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587D-FC5C-4771-BB4C-60ACB97D72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72F8-3DE0-46FA-B65A-57407A2EE0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2BC9-3CB3-4F45-AE3A-B831A29350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3A40-99B2-4B67-8E29-FB12DC5691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612C-B165-4B98-B2F4-3F29F72CBD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4BAE-E11B-48F0-AED7-03C9491FD7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hape 36"/>
          <p:cNvSpPr/>
          <p:nvPr/>
        </p:nvSpPr>
        <p:spPr>
          <a:xfrm>
            <a:off x="4572000" y="0"/>
            <a:ext cx="4572000" cy="514368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9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06D3-078C-4E90-B9AB-FA48A6C66E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120" y="1144440"/>
            <a:ext cx="7797960" cy="2640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Проект по русскому языку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«И в шутку и всерьёз»</a:t>
            </a:r>
            <a:br>
              <a:rPr sz="5200"/>
            </a:b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45960" y="10476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9. Угадай слово.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93640" y="636120"/>
            <a:ext cx="7685280" cy="3372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9000"/>
          </a:bodyPr>
          <a:p>
            <a:pPr marL="226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П _ Р _ М _ Н _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К _ Р _ Н Д _ 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Ч _ Л _ В _ 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К _ Н _ К _ Л _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37"/>
          <p:cNvSpPr/>
          <p:nvPr/>
        </p:nvSpPr>
        <p:spPr>
          <a:xfrm>
            <a:off x="88920" y="4348080"/>
            <a:ext cx="8520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Ответ: Перемена, карандаш, человек, каникул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Shape 138" descr=""/>
          <p:cNvPicPr/>
          <p:nvPr/>
        </p:nvPicPr>
        <p:blipFill>
          <a:blip r:embed="rId1"/>
          <a:stretch/>
        </p:blipFill>
        <p:spPr>
          <a:xfrm>
            <a:off x="425520" y="866880"/>
            <a:ext cx="2166840" cy="3292200"/>
          </a:xfrm>
          <a:prstGeom prst="rect">
            <a:avLst/>
          </a:prstGeom>
          <a:ln w="0">
            <a:noFill/>
          </a:ln>
        </p:spPr>
      </p:pic>
      <p:pic>
        <p:nvPicPr>
          <p:cNvPr id="517" name="Shape 139" descr=""/>
          <p:cNvPicPr/>
          <p:nvPr/>
        </p:nvPicPr>
        <p:blipFill>
          <a:blip r:embed="rId2"/>
          <a:stretch/>
        </p:blipFill>
        <p:spPr>
          <a:xfrm>
            <a:off x="6251400" y="982800"/>
            <a:ext cx="2848320" cy="26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45960" y="10476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10. Составь слово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01240" y="732960"/>
            <a:ext cx="8521560" cy="3387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КРО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КОМИ                   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РА           СС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   ВОР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ШО                        В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РА                         Н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КЛА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К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hape 146"/>
          <p:cNvSpPr/>
          <p:nvPr/>
        </p:nvSpPr>
        <p:spPr>
          <a:xfrm>
            <a:off x="201600" y="4243320"/>
            <a:ext cx="8410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Ответ: Кроссворд, комиссия, рассвет, шоссе, рассказ, классна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11040" y="845640"/>
            <a:ext cx="8521920" cy="3030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Спасибо     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за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5400" y="124920"/>
            <a:ext cx="8881920" cy="971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Расположите слова по степени увеличения в них согласных звуков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47680" y="1862280"/>
            <a:ext cx="8843760" cy="971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Паук, она, мандарин, ягода, стриж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hape 62"/>
          <p:cNvSpPr/>
          <p:nvPr/>
        </p:nvSpPr>
        <p:spPr>
          <a:xfrm>
            <a:off x="149400" y="3597120"/>
            <a:ext cx="88452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Ответ: Она, паук, ягода, стриж, мандар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63080" y="6984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2. Какой согласный звук есть во всех данных словах? Произнесите ег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64840" y="1519200"/>
            <a:ext cx="8520120" cy="1231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Клей, юла, лейка, мая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hape 69"/>
          <p:cNvSpPr/>
          <p:nvPr/>
        </p:nvSpPr>
        <p:spPr>
          <a:xfrm>
            <a:off x="2244600" y="3230640"/>
            <a:ext cx="65660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Ответ: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Shape 70" descr=""/>
          <p:cNvPicPr/>
          <p:nvPr/>
        </p:nvPicPr>
        <p:blipFill>
          <a:blip r:embed="rId1"/>
          <a:stretch/>
        </p:blipFill>
        <p:spPr>
          <a:xfrm>
            <a:off x="4514760" y="2395440"/>
            <a:ext cx="1685880" cy="23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63080" y="130320"/>
            <a:ext cx="8520120" cy="1030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3. Разгадайте по согласным первую строчку известной детской песенк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0720" y="1571760"/>
            <a:ext cx="8521920" cy="1231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3000"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В  Л_С_   Р_Д_Л_С_   _Л_ЧК_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В  Л_С_  _Н_  Р_СЛ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hape 77"/>
          <p:cNvSpPr/>
          <p:nvPr/>
        </p:nvSpPr>
        <p:spPr>
          <a:xfrm>
            <a:off x="241200" y="3589200"/>
            <a:ext cx="656748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Ответ: В лесу родилась ёлочка,                 В лесу она рос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Shape 78" descr=""/>
          <p:cNvPicPr/>
          <p:nvPr/>
        </p:nvPicPr>
        <p:blipFill>
          <a:blip r:embed="rId1"/>
          <a:stretch/>
        </p:blipFill>
        <p:spPr>
          <a:xfrm>
            <a:off x="6651720" y="151920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11040" y="13968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4. Прочитайте.  Почему вы улыбнулись? Найдите ошибк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98160" y="1519200"/>
            <a:ext cx="8521560" cy="1231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3000"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На костре козёл стоя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Под козлом костёр пляса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hape 85"/>
          <p:cNvSpPr/>
          <p:nvPr/>
        </p:nvSpPr>
        <p:spPr>
          <a:xfrm>
            <a:off x="453960" y="3187800"/>
            <a:ext cx="65674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Отв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Пред козлом костёр стоя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Над костром козёл пляса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2920" y="69840"/>
            <a:ext cx="8520120" cy="1641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5. Прочитайте. Отгадайте слово. Напишите это слово. Проверьте его написание по толковому словарю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55320" y="1292040"/>
            <a:ext cx="8520120" cy="123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43000"/>
          </a:bodyPr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На большие расстоя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Мчится он без опозд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Пишется в конце два СС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Называется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hape 92"/>
          <p:cNvSpPr/>
          <p:nvPr/>
        </p:nvSpPr>
        <p:spPr>
          <a:xfrm>
            <a:off x="401760" y="4086360"/>
            <a:ext cx="656748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Ответ: экспре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Shape 93" descr=""/>
          <p:cNvPicPr/>
          <p:nvPr/>
        </p:nvPicPr>
        <p:blipFill>
          <a:blip r:embed="rId1"/>
          <a:stretch/>
        </p:blipFill>
        <p:spPr>
          <a:xfrm>
            <a:off x="5337000" y="1563840"/>
            <a:ext cx="3630960" cy="27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45960" y="10476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6. В каком слове сорок гласных?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hape 99"/>
          <p:cNvSpPr/>
          <p:nvPr/>
        </p:nvSpPr>
        <p:spPr>
          <a:xfrm>
            <a:off x="1868400" y="1371600"/>
            <a:ext cx="65674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Ответ: СОРО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Shape 100" descr=""/>
          <p:cNvPicPr/>
          <p:nvPr/>
        </p:nvPicPr>
        <p:blipFill>
          <a:blip r:embed="rId1"/>
          <a:stretch/>
        </p:blipFill>
        <p:spPr>
          <a:xfrm>
            <a:off x="2720880" y="2428920"/>
            <a:ext cx="3702240" cy="24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5640" y="10476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7. Замените одним словом.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hape 106"/>
          <p:cNvSpPr/>
          <p:nvPr/>
        </p:nvSpPr>
        <p:spPr>
          <a:xfrm>
            <a:off x="433440" y="824040"/>
            <a:ext cx="43257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Жвачное животное с очень длинной ше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hape 107"/>
          <p:cNvSpPr/>
          <p:nvPr/>
        </p:nvSpPr>
        <p:spPr>
          <a:xfrm>
            <a:off x="433440" y="1660680"/>
            <a:ext cx="300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761d"/>
                </a:solidFill>
                <a:latin typeface="Comic Sans MS"/>
                <a:ea typeface="Comic Sans MS"/>
              </a:rPr>
              <a:t>Что у человека дороже всег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hape 108"/>
          <p:cNvSpPr/>
          <p:nvPr/>
        </p:nvSpPr>
        <p:spPr>
          <a:xfrm>
            <a:off x="433440" y="2392200"/>
            <a:ext cx="300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60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hape 109"/>
          <p:cNvSpPr/>
          <p:nvPr/>
        </p:nvSpPr>
        <p:spPr>
          <a:xfrm>
            <a:off x="396720" y="2878200"/>
            <a:ext cx="30006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761d"/>
                </a:solidFill>
                <a:latin typeface="Comic Sans MS"/>
                <a:ea typeface="Comic Sans MS"/>
              </a:rPr>
              <a:t>Густой частый л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hape 110"/>
          <p:cNvSpPr/>
          <p:nvPr/>
        </p:nvSpPr>
        <p:spPr>
          <a:xfrm>
            <a:off x="396720" y="3413160"/>
            <a:ext cx="3402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Хищная рыба с острыми зубами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hape 111"/>
          <p:cNvSpPr/>
          <p:nvPr/>
        </p:nvSpPr>
        <p:spPr>
          <a:xfrm>
            <a:off x="396720" y="4199040"/>
            <a:ext cx="3000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761d"/>
                </a:solidFill>
                <a:latin typeface="Comic Sans MS"/>
                <a:ea typeface="Comic Sans MS"/>
              </a:rPr>
              <a:t>Животные, которые носят еду на спине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hape 112"/>
          <p:cNvSpPr/>
          <p:nvPr/>
        </p:nvSpPr>
        <p:spPr>
          <a:xfrm>
            <a:off x="4471920" y="701640"/>
            <a:ext cx="2998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Ответ: ЖИ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hape 113"/>
          <p:cNvSpPr/>
          <p:nvPr/>
        </p:nvSpPr>
        <p:spPr>
          <a:xfrm>
            <a:off x="4471920" y="1459080"/>
            <a:ext cx="29988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761d"/>
                </a:solidFill>
                <a:latin typeface="Comic Sans MS"/>
                <a:ea typeface="Comic Sans MS"/>
              </a:rPr>
              <a:t>Ответ: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hape 114"/>
          <p:cNvSpPr/>
          <p:nvPr/>
        </p:nvSpPr>
        <p:spPr>
          <a:xfrm>
            <a:off x="4471920" y="2293920"/>
            <a:ext cx="2998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Ответ: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hape 115"/>
          <p:cNvSpPr/>
          <p:nvPr/>
        </p:nvSpPr>
        <p:spPr>
          <a:xfrm>
            <a:off x="4471920" y="2948040"/>
            <a:ext cx="2998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761d"/>
                </a:solidFill>
                <a:latin typeface="Comic Sans MS"/>
                <a:ea typeface="Comic Sans MS"/>
              </a:rPr>
              <a:t>Ответ: ЧА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hape 116"/>
          <p:cNvSpPr/>
          <p:nvPr/>
        </p:nvSpPr>
        <p:spPr>
          <a:xfrm>
            <a:off x="4471920" y="3506760"/>
            <a:ext cx="2998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Ответ: Щ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hape 117"/>
          <p:cNvSpPr/>
          <p:nvPr/>
        </p:nvSpPr>
        <p:spPr>
          <a:xfrm>
            <a:off x="4471920" y="4199040"/>
            <a:ext cx="2998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761d"/>
                </a:solidFill>
                <a:latin typeface="Comic Sans MS"/>
                <a:ea typeface="Comic Sans MS"/>
              </a:rPr>
              <a:t>Ответ: е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45960" y="10476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8. Шарады.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hape 123"/>
          <p:cNvSpPr/>
          <p:nvPr/>
        </p:nvSpPr>
        <p:spPr>
          <a:xfrm>
            <a:off x="345960" y="633240"/>
            <a:ext cx="462456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С глухим согласным наливаюсь в пол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Со звонким — сам звеню я на раздолье.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hape 124"/>
          <p:cNvSpPr/>
          <p:nvPr/>
        </p:nvSpPr>
        <p:spPr>
          <a:xfrm>
            <a:off x="345960" y="1903320"/>
            <a:ext cx="450216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80000"/>
                </a:solidFill>
                <a:latin typeface="Comic Sans MS"/>
                <a:ea typeface="Comic Sans MS"/>
              </a:rPr>
              <a:t>С глухим — траву она среза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80000"/>
                </a:solidFill>
                <a:latin typeface="Comic Sans MS"/>
                <a:ea typeface="Comic Sans MS"/>
              </a:rPr>
              <a:t>Со звонким — листья объедает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hape 125"/>
          <p:cNvSpPr/>
          <p:nvPr/>
        </p:nvSpPr>
        <p:spPr>
          <a:xfrm>
            <a:off x="345960" y="2768760"/>
            <a:ext cx="46245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С «м» — приятен, золотист, очень сладок и душис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С буквой «л» зимой бывает, а весною исчеза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hape 126"/>
          <p:cNvSpPr/>
          <p:nvPr/>
        </p:nvSpPr>
        <p:spPr>
          <a:xfrm>
            <a:off x="345960" y="4037040"/>
            <a:ext cx="4151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80000"/>
                </a:solidFill>
                <a:latin typeface="Comic Sans MS"/>
                <a:ea typeface="Comic Sans MS"/>
              </a:rPr>
              <a:t>С глухим шипящим кругл, как мячи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80000"/>
                </a:solidFill>
                <a:latin typeface="Comic Sans MS"/>
                <a:ea typeface="Comic Sans MS"/>
              </a:rPr>
              <a:t>Со звонким — как огонь горячий</a:t>
            </a:r>
            <a:r>
              <a:rPr b="1" lang="en-US" sz="1400" spc="-1" strike="noStrike">
                <a:solidFill>
                  <a:srgbClr val="980000"/>
                </a:solidFill>
                <a:latin typeface="Comic Sans MS"/>
                <a:ea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hape 127"/>
          <p:cNvSpPr/>
          <p:nvPr/>
        </p:nvSpPr>
        <p:spPr>
          <a:xfrm>
            <a:off x="4970520" y="1042920"/>
            <a:ext cx="30002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Ответ: Колос — гол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hape 128"/>
          <p:cNvSpPr/>
          <p:nvPr/>
        </p:nvSpPr>
        <p:spPr>
          <a:xfrm>
            <a:off x="4970520" y="2122560"/>
            <a:ext cx="30002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80000"/>
                </a:solidFill>
                <a:latin typeface="Comic Sans MS"/>
                <a:ea typeface="Comic Sans MS"/>
              </a:rPr>
              <a:t>Ответ: Коса — ко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hape 129"/>
          <p:cNvSpPr/>
          <p:nvPr/>
        </p:nvSpPr>
        <p:spPr>
          <a:xfrm>
            <a:off x="4935600" y="3290760"/>
            <a:ext cx="30002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Ответ:  Мёд — лё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hape 130"/>
          <p:cNvSpPr/>
          <p:nvPr/>
        </p:nvSpPr>
        <p:spPr>
          <a:xfrm>
            <a:off x="4970520" y="4282920"/>
            <a:ext cx="3000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80000"/>
                </a:solidFill>
                <a:latin typeface="Comic Sans MS"/>
                <a:ea typeface="Comic Sans MS"/>
              </a:rPr>
              <a:t>Ответ: Шар — жа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гафоноваЕГ</cp:lastModifiedBy>
  <dcterms:modified xsi:type="dcterms:W3CDTF">2017-09-15T09:31:15Z</dcterms:modified>
  <cp:revision>1</cp:revision>
  <dc:subject/>
  <dc:title>Проект по русскому языку «И в шутку и всерьёз» </dc:title>
</cp:coreProperties>
</file>