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EF598-15FD-4871-BE3F-FFA06F3C2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1BAE-2102-4BA9-8B2A-7E2725CA404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F11B0-50ED-469D-A4C2-FC1ACE5C87B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8D57E-BEA3-462C-BDD2-1C39F63C014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37F49-7E01-4842-85A9-2FB45205602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E0DB1-0153-4AAC-BD94-E2D37C10E64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C1A1-FF9D-4E60-9B44-9FF128421F7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43B0E-B5CC-4E5D-8052-A89CA053859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18A83-9130-4E4C-A40C-9995A8315E8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D695A-9541-4A87-BAEE-EF742B6A64F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0A22A-6B4C-4A95-8D09-FF3805704FC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5D1202-2625-4C57-A32A-8140F913C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AD79-4894-496C-8453-58DF3287B0E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43F1D2-1779-4D67-9BC9-8309A8E74AE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990C86-A4E7-4083-966E-68C18183A27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72D070-C330-4C34-8839-ED23642C65C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32AC21-8993-46AD-84B9-76846C938A6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78C36E-BF24-4764-8FD3-A2976912C1F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FC4DA0-4445-4F1C-B611-768107F738E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B39727-0663-4876-A219-12021A061B8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705935-8EF1-409B-81DD-E01A59F7F87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2BC175-14A4-40A5-AFE8-0107F2773EC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623417-3450-4070-8D24-72E2F07B6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D7A4-B673-4466-8340-0AFCC86C8AF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4683AB-284F-4E8D-AEAD-256F7B9164A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07131B-364A-4726-BF21-544BF672ECF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09E5C5-7752-4F2E-972D-C99B47665CC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2812E7-3360-4A24-AE6A-2EF342649A7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DB39B0-F07F-49F6-8DBA-5EDB11E4DDF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E1C043-87CE-4F03-BE21-37135719945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D4425D-978E-4A68-8519-82D47CFBD85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462176-E6C7-402F-B3CA-FC4176AAB94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230393-73F9-41A5-8039-B891821ACA6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E47895-257B-4954-BC77-A0E951A79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47C02-1430-48CE-AE62-B159E3C4FDE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C415EC-E83E-47D8-8813-725D9E85F06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E9BEE8-696C-4479-96A2-BA01942DE26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4BC0B1-D2E9-48A7-B9E0-978E444C672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16C6C-1EC3-4CEF-9AB6-BE38C9E4871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EE660-DA1E-4C3A-B9BA-E4676A5ECD7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60A84-ACF0-401E-9368-2EE5DEF0AF8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384F5-BDB0-4AEB-A7FC-0266DEB1D53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6C73F-9D3D-4D71-BB0D-044CD0925B5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9762A-1558-44CE-9D04-5D64C4E0AE7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BED58-A694-4640-BCF0-A15CF8710B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B1669-307A-4845-AAEB-5F63214FF4B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1B94C-D035-40DA-B09A-31E12AAB35B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BA116-D459-42D9-91A5-16B17EAD20A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BE876-6525-47CB-991A-246FC0F301A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92617-275A-4814-9996-B1E5AE9C8A1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E9593-CA77-4CBE-B1A5-309C37DC3D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AE34-B50A-4809-924C-EF065D8747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922B6-A81B-4A04-9AE9-74DDFC51BF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31CD5-CDE2-42AA-B0D0-E69545BE95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FB862-D043-45EF-9C68-2AB85EC47C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5C27A-8535-4F0C-9608-F847E23639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4C38-DD0A-49A8-88F8-C8A7B3CEC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73825-382C-443E-A946-9015E41FE3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2430-BDE8-4677-B190-1A803EFF76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7160E-80D6-42BD-9BA6-3FED21DBEB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8CD12-CA0F-4560-96BE-8BC70B054A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741EA-D8D5-43B6-B4FA-9641010013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868-C0AF-488B-A69E-C853F439D6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567-86FC-4561-BE24-66D8DA1C8B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DE03-D276-456B-852B-3CC8D26DB9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C82E-8B66-47C1-B133-57A0FC3146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39A-DF30-4D46-8A7D-93B086C429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F7DC-86AC-4D6A-84A8-800461AA4C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2382-F27D-4A62-889D-35ED9FB65A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7C2-D461-41E9-87AF-1FB7506688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6DDA-9AF3-4C55-8198-BB1FCEB7CC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7805-B3F8-4EE7-BE9D-2072E5AE9D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656-2345-4121-8AB1-54AD811417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771-B310-486F-A25B-305B9A73C5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7C2F-CAAD-4E03-B5CB-CFA7071811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F1566-0C40-4845-90AD-E02C8E3636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FAC45-1162-4E90-8E85-FE211FD9B4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01C0F-8C26-4293-823B-1E81D17B8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D40C8-AF93-428A-B928-089DBBFF6A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A97A7-2847-42D7-B691-512F4BD6A2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78C90-A477-4914-A726-0CC9E4ADE13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D5974-491F-4FF4-9858-7045ACBA3D2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EF9D6-8D5D-4F00-9954-5E649469545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58F7C-71BA-4A08-8E99-51FA88EF43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F9411-8AE8-4C31-B5FB-299E27E7B4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DF959-590C-4C78-8278-9F09ABC8646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00EA0-C807-4D24-BBF7-AFF2BA4DE8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2BB29-54B7-4335-B9D7-DC69CB86A70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84DFB-FED5-4EA3-9E55-4B82AF29A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DCAB-A1F2-4FEA-B38F-2F537C82A1F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858E3-A53B-4C4E-8369-8E076882BBB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7F303-43D4-4386-BA10-B3E8300EDE5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133A1-BC38-4979-AA9F-395FD00D533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A407C-30C8-4276-B8D8-75A284E50FA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64507-0F7A-47C9-B2F0-4565525AFDB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DDFF3-92E9-4FFB-8212-A68C671DD5F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050F1-F290-4986-A524-AFFD66720A5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F8D72-D2E1-45A1-A2AF-E6CDFB98098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9264A-A936-44E1-95CE-F4E5F107FC6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1AA22-98D9-4A58-BD9A-269A74678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FB76-3764-4402-AEB9-9817E1F8B7D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A150F-0657-4459-91BE-92500C02F81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298B-186C-49D1-97BE-E820FF90A1F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559E-0516-46E9-8434-0E04CE2B4F1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5076-DAAC-4C4A-AA4B-17A5C172238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A213-4218-487D-81B0-B69E1A29F00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559E-C719-47AA-AD12-C2FB415DCB7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9915-C03D-4EB5-9EC4-8595AB97C02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8649-4D75-4A9C-B63B-1F6736BB968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3F7C-0CF0-44D9-BA02-E567313053E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D473-DE6B-4D6F-8B5A-EC378AFCE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E4DB-A836-4D17-9EEA-71696C49681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B886-9D08-483F-814F-F83FE581FE6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9751-A035-47F2-8496-88ED5D324FE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8309-79CB-4F65-B0AD-234A30D2890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F8CD40-DAF3-4832-AFAD-0E124A95D02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6B7E6C-919A-405E-8102-3EB9D12397A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C1A1A6-2892-4139-B68C-B1D5934E938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A2F959-898E-4C35-AF18-981AFB35E7B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3286F4-7238-40C9-A787-89745D5EA48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C3151A-526B-47F0-8DFC-2179395BB77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B99BF0-0C66-4C3B-9AEE-44407E458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FF9BD-5ECC-4DC7-8206-82842AB55EE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9D0541-FBF1-45BD-83B0-54CE1E3B4FD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D45CE9-3655-4F68-9D5C-5CC0CAF0F09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1BDCFA-8462-47A5-BC6B-BD83E571EB6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F26726-D778-43A6-BF8A-3092247EDF8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D09E61-8CE6-4A54-99E8-D536AE5F21D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BF72D-024C-4072-BA00-B0888675A19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BDB57-3837-41AA-9EFA-25E049E01C0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22C5A-64EC-40C9-A167-EF1437692B3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3D1FB-FBFF-4F57-9C33-EA2DE5E6A22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D376F-CEB1-4090-BAE9-D31A38E35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21BA-A27D-44E7-87DF-3FB282E6D4B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11040" y="444600"/>
            <a:ext cx="85219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987F1-D16B-4CA0-A613-04D22014D75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C1B0A-5201-4823-BF09-F6DE4A8ABED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26C71-6C9D-46CE-84B1-D1FCA74CB9D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B81EB-16D1-4C6B-A1FF-3D005608B83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11040" y="2936880"/>
            <a:ext cx="8521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02233-0401-44FE-9469-0B392FE2F4A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110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836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CBDDB-CEFB-4110-9D66-56F71C473F0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73920" y="115236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1104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73920" y="2936880"/>
            <a:ext cx="27439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43C3B-A9A0-46DA-A730-E9830D91492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1B4DE-CCBE-4E18-8626-6258780CE6F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CA5CC-7A28-4475-9616-62C7EEC7571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9F389-A711-4E70-AE35-95AD962C4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62B3-AB24-4FF1-9388-DBD6161F14E6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Num" idx="10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43A0-EAD4-4F42-BC9D-8860CD8A93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6BB5-BD2F-48AC-A81E-480CED4A96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1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E096-A11B-41F3-9972-621B5D6D8F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3D50-6659-4412-AA36-EBFF002C4F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5845-17FA-4878-A5AF-294B76D92B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9A2F-B3B3-4456-86D7-92F51A0E59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B7CC-9A48-4980-A1E7-52738D7F70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D9A1-0BD2-4447-902B-85BC21A76E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1E74-EB95-472D-A33D-82D8C56E0A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8CFD-A6AB-4F07-80AB-4AEBE9741B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hape 36"/>
          <p:cNvSpPr/>
          <p:nvPr/>
        </p:nvSpPr>
        <p:spPr>
          <a:xfrm>
            <a:off x="4572000" y="0"/>
            <a:ext cx="4572000" cy="514368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11040" y="44460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9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FBD0-F1E2-4052-AB6F-0C938B8B43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120" y="1144440"/>
            <a:ext cx="7797960" cy="2640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Проект по русскому языку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«И в шутку и всерьёз»</a:t>
            </a:r>
            <a:br>
              <a:rPr sz="5200"/>
            </a:b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45960" y="10476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9. Угадай слово.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93640" y="636120"/>
            <a:ext cx="7685280" cy="3372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9000"/>
          </a:bodyPr>
          <a:p>
            <a:pPr marL="226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П _ Р _ М _ Н _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К _ Р _ Н Д _ 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Ч _ Л _ В _ 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К _ Н _ К _ Л _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37"/>
          <p:cNvSpPr/>
          <p:nvPr/>
        </p:nvSpPr>
        <p:spPr>
          <a:xfrm>
            <a:off x="88920" y="4348080"/>
            <a:ext cx="8520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Ответ: Перемена, карандаш, человек, каникул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Shape 138" descr=""/>
          <p:cNvPicPr/>
          <p:nvPr/>
        </p:nvPicPr>
        <p:blipFill>
          <a:blip r:embed="rId1"/>
          <a:stretch/>
        </p:blipFill>
        <p:spPr>
          <a:xfrm>
            <a:off x="425520" y="866880"/>
            <a:ext cx="2166840" cy="3292200"/>
          </a:xfrm>
          <a:prstGeom prst="rect">
            <a:avLst/>
          </a:prstGeom>
          <a:ln w="0">
            <a:noFill/>
          </a:ln>
        </p:spPr>
      </p:pic>
      <p:pic>
        <p:nvPicPr>
          <p:cNvPr id="517" name="Shape 139" descr=""/>
          <p:cNvPicPr/>
          <p:nvPr/>
        </p:nvPicPr>
        <p:blipFill>
          <a:blip r:embed="rId2"/>
          <a:stretch/>
        </p:blipFill>
        <p:spPr>
          <a:xfrm>
            <a:off x="6251400" y="982800"/>
            <a:ext cx="2848320" cy="26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45960" y="10476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10. Составь слово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01240" y="732960"/>
            <a:ext cx="8521560" cy="3387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КРО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КОМИ                   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РА           СС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   ВОР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ШО                        В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РА                         Н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КЛА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К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hape 146"/>
          <p:cNvSpPr/>
          <p:nvPr/>
        </p:nvSpPr>
        <p:spPr>
          <a:xfrm>
            <a:off x="201600" y="4243320"/>
            <a:ext cx="8410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Ответ: Кроссворд, комиссия, рассвет, шоссе, рассказ, классна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11040" y="845640"/>
            <a:ext cx="8521920" cy="3030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Спасибо     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за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5400" y="124920"/>
            <a:ext cx="8881920" cy="971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Расположите слова по степени увеличения в них согласных звуков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47680" y="1862280"/>
            <a:ext cx="8843760" cy="971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Паук, она, мандарин, ягода, стриж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hape 62"/>
          <p:cNvSpPr/>
          <p:nvPr/>
        </p:nvSpPr>
        <p:spPr>
          <a:xfrm>
            <a:off x="149400" y="3597120"/>
            <a:ext cx="88452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Ответ: Она, паук, ягода, стриж, мандар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63080" y="6984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2. Какой согласный звук есть во всех данных словах? Произнесите ег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64840" y="1519200"/>
            <a:ext cx="8520120" cy="1231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Клей, юла, лейка, мая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hape 69"/>
          <p:cNvSpPr/>
          <p:nvPr/>
        </p:nvSpPr>
        <p:spPr>
          <a:xfrm>
            <a:off x="2244600" y="3230640"/>
            <a:ext cx="65660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Ответ: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Shape 70" descr=""/>
          <p:cNvPicPr/>
          <p:nvPr/>
        </p:nvPicPr>
        <p:blipFill>
          <a:blip r:embed="rId1"/>
          <a:stretch/>
        </p:blipFill>
        <p:spPr>
          <a:xfrm>
            <a:off x="4514760" y="2395440"/>
            <a:ext cx="1685880" cy="23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63080" y="130320"/>
            <a:ext cx="8520120" cy="1030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3. Разгадайте по согласным первую строчку известной детской песенк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0720" y="1571760"/>
            <a:ext cx="8521920" cy="1231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83000"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В  Л_С_   Р_Д_Л_С_   _Л_ЧК_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В  Л_С_  _Н_  Р_СЛ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hape 77"/>
          <p:cNvSpPr/>
          <p:nvPr/>
        </p:nvSpPr>
        <p:spPr>
          <a:xfrm>
            <a:off x="241200" y="3589200"/>
            <a:ext cx="656748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Ответ: В лесу родилась ёлочка,                 В лесу она рос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Shape 78" descr=""/>
          <p:cNvPicPr/>
          <p:nvPr/>
        </p:nvPicPr>
        <p:blipFill>
          <a:blip r:embed="rId1"/>
          <a:stretch/>
        </p:blipFill>
        <p:spPr>
          <a:xfrm>
            <a:off x="6651720" y="151920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11040" y="13968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4. Прочитайте.  Почему вы улыбнулись? Найдите ошибк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98160" y="1519200"/>
            <a:ext cx="8521560" cy="1231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83000"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На костре козёл стоя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Под козлом костёр пляса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hape 85"/>
          <p:cNvSpPr/>
          <p:nvPr/>
        </p:nvSpPr>
        <p:spPr>
          <a:xfrm>
            <a:off x="453960" y="3187800"/>
            <a:ext cx="65674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Отв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Пред козлом костёр стоя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Над костром козёл пляса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2920" y="69840"/>
            <a:ext cx="8520120" cy="1641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5. Прочитайте. Отгадайте слово. Напишите это слово. Проверьте его написание по толковому словарю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55320" y="1292040"/>
            <a:ext cx="8520120" cy="123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43000"/>
          </a:bodyPr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На большие расстоя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Мчится он без опозда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Пишется в конце два СС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Называется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hape 92"/>
          <p:cNvSpPr/>
          <p:nvPr/>
        </p:nvSpPr>
        <p:spPr>
          <a:xfrm>
            <a:off x="401760" y="4086360"/>
            <a:ext cx="656748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Ответ: экспре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Shape 93" descr=""/>
          <p:cNvPicPr/>
          <p:nvPr/>
        </p:nvPicPr>
        <p:blipFill>
          <a:blip r:embed="rId1"/>
          <a:stretch/>
        </p:blipFill>
        <p:spPr>
          <a:xfrm>
            <a:off x="5337000" y="1563840"/>
            <a:ext cx="3630960" cy="27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45960" y="10476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6. В каком слове сорок гласных?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hape 99"/>
          <p:cNvSpPr/>
          <p:nvPr/>
        </p:nvSpPr>
        <p:spPr>
          <a:xfrm>
            <a:off x="1868400" y="1371600"/>
            <a:ext cx="65674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Ответ: СОРО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Shape 100" descr=""/>
          <p:cNvPicPr/>
          <p:nvPr/>
        </p:nvPicPr>
        <p:blipFill>
          <a:blip r:embed="rId1"/>
          <a:stretch/>
        </p:blipFill>
        <p:spPr>
          <a:xfrm>
            <a:off x="2720880" y="2428920"/>
            <a:ext cx="3702240" cy="24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5640" y="10476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7. Замените одним словом.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hape 106"/>
          <p:cNvSpPr/>
          <p:nvPr/>
        </p:nvSpPr>
        <p:spPr>
          <a:xfrm>
            <a:off x="433440" y="824040"/>
            <a:ext cx="43257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Жвачное животное с очень длинной ше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hape 107"/>
          <p:cNvSpPr/>
          <p:nvPr/>
        </p:nvSpPr>
        <p:spPr>
          <a:xfrm>
            <a:off x="433440" y="1660680"/>
            <a:ext cx="300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761d"/>
                </a:solidFill>
                <a:latin typeface="Comic Sans MS"/>
                <a:ea typeface="Comic Sans MS"/>
              </a:rPr>
              <a:t>Что у человека дороже всег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hape 108"/>
          <p:cNvSpPr/>
          <p:nvPr/>
        </p:nvSpPr>
        <p:spPr>
          <a:xfrm>
            <a:off x="433440" y="2392200"/>
            <a:ext cx="300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60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hape 109"/>
          <p:cNvSpPr/>
          <p:nvPr/>
        </p:nvSpPr>
        <p:spPr>
          <a:xfrm>
            <a:off x="396720" y="2878200"/>
            <a:ext cx="30006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761d"/>
                </a:solidFill>
                <a:latin typeface="Comic Sans MS"/>
                <a:ea typeface="Comic Sans MS"/>
              </a:rPr>
              <a:t>Густой частый л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hape 110"/>
          <p:cNvSpPr/>
          <p:nvPr/>
        </p:nvSpPr>
        <p:spPr>
          <a:xfrm>
            <a:off x="396720" y="3413160"/>
            <a:ext cx="3402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Хищная рыба с острыми зубами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hape 111"/>
          <p:cNvSpPr/>
          <p:nvPr/>
        </p:nvSpPr>
        <p:spPr>
          <a:xfrm>
            <a:off x="396720" y="4199040"/>
            <a:ext cx="3000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761d"/>
                </a:solidFill>
                <a:latin typeface="Comic Sans MS"/>
                <a:ea typeface="Comic Sans MS"/>
              </a:rPr>
              <a:t>Животные, которые носят еду на спине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hape 112"/>
          <p:cNvSpPr/>
          <p:nvPr/>
        </p:nvSpPr>
        <p:spPr>
          <a:xfrm>
            <a:off x="4471920" y="701640"/>
            <a:ext cx="2998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Ответ: ЖИ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hape 113"/>
          <p:cNvSpPr/>
          <p:nvPr/>
        </p:nvSpPr>
        <p:spPr>
          <a:xfrm>
            <a:off x="4471920" y="1459080"/>
            <a:ext cx="29988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761d"/>
                </a:solidFill>
                <a:latin typeface="Comic Sans MS"/>
                <a:ea typeface="Comic Sans MS"/>
              </a:rPr>
              <a:t>Ответ: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hape 114"/>
          <p:cNvSpPr/>
          <p:nvPr/>
        </p:nvSpPr>
        <p:spPr>
          <a:xfrm>
            <a:off x="4471920" y="2293920"/>
            <a:ext cx="2998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Ответ: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hape 115"/>
          <p:cNvSpPr/>
          <p:nvPr/>
        </p:nvSpPr>
        <p:spPr>
          <a:xfrm>
            <a:off x="4471920" y="2948040"/>
            <a:ext cx="2998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761d"/>
                </a:solidFill>
                <a:latin typeface="Comic Sans MS"/>
                <a:ea typeface="Comic Sans MS"/>
              </a:rPr>
              <a:t>Ответ: ЧА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hape 116"/>
          <p:cNvSpPr/>
          <p:nvPr/>
        </p:nvSpPr>
        <p:spPr>
          <a:xfrm>
            <a:off x="4471920" y="3506760"/>
            <a:ext cx="2998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Ответ: Щ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hape 117"/>
          <p:cNvSpPr/>
          <p:nvPr/>
        </p:nvSpPr>
        <p:spPr>
          <a:xfrm>
            <a:off x="4471920" y="4199040"/>
            <a:ext cx="2998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761d"/>
                </a:solidFill>
                <a:latin typeface="Comic Sans MS"/>
                <a:ea typeface="Comic Sans MS"/>
              </a:rPr>
              <a:t>Ответ: е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45960" y="104760"/>
            <a:ext cx="85219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8. Шарады.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hape 123"/>
          <p:cNvSpPr/>
          <p:nvPr/>
        </p:nvSpPr>
        <p:spPr>
          <a:xfrm>
            <a:off x="345960" y="633240"/>
            <a:ext cx="462456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С глухим согласным наливаюсь в пол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Со звонким — сам звеню я на раздолье.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hape 124"/>
          <p:cNvSpPr/>
          <p:nvPr/>
        </p:nvSpPr>
        <p:spPr>
          <a:xfrm>
            <a:off x="345960" y="1903320"/>
            <a:ext cx="450216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80000"/>
                </a:solidFill>
                <a:latin typeface="Comic Sans MS"/>
                <a:ea typeface="Comic Sans MS"/>
              </a:rPr>
              <a:t>С глухим — траву она среза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80000"/>
                </a:solidFill>
                <a:latin typeface="Comic Sans MS"/>
                <a:ea typeface="Comic Sans MS"/>
              </a:rPr>
              <a:t>Со звонким — листья объедает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hape 125"/>
          <p:cNvSpPr/>
          <p:nvPr/>
        </p:nvSpPr>
        <p:spPr>
          <a:xfrm>
            <a:off x="345960" y="2768760"/>
            <a:ext cx="46245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С «м» — приятен, золотист, очень сладок и душис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С буквой «л» зимой бывает, а весною исчеза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hape 126"/>
          <p:cNvSpPr/>
          <p:nvPr/>
        </p:nvSpPr>
        <p:spPr>
          <a:xfrm>
            <a:off x="345960" y="4037040"/>
            <a:ext cx="4151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80000"/>
                </a:solidFill>
                <a:latin typeface="Comic Sans MS"/>
                <a:ea typeface="Comic Sans MS"/>
              </a:rPr>
              <a:t>С глухим шипящим кругл, как мячи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80000"/>
                </a:solidFill>
                <a:latin typeface="Comic Sans MS"/>
                <a:ea typeface="Comic Sans MS"/>
              </a:rPr>
              <a:t>Со звонким — как огонь горячий</a:t>
            </a:r>
            <a:r>
              <a:rPr b="1" lang="en-US" sz="1400" spc="-1" strike="noStrike">
                <a:solidFill>
                  <a:srgbClr val="980000"/>
                </a:solidFill>
                <a:latin typeface="Comic Sans MS"/>
                <a:ea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hape 127"/>
          <p:cNvSpPr/>
          <p:nvPr/>
        </p:nvSpPr>
        <p:spPr>
          <a:xfrm>
            <a:off x="4970520" y="1042920"/>
            <a:ext cx="30002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Ответ: Колос — гол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hape 128"/>
          <p:cNvSpPr/>
          <p:nvPr/>
        </p:nvSpPr>
        <p:spPr>
          <a:xfrm>
            <a:off x="4970520" y="2122560"/>
            <a:ext cx="30002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80000"/>
                </a:solidFill>
                <a:latin typeface="Comic Sans MS"/>
                <a:ea typeface="Comic Sans MS"/>
              </a:rPr>
              <a:t>Ответ: Коса — ко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hape 129"/>
          <p:cNvSpPr/>
          <p:nvPr/>
        </p:nvSpPr>
        <p:spPr>
          <a:xfrm>
            <a:off x="4935600" y="3290760"/>
            <a:ext cx="30002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Ответ:  Мёд — лё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hape 130"/>
          <p:cNvSpPr/>
          <p:nvPr/>
        </p:nvSpPr>
        <p:spPr>
          <a:xfrm>
            <a:off x="4970520" y="4282920"/>
            <a:ext cx="3000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80000"/>
                </a:solidFill>
                <a:latin typeface="Comic Sans MS"/>
                <a:ea typeface="Comic Sans MS"/>
              </a:rPr>
              <a:t>Ответ: Шар — жа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гафоноваЕГ</cp:lastModifiedBy>
  <dcterms:modified xsi:type="dcterms:W3CDTF">2017-09-15T09:31:15Z</dcterms:modified>
  <cp:revision>1</cp:revision>
  <dc:subject/>
  <dc:title>Проект по русскому языку «И в шутку и всерьёз» </dc:title>
</cp:coreProperties>
</file>