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308-270C-4164-A7F5-647F8377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F7B-8468-463E-A919-2EA14E8A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3FF-DF86-4618-87EB-5B358670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96B-F711-4CC1-95D0-5B34CA16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0CFC-758C-49CD-BC66-E066DD0F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2C23-6EAD-4111-89DB-DE8E1811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CCBB-7CDB-49DB-8AC1-9CF6A87C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F673-0250-4F8C-A0A2-BBE9B60B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4674-90A1-482A-B5B8-9C6A69CC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7D2F-98CA-4D7C-BDA9-8E3E5E79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8ADA-554C-49DF-90C0-F9641B65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5A5-1B95-4723-971A-F0FA0245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7988-237A-4358-B992-5F93301E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C60E-7C59-43BD-9155-87030A63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72CE-F47E-47CB-BC7A-9758F5A7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666D-1D7B-41B3-99A8-1810484A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4BC2-B2B6-4743-BD31-3FC92D04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E70-4B0E-4B87-8D18-7BE4E8A8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393-54BD-4B69-9E40-9DAB48EC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826-28BE-4DB1-AB7E-1293B262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74A9-4E9E-4842-A2C3-EE3353AB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004-DDC8-403C-81AC-DE8E4A25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C127-9670-4355-8111-1340CC45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6E6-B475-46A8-A720-0053C2AA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E3D0-6EF5-4BA1-BF12-F93511DCFF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9BCF-23A6-4CF7-9959-ADE7AD58FA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836640"/>
            <a:ext cx="77724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«Нестандартная дорога в страну Здоровья»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32000" y="3962520"/>
            <a:ext cx="6440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00"/>
                </a:solidFill>
                <a:latin typeface="Arial"/>
              </a:rPr>
              <a:t>Презентация подготовлена Маловой О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1" descr="портфолио"/>
          <p:cNvPicPr/>
          <p:nvPr/>
        </p:nvPicPr>
        <p:blipFill>
          <a:blip r:embed="rId1"/>
          <a:stretch/>
        </p:blipFill>
        <p:spPr>
          <a:xfrm>
            <a:off x="-11198160" y="1197000"/>
            <a:ext cx="91440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244440"/>
            <a:ext cx="8928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ложительные эмоции -</a:t>
            </a:r>
            <a:br>
              <a:rPr sz="4400"/>
            </a:b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одна из главных задач</a:t>
            </a:r>
            <a:br>
              <a:rPr sz="3200"/>
            </a:b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6" descr="фото 1 053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фото 1 046"/>
          <p:cNvPicPr/>
          <p:nvPr/>
        </p:nvPicPr>
        <p:blipFill>
          <a:blip r:embed="rId1"/>
          <a:stretch/>
        </p:blipFill>
        <p:spPr>
          <a:xfrm>
            <a:off x="5408640" y="2036880"/>
            <a:ext cx="2946240" cy="3927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фото 1 045"/>
          <p:cNvPicPr/>
          <p:nvPr/>
        </p:nvPicPr>
        <p:blipFill>
          <a:blip r:embed="rId2"/>
          <a:stretch/>
        </p:blipFill>
        <p:spPr>
          <a:xfrm>
            <a:off x="1403280" y="2133720"/>
            <a:ext cx="2946600" cy="39272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1"/>
          <p:cNvSpPr/>
          <p:nvPr/>
        </p:nvSpPr>
        <p:spPr>
          <a:xfrm>
            <a:off x="250920" y="476280"/>
            <a:ext cx="864216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  <a:ea typeface="Calibri"/>
              </a:rPr>
              <a:t>Перешагивание через препятств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(возможность регулирования ширины препятствия)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6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укцион педагогических идей в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ДОУ «Сказка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636640"/>
            <a:ext cx="8007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На эффективность проведения занятий влияет качественная и глубоко продуманная предварительная работа по подготовке всех необходимых пособий и инвентаря, которые помогут проводить комплекс живо, эмоционально, интересно. Моя задача - насыщение пространства  физкультурного уголка недорогим, нестандартным, многофункциональным оборудованием и инвентарем, отвечающим гигиеническим, анатомофизиологическим, психическим, эстетическим, эргономическим и другим требованиям, которая соответствует всем санитарно-гигиеническим требованиям и нормам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собие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7" descr="7B61A452"/>
          <p:cNvPicPr/>
          <p:nvPr/>
        </p:nvPicPr>
        <p:blipFill>
          <a:blip r:embed="rId1"/>
          <a:srcRect l="2776" t="1690" r="2716" b="3344"/>
          <a:stretch/>
        </p:blipFill>
        <p:spPr>
          <a:xfrm>
            <a:off x="826920" y="1844640"/>
            <a:ext cx="3816360" cy="410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77D7547C"/>
          <p:cNvPicPr/>
          <p:nvPr/>
        </p:nvPicPr>
        <p:blipFill>
          <a:blip r:embed="rId2"/>
          <a:stretch/>
        </p:blipFill>
        <p:spPr>
          <a:xfrm>
            <a:off x="5364000" y="1844640"/>
            <a:ext cx="3435480" cy="41054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4"/>
          <p:cNvSpPr txBox="1"/>
          <p:nvPr/>
        </p:nvSpPr>
        <p:spPr>
          <a:xfrm>
            <a:off x="1979640" y="907920"/>
            <a:ext cx="489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Радуга»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оддерживать и закреплять естественный интерес к движения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оздание мотив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Calibri"/>
              </a:rPr>
              <a:t>бучение и привитие навыков здорового образа жизни у детей дошкольного возраста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  <a:ea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Интеграция разных видов деятельности с использованием данного пособи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900000" y="1916280"/>
            <a:ext cx="194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00000" y="1916280"/>
            <a:ext cx="2087640" cy="147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ое 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971640" y="4437000"/>
            <a:ext cx="2158920" cy="1059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нсорное 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516720" y="4437000"/>
            <a:ext cx="2158920" cy="785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516720" y="1844640"/>
            <a:ext cx="2158920" cy="1334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ориентировки в простран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3276720" y="2565360"/>
            <a:ext cx="3024000" cy="2037240"/>
          </a:xfrm>
          <a:prstGeom prst="rect">
            <a:avLst/>
          </a:prstGeom>
          <a:solidFill>
            <a:srgbClr val="ffffb7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б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13"/>
          <p:cNvSpPr txBox="1"/>
          <p:nvPr/>
        </p:nvSpPr>
        <p:spPr>
          <a:xfrm>
            <a:off x="3348000" y="2905200"/>
            <a:ext cx="266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Радуга»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Line 14"/>
          <p:cNvSpPr/>
          <p:nvPr/>
        </p:nvSpPr>
        <p:spPr>
          <a:xfrm flipH="1">
            <a:off x="2987280" y="278136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3132000" y="4508640"/>
            <a:ext cx="1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6300720" y="2781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6300720" y="4508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езентация на педсовет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6" descr="фото 273"/>
          <p:cNvPicPr/>
          <p:nvPr/>
        </p:nvPicPr>
        <p:blipFill>
          <a:blip r:embed="rId1"/>
          <a:stretch/>
        </p:blipFill>
        <p:spPr>
          <a:xfrm>
            <a:off x="3276720" y="3789360"/>
            <a:ext cx="2590560" cy="265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фото 274"/>
          <p:cNvPicPr/>
          <p:nvPr/>
        </p:nvPicPr>
        <p:blipFill>
          <a:blip r:embed="rId2"/>
          <a:stretch/>
        </p:blipFill>
        <p:spPr>
          <a:xfrm>
            <a:off x="395280" y="1844640"/>
            <a:ext cx="2649600" cy="381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фото 275"/>
          <p:cNvPicPr/>
          <p:nvPr/>
        </p:nvPicPr>
        <p:blipFill>
          <a:blip r:embed="rId3"/>
          <a:stretch/>
        </p:blipFill>
        <p:spPr>
          <a:xfrm>
            <a:off x="6227640" y="2060640"/>
            <a:ext cx="2664000" cy="331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гры в групп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5" descr="фото 1 047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" descr="фото 1 050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00000" y="2997360"/>
            <a:ext cx="3927600" cy="2946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фото 1 049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879800" y="2997360"/>
            <a:ext cx="3927600" cy="294624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2"/>
          <p:cNvSpPr/>
          <p:nvPr/>
        </p:nvSpPr>
        <p:spPr>
          <a:xfrm>
            <a:off x="826920" y="404640"/>
            <a:ext cx="723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шагивание через верёвочку (возможность регулировать высоту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Ходьба и бег по кругу (возможность регулировки диаметра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фото 1 051"/>
          <p:cNvPicPr/>
          <p:nvPr/>
        </p:nvPicPr>
        <p:blipFill>
          <a:blip r:embed="rId1"/>
          <a:stretch/>
        </p:blipFill>
        <p:spPr>
          <a:xfrm>
            <a:off x="1116000" y="1743120"/>
            <a:ext cx="6303960" cy="51148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"/>
          <p:cNvSpPr/>
          <p:nvPr/>
        </p:nvSpPr>
        <p:spPr>
          <a:xfrm>
            <a:off x="1487520" y="128520"/>
            <a:ext cx="5370480" cy="13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  <a:ea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  <a:ea typeface="Calibri"/>
              </a:rPr>
              <a:t>«Прячемся за заборчик» 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возможность конструир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1886040" y="538200"/>
            <a:ext cx="45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826920" y="-384120"/>
            <a:ext cx="80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06:16:40Z</dcterms:created>
  <dc:creator>Сказка</dc:creator>
  <dc:description/>
  <dc:language>en-US</dc:language>
  <cp:lastModifiedBy>пк</cp:lastModifiedBy>
  <dcterms:modified xsi:type="dcterms:W3CDTF">2017-09-15T20:29:50Z</dcterms:modified>
  <cp:revision>17</cp:revision>
  <dc:subject/>
  <dc:title>Нестандартная дорога в страну здоровья</dc:title>
</cp:coreProperties>
</file>