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A96-1F3D-46E3-A654-34A5ADB9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270-B040-42B4-B4F2-6AE6078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633-E3E7-4895-A6C1-053CC74C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7A0-49D5-4EB9-B7C2-71E7212F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9C75-4D5A-4EBB-88CA-239897AB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B8C6-C1D1-4168-9DC0-475E66F6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CC36-F0FC-4A09-9AC0-83CDDA45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9BD5-7753-488C-936C-6AC39C9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21B7-755F-48AF-BCF0-86C4280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FE4D-151A-4B12-8BC9-52CF1900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C99A-53D9-4D2B-AE7E-B7BC12A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9DC-E389-475E-8C70-C499C56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C471-DB38-4546-8F80-29FA27A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0C02-CFCE-4F7E-AAB4-52E5976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A03A-37C2-4932-BD20-43EC732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8073-A27B-4920-8340-680E122C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058E-0683-4AA7-9149-29F34C10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B68-1E5C-44D5-95D8-8B223531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6F6-D7D8-4735-A6E4-4B3C23C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8C3-2ECB-4805-9B28-ED83C11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FA0-8AF7-4FAF-ADE1-B9979F96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E89-91A8-433A-B396-7B85E10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3B2-BA42-4C35-8091-E5A92E1F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5E7-17AB-40AD-BFBB-28AC28D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0DD-E474-4EEB-A5E5-DCDA51ADE8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D17A-014F-407A-AA1E-855F6E76C6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6640"/>
            <a:ext cx="77724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«Нестандартная дорога в страну Здоровья»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3962520"/>
            <a:ext cx="644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00"/>
                </a:solidFill>
                <a:latin typeface="Arial"/>
              </a:rPr>
              <a:t>Презентация подготовлена Маловой О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1" descr="портфолио"/>
          <p:cNvPicPr/>
          <p:nvPr/>
        </p:nvPicPr>
        <p:blipFill>
          <a:blip r:embed="rId1"/>
          <a:stretch/>
        </p:blipFill>
        <p:spPr>
          <a:xfrm>
            <a:off x="-11198160" y="119700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244440"/>
            <a:ext cx="8928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ожительные эмоции -</a:t>
            </a:r>
            <a:br>
              <a:rPr sz="44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одна из главных задач</a:t>
            </a:r>
            <a:br>
              <a:rPr sz="32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фото 1 053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фото 1 046"/>
          <p:cNvPicPr/>
          <p:nvPr/>
        </p:nvPicPr>
        <p:blipFill>
          <a:blip r:embed="rId1"/>
          <a:stretch/>
        </p:blipFill>
        <p:spPr>
          <a:xfrm>
            <a:off x="5408640" y="2036880"/>
            <a:ext cx="2946240" cy="3927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фото 1 045"/>
          <p:cNvPicPr/>
          <p:nvPr/>
        </p:nvPicPr>
        <p:blipFill>
          <a:blip r:embed="rId2"/>
          <a:stretch/>
        </p:blipFill>
        <p:spPr>
          <a:xfrm>
            <a:off x="1403280" y="2133720"/>
            <a:ext cx="2946600" cy="3927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250920" y="476280"/>
            <a:ext cx="86421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Calibri"/>
              </a:rPr>
              <a:t>Перешагивание через препятств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(возможность регулирования ширины препятствия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укцион педагогических идей в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ДОУ «Сказ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800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На эффективность проведения занятий влияет качественная и глубоко продуманная предварительная работа по подготовке всех необходимых пособий и инвентаря, которые помогут проводить комплекс живо, эмоционально, интересно. Моя задача - насыщение пространства  физкультурного уголка недорогим, нестандартным, многофункциональным оборудованием и инвентарем, отвечающим гигиеническим, анатомофизиологическим, психическим, эстетическим, эргономическим и другим требованиям, которая соответствует всем санитарно-гигиеническим требованиям и нормам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обие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7" descr="7B61A452"/>
          <p:cNvPicPr/>
          <p:nvPr/>
        </p:nvPicPr>
        <p:blipFill>
          <a:blip r:embed="rId1"/>
          <a:srcRect l="2776" t="1690" r="2716" b="3344"/>
          <a:stretch/>
        </p:blipFill>
        <p:spPr>
          <a:xfrm>
            <a:off x="826920" y="1844640"/>
            <a:ext cx="3816360" cy="41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77D7547C"/>
          <p:cNvPicPr/>
          <p:nvPr/>
        </p:nvPicPr>
        <p:blipFill>
          <a:blip r:embed="rId2"/>
          <a:stretch/>
        </p:blipFill>
        <p:spPr>
          <a:xfrm>
            <a:off x="5364000" y="1844640"/>
            <a:ext cx="343548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4"/>
          <p:cNvSpPr txBox="1"/>
          <p:nvPr/>
        </p:nvSpPr>
        <p:spPr>
          <a:xfrm>
            <a:off x="1979640" y="907920"/>
            <a:ext cx="48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адуга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ддерживать и закреплять естественный интерес к движения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здание мотив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Calibri"/>
              </a:rPr>
              <a:t>бучение и привитие навыков здорового образа жизни у детей дошкольного возраста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нтеграция разных видов деятельности с использованием данного пособ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00000" y="191628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00000" y="1916280"/>
            <a:ext cx="208764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971640" y="4437000"/>
            <a:ext cx="2158920" cy="105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сорн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516720" y="4437000"/>
            <a:ext cx="2158920" cy="78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516720" y="1844640"/>
            <a:ext cx="2158920" cy="1334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ориентировки 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276720" y="2565360"/>
            <a:ext cx="3024000" cy="2037240"/>
          </a:xfrm>
          <a:prstGeom prst="rect">
            <a:avLst/>
          </a:prstGeom>
          <a:solidFill>
            <a:srgbClr val="ffffb7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3348000" y="2905200"/>
            <a:ext cx="266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адуга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987280" y="2781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3132000" y="450864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300720" y="2781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6300720" y="4508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зентация на педсове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фото 273"/>
          <p:cNvPicPr/>
          <p:nvPr/>
        </p:nvPicPr>
        <p:blipFill>
          <a:blip r:embed="rId1"/>
          <a:stretch/>
        </p:blipFill>
        <p:spPr>
          <a:xfrm>
            <a:off x="3276720" y="3789360"/>
            <a:ext cx="2590560" cy="26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фото 274"/>
          <p:cNvPicPr/>
          <p:nvPr/>
        </p:nvPicPr>
        <p:blipFill>
          <a:blip r:embed="rId2"/>
          <a:stretch/>
        </p:blipFill>
        <p:spPr>
          <a:xfrm>
            <a:off x="395280" y="1844640"/>
            <a:ext cx="2649600" cy="381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фото 275"/>
          <p:cNvPicPr/>
          <p:nvPr/>
        </p:nvPicPr>
        <p:blipFill>
          <a:blip r:embed="rId3"/>
          <a:stretch/>
        </p:blipFill>
        <p:spPr>
          <a:xfrm>
            <a:off x="6227640" y="2060640"/>
            <a:ext cx="26640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ы в групп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5" descr="фото 1 047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фото 1 05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00000" y="299736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фото 1 049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79800" y="299736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"/>
          <p:cNvSpPr/>
          <p:nvPr/>
        </p:nvSpPr>
        <p:spPr>
          <a:xfrm>
            <a:off x="826920" y="404640"/>
            <a:ext cx="72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шагивание через верёвочку (возможность регулировать высот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Ходьба и бег по кругу (возможность регулировки диаметра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фото 1 051"/>
          <p:cNvPicPr/>
          <p:nvPr/>
        </p:nvPicPr>
        <p:blipFill>
          <a:blip r:embed="rId1"/>
          <a:stretch/>
        </p:blipFill>
        <p:spPr>
          <a:xfrm>
            <a:off x="1116000" y="1743120"/>
            <a:ext cx="6303960" cy="51148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1487520" y="128520"/>
            <a:ext cx="537048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Calibri"/>
              </a:rPr>
              <a:t>«Прячемся за заборчик»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возможность констру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886040" y="538200"/>
            <a:ext cx="45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826920" y="-38412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6:16:40Z</dcterms:created>
  <dc:creator>Сказка</dc:creator>
  <dc:description/>
  <dc:language>en-US</dc:language>
  <cp:lastModifiedBy>пк</cp:lastModifiedBy>
  <dcterms:modified xsi:type="dcterms:W3CDTF">2017-09-15T20:29:50Z</dcterms:modified>
  <cp:revision>17</cp:revision>
  <dc:subject/>
  <dc:title>Нестандартная дорога в страну здоровья</dc:title>
</cp:coreProperties>
</file>