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A63-2BA1-4916-8FC1-DF812D5E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C0D-D8C1-4233-B836-E6D2DE8F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A2B-EEC7-4B35-A0E0-3206BD3E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28CF-E8CB-47AF-9664-5EA9FE8D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FDD2-9600-4F75-B0ED-8B587717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3821-F9C2-4987-A08B-A0110858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BFC8-ACAA-4C42-A97E-7846B58D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F66F-436E-4C17-82E4-393900EA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12A6-2219-4765-8762-37F39A16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85BA-7615-427C-AA06-084BAF37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DCAD-38DA-439D-B3A2-7FD717EE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1E5-7DDC-4234-85B2-F9050A85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6E80-4618-436A-8803-64E25424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183B-F14A-47D8-923C-61810D2D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8740-B3D2-43BB-8CFD-533152AF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3058-888E-4F58-AFB0-9CFC6B49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9856-886A-4B9D-9848-8180D8EF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3F2F-0F05-46EC-A9B3-5DD7FE64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3A63-CA87-4835-BA12-79B21DD6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454-9F91-4A12-B307-7A93D3A6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644-F7BA-4C82-9F38-389EE908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6757-317B-465F-BDAF-D157CD15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806-6AA6-47EE-A1BA-D89A0D20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04CE-6DD0-4086-B2F0-413D9300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4182-9451-4456-A7BF-A86BF051B8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0120"/>
              <a:ext cx="3621240" cy="6132240"/>
              <a:chOff x="5409360" y="60120"/>
              <a:chExt cx="3621240" cy="6132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04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8984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5200"/>
              <a:ext cx="892800" cy="825840"/>
              <a:chOff x="5650560" y="29520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400" y="469800"/>
                <a:ext cx="30528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920" y="39492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59960"/>
              <a:ext cx="1059480" cy="830880"/>
              <a:chOff x="968400" y="525996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624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160"/>
                <a:ext cx="448920" cy="127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D8A7-0B5C-4C0E-BE2A-AB2FB5279C87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etopisi.ru/index.php/&#1060;&#1072;&#1081;&#1083;:Kudimova_3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1371600"/>
            <a:ext cx="8915400" cy="24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Развитие критического мышления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Кластер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5" name="Рисунок 5" descr="Kudimova 2.jpg"/>
          <p:cNvPicPr/>
          <p:nvPr/>
        </p:nvPicPr>
        <p:blipFill>
          <a:blip r:embed="rId1"/>
          <a:stretch/>
        </p:blipFill>
        <p:spPr>
          <a:xfrm>
            <a:off x="762120" y="1752480"/>
            <a:ext cx="7619760" cy="380376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5"/>
          <p:cNvSpPr/>
          <p:nvPr/>
        </p:nvSpPr>
        <p:spPr>
          <a:xfrm>
            <a:off x="8153280" y="6019920"/>
            <a:ext cx="609840" cy="533160"/>
          </a:xfrm>
          <a:custGeom>
            <a:avLst/>
            <a:gdLst>
              <a:gd name="textAreaLeft" fmla="*/ 81720 w 609840"/>
              <a:gd name="textAreaRight" fmla="*/ 528120 w 609840"/>
              <a:gd name="textAreaTop" fmla="*/ 93240 h 533160"/>
              <a:gd name="textAreaBottom" fmla="*/ 3866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3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108000" y="1523880"/>
          <a:ext cx="9036000" cy="4765680"/>
        </p:xfrm>
        <a:graphic>
          <a:graphicData uri="http://schemas.openxmlformats.org/drawingml/2006/table">
            <a:tbl>
              <a:tblPr/>
              <a:tblGrid>
                <a:gridCol w="2825640"/>
                <a:gridCol w="2819520"/>
                <a:gridCol w="3390840"/>
              </a:tblGrid>
              <a:tr h="13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9933ff"/>
                          </a:solidFill>
                          <a:latin typeface="Arial Black"/>
                          <a:ea typeface="Times New Roman"/>
                        </a:rPr>
                        <a:t>Знаю 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9933ff"/>
                          </a:solidFill>
                          <a:latin typeface="Arial Black"/>
                          <a:ea typeface="Times New Roman"/>
                        </a:rPr>
                        <a:t>Узнал новое 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9933ff"/>
                          </a:solidFill>
                          <a:latin typeface="Arial Black"/>
                          <a:ea typeface="Times New Roman"/>
                        </a:rPr>
                        <a:t>Хочу узнать подробнее 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Arial Black"/>
                        </a:rPr>
                        <a:t>Информация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Arial Black"/>
                        </a:rPr>
                        <a:t>Память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Arial Black"/>
                        </a:rPr>
                        <a:t>Ум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Arial Black"/>
                        </a:rPr>
                        <a:t>Знания 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Arial Black"/>
                        </a:rPr>
                        <a:t>Внутренняя-оперативная память, внешняя-долговременная память, память отдельного человека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Arial Black"/>
                        </a:rPr>
                        <a:t>Фотография 1839г, первый кинофильм в Париже, производство магнитофонов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Rectangle 42"/>
          <p:cNvSpPr/>
          <p:nvPr/>
        </p:nvSpPr>
        <p:spPr>
          <a:xfrm>
            <a:off x="1225440" y="152280"/>
            <a:ext cx="664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Механизм ЗУХ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(знаю, узнал, хочу узнать)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AutoShape 52"/>
          <p:cNvSpPr/>
          <p:nvPr/>
        </p:nvSpPr>
        <p:spPr>
          <a:xfrm>
            <a:off x="7924680" y="6248520"/>
            <a:ext cx="914400" cy="609480"/>
          </a:xfrm>
          <a:custGeom>
            <a:avLst/>
            <a:gdLst>
              <a:gd name="textAreaLeft" fmla="*/ 122400 w 914400"/>
              <a:gd name="textAreaRight" fmla="*/ 792000 w 91440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3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Инсерт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ff"/>
                </a:solidFill>
                <a:latin typeface="Arial Black"/>
              </a:rPr>
              <a:t>«v» - я так и дума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33ff"/>
                </a:solidFill>
                <a:latin typeface="Arial Black"/>
              </a:rPr>
              <a:t>«+» - новая информация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33ff"/>
                </a:solidFill>
                <a:latin typeface="Arial Black"/>
              </a:rPr>
              <a:t>«+!» - очень ценная информация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33ff"/>
                </a:solidFill>
                <a:latin typeface="Arial Black"/>
              </a:rPr>
              <a:t>«-» - у меня по-другому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33ff"/>
                </a:solidFill>
                <a:latin typeface="Arial Black"/>
              </a:rPr>
              <a:t>«?» - не очень понятно, я удивлён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7924680" y="6095880"/>
            <a:ext cx="762120" cy="533520"/>
          </a:xfrm>
          <a:custGeom>
            <a:avLst/>
            <a:gdLst>
              <a:gd name="textAreaLeft" fmla="*/ 101880 w 762120"/>
              <a:gd name="textAreaRight" fmla="*/ 660240 w 76212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3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Синквейн</a:t>
            </a:r>
            <a:br>
              <a:rPr sz="4800"/>
            </a:b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8381880" y="6095880"/>
            <a:ext cx="609840" cy="533520"/>
          </a:xfrm>
          <a:custGeom>
            <a:avLst/>
            <a:gdLst>
              <a:gd name="textAreaLeft" fmla="*/ 81720 w 609840"/>
              <a:gd name="textAreaRight" fmla="*/ 528120 w 60984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3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066680" y="990720"/>
          <a:ext cx="7391520" cy="5181480"/>
        </p:xfrm>
        <a:graphic>
          <a:graphicData uri="http://schemas.openxmlformats.org/drawingml/2006/table">
            <a:tbl>
              <a:tblPr/>
              <a:tblGrid>
                <a:gridCol w="2443320"/>
                <a:gridCol w="2585880"/>
                <a:gridCol w="2362320"/>
              </a:tblGrid>
              <a:tr h="5181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9933ff"/>
                          </a:solidFill>
                          <a:latin typeface="Verdana"/>
                          <a:ea typeface="Times New Roman"/>
                        </a:rPr>
                        <a:t>Форум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Шумный, интересны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Развлекает, развивает, весели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Хорошее место для знакомст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Общение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9933ff"/>
                          </a:solidFill>
                          <a:latin typeface="Verdana"/>
                          <a:ea typeface="Times New Roman"/>
                        </a:rPr>
                        <a:t>Форум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Веселый, познавательны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Помогает, объединяет, развивае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Помощь друг другу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Клуб по интересам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9933ff"/>
                          </a:solidFill>
                          <a:latin typeface="Verdana"/>
                          <a:ea typeface="Times New Roman"/>
                        </a:rPr>
                        <a:t>Форум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Огромный, познавательны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Помогает, объединяет, весели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Обмен жизненным опытом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Тематическое общение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Эссе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Arial Black"/>
              </a:rPr>
              <a:t>Презентация </a:t>
            </a:r>
            <a:r>
              <a:rPr b="0" lang="ru-RU" sz="2400" spc="-1" strike="noStrike">
                <a:solidFill>
                  <a:srgbClr val="006699"/>
                </a:solidFill>
                <a:latin typeface="Arial Black"/>
              </a:rPr>
              <a:t>– это наброски речи, где отображается самое главное, помогая в выступлении вести один смысл. Презентация состоит из слайдов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Arial Black"/>
              </a:rPr>
              <a:t>План содержания презентации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 Black"/>
              </a:rPr>
              <a:t>1. Титульный лист. Первый слайд содержит название презентации, ее автора, контактную информацию автор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 Black"/>
              </a:rPr>
              <a:t>2. Содержание. Тут расписывается план презентации, основные разделы или вопросы, которые будут рассмотрены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 Black"/>
              </a:rPr>
              <a:t>3. Заголовок раздел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 Black"/>
              </a:rPr>
              <a:t>4. Краткая информац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8077320" y="6019920"/>
            <a:ext cx="609480" cy="533160"/>
          </a:xfrm>
          <a:custGeom>
            <a:avLst/>
            <a:gdLst>
              <a:gd name="textAreaLeft" fmla="*/ 81360 w 609480"/>
              <a:gd name="textAreaRight" fmla="*/ 528120 w 609480"/>
              <a:gd name="textAreaTop" fmla="*/ 93240 h 533160"/>
              <a:gd name="textAreaBottom" fmla="*/ 3866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3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"/>
          <p:cNvGrpSpPr/>
          <p:nvPr/>
        </p:nvGrpSpPr>
        <p:grpSpPr>
          <a:xfrm>
            <a:off x="2590920" y="685800"/>
            <a:ext cx="4114800" cy="1828800"/>
            <a:chOff x="2590920" y="685800"/>
            <a:chExt cx="4114800" cy="1828800"/>
          </a:xfrm>
        </p:grpSpPr>
        <p:sp>
          <p:nvSpPr>
            <p:cNvPr id="169" name="AutoShape 5"/>
            <p:cNvSpPr/>
            <p:nvPr/>
          </p:nvSpPr>
          <p:spPr>
            <a:xfrm>
              <a:off x="2590920" y="685800"/>
              <a:ext cx="4114800" cy="1828800"/>
            </a:xfrm>
            <a:prstGeom prst="flowChartConnector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0" name="Text Box 6"/>
            <p:cNvSpPr/>
            <p:nvPr/>
          </p:nvSpPr>
          <p:spPr>
            <a:xfrm>
              <a:off x="2685960" y="1000080"/>
              <a:ext cx="3769560" cy="12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</a:rPr>
                <a:t>Проблемная ситуация</a:t>
              </a:r>
              <a:endParaRPr b="0" lang="en-US" sz="3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pic>
        <p:nvPicPr>
          <p:cNvPr id="171" name="Схема 8" descr=""/>
          <p:cNvPicPr/>
          <p:nvPr/>
        </p:nvPicPr>
        <p:blipFill>
          <a:blip r:embed="rId1"/>
          <a:srcRect l="0" t="-77484" r="0" b="-74929"/>
          <a:stretch/>
        </p:blipFill>
        <p:spPr>
          <a:xfrm>
            <a:off x="838080" y="2133720"/>
            <a:ext cx="7772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Основные этапы урока при использовании технологии «Критическое мышление»: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2401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 Black"/>
              </a:rPr>
              <a:t>ВЫЗ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 Black"/>
              </a:rPr>
              <a:t>ОСМЫСЛЕ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 Black"/>
              </a:rPr>
              <a:t>РЕФЛЕКСИЯ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Методические приемы критического мышления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403812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Rectangle 4">
            <a:hlinkClick r:id="rId1" action="ppaction://hlinksldjump"/>
          </p:cNvPr>
          <p:cNvSpPr/>
          <p:nvPr/>
        </p:nvSpPr>
        <p:spPr>
          <a:xfrm>
            <a:off x="838080" y="1523880"/>
            <a:ext cx="48769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10181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99ff"/>
                </a:solidFill>
                <a:uFillTx/>
                <a:latin typeface="Arial Black"/>
                <a:hlinkClick r:id="rId2" action="ppaction://hlinksldjump"/>
              </a:rPr>
              <a:t>Мозговой штурм</a:t>
            </a:r>
            <a:r>
              <a:rPr b="0" lang="ru-RU" sz="3600" spc="-1" strike="noStrike" u="sng">
                <a:solidFill>
                  <a:srgbClr val="cc99ff"/>
                </a:solidFill>
                <a:uFillTx/>
                <a:latin typeface="Arial Black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914400" y="2394000"/>
            <a:ext cx="45720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2b4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99ff"/>
                </a:solidFill>
                <a:uFillTx/>
                <a:latin typeface="Arial Black"/>
                <a:hlinkClick r:id="rId4" action="ppaction://hlinksldjump"/>
              </a:rPr>
              <a:t>Корзин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838080" y="3200400"/>
            <a:ext cx="39625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b4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99ff"/>
                </a:solidFill>
                <a:uFillTx/>
                <a:latin typeface="Arial Black"/>
                <a:hlinkClick r:id="rId5" action="ppaction://hlinksldjump"/>
              </a:rPr>
              <a:t>Кластер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914400" y="3809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2b4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99ff"/>
                </a:solidFill>
                <a:uFillTx/>
                <a:latin typeface="Arial Black"/>
                <a:hlinkClick r:id="rId6" action="ppaction://hlinksldjump"/>
              </a:rPr>
              <a:t>Механизм ЗУХ (знаю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99ff"/>
                </a:solidFill>
                <a:uFillTx/>
                <a:latin typeface="Arial Black"/>
                <a:hlinkClick r:id="rId7" action="ppaction://hlinksldjump"/>
              </a:rPr>
              <a:t>узнал, хочу узнать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234800" y="4800600"/>
            <a:ext cx="65872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b4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99ff"/>
                </a:solidFill>
                <a:uFillTx/>
                <a:latin typeface="Arial Black"/>
                <a:hlinkClick r:id="rId8" action="ppaction://hlinksldjump"/>
              </a:rPr>
              <a:t>Пометки на полях (инсерт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Rectangle 9">
            <a:hlinkClick r:id="rId9" action="ppaction://hlinksldjump"/>
          </p:cNvPr>
          <p:cNvSpPr/>
          <p:nvPr/>
        </p:nvSpPr>
        <p:spPr>
          <a:xfrm>
            <a:off x="762120" y="5486400"/>
            <a:ext cx="4343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1d3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99ff"/>
                </a:solidFill>
                <a:uFillTx/>
                <a:latin typeface="Arial Black"/>
                <a:hlinkClick r:id="rId10" action="ppaction://hlinksldjump"/>
              </a:rPr>
              <a:t>Синквейн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916920" y="5943600"/>
            <a:ext cx="16632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2b4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99ff"/>
                </a:solidFill>
                <a:uFillTx/>
                <a:latin typeface="Arial Black"/>
                <a:hlinkClick r:id="rId11" action="ppaction://hlinksldjump"/>
              </a:rPr>
              <a:t>Эссе</a:t>
            </a:r>
            <a:r>
              <a:rPr b="0" lang="ru-RU" sz="3600" spc="-1" strike="noStrike">
                <a:solidFill>
                  <a:srgbClr val="006699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Методическая ценность зад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33ff"/>
              </a:buClr>
              <a:buFont typeface="Arial Blac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Arial Black"/>
              </a:rPr>
              <a:t>Мотивационная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33ff"/>
              </a:buClr>
              <a:buFont typeface="Arial Blac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Arial Black"/>
              </a:rPr>
              <a:t>Развивающая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33ff"/>
              </a:buClr>
              <a:buFont typeface="Arial Blac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Arial Black"/>
              </a:rPr>
              <a:t>Дифференциация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33ff"/>
              </a:buClr>
              <a:buFont typeface="Arial Blac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Arial Black"/>
              </a:rPr>
              <a:t>Возможные ошибки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33ff"/>
              </a:buClr>
              <a:buFont typeface="Arial Blac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Arial Black"/>
              </a:rPr>
              <a:t>Формы контроля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67680" cy="22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Целесообразность использования технологии критического мышления</a:t>
            </a:r>
            <a:br>
              <a:rPr sz="40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ff"/>
                </a:solidFill>
                <a:latin typeface="Arial Black"/>
              </a:rPr>
              <a:t>Организация коллективной работы - работа в группах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ff"/>
                </a:solidFill>
                <a:latin typeface="Arial Black"/>
              </a:rPr>
              <a:t>Индивидуализация работы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ff"/>
                </a:solidFill>
                <a:latin typeface="Arial Black"/>
              </a:rPr>
              <a:t>Активизация мыслительной деятельности </a:t>
            </a:r>
            <a:br>
              <a:rPr sz="3600"/>
            </a:br>
            <a:br>
              <a:rPr sz="2800"/>
            </a:br>
            <a:r>
              <a:rPr b="0" lang="ru-RU" sz="2800" spc="-1" strike="noStrike">
                <a:solidFill>
                  <a:srgbClr val="9933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WordArt 4" descr=""/>
          <p:cNvPicPr/>
          <p:nvPr/>
        </p:nvPicPr>
        <p:blipFill>
          <a:blip r:embed="rId1"/>
          <a:stretch/>
        </p:blipFill>
        <p:spPr>
          <a:xfrm>
            <a:off x="219240" y="1895400"/>
            <a:ext cx="77976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Мозговой штурм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 Black"/>
              </a:rPr>
              <a:t>Пример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 Black"/>
              </a:rPr>
              <a:t>I уровень - Приведите примеры исполнителей;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 Black"/>
              </a:rPr>
              <a:t>II уровень – Какие алгоритмы, выполняют ваши исполнители? Чем они похожи и в чем у них отличие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 Black"/>
              </a:rPr>
              <a:t>III уровень – А нужны ли нам исполнители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7848720" y="5943600"/>
            <a:ext cx="685800" cy="533520"/>
          </a:xfrm>
          <a:custGeom>
            <a:avLst/>
            <a:gdLst>
              <a:gd name="textAreaLeft" fmla="*/ 91800 w 685800"/>
              <a:gd name="textAreaRight" fmla="*/ 594000 w 6858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3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Корзина</a:t>
            </a:r>
            <a:br>
              <a:rPr sz="4800"/>
            </a:b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2" name="Рисунок 2" descr="Kudimova 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828800"/>
            <a:ext cx="6181560" cy="384804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5"/>
          <p:cNvSpPr/>
          <p:nvPr/>
        </p:nvSpPr>
        <p:spPr>
          <a:xfrm>
            <a:off x="8001000" y="5867280"/>
            <a:ext cx="762120" cy="609840"/>
          </a:xfrm>
          <a:custGeom>
            <a:avLst/>
            <a:gdLst>
              <a:gd name="textAreaLeft" fmla="*/ 101880 w 762120"/>
              <a:gd name="textAreaRight" fmla="*/ 660240 w 76212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3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igabytew</cp:lastModifiedBy>
  <dcterms:modified xsi:type="dcterms:W3CDTF">2013-04-13T10:47:4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