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0309-315F-4605-8F68-C485817C8E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1083-7EA7-4CBB-A248-66460BD94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0C2-6116-4DDB-9F34-EB1347E1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5F8-3FB3-433D-9F09-6D7FB410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25302-8534-478E-8C21-A471F3A9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D8425-463F-48AC-B191-FD4C905C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21238-CE72-4E4B-8BBD-3BC5EC77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1C1D0-62C6-449A-A6BC-79E1F02E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D8AC1-F4B1-4C5B-B647-407FAE22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E137D-3743-41BC-90CD-314929A0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9D567-5D5F-4D12-8E6F-83D5DFF0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E0912-3975-4A6E-9AE3-6518B4C8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A54CE-5ABC-4E7C-9A06-0FBC4AE3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D00DB-A616-4200-B708-02105563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D9B-FC65-47F5-8704-3AB7CA79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E0B1C-E954-4ED9-B688-BF1B82F3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0BC56-4D4A-4F44-96B3-7EA8DAA9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6E523-9A0A-418C-809E-F388BDD0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CDDA1-93E3-483F-902F-792EBCA8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D07DF-4F3A-42E6-AD2A-BA971632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8BDFB-1557-4EA0-89AF-1D3E491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35D8F-1BD8-4F44-B3FC-5DC4468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A7909-E436-4CC6-8355-4D0CF3C7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5CAAC-AB4D-40AB-8525-A55F2A31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D9831-E4BB-4561-9F9C-5BB3AA4A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6A7-FBDD-4E34-B5F3-FC1D4A05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73103-5C6E-4ADD-A633-F42F553B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C1B8F-FC28-4498-B4C8-A593E55B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301E4-BCF1-4739-98F3-8E0AA7BA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EF700-3C0F-427E-94AE-EFF82722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FD50A-F980-4015-BAC7-B959B550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199A0-83CE-423C-A39D-1818CB39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F8A14-5712-4D93-8632-1AACE09A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FCA81-40CA-4265-B820-BC08AFC4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A8925-81EC-4709-B166-A3A505E6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07B07-0954-4011-865D-CAAA18DB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9AE9-6D9D-4E41-9372-22C38AE3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55D02-3019-447E-8EC7-BBA6E149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D0430-2B7C-449A-89DC-4C29FA6F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8B4A8-C5B8-4E09-B92C-6D4CBF9B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06A30-41EF-4680-AEF1-BA4185F1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C4325-CF2E-47E8-80BE-433AC1E4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F985C-B405-44DE-B498-3F690CAC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3C671-FCC3-4B3D-87E3-93B566AC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AF5E5-F009-4412-8682-9081E87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9E1B5-6312-4A24-8D62-35817880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D6D65-62EC-442F-9CAA-C5D6AB91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0DF1-BD32-4962-916E-42F0D4CC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184C4-CF48-4902-9EC6-9C8CE2A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2AED0-8FD2-4C0C-9BF4-83D5EBE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4ABB7-5FA4-4938-AAFD-78C5E723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446FA-D6BE-48A9-B752-3E79851D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48F2F-D6BB-40DA-B423-27F8A7F5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B9AD2-5705-42B6-85DB-EC6DC391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32DFA-B20D-4DBD-911D-9D1A4085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5492A-DA46-4E0F-94A7-49599318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5352A-D241-4DDA-81AD-94CE314C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E015E-316F-44F5-9206-CEC7180C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FCEF-2D72-44E5-8A5B-5771CC51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CCC9A-E7ED-41C7-9868-2184F680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3865C-39B4-4603-85FE-785BD97B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1B0E1-92F3-40AB-B7A6-D5A5F686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9ED77-8A55-4F08-B10B-3BC6E7AA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EFB03-F38F-42B9-88C9-94B54B44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20955-BE60-4228-B6E7-BD62C6E1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62954-3FB3-44A5-AE5F-D347C370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9255A-A639-4A81-B400-CC4232CF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45152-F2A9-48E5-9EC4-E35ECC86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F8ECD-426D-43A9-83C1-DB22533D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A4EA-A43A-49F9-A38C-915D2974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5B6F7-715B-4809-B3D4-984FCD2D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FF9B7-9DF5-4B86-9C54-C5AC350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D734B-5AC9-4761-85BD-25DCDB8A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7E8D8-4C80-411B-9048-07E0D4B1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24AEC-3853-4EA3-9CBD-16F04CC9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A27E5-AF88-491B-831A-892C507A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5DBAF-F515-404E-BAC9-21FA6C85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8F62AF-3AD2-4171-8B0F-6A6D7842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5B6C2-B134-48C3-A13D-C779554A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D9B05-6368-4397-BDC0-15B9DD74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D659-10BA-4B41-9397-E0656E53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BB798-65D6-4C98-8D65-FF8453DA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2DE495-989A-4FD4-ADD4-47548E59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08F2F-4615-489F-9921-BA1D213F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D1F14-8AFD-47E6-A458-8915DD18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8E467-769C-4831-A47C-ADB1E8FB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73A1D-E867-4B09-90D0-6542BCE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FF5437-CC8D-4389-8FCF-4385E285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1A5F5-E84F-4549-8081-2DC21972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221375-EE16-4CC5-8E2D-120FE0B7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DC087-EA76-47EB-BB60-690521FA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C096-85FE-4464-AABB-C55AB938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F4A67-8D72-4387-A377-2E6BAEC9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550B82-CBBD-458D-A081-71937D6B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FE9E0-7D10-4778-B7FF-1268DD06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339FA-32EA-4BC0-8A30-FB5E3F63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AB4303-6F49-486E-B5BE-D8E4AB4A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B68EA-6995-4CE5-BDC5-B122EF2C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26D7C-91DB-4F6D-A67C-37E812A2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542E6-51A1-4A92-885F-E0F2446D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CE8CB7-6C6F-441D-821D-FCDF28E4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D3672E-5EEB-4E8D-A342-29D1C0D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0D69-B8F0-4F09-88A7-C04B1BD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DE2D2-72E9-416D-9977-335F340A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6EC6C-A93B-4A6D-8BEA-1AD1B9D8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CA1F3-FF66-4988-8939-9D3B1D89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EA1F2-74DA-416C-B15B-4FBA34C2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2F2C8-C1A3-46B6-97BE-C098BA1B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1B8B1-23E9-4F41-9EBF-8E02E24D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37BACC-6FC3-4BAC-90D1-C72E9EC1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9D6BE-4605-4939-B1DB-B57FB84F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8694E-0FD8-4C45-93C2-FF503B21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E845D-5B1C-46F2-A7B0-DFE05D9F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9FA-05B8-4659-9044-1FE0CD88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91EA-A7EC-4ACD-A814-7295E068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FF88F-FA95-4F8C-8BA9-2F8A7539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17626-4184-4B14-A18D-8070C7B5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72BC1-1AF5-4691-A8FD-4BCC5470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15284-43BF-4BD4-989A-6FFFB8C8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628255-4FCF-4EC7-A482-8D7157F9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865BB-7810-491C-93FB-2BD6A1F1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A3DCFC-3C09-4FBB-A3B0-A78A8A60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599FE-1D74-463F-8597-4B695BD7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27D95-2D9E-4189-B056-D35057D2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AF4D5-2134-45FD-939D-1BB6AFF1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D9B7-B6BF-49AA-97CA-675E70B9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A251E-4B04-4748-B571-A2AA0371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D41F0-1A65-47AD-ACED-9EF27361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1FDD82-CD5C-4345-8C73-F5194A0B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1EC8CD-3798-4E0C-897B-27C01D9F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31606-E282-4744-9188-8F1BA3CF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D7991-597C-4F34-98FB-DEF75F44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F93BE-9540-4DC3-B1BF-F5986672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5879B-7A32-49A7-9104-309D63FC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30C1C5-A07C-457C-A6F2-526BFE2C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13649E-66D2-408E-BA6C-568F73A7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F75D-9D8E-45F1-AE92-F16ECB78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5715F-B560-4313-BC9A-F5CCF226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21CEB7-5384-49C2-8E45-8C440F53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7F6D1-2AC4-4EFE-A9B9-FEDD3D99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71DDF-E53B-4029-9A13-ACBA2298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9B7BB4-1385-4364-B4F5-12D78C74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E83F9-5124-4C03-A633-8FB099D7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F86428-E768-463B-A73D-015A87FE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13F81-62E0-4A39-A06D-56BB283B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BD206-235C-4420-AEC4-E1403A66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7E16F-7BFF-4ABA-99B9-D5371296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409B-119B-45DE-B879-3A497BBE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EAE82B-0ABE-4D7B-9603-04ED0A91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84B4A5-8B20-45D0-9758-5A03F867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72D75-E99C-4750-A715-61668790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70D862-795F-4AF9-A2CC-4AC805F6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C6314-0235-48B9-AF58-5AD7DE6F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FFAD7-4F5E-496F-943A-60B27C9F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A46F3D-5953-459A-BB04-23A40261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E1BE51-AB62-4A7C-94EB-46E9792E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F8115D-AD68-473B-A44D-B86E57A2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1C5E6-3E6B-4510-BACF-5EA1E7B8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36C3-B8C2-4E74-BF96-84D227A9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D5745D-C7B0-41E6-A840-C56D522A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ADABA4-7707-4D65-BDA0-01331F8D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366298-D329-4BBD-8633-6235A944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369BB9-2D0F-4004-BDE6-BDDE111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9ADCB0-9E9C-4611-8EB0-13E6DB12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49D64D-DB4D-460F-A9BE-130E48E9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FDC94-A787-419C-A3F4-69A5E57E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8DB701-5F22-481E-9400-6B9BB88D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0544F5-B41A-4DE4-A47B-DE3141D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B8423F-9E43-4AD2-9E26-84346E93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1DCE9-73CF-4655-9A5D-EBB5EF27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94B22C-4692-4A37-8944-A9A5E9DD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A94B0B-CD04-4ABA-B72E-D9391B62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5692B-A48B-46E5-8C26-5F7B997C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5825B3-BA2A-4429-BB92-DF4A98A0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89D416-9FD6-4636-B425-1F7688D4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E70DD0-3BB3-46FB-839E-D4C6BD60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C609E3-B71B-4F81-BF2F-2FEBDD2F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1DF8EB-93C8-48E1-9621-06E59A82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6A5292-E474-489C-9987-04FDCB36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1F89EC-A0AC-4FEF-AD80-4047392E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BFEB-33B4-4885-BAE5-7BFED644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EC7E69-91FB-40EF-BB3F-EAE244FA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A27132-A25C-439E-BDBA-9A787F73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CD2EFE-DB5A-4584-B402-8658754A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64B44B-BCD8-416F-AAAA-9E6BD6CA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6AB0DC-F6D6-4269-BFD0-689E9795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3D9C2D-3052-405E-BC83-00693B8F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BD89E2-D73F-40B7-A23D-D84B6B33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F880B5-2992-4E2A-8B3F-4D4042BF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5490EA-209F-4A64-9AA2-C5591F45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C976FA-2D0B-41AD-90ED-092D9BCC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DEEC-D2AE-450E-8AA4-5F0B121A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2357F3-CB22-408E-A448-6207D921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14FCE3-0729-48E3-8F88-EFB32DBD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58F45F-FE11-4243-A5EA-2CB87BCF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1F511F-0D97-42DD-B980-C8142DAB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615641-96F5-435F-8272-8B44D007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08BCD3-3BC7-4DA7-8425-15F6F520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200E0C-909B-49C3-A52F-6C366168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319BE7-4C71-4DCD-A91F-E93541E6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B4559E-C5B2-4179-9973-3CA96F4D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C0E280-42C7-49BA-ACE5-65C1E2AE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95A6-7107-4133-A8BB-22076033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1AD097-C1AA-4B61-9596-930A57CF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200467-D442-416F-A13B-D5BEE4AC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D6FD21-6EB1-4074-B7CA-59E731EC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B45ABB-1DAB-44A1-ABDC-21A79FE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4D3874-970D-4E1F-9B4D-6B19C3F9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DDB5E3-EF84-4251-BA9D-994A68B3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0F2E3A-6D0B-4F9E-9165-FD9F3795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393F0A-1115-4A5B-B2FA-BD07B86C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85902F-8929-4263-96AE-5AD2A3D9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2B68-67BC-426D-AAA6-F93B5C55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D1F-EC97-4CBA-8EC4-3E238DFB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3155-79A4-4DD6-8DBA-A014661E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1A11-825C-465D-B147-7DFC3303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CD3C-B223-40F2-858F-F03804E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6DAF-A800-4DFF-A67C-7659D874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5F9F-EDE2-4072-A665-C8174006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75DC-EFC6-4020-9FDA-F3CDC775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0DBC-3873-4191-9419-A26B0CB1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68CEC-B680-4073-A63D-CD5BF303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BFF9-36D6-4B11-B365-3ECEE3B3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D82B5-92CC-4527-AB9E-8AE6A3D2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C59-DAD6-43AE-82D6-57A4428D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42657-FDF9-4773-B29A-064EA1BA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B28A-60DF-4083-B2DC-6CB33FE3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C112-E542-49BC-AED5-AAF75ED2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578D3-D1B3-4234-B6DA-576462EF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7B1B-8070-4AF0-9F84-D532E9B8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E6648-BE37-40F3-A74D-1D852F18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E524C-1271-4D9A-8F99-75608BC9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8627-AD3A-4B52-BAC8-57467080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82BD6-D660-4B6E-8F5F-C08CDEDE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75A08-927D-4D59-9E19-13F6E775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4B3-CF7F-4C74-9124-C5A3D7F7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2D73A-CD75-4E8E-A7A8-3829CFEF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92ED8-6559-4B3C-A195-378BD0B1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8DF3D-EDE1-4990-BB4B-30AFA490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23A9-1195-4F35-8A7B-17EE2947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E19B1-4583-4C11-9487-3F4274B1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290E5-DBF2-4AA0-BB64-8FD47517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E93DA-FE29-4564-A6EC-3EB12E26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4F7F-37F3-4FF7-8994-9778D9D3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B6122-21FE-4A70-9DE3-3FF62A08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2EEE0-0958-4F4F-AC7F-0BF61F9C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9A5-3E6E-481F-B558-F425FC32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82B3-4A6B-4D1F-A1E7-1981A730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43C39-A6E9-4ECF-98C6-FFCD76C7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AEE7A-B99F-4589-AEB3-7AEDC384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5A86C-4234-4510-812E-61CFFDF4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E8E9F-F1BF-4D5C-8DFE-8B10F864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CFE0A-F0A2-434A-994C-43335128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C7A27-8900-4EF0-8BE7-8E2EF77C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422C7-3A8E-423A-ADBF-62ABDB06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5185E-1E90-416D-BFAE-F9CF1557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7369D-7ACA-44F0-95B3-35C20325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100-D44C-441C-95E3-410469E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8CB4A-24EE-44D2-BCA0-295F7E72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4D572-0CDB-4809-9158-39BAD792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F495-BC6C-404D-B397-DBC8613F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DB3C1-5723-4426-A17F-5EE2E60A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A7962-8C86-4B88-8427-EA6F349E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2DCE1-F356-431E-A67C-1AAFB5B3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8201B-AA75-4CBF-95AC-98632A6A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4791B-4689-42E7-A09D-452BB0F7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30034-E721-4D4A-B2A3-BBEF9A05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6C78B-90DA-4280-A046-5DE8969E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70D-6390-4293-9BAA-D2CEB5AC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D0940-8FDC-45F1-BCC3-1DD8A5E7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7F5BB-F54F-4976-8A3C-479C40EF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E0720-DCEE-4BE2-9A99-32ADC2CF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AE17F-06C6-4D75-8F38-63A4FA7A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6AA31-CDC9-42EE-8BEB-434250EF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EBD28-82F1-4539-949F-4ED1B82D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14781-C7C0-40EE-A274-3D3E45F3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F5B66-2F7D-4377-BDF9-5086826A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ED2BF-29BD-48E8-95A4-6F721CAD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2F2F9-4F83-474D-81B1-DE05B0A4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E63-CA8E-4D79-A7C3-ED47E4E9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A31DE-678F-45B6-AFC3-439DCE8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8620B-92AF-40A2-A754-184428A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89CA8-FA25-4DE1-9532-1AB3DDAA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8616B-89BB-4683-BD49-20E9B138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5B334-8937-4B01-9771-2D1D22D6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90BC4-0254-4FC5-A6FF-91BE8E5D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A10E6-5DA3-414C-96F5-0D93AC80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721B7-123D-4A45-999C-4636407C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31628-EE94-40B8-B766-D445F2B1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D8D5C-B5DC-4F8F-A7A4-BD6344F2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4F90-8D0E-4F82-919B-FA82C15632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4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D2E1-8A8D-426D-9504-8BD829578D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AAF-A0A2-42DD-8D44-C49FD2ED46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3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832F-1D81-4314-A177-8170B83D2D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7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BED2-4576-422C-A767-3608A401F4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0B57-CCAE-4A6C-8298-D56FE276A8E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9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0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2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5BD2-26D9-4518-B9AE-124106E45D9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7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8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0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3268-FEE6-4D14-8803-F1B08540817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5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F94C-0ABE-4643-92D1-4D493ECA51E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3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3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6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895B-633E-4537-90F4-AA95CCA697B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1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3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28B1-46C6-42E9-936B-6F5234ACF68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9550-C4A5-44CF-974A-AA15DB70C25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4C2F-143E-4C8B-A67C-2D00F79E96E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416D-4C9B-4767-A7F4-2AF2D52F731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BD55-9647-4686-AA7F-63B59595B53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3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5F63-A077-4742-A9F4-1501B1F8B58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00D0-7ECA-4BB3-A71B-903B20D9693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EE92-A278-4C83-945D-0ED4AAD800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7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45A8-CFAB-4508-87BF-5E4454006B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C02D-486D-407D-B3C9-D3AFA25C85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DCAF-C2E6-483D-9CB7-9884901968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0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8174-36EC-4B5C-9BF4-247B789E3B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5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5C0A-933E-4DB0-B142-4CBFDF0590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9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0572-E894-43C3-9E3B-3F532E2376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20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ОФИЛАКТИКА ПОЖАРОВ В ПОВСЕДНЕВНОЙ ЖИЗНИ И ОРГАНИЗАЦИЯ ЗАЩИТЫ НАСЕЛЕНИЯ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едмет: ОБЖ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ласс: 8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аздел 1. Обеспечение личной  безопасности в повседневной жизни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Глава 1. Пожарная безопасность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Урок №2. Профилактика пожаров в повседневной жизни и организация защиты населения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рассмотреть основные вопросы профилактики пожаров в повседневной жизни и организации защиты населения </a:t>
            </a:r>
            <a:br>
              <a:rPr sz="2400"/>
            </a:br>
            <a:br>
              <a:rPr sz="2400"/>
            </a:b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Разработал: преподаватель-организатор ОБЖ  Филимонов Виктор Алексеевич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торические ф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380520" y="13716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XV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в. в России вышли первые государственные противопожарные указ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них были даны рекомендации обращения с огнём, чтобы обеспечить пожарную безопасность: не топить летом изб и бань без крайней надобности, не держать по вечерам в доме огня и т. д. Царь Ива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озный повелел иметь во дворе на случай пожара бочки и чаны с вод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ёт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ликий запретил строить в Санкт-Петербурге деревянные дома. Всем жителям города было предписано чистить печные трубы в домах один раз в месяц. Были установлены штрафы за нарушение правил пожарной безопасности. Царские указы и инструкции о противопожарных мероприятиях печатались значительными тиражами и расклеивались по всем городам и селениям страны. Их зачитывали в церквях по воскресеньям и праздничным дн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иказу Петр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и изданы и разосланы по всей стране планы и рисунки огнестойких крестьянских изб и дворов. Тогда же был наведён некоторый порядок в тушении пожаров. Для ликвидации пожаров использовалось стрелецкое войско, а затем и регулярные войсковые подразделения, но действиях их были малоэффективны: нужны были люди, специально обученные тушению пожа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ервые пожарные команды появились в Москве и Санкт-Петербурге в начале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Комплектовались они из солдат, признанных негодными к строевой службе. В типовом штате пожарной команды состояли: брандмейстер (начальник пожарной команды), брандмейстерский ученик, 48 пожарных, 10 кучеров, 17 лошадей. В оснащение команды входили 12 повозок, 4 заливные пожарные трубы и другой инвентар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жарная охрана в Р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жарная охрана РФ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большая и сложная структура, в которую вхо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осударственная противопожарная служба МЧС РФ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часть пожарной охраны РФ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мощная и мобильная структу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задачи Государственной пожарной служб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и осуществление государственного пожарного надзора в Российской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и осуществление охраны населённых пунктов и предприятий от пожар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ие тушения пожа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едомственная пожарная охран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рганы управления и подразделения ведомственной пожарной охраны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едеральных органов исполнительной власти и предприятий.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Так, свои подразделения пожарной охраны есть в воинских частях, на железнодорожном транспорте, в аэропортах и морских портах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ршенствование системы оперативного реагирования на пож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30456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последнее время в нашей стране (2003-2005 гг.) обозначилась тенденция к сокращению числа пожаров и случаев, сопряжённых с гибелью и травматизмом людей по их причин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ЧС России осуществляет комплекс мер по совершенствованию системы оперативного реагирования на пожар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 этой цель в МЧС России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74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здаются пожарно-спасательные подразделения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74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ся обучение пожарных основам проведения аварийно-спасательных работ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асатели МЧС проходят специальную подготовк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штаты боевых расчётов вводятся автомобили первой помощи и установки импульсного пожаротуш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базе танка Т-64 создана машина «Импульс», которая тушит пожар в десять раз эффективнее обычных. Эта машина предназначена для тушения крупных пожаров на нефтехранилищах, местах добычи нефти, различных промышленных и гражданских объектах с помощь установки залпового огня капсулами с огнетушащим порошко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просами пожарной безопасности занимается также Всероссийский научно-исследовательский институт противопожарной обороны МЧС Росс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ый материал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82 г. в СССР была выпущена книга Р. Виже «30 советов по пожарной безопасности». Советы, приведённые в книге, не потеряли актуальности и сегодня</a:t>
            </a:r>
            <a:br>
              <a:rPr sz="1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30456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Умейте правильно оценить опасность возникновения пожаров в своей собственной квартире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ьте, существуют ли в ней пожароопасные, горючие вещества (бумажный хлам, древесина и пр.). Убедитесь в исправности отопительных установок, электропроводки и обогревательных приборов. Ознакомьтесь с возможным путём  эвакуации, изучите средства борьбы с огнё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Выбор средств борьбы с огнё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ы располагаете многими средствами, позволяющими потушить огонь в самом начале: одеяла, грубая ткань, мешковина, ёмкости с водой. Вы должны уметь сразу воспользоваться ими. Необходимо также знать источники водоснабжения вашего дома и уметь пользоваться огнетушител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Чистота и порядок.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, в котором царят чистота и порядок, защищён от пожара. Слой пыли, плёнка жира способствуют распространению огня. Не храните старые вещи, загромождающие вашу квартиру. Чистота и порядок должны стать вашим девиз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Ненужные вещи на чердаках, в подвалах и гаражах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свободите ваши подвалы, чердаки и гаражи от ненужных вещей (старых газет, одежды и пр.). Не оставляйте в гараже промасленной ветоши или тряпок, пропитанных легковоспламеняющимся вещест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ый материал: 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должение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30456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Неисправное электрооборудов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реждения электропроводов, их небрежного соединения, коррозии или загрязнения предохранителей, оголения или плохой изоля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егрузка электросети: нельз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ключать одновременно слишком много электроприборов. Не включайте все ваши электроприборы в одну розетку: из-за её перегрузки может возникнуть пожа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Электробытовые прибор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 оставляйте включенными в сеть в течение длительного времени, они могут перегреться. Не пользуйтесь неисправными электроприбор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Источники воспламенения и горючие материал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 ставьте источники открытого огня (свечи, спиртовки) около занавесок. Не накрывайте люстры или настольные лампы бумаг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иротехни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это искусство, доступное далеко не каждому. Ограничьтесь посещением специальных официальных зрелищ и не устраивайте любительских фейервер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ри уходе из дом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кройте подачу газа. Плотно закройте все двери в вашей квартире, чтобы избежать сквозняков и помешать распространению огня, если возникнет пожар. Убедитесь, что вы нигде не оставили источника огня (горящие угли в печи, незатушенные окурки, включенные электронагревательные приборы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о совершенствует систему обеспечения пожарной безопас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эта система работала эффективно, каждый человек должен ответственно относиться к вопросам обеспечения пожарной безопасности в повседневной жизни, уметь правильно действовать во время пож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ссийской Федерации с июня 2003 г. действуют новые Правила пожарной безопасности (ППБ-01,03), утверждённые приказом МЧС России от 18 июня 2003 г. №3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каких условиях огонь становится опасным для челове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основные мероприятия проводятся в государстве по защите населения от пожаров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на Руси были сформированы пожарные команды? Перечислите их состав и оснащ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кажите об организации пожарной безопасности в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основные мероприятия проводит МЧС России по совершенствованию пожарной безопасности в стран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тельно изучит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учебника и презентации. Материал презентации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са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невник безопасности (тетрадь) –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язательн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перечисленных на уроке советов выберите требования, соблюдение которых будет способствовать обеспечению вашей личной безопасности в повседневной жизни. Запишите их в дневник безопас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и ход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писочного состава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цел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ушивание ответов нескольких учеников на домашнее задание (по выбору учите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новым матери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ление и комментирование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времени следующе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торение пройденного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ём заключается значение огня в жизни челове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иболее часто возникают пожары? Объясните поч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основные группы причин возникновения пожаров в повседневн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возникновения пожара из-за неосторожного обращения с огнё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неисправности электропроводки могут привести к пожар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гонь человеку – друг или враг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880" y="12952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Человеческий фактор» во многом определяет грань, которой огонь обернётся к человеку (друг или враг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становится враг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 использованию его в процессе жизнедеятельности относятся без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не соблюдаются установленные нормы пожарной безопас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илу огня пытаются использовать не для созидания, а для разрушения (поджоги, вооружённые конфликт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теряется контроль над процессом го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жар легче предупредить, чем заниматься его тушением и ликвидацией последстви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0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ческие факты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30492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Древнем Риме власти серьёзно занимались организацией борьбы с пожа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ожарной безопасностью наблюдали особые посты, которые при возникновении пожара подавали сигналы трево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шили пожары отряды ра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I тысячелетия н. э. в Риме были созданы специальные пожарные команды, численность которых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н. э. достигла 16 тыс. человек при численности населения в 1 млн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жарная безопасность (ПБ) –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, меры и на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4568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ожарная безопасность – состояние защищен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личности, имущества, общества и государства)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т пожа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еры ПБ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йствия по обеспечению и выполнению требований П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Цель мер ПБ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допустить  возникновения пожа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низить ущерб разрушительной силы огня при пожа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я по обеспечению пожарной безопас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ервое направл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филакти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жар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торое направл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рядка и организации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ушения пожа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Третье направл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дготовка насел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три направления постоянно совершенствуются государством, а их реализация способствует повышению уровня общей культуры населения в области пожарной безопас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ссийской Федерации с июня 2003 г. действуют новые Правила пожарной безопасности (ППБ-01,03), утверждённые приказом МЧС России от 18 июня 2003 г. №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е направление мер ПБ – профилактика пожа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1371600"/>
            <a:ext cx="813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держание первого направления (профилактика пожаров)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и совершенствование требований П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57480" algn="ctr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57480" algn="ctr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ПБ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35748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станавлива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специальными законами или другими нормативными акт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35748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пределяю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яд условий социального и технического характера по обеспечению пожарной безопа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357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760" indent="-35748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условия определяли и определяют нормы поведения человека в процессе его жизнедеятельности по профилактике пожа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ое направление мер ПБ – определение порядка и организации тушения пож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торое направление – это определение порядка и организации тушения пож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ушение пожа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яет собо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оевые 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авленные на спасение людей, имущества и ликвидацию возгор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и эффективность этих действий всегда зависели от сил и средств, привлекаемых на борьбу с пожа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тье направление – подготовка населения в области ПБ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ретье на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и совершенствование системы подготовки населения в области пожарной безопас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равилам безопасного поведения при пожаре для снижения фактора риска для жизни и здоров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Пользователь</cp:lastModifiedBy>
  <dcterms:modified xsi:type="dcterms:W3CDTF">2015-09-14T06:49:50Z</dcterms:modified>
  <cp:revision>3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