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EF5C-B6F1-4B7E-BDFA-3F459839B1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9AB1-600D-45EB-BCC2-4E5B0FB6A7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5667-72F6-48AD-9E5D-80F66558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E73-2F61-4970-95D4-F6B4D031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519C4-5062-409E-B28E-A13CF06E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26603-9B15-4671-838D-15DE0C5A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A9EFA-2C73-44E4-A78D-509233C7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402A6-93B9-439E-89D3-3A3299CE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BDFB7-0CE2-49DE-BAA9-68C969A8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D6318-DE38-4725-8973-46C7F340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1F02A-9ABE-4310-BF09-A31171D7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60579-81B0-4F6A-A7F5-201FB44F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CA84F-E1E7-4B50-A136-831379C6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6BE9F-1FF4-48C8-A580-EC375B1D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503-FF83-46FD-9CF9-AF3F058F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5A784-DE22-4E25-AF5C-4FF3F09A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F8ED2-2C2A-4833-9A24-DCC18CE6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4FB1E-5FE9-48A9-9DDD-D9CB7EB4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2BEFF-0CE7-47CD-B4DD-C8FD9489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017D1-4ABB-45AC-B987-8A351E22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21CEC-32B3-4E2D-AE50-28666E74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A7C72-030E-4D76-B75F-13493CCF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246C8-61C3-40D2-BA57-0F88A813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1B84C-9E96-486A-96BF-BFAC0F49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AD9E4-5AB6-4D84-BDB8-B04F6F80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F95-4FBC-4A0E-BC36-E5377383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D96DE-5683-4F57-BC4B-EA5ADBBB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CB390-9EBD-496F-9320-E586ECD4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3FF1D-9C87-41A3-9436-115BEB14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7D1EB-BF73-4991-A615-161D21E4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EB69C-FFA3-4D7D-928F-39B47940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D9A6F-4886-47D6-BD9F-9A7A0367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631F6-83ED-481C-A517-0B1BBCDC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1B04B-5188-428D-9AA7-17724F0D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8F768-63E9-4FBB-BAD3-5C73CF7B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31710-B49E-4A7F-BA2E-2F5C0CEB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511C-250B-4F9B-939D-E4920339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355DF-8A07-4EEA-AE32-1A6579A7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AB501-ED4A-4ED9-B2F9-2D28DAB5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35636-A39B-43C3-8D13-FB1A726F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12657-9DCE-49A1-8D51-59C7F9CA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24B37-B3D5-4A2E-87BF-992CB7CC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C2E63-50D7-48F2-9895-89BD18A3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79301-5E4C-480C-9536-F255EB27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17A54-FA93-400E-B81F-25690DD8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B4892-75EC-40FF-979D-3A048A9B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F561A-EBD6-414B-84A5-658FBBEA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17C9-0AE5-412C-98BF-27571FC9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9A205-49F2-4F39-A2F6-05D52566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25C52-3A27-43E8-A7B2-E70F232D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E829A-B666-464A-8CBE-FAC7E6B6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42283-04F5-460F-92FE-D1282D3B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B7C99-97BE-4144-AB95-EDF4A408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08A84-D15A-4DDE-B0A9-5A0D2DEF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B0FA6-A0C6-4D34-B58E-483269D8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48881C-D81E-458A-BF1D-3DABD301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9AD76-3A27-44E1-B6D9-A145CE50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1AB57-F9B0-4D66-ACE9-9C86C870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3F30-A4DE-4C0A-B2D8-CD1A0F13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447941-7416-4F20-888E-97FBCCD4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9007F-61C7-4EC5-BA1D-49B8EDE7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632E0-7E6B-49FF-AF4B-0D1E1418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888362-F35F-4127-9BEA-1D4162FB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2D3F2-ADEC-4834-8E5E-F98B09A4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24F64-CCAF-47FB-92BA-026FB199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3FAD2-84C1-45AF-BCC4-A0D8AB40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76278A-65D6-4671-A410-D2AE1934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A947BE-2C7C-4F24-9782-C8D1D80A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C942B2-9CF5-46FC-9F1E-F23E7D01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8F4D-671D-4D0F-8A6A-EAA5EEAB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CA1A30-4A6E-4570-9B7B-596E0F18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623DC5-2EB9-4E90-95C6-99A012E9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D554B7-A8D0-4DB2-89B4-C674B90E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44307-A2AF-41F9-9BFE-505F558A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6196C2-FFA0-41E9-B86F-06D5091A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BDA633-D9B1-4A74-BBF3-02771C39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8E14B9-A651-4BDA-8FA0-34C43471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272B93-C4B9-400F-9D7E-2F3E4B62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75A34-87EF-4707-B6D4-5AC110A9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7AE104-C248-4E06-B96C-6D297088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3526-E7E7-4205-A44C-E99475CB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FF9617-9764-422C-B4AC-198E7F70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5851CD-18FE-4A2F-8C77-D2FC6640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2D637B-358E-4C43-AB62-9A6354F0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485A37-0FE5-4989-84F0-17284569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2F0192-167A-4602-A050-8FF2A9FE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4B8BDF-A5E9-42D2-AD35-16759691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2B940B-9B4A-4D8B-9460-EF52D8A4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15506D-ED4D-44DD-821D-A1A9A138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483103-4677-4B99-AC67-11CB2567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23A790-60A5-47C7-A4E0-5A0F9977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18C0-5895-49AA-B3A7-AC4A6661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E0784F-2518-4243-ACBE-76FF7CEF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D335C4-5521-4BA9-88EF-545DC615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470ACF-6448-498E-B214-B1543021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CF4EF7-4D6F-4CE2-8CBA-817D5A8F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AF53B3-A89C-4D6D-A17A-0FC8D32C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405585-A2BE-449D-BFE8-DDD03E3C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1FA1F6-8E84-4DBB-8A7B-3089EA5A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4BE44F-817B-4564-B2DD-9D85221D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51B5B8-B1A8-43D2-9CC3-3E555FF1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B85486-39CB-40DF-B035-DF9DF4FF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CE73-4DDF-4F6C-BAE8-33A0729C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B4F4B4-4F93-4F6D-BAE5-D6C2F5FE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4337DE-4A3A-44DA-A2D9-7CA9C340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3A8DD9-F93E-4F5A-B476-428D854C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F7B499-7A70-4099-881F-D3616167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BC6379-DB44-409D-A975-92FAC01B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93D1BC-548F-4933-95A6-B71620BE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5A5C4C-F2F9-4209-A3D5-F9402F52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7C2D30-2198-4EDB-9275-B63CDDC8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9DD5AB-9EFC-41CF-AC67-416FEBF0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33A618-B044-4861-9E11-F52020E0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C73A-CD79-420F-A1DD-3B032117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9D24-23F1-42F0-BFC4-06D4A14C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C9AC4D-D76B-4C8B-AE75-EA20D1C8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5D6777-F9CA-4D64-81ED-A87572CD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FB5F7-AAF4-471A-8146-C1D2A5F2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706691-457A-4AD9-A534-2C2156EF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5FAAA9-AC8B-44AB-BDE2-80F57BD3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65370D-EBC8-40E7-9240-5A839882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D46228-0CAE-4152-B120-3FD60C17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0CCCAA-E8CB-4FB9-8518-69E180CF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12B2A1-CBE1-40FA-B240-B387B27C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4A924C-CCD1-41C8-BB23-B1F60EDD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8673-AD31-44C6-9E65-CCE96487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876F14-0068-4F7F-A5DF-64FA1AC1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18E750-74E7-4A8D-B089-BE84EDEB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562905-B396-4B98-AE3E-3E1BFFF6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DD69B3-36DC-458C-973A-3B348B13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B649CC-2873-4F05-95A7-A147D559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1A0FC9-FEA7-4FA2-9ECE-F3595443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1DFA7A-38B9-4F3A-B87E-518D679E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7DFEFD-1B27-402E-B3E8-0210F091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15EB45-4F51-4493-9254-EEB98A45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ED4195-1E6B-4715-BDCD-D5F87CEE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7FBB-2A93-4E78-8AE4-ABE5F060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585819-50C7-42C4-98D6-E872C54D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B928FB-B222-47A6-A1B5-E8962C5B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69452E-D8C0-4EC3-ACAA-5C0DC266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1F186B-5921-4F3F-830C-15B83309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BFA3DF-89E5-4677-8127-1BA7DB9A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BB2BC3-EB71-4F66-BF8E-D388072F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312B7B-C443-44D6-84D9-B6CFE7BD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89F075-7597-478D-81D4-8D2C92F9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75901F-865F-4A31-9651-F8CD5E32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F822B3-611A-4718-B5C9-C2ED7EF2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B5B2-13B9-4FE3-BF3A-CF2C847B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469ED2-7EF6-4695-A91E-88956C19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C58ABF-4472-4691-BFD1-3673B5C1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EC28BF-C5FC-4E5E-AB8E-33ECB12D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6CB6D3-9C03-46C4-A1C0-F817B34D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29C2E2-FFAB-4845-A4D9-FF2F257E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F35346-7FD4-4DFC-8BB7-E3E066DC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3C225F-FB58-4D3C-89A8-D7DCA84C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FC5D75-AB5B-4C2E-ABA9-B7CC970E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2CD0F8-CCD4-4988-A18C-99A25C67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675948-1751-4831-A1AF-6C860B3E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5C92-B005-4C40-B9C6-7D26523B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C22A76-B9CB-4E45-B8F2-7C880604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D241F5-D681-4641-BE1B-C8FAF564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2EFA9A-AE99-412B-905F-5090A6B6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94DB2B-26AC-4E22-8B6C-238AEB66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B9753E-351B-4881-AF81-64D545C4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F99F8E-5AEE-4C72-B18B-BE9A9482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3593E5-5766-4100-AB85-F573E644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3DC12D-D293-4A98-80C7-18012F20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8A46A2-FEF0-4EB6-9231-3A6B6F58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CC9940-5435-4709-9E2B-38955505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450EE-4C85-4E1C-83E1-BD5B581B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204D9E-1579-4D0F-99D5-483E28FF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339106-A444-4DEC-8DB4-0BE822CE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4C1B77-E980-4B07-BE04-F253F2E5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421559-3626-4943-A788-97A68D2A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385F88-25A8-4B86-A785-3E46972E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77A2C5-6B17-4FA0-998A-931CCD43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89954E-C571-46E2-AAA1-AEFAE538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CA1FFF-7842-489B-9CB9-E0A9936E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83ACE9-38DF-46C4-A7A8-F2EA7D6E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B2DF74-AF11-43BD-8166-5414D430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F892D-9371-4279-94EA-71976F2A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93D4FF-B1A1-45B0-985F-2184415F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B86DDE-74A2-473D-BB44-12E9D474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139719-C585-418C-820F-C497FD09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B25AEE-ADC2-46BF-A242-FE330DC6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8152D0-6CD0-498E-8C4B-E5BC8A4B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42B68F-5CDD-47E7-A862-C64CA149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9A06A3-BCF0-46AB-8DC9-15FB44B1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DB3010-866C-4490-A3AB-379A97BF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19A176-0899-4CA8-808C-35692B81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2933ED-544D-4DD1-BB1F-B4A6D9F1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EA6A0-C43B-4D9D-934A-00AD8125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049EBE-A334-472B-B03F-F2D17C2D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40F825-76E1-422A-A8C1-21F84991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CC7A0E-22F0-46F4-B521-029B11F4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70E116-7444-4E90-99DA-967E77BA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E9A552-E13F-4D8F-859D-AD4B5A6A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4D14B6-7907-402C-8D1C-47642BFA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03121D-D80E-430D-89D3-2DC743A1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B0DA70-BC1C-4252-A6B1-2A141CD6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E48E82-CBE9-4ED4-8AEA-2B2E54A6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7060DE-905A-461E-9B5C-9AEE5647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06914-E214-4049-B7C6-6EE2D35F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E95D69-D1D5-4F45-B640-D7047B7D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CD8850-91B4-4F34-9969-EC6DC10C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A996E3-6ECB-4488-81BD-F54E06DA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EAF3D6-F73E-479B-A0D1-A67610F7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1EA617-6865-4B90-B2A3-076987D1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28068D-736F-49A1-8F26-CBCA1232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07F247-D45E-49E0-8695-BF4E7A40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A3E915-06BB-4B06-ACA4-46D9573F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DDDF55-AEFF-4F34-9FCC-22EED803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223C7-2565-4EC7-A1F4-E4A7ECA6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233-CFE4-40A3-A97A-FAACB1C3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DC282-2309-42D9-A43E-FFE1AD8D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D2745-E7BB-41C7-9944-C8D8BFC6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CB67B-DECF-4331-96BA-155F3180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1F528-AEA2-43F8-8909-EF2BE11C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B3348-FCFF-4507-BD6A-42678C5C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6CF9C-8EEF-495F-8949-D8F59D95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45462-3974-4DBF-8AD3-5391A73A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5434D-89F6-4A44-84DC-291EC72A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622B2-2D68-4C75-9D02-9E283C33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9FCD3-57C6-4FC2-B62D-B67923CB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420-9DAF-45E1-B950-7F98D764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F073D-2E36-4B56-93B7-55520287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6D108-74EF-41C7-816C-636CD5AF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13741-61B7-458D-BC17-E90AD1C8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DD6FC-2E83-4767-9138-0A8CF38A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FAE4D-333D-4A5C-88BD-AFF6CAB5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80F9E-C1E3-496D-B1B3-69D9C9D1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B8767-030A-46EF-B00C-3F8A78E8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1815B-6529-4013-A46F-B4F1E6B8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83F6D-FA46-4672-BBB8-50EA681F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9E4C3-A4E6-42F8-8B61-F04E13F4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736-6C5E-4758-9C87-C8C7FA9A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59F84-F42B-495F-88C2-E480F100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D9900-6A86-454B-80BB-8A2BAA86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4F1E4-85F5-4C3C-BBE3-3D7C7938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FEDFD-CA3F-42C1-9A84-F2A0570C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A42D2-08D1-4239-B70B-464EC375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A42B5-D599-45AB-85AC-F833AB02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41EF2-BCCF-4A7C-8E9C-1E38EC77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1768C-2214-4C65-AA76-6F93CD3C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ACB33-3CA8-4FFF-9C84-EE1B0354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201B9-CFD4-438C-8A9B-5D0B0B5D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1818-8A85-43D5-981A-6354E1C8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63747-EC3B-4CD6-8487-04614CAF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477F7-1862-4DCA-A450-3905C5EA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320D3-4B96-47FB-8942-779EB18E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53265-B67B-4AB8-B4CA-D259ACE3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E8C5A-646D-4FD8-B65B-E7EA4619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FB27F-EF9B-4ACB-B911-B4CF3F1A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AD0EA-A3C8-4FD0-94A2-6754E974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C9CA9-9456-4817-B5E5-08E3CE13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88D69-78E2-4C39-A595-DC62BACF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BF369-D06C-4A97-BE11-FB670D4C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DC46-C426-4A26-B6EA-B15662BC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DFA83-1713-4C2D-BA7C-97F2190B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7F624-1B45-47C6-9B1F-3FC521AC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6B4D6-1F3D-466F-ABE3-6B848841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0F516-CAB9-46FB-A161-F0ED7D5D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394F0-E9F9-43FA-B403-64A3EB14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562EB-EB77-4602-AAC2-D3ACD579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2EE11-C868-47A1-933E-C6951043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3E2FB-3830-40EF-8444-784EF81B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A49E1-9C14-44F0-8F51-60C71BFE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014EB-9C18-4AD3-98AC-40DB735A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1C1-47BC-487D-B805-6309A8B2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E5497-03C1-4556-9EBA-FE2E813F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492C8-1983-4A6B-8750-DAAADB51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0610B-DC23-4485-98D3-18EC6EE5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D620C-0209-4FAF-9FB2-09731DBC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8DF79-F680-45B0-B91C-5B4729E6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E6BA3-BA6A-4520-8B1D-884433EF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926DF-65E2-44C4-88E1-E12B7DB5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95F4F-E237-4C20-A5A8-7F132A6D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785F9-D919-463D-A02F-66F4B621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75DD3-9A55-47E3-B87B-DD64EB2C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215E-404F-4405-A4AC-80A8323E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012C4-3015-433E-9C02-0F45601A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EA3A0-5C72-4080-99FA-A8A19366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72044-4BEF-4245-807B-CA1A6D0F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1F7DC-537E-4CC8-AF8F-E39472D1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03B0B-F7D1-4416-96DA-83A04B5B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19AC1-1CA8-4C89-B2DE-C13133F5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35D50-8144-4E85-A67C-93492681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EC9CD-F545-4F3A-9EE7-C18E6435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CFA6A-6388-456B-AC1F-CA79F5E4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16F4B-3282-408B-875A-C9C2563E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C6A3-AFBC-499D-A511-A700C23A3F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4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6DA4-AA98-4F3E-9136-42E237DB94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8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3A0E-D4A3-48F1-9CB4-EC0D3C1AB5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3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F54F-ACFC-4BF0-A593-6006C200D5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7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A676-18A2-4DB5-A82B-E0829C2E2E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20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24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4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97DF-F6E4-4D40-B5DB-2278F8A04AA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9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0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2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76B1-9D46-4655-9A02-DDCA4150004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7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8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0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EB93-87A5-4216-A089-E8C5543E021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5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5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8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91F9-E616-4AD9-B6AA-B5A214F0C66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3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3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6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80C9-D426-4974-85DD-3C7D3CAC584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1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1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3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E9C1-32B3-4566-9B2D-EC142F5F888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7FDF-A0EE-4709-8AD7-02AACA8EACE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8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9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1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F9DC-1C58-455D-9462-9116C7E91DE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6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7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9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9285-5BA2-494D-89B8-A8328FA9DCF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5570-AC29-482C-8159-CC6C0058069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32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32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5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986C-1B12-4158-AE77-0AD27FD1DF7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40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40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2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7E3A-9F1C-4DBD-A165-9AD5AE428AF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2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1403-82FC-476D-B402-83C75D68BF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7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7559-D43F-4EE2-921D-132D6C95F4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1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6101-1950-4FF9-B2AD-1F7339558D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6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7DC7-87FD-4B58-895F-D7025B2357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0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D8E5-882A-4276-B1A5-8A061C24A1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5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A546-4A38-4B00-8EE1-9B74E6D14C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9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096F-5E73-492A-9911-F7BBA7330B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20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РОФИЛАКТИКА ПОЖАРОВ В ПОВСЕДНЕВНОЙ ЖИЗНИ И ОРГАНИЗАЦИЯ ЗАЩИТЫ НАСЕЛЕНИЯ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редмет: ОБЖ.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ласс: 8.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Раздел 1. Обеспечение личной  безопасности в повседневной жизни.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Глава 1. Пожарная безопасность.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Урок №2. Профилактика пожаров в повседневной жизни и организация защиты населения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рассмотреть основные вопросы профилактики пожаров в повседневной жизни и организации защиты населения </a:t>
            </a:r>
            <a:br>
              <a:rPr sz="2400"/>
            </a:br>
            <a:br>
              <a:rPr sz="2400"/>
            </a:br>
            <a:r>
              <a:rPr b="1" lang="ru-RU" sz="1400" spc="-1" strike="noStrike">
                <a:solidFill>
                  <a:srgbClr val="ccecff"/>
                </a:solidFill>
                <a:latin typeface="Arial"/>
              </a:rPr>
              <a:t>Разработал: преподаватель-организатор ОБЖ  Филимонов Виктор Алексеевич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сторические фак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380520" y="13716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XV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в. в России вышли первые государственные противопожарные указ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них были даны рекомендации обращения с огнём, чтобы обеспечить пожарную безопасность: не топить летом изб и бань без крайней надобности, не держать по вечерам в доме огня и т. д. Царь Иван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розный повелел иметь во дворе на случай пожара бочки и чаны с вод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ёт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ликий запретил строить в Санкт-Петербурге деревянные дома. Всем жителям города было предписано чистить печные трубы в домах один раз в месяц. Были установлены штрафы за нарушение правил пожарной безопасности. Царские указы и инструкции о противопожарных мероприятиях печатались значительными тиражами и расклеивались по всем городам и селениям страны. Их зачитывали в церквях по воскресеньям и праздничным дн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приказу Петр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и изданы и разосланы по всей стране планы и рисунки огнестойких крестьянских изб и дворов. Тогда же был наведён некоторый порядок в тушении пожаров. Для ликвидации пожаров использовалось стрелецкое войско, а затем и регулярные войсковые подразделения, но действиях их были малоэффективны: нужны были люди, специально обученные тушению пожар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ервые пожарные команды появились в Москве и Санкт-Петербурге в начале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XIX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Комплектовались они из солдат, признанных негодными к строевой службе. В типовом штате пожарной команды состояли: брандмейстер (начальник пожарной команды), брандмейстерский ученик, 48 пожарных, 10 кучеров, 17 лошадей. В оснащение команды входили 12 повозок, 4 заливные пожарные трубы и другой инвентар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жарная охрана в Р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ожарная охрана РФ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большая и сложная структура, в которую вход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Государственная противопожарная служба МЧС РФ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ая часть пожарной охраны РФ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мощная и мобильная структу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задачи Государственной пожарной служб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ация и осуществление государственного пожарного надзора в Российской Федера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ация и осуществление охраны населённых пунктов и предприятий от пожар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ение тушения пожа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Ведомственная пожарная охран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органы управления и подразделения ведомственной пожарной охраны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федеральных органов исполнительной власти и предприятий.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Так, свои подразделения пожарной охраны есть в воинских частях, на железнодорожном транспорте, в аэропортах и морских портах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ершенствование системы оперативного реагирования на пожа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30456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последнее время в нашей стране (2003-2005 гг.) обозначилась тенденция к сокращению числа пожаров и случаев, сопряжённых с гибелью и травматизмом людей по их причин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ЧС России осуществляет комплекс мер по совершенствованию системы оперативного реагирования на пожары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 этой цель в МЧС России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74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здаются пожарно-спасательные подразделения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74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одится обучение пожарных основам проведения аварийно-спасательных работ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пасатели МЧС проходят специальную подготовку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штаты боевых расчётов вводятся автомобили первой помощи и установки импульсного пожаротуш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 базе танка Т-64 создана машина «Импульс», которая тушит пожар в десять раз эффективнее обычных. Эта машина предназначена для тушения крупных пожаров на нефтехранилищах, местах добычи нефти, различных промышленных и гражданских объектах с помощь установки залпового огня капсулами с огнетушащим порошком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опросами пожарной безопасности занимается также Всероссийский научно-исследовательский институт противопожарной обороны МЧС Росс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94760" y="30492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ый материал: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982 г. в СССР была выпущена книга Р. Виже «30 советов по пожарной безопасности». Советы, приведённые в книге, не потеряли актуальности и сегодня</a:t>
            </a:r>
            <a:br>
              <a:rPr sz="1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30456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Умейте правильно оценить опасность возникновения пожаров в своей собственной квартире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ьте, существуют ли в ней пожароопасные, горючие вещества (бумажный хлам, древесина и пр.). Убедитесь в исправности отопительных установок, электропроводки и обогревательных приборов. Ознакомьтесь с возможным путём  эвакуации, изучите средства борьбы с огнё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Выбор средств борьбы с огнё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ы располагаете многими средствами, позволяющими потушить огонь в самом начале: одеяла, грубая ткань, мешковина, ёмкости с водой. Вы должны уметь сразу воспользоваться ими. Необходимо также знать источники водоснабжения вашего дома и уметь пользоваться огнетушител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Чистота и порядок.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, в котором царят чистота и порядок, защищён от пожара. Слой пыли, плёнка жира способствуют распространению огня. Не храните старые вещи, загромождающие вашу квартиру. Чистота и порядок должны стать вашим девиз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Ненужные вещи на чердаках, в подвалах и гаражах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свободите ваши подвалы, чердаки и гаражи от ненужных вещей (старых газет, одежды и пр.). Не оставляйте в гараже промасленной ветоши или тряпок, пропитанных легковоспламеняющимся веществ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ый материал: 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должение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304560" y="12952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7040" indent="-1670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Неисправное электрооборудова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реждения электропроводов, их небрежного соединения, коррозии или загрязнения предохранителей, оголения или плохой изоля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Перегрузка электросети: нельз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ключать одновременно слишком много электроприборов. Не включайте все ваши электроприборы в одну розетку: из-за её перегрузки может возникнуть пожа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Электробытовые приборы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 оставляйте включенными в сеть в течение длительного времени, они могут перегреться. Не пользуйтесь неисправными электроприбор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Источники воспламенения и горючие материалы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 ставьте источники открытого огня (свечи, спиртовки) около занавесок. Не накрывайте люстры или настольные лампы бумаг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Пиротехни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это искусство, доступное далеко не каждому. Ограничьтесь посещением специальных официальных зрелищ и не устраивайте любительских фейервер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При уходе из дома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ерекройте подачу газа. Плотно закройте все двери в вашей квартире, чтобы избежать сквозняков и помешать распространению огня, если возникнет пожар. Убедитесь, что вы нигде не оставили источника огня (горящие угли в печи, незатушенные окурки, включенные электронагревательные приборы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о совершенствует систему обеспечения пожарной безопас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го чтобы эта система работала эффективно, каждый человек должен ответственно относиться к вопросам обеспечения пожарной безопасности в повседневной жизни, уметь правильно действовать во время пожа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оссийской Федерации с июня 2003 г. действуют новые Правила пожарной безопасности (ППБ-01,03), утверждённые приказом МЧС России от 18 июня 2003 г. №3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каких условиях огонь становится опасным для человек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основные мероприятия проводятся в государстве по защите населения от пожаров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на Руси были сформированы пожарные команды? Перечислите их состав и оснащ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кажите об организации пожарной безопасности в Российской Фед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основные мероприятия проводит МЧС России по совершенствованию пожарной безопасности в стран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тельно изучит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учебника и презентации. Материал презентации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иса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невник безопасности (тетрадь) –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язательн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перечисленных на уроке советов выберите требования, соблюдение которых будет способствовать обеспечению вашей личной безопасности в повседневной жизни. Запишите их в дневник безопас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ганизация и ход заня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кла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ств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списочного состава кла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и цели ур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зн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машнего зад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лушивание ответов нескольких учеников на домашнее задание (по выбору учител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новым матери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ние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ление и комментирование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и времени следующего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вторение пройденного матери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ём заключается значение огня в жизни человек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наиболее часто возникают пожары? Объясните почем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ите основные группы причин возникновения пожаров в повседневной жиз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ите примеры возникновения пожара из-за неосторожного обращения с огнё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неисправности электропроводки могут привести к пожару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гонь человеку – друг или враг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880" y="12952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Человеческий фактор» во многом определяет грань, которой огонь обернётся к человеку (друг или враг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онь становится враг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к использованию его в процессе жизнедеятельности относятся безответственн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не соблюдаются установленные нормы пожарной безопас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силу огня пытаются использовать не для созидания, а для разрушения (поджоги, вооружённые конфликты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теряется контроль над процессом го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жар легче предупредить, чем заниматься его тушением и ликвидацией последстви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0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рические факты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30492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в Древнем Риме власти серьёзно занимались организацией борьбы с пожа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пожарной безопасностью наблюдали особые посты, которые при возникновении пожара подавали сигналы трево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шили пожары отряды раб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е I тысячелетия н. э. в Риме были созданы специальные пожарные команды, численность которых 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. н. э. достигла 16 тыс. человек при численности населения в 1 млн 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жарная безопасность (ПБ) –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, меры и на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45684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ожарная безопасность – состояние защищен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личности, имущества, общества и государства)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т пожа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Меры ПБ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это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действия по обеспечению и выполнению требований П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Цель мер ПБ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допустить  возникновения пожа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снизить ущерб разрушительной силы огня при пожа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аправления по обеспечению пожарной безопасност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ервое направле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филактик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жар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торое направле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предел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рядка и организации 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р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тушения пожа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Третье направле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дготовка населе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бласти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три направления постоянно совершенствуются государством, а их реализация способствует повышению уровня общей культуры населения в области пожарной безопас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оссийской Федерации с июня 2003 г. действуют новые Правила пожарной безопасности (ППБ-01,03), утверждённые приказом МЧС России от 18 июня 2003 г. №3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ое направление мер ПБ – профилактика пожа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1371600"/>
            <a:ext cx="813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держание первого направления (профилактика пожаров)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и совершенствование требований П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357480" algn="ctr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357480" algn="ctr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Требования ПБ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35748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станавливаю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специальными законами или другими нормативными акт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35748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пределяю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яд условий социального и технического характера по обеспечению пожарной безопас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68560" indent="-3574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760" indent="-35748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условия определяли и определяют нормы поведения человека в процессе его жизнедеятельности по профилактике пожа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торое направление мер ПБ – определение порядка и организации тушения пож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торое направление – это определение порядка и организации тушения пожа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ушение пожа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яет собо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боевые дей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авленные на спасение людей, имущества и ликвидацию возгор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и эффективность этих действий всегда зависели от сил и средств, привлекаемых на борьбу с пожар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тье направление – подготовка населения в области ПБ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ретье направл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и совершенствование системы подготовки населения в области пожарной безопас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правилам безопасного поведения при пожаре для снижения фактора риска для жизни и здоровь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ир</dc:creator>
  <dc:description/>
  <dc:language>en-US</dc:language>
  <cp:lastModifiedBy>Пользователь</cp:lastModifiedBy>
  <dcterms:modified xsi:type="dcterms:W3CDTF">2015-09-14T06:49:50Z</dcterms:modified>
  <cp:revision>3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