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347D-3FA1-4908-91CA-625B54902E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ADA9-EEC5-44E3-AB8A-3B1DC9C072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0D9-5DFB-4D2D-A386-CC1DF487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4F3-DFBE-4B26-BC8D-D77A43F1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9B6F0-8ADA-4C41-82F3-C94EE6EF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55CB9-BF5B-4204-8B13-1A66E437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45A4D-97B7-415A-B403-5B56468C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7CA64-F322-48B0-B790-F6DE5E5B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C14D4-AE69-4A55-A2A7-1B11955F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D9A15-0628-4831-96D2-1A93EF83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97892-8EEA-46F0-9389-E21813EA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4C891-D5FE-49C6-9233-DD06D7F0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6EFDF-60CA-4A49-B40E-16740A26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5B4DA-747D-46BE-8F27-AFAF42F7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1A5-B896-40AA-9C6D-7FBE9A67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EB329-FF78-409E-8D23-61081C94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334B0-0752-43EC-86E2-2D90E043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8D101-D190-453C-ACFC-BBD167E7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4B61C-0DC3-4837-893D-F09E7083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04643-FA2F-4FDA-B890-7229F06D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2EDB2-F22A-48FF-BA2A-DB063336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CF57E-15C9-41C3-8370-54BBA01D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3690B-7141-44F7-B00F-0AB9F3B4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27354-5DA0-45F4-B941-DFA70731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7187D-C370-4B3F-A8B4-C897C48B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7C89-624C-47C3-B970-DCA7DF7E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206B5-BD95-4188-8680-D2E7A95C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7851C-9E34-4ABE-829D-E37864D2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BA485-36F0-40D7-9895-59A5CB2A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902CD-E213-4CF1-A86F-ECB93AB6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07CEB-4A0E-4B07-85B4-42605AD8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1C708-4E23-4F77-ABA1-59CCFBDB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A73AA-8706-473C-8B25-3DADFB66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8A135-4DE6-4BD0-AEA6-480CB4AC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C81D6-5434-42A2-965F-A9CBFB2A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E52B5-199A-46A8-93AC-B47E52BC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9C11-17B9-4E5B-B484-889AF171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34C9A-8641-46AE-82E1-21D1ECD7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02CA8-3C26-4E02-B87D-048CC5DE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B5F95-94DF-4666-80A9-9AD388F0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CCA0C-8C22-41AA-A179-9857D5C8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8C903-5D8E-48E2-83CC-14144F86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DA590-6AA3-4760-BB1B-DEA273EE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08884-3CA7-4220-BF7D-5A724155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84EEB-35AB-4789-852D-2FC85944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56427-49EE-4517-9B5E-FC55A686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569E4-3951-46ED-B823-7E96731A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29D5-641F-4E02-B728-671B80DA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08407-819B-42C8-967D-BF294775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B6FC2-09A2-4D17-BDB5-AC87B6D9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FCA54-4EBC-4024-9280-B20954A6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B8479-C631-4D71-ACB1-EEF3A94E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B7ADB-6E3F-463D-AEF8-8EAE2D3D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FF818-A620-4EC7-8286-026ABB9C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65A6A-589B-4458-94DE-8B226BC6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BC2EA-0F25-4CA2-A2C2-FE109D92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A1D1B-6FCA-4C65-8D00-B0F6B9E5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93CAB-59D7-4C6D-9796-8BE96D6C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4305-C2A2-457F-BB19-BF30E061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CEC3BC-B974-4FCA-B598-C545F634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59CC4-51E2-4695-BC57-3B657E4A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0F547-D501-4A1E-B5E6-1E927A6C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E927D4-E2F2-49EE-8283-5302C87E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F79A9-2EA2-4A00-B4FA-0BA1A7D8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0A198-B5E9-47AB-A0E0-087A33FD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3F45F-27AA-4115-97E3-7C95410A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314ECD-947C-4A0B-A7DD-FA32DECC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1134B0-95FB-4321-A42B-2BEF1880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E4B31-3191-44B3-BCB0-96EDB05E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3D91-6E0B-4299-A096-6BF47AE7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47321B-B9B7-44E4-904B-2CDAC787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1180E6-E464-4545-9B81-63DBEA8B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3294D0-6AFD-4284-BAFD-564282D0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DC84D3-B9DC-45F1-8CFF-49F7F728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38FDC8-65B5-4549-B61F-446C2CFB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94AE1D-A8CF-42C6-9053-1AAEF31B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3473B-C931-482E-A03F-5A322639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730AE7-D1DE-4616-8961-0C07811B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D4854-32F9-4EE6-A0AF-B8E128A5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8F2392-9DEC-4579-B8B0-FE89412E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3B92-90F9-4CEC-891D-A33D415D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46B32-A182-4EE9-BB9F-D5D372C5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C7821B-81F7-4973-A2A3-B04F17EE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BBA047-6DB5-4D0B-B4D8-6819DD5A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C6BA89-D911-4CDF-9D98-993E56BD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DDF078-D0D1-487F-8785-C109E054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4CB626-9B40-4628-AE34-A16BC522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08C8F5-7021-4786-A734-35DFA14B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6B6BFE-3018-4FFC-B776-9B002AF4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88F55C-5D90-4B0F-B1D3-FBE64BB6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65771D-E6CF-42E5-82BC-53F83D7E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0422-90F7-4E92-A612-5C7EF38E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437140-453D-417D-9EC4-9E77C505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CE37EC-2149-4D0A-84BE-5818F1A5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60D0B2-2919-46E9-9C28-CEADF5A3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6EC878-DFEC-489B-8FEA-B62077FF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8DC21E-8D4E-4FF9-9807-39D59E05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E159AB-631A-4FA0-800F-5DC76589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0BA2D5-7968-4C51-B031-77A99E5C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BEB018-983A-49C4-9469-D3066729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3A14C-DE60-4425-B17E-0FFBE616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8C7A86-E5D9-4091-83F6-ED071E1D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F99D-EF27-4793-9F07-E394E95D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11D706-D6FC-48C4-9261-5B9A52F4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89300E-F77E-4511-B94F-6E91B744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A245AA-F626-4F9B-80BC-87964383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03E300-0CBE-4CEA-887E-60DA2BAC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B0E1D5-B2C4-48B9-8BE3-5895BC99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AECFE5-03AC-4B5E-9912-8F2724A8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C5CDDE-97C1-4EE2-A0BC-1F4951E8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D894DF-06CB-4082-85D9-116F7727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B78BB7-4FD8-4F01-AC85-BA278BCB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2CDC0C-4C8A-4218-A143-1FFE9FAD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8B05-E2A2-498D-9A19-FE85C763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BF3A-754E-41E7-822C-2DCBEC3B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3FE720-EE3F-422C-B7BF-9C0C25D0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98D118-938F-473D-A294-D49C455C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197534-F58C-4F6C-892F-FE5E620E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492E5E-9EDF-4465-9D68-39C256D5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591305-BCA3-40B0-933D-73BC2A01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C1BF14-3840-4E57-8BE3-B76CA544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A8337D-7B6A-4F34-BEC8-E01EE5EB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9E916D-F935-438C-9734-E74417AC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508CFC-BFB6-400E-ABD1-DA10B40A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3DE3EB-ED6B-4D1F-8E50-76016401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B658-97BC-469E-9A7F-79216C11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8F4035-08CF-4049-9DB4-10F6F4E9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51DF73-0738-4CBE-B94C-058AB475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3A3926-D6EA-44EC-B7F2-23904078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378B72-DF15-4D34-9B54-FD1E0A39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B4A0B4-4E6C-4E6B-8545-C320962D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77417D-B445-48CE-B5E0-5E1AC31F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9986E6-CC5C-4AD4-8516-A20FEC24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66505F-0EB7-4DF7-82DD-39CDB052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FFEBA0-B4B9-4B9A-9EBB-D3C226ED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458F3B-E615-4F30-A0E2-0CA4D22F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E10C-2293-4A73-82F5-3CC33810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06291A-4004-407C-8234-7884EA67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8B7A28-8798-4F81-BAB7-799F017A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06C91A-A5FA-4D28-ACA7-57453DD0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0E29AB-07EA-4161-A5D8-6F85F006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F075ED-033B-46D8-943F-604748A4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646ED9-AE86-4E0A-9099-484C56DD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181B98-B1F6-4C0C-918D-089DE32A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5C7F65-6231-480B-93F9-0C45FBCF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FCCF1A-DDBD-45B9-82DB-F61B9516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826E0B-F7FC-418C-B1DC-25CC1758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8D80-2078-4519-889F-035F0172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539940-0CBC-49C8-97EA-2610148E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B180B5-0E1F-4FE2-8018-B9B9C68F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814DE9-15C7-4E62-811B-35CC452F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93EE0B-6E60-481B-AD2A-9AAC000C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EB517A-5B1E-4951-AC06-6598BED1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FBA73F-65AC-42DD-91E7-96C937C2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063171-83CA-4424-84D9-EBBB7E32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F6B3D5-F53C-4AFB-8E96-F3B8187D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E7C1EC-3ADC-4807-A2F4-D3ACC9AC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757C64-D22C-4836-AE36-03F54861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BAC3-A096-436B-B5EF-E1D6EF5C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56F0F4-0F1C-46C7-8874-9B3A9215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E406C4-46A5-48A9-B913-5BFAF610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9AFFEF-36A6-4E64-B3DE-12D797ED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ED2B84-EDF6-4F23-A11A-7314C636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70D209-0B01-4064-822C-F8A4A9B0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2CEB1B-3A7F-4615-B243-F10C466A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ACDAF1-B3B3-44F4-931B-597F2BF0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87407F-BF57-4A28-B557-7ECCBFF1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CD01DB-6BC9-4EA4-9157-3C34EA47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00925C-98C1-4B54-9605-C19975B5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C3D91-32DA-4B8E-9964-B1E7F584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86F4BA-35CB-47FA-808B-6D333F5B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364A9E-BD53-4469-975F-411E8750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39118E-8501-40C8-9CEC-8D261128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1D5FA4-6ADE-43D7-A3A8-2318ADD6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6534EE-E165-4E13-9552-0C37B6AF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E2E85A-27F5-4144-BE8F-50EB4767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D30701-6AB0-4918-8171-F712A2BF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0769DB-6636-4348-AF9E-B3406F90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CD71A7-49F0-4BCE-B200-EEF79603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5A3079-23FC-400B-9DDF-9CF842E7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A6892-FE9A-434A-A974-7FAB6729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52A77E-DD0D-4C02-99FA-9AE921BD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E30563-A799-4AF7-80D6-9A3973DB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E563B6-EB94-405F-983C-ACD94948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C1F953-B6F4-4D10-9AA4-9F78C8FF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B453CA-371C-4722-8DFF-7635F282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59C3CE-70F3-46B3-AF39-5E5F0746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6B0BDB-5D01-4BE0-9F7C-CE993195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28DC90-D889-4C37-95F8-56E9697D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F0D28D-CD97-4CBB-A9FC-5C99090C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47B1EA-C969-4514-ABE5-5BCEDCE1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5175E-FD1C-471D-8AB7-CA668005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1C51D4-8737-493D-AD94-634C99AC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8B9EF8-AC87-400A-9BE6-F79BBC20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167E7C-E785-4AA5-A049-ADFD5BEC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A86211-5219-4E0E-BE46-18EC5A93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1A589E-4A80-4C69-BCE5-45EC9512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5D0E03-37FD-4ED6-96D6-2E01E653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40F0A5-DDAC-4373-8B9C-9EDF56C4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BC72EA-2019-4250-A8AF-A6F718C4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D0C5E2-39C6-4014-82BB-160708CA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40CB0C-DD8E-4382-894B-87AFD08D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F5ADE-758C-4F75-B57E-4C9A3CC0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D92F7C-4693-494F-9410-065F0C51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1B5EA3-BE96-4EC5-B4B5-DFDFCC79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5791A3-2E85-4258-AEDB-50281413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812EE0-36BF-4E37-A847-7B974CF0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8D2E93-E311-4953-B6BD-80945BBF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CEBFAB-D070-4C20-AB05-486CF640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AD87E3-62EF-4154-86E1-ABDEAAB0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BAAFC0-6FA4-40B5-BBF2-737F26C9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1B2F93-4039-4476-A3FD-D7F71A53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40AF3-949A-4160-BBED-1C41A5B6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C63E-74A1-41F8-A12E-4495546D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ABF9D-5F48-48D7-B16D-B95E5632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3B89A-5979-4E3C-964B-73B22BB6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67EC6-CA3E-45BA-912D-2777E822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D6179-AA6D-48E1-875D-9D6BB179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9D83B-6AD9-4FF4-BFEF-15D89FFF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B327F-ED28-4882-BEDA-F554D279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C41CD-7BBE-4B79-8EC2-1C554300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07C21-BE01-4A3A-AABE-C90D2792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8ACF1-7D44-4F11-80CF-2003C24A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C0C3C-77AD-421E-BCF0-048B61DC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A35-5E6A-41BE-B723-FC7A2462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ACEAE-EE25-4D19-951F-27B27DA0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2FEB4-8DE1-4BBB-BEBA-03020FCC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1F29C-FD0C-43EB-9739-E5B159AB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18B12-AEBB-4475-A6C0-E3BBDDA0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CBFCC-0069-4454-A609-B5C52160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C44FB-A9B0-49B8-9706-615A208E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BCF5C-5B7F-4625-BABD-DA6A66AD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D2CD7-57C9-4002-B3CC-2341DA37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D0931-8864-4528-A45D-6D12CC23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370A3-E358-4441-B41B-BE1D6790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8624-B7B2-48D1-A403-5A2E0CBA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F637C-6C85-4ED7-B0CC-53B7C343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F3195-8380-4124-B859-FB272690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F16A1-7201-4D6E-94B3-65E065FF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931A7-95CA-430F-A519-3C9EF9A2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0F971-470F-47F9-AB0D-19E2160D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DA5BE-1DA8-423D-9BD6-C7CFB347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9888A-5000-4111-A433-700E581C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76691-8A9E-43CA-955B-7EB12B52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22A8B-7051-4A79-A0CD-D15E3CB5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EC68C-4C8B-4E76-9D1A-267E9454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0B3-1236-4C7B-9EBF-A8D732DA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1BCF6-C773-4B16-866E-92A00210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64CC2-E712-439F-BE67-635A38C1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C3E0C-D4BE-4CE0-8589-61D9B250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E0901-0921-4E50-90B8-711AAD1E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2A367-7CB3-4291-8D8F-103E19D2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158D8-9FA3-4596-88F1-3B213332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5557F-7B0C-4B37-AC4B-6A8CC531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D0B55-E7AD-4B61-8E40-B17B6AC2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F056B-BC89-4B21-842D-B35048C9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BC47A-63C6-4831-BF4E-A36F7248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52D-B33F-454C-9B45-D94D8B7A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C2E3B-A188-4FB1-8732-107B754F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0A675-58C5-4808-A4CC-11BCB036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1C534-F3F8-456B-8757-3277EF10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A4E1C-BA1D-4BB5-BFC3-CFA8BCA8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7F903-58F8-41E9-9320-953B4F5D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16899-6252-41F8-9195-5BFB5417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E4F4E-400E-4759-A7E6-898E9AB7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FB8AF-0B5C-4B54-B017-64961B09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46EEE-6B0A-4D25-A955-D5B795B4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4D6FC-1016-4420-95EC-35765066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F37-1BBE-4206-8750-DBFC9C6E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0230C-A1CC-40B4-B76D-B8D4ADDD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18AA1-08B9-44B9-BDA4-58E996B6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171EB-DE44-4B72-B607-4D6E5E4C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58D3F-B381-425A-87AB-8F538344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54F41-7B5D-4932-A57A-18B8B802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78675-8219-4E9C-B42C-E5D05DBC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2DDD2-5B1C-4492-B9B9-CCBA015E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95683-BF9B-40F2-8789-25CDA98C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870C8-1ECF-46D7-941F-17D52F63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AEB30-EAB6-4F80-89CD-9B6C6B1F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58DC-7A47-4469-BAF7-D26F3729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81DA8-F459-4659-A70A-6E5AB032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F6F62-7DFA-41BE-AEC0-15691141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76CD5-533A-4F97-8340-45DD219B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97FA2-2519-4718-A4A3-96D19E71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2FA44-C205-492F-87BC-037484C9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C3890-D88D-410E-AD7C-6F715013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F7BAA-C070-45F3-8265-210FDC9A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3EA45-D84F-4DC2-A715-62679F22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E1A58-F436-4808-AD28-A85640AB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737D0-4CFC-485C-A4BC-6C5ABE6A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2296-0B56-4FB6-99AD-241F6E251E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4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EB6F-88C0-4553-94B8-42B5856602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8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F82E-BAC8-4D14-ACCA-532680DDC5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3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F8F1-404E-43C7-B27C-83B5910F737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7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9820-3B5B-4964-B657-40D1932D784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20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24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4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21E2-333C-44A9-868F-78E1E64FB91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9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0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2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6166-B770-4CDF-8C45-0B5F3585C9E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7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8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0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90B6-58A7-4B1C-B083-32FDB0244A1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5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5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8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4300-B399-49E2-8DD5-F73C02802E7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3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3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6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49AA-E4BD-473E-AEDD-3D96DC93EC2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1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1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3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0967-9883-4B6F-8AB8-34E2F8F5306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1DD5-BBB7-4BEA-A5B6-F0F41C7BEF2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8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9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1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AE82-F449-4703-A306-C378A3E5B3A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6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7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9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0700-3F01-47A0-950F-8C060B02351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217E-2DE2-494C-973F-DFCD1EC8022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32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32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5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2F15-58C2-482F-952B-65ED4EDD4F1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40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40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2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2899-75A8-4E3B-93DC-0BD20574192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2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DB78-1837-44AA-A086-D037C987C12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7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7D75-4351-41E7-B322-3841489D72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1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EFD3-9715-4B2A-8C83-C4DF949285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6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724A-6586-4D2A-8532-EB790C691B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0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8FD8-C863-43C1-B128-B1B3582DE3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5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A189-B965-453D-BF33-557C742EA7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9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3DE3-A926-4C18-9F70-2DDD93DC98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РАВА, ОБЯЗАННОСТИ И ОТВЕТСТВЕННОСТЬ ГРАЖДАН В ОБЛАСТИ ПОЖАРНОЙ БЕЗОПАСНОСТИ. ОБЕСПЕЧЕНИЕ ЛИЧНОЙ БЕЗОПАСНОСТИ ПРИ ПОЖАРАХ 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редмет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: ОБЖ.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Класс: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8.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Раздел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1.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беспечение личной  безопасности в повседневной жизни. </a:t>
            </a:r>
            <a:br>
              <a:rPr sz="18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Глава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1.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Пожарная безопасность. </a:t>
            </a:r>
            <a:br>
              <a:rPr sz="18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Урок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3.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Права, обязанности и ответственность граждан в области пожарной безопасности. Обеспечение личной безопасности при пожарах. </a:t>
            </a:r>
            <a:br>
              <a:rPr sz="18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Цель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рассмотреть вопросы прав граждан, обязанностей и ответственности в области пожарной безопасности; познакомиться с правилами обеспечения личной безопасности при пожарах.  </a:t>
            </a:r>
            <a:br>
              <a:rPr sz="18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1400" spc="-1" strike="noStrike">
                <a:solidFill>
                  <a:srgbClr val="ccecff"/>
                </a:solidFill>
                <a:latin typeface="Arial"/>
              </a:rPr>
              <a:t>Разработал: преподаватель-организатор ОБЖ  Филимонов Виктор Алексеевич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при пожаре в квартире</a:t>
            </a:r>
            <a:br>
              <a:rPr sz="2800"/>
            </a:br>
            <a:br>
              <a:rPr sz="4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4568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ff0000"/>
                </a:solidFill>
                <a:uFillTx/>
                <a:latin typeface="Arial"/>
              </a:rPr>
              <a:t>Правила безопасного поведения при пожаре в квартир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еобходимо немедленно 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вызвать пожарных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звонив по телефону 01, сообщить о то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74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что горит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74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и свой точный адрес (улицу, номер дома и квартиры, подъезд, этаж, код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если нет телефона, сообщить о пожаре через соседе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е дожидаясь прибытия пожарных, попытаться потушить начавшийся пожар подручными средствами, учитывая, что, собственно, горит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Чаще всего для ликвидации пожара используют воду, если горят твёрдые вещества (например, мебель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ля тушения разлившейся легковоспламеняющейся жидкости применяют огнетушител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если нет огнетушителей, используют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лотные ткани (брезент), одежду либо другие вещи, смоченные водой, песок, землю из цветочных горшков, покрывая ими очаг пожара для прекращения поступления к нему воздух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 опасности поражения электрическим током необходимо отключить электроэнергию в квартире (отключив автомат защиты в щитке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при пожаре в квартире -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дол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380520" y="13716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льзя тушить водой включенные в сеть электроприборы и лить её на электрические провода.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а огонь не потушен не открывайте окна и двер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ликвидировать очаг пожара в начале его возникновения своими силами не представляется возможным, то немедленно покиньте квартиру, плотно прикрыв за собой двер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ый враг при пожаре – дым, содержащий токсичные продукты горения и угарный газ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идая квартиру по задымлённому коридору, необходимо передвигаться на четвереньках (внизу меньше дыма) и дышать через влажную ткань. Чтобы уберечься от огня, необходимо накинуть на себя влажную ткань (мокрое одеяло, пальто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невозможно покинуть квартиру обычным путём, то следует воспользоваться балконной пожарной лестницей, а если её нет, необходимо выйти на балкон, плотно закрыть дверь и звать на помощ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рекомендуется самостоятельно перебираться на соседний балкон, расположенный выше второго этаж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гарный г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лавный враг при пожаре – дым, содержащий токсичные продукты горения и угарный га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сид углерода, СО - га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з цвета и запах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уется при неполном сгорании углерода при пожарах, в печах, в двигателях внутреннего сгорания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гарный газ очень опасен для человека, так как даже незначительная доза его содержания в воздухе приводит к трагическим последствиям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,1% - обморо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,2% - кома и быстрая смер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равнения: концентрация углекислого газа СО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воздух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,5% не воздействуе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% - паралич дыхательных центров, смер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гарный газ в 20 раз опаснее углекислого газ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жар в общественном месте 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30492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пас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следствий пожаров в общественных местах может быть усугублена возникновением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ник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н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это психологическое состоя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ызван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грожающим воздействием внешних услов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ыражен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увств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строго страх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хватывающего человека или множество люд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удержимого неконтролируемого стремления избежать опасной ситу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н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 время пожара страшна тем, что люди, стремясь поскорее покинуть горящее помещение, скапливаются в проходах, мешая вых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 пожаре в общественных местах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30492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авила безопасного поведения при пожаре в общественных места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гда постарайтесь запомнить маршрут движения к вых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тите внимание на план эвакуации людей в случае пожара, постарайтесь представить направление и количество путей возможной эвакуации, местонахождение лестничных клеток и запасных выход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тите внимание на наличие в коридорах и на лестничных клетках светильников, окрашенных в зелёный цвет. Это лампы аварийного освещения при эвакуации во время пожа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лышав крики «Пожар!», сохраняйте спокойствие и выдержку. Оглянитесь вокруг, оценивая обстановку. Заметив телефон или кнопку пожарной сигнализации, сообщите о пожаре в пожарную охран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заполнении помещения дымом или при отсутствии освещения продвигайтесь к выходу, держась за стены, поручни. Дышите через носовой платок или рукав одежды. Если вы находитесь в многоэтажном здании, не пытайтесь воспользоваться лифтами, спускайтесь по лестниц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выпрыгивайте в окно с большой высоты. При невозможности выйти наружу, отступите в помещение, где нет пожара, плотно закройте дверь и там дожидайтесь помощи пожар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жар на даче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авила безопасного поведения при пожаре на дач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едленно оповестите жителей близлежащих домов о пожаре кри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бщите о пожаре в пожарную охрану с ближайшего телефона по номеру 0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ите участие в тушении пожара, используя для этого вёдра с водой, песком, а зимой – сне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жар застал вас дома, и нет возможности выйти, то постарайтесь спуститься в подвал, если он есть. Плотно закройте люк и обложите щели одеж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ликвидации пожара привлеките внимание пожарных стуком или криком для освобождения вас из подв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194760" y="30492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полнительный материал:</a:t>
            </a:r>
            <a:br>
              <a:rPr sz="24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4568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феврале 1977 г. в горящей гостинице «Россия» проживавшие там японские туристы набросили на лица обильно смоченные водой полотенца, легли на пол и так дожидались, когда их вызволили из огня пожар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е правил пожарной безопасности, соблюдение их требований в повседневной жизни, а также определённый минимум знаний и умений в области безопасного поведения при пожаре – это надёжная гарантия вашей личной безопасности и верный путь снижения количества возгораний, возникающих по вине человека («человеческий фактор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 легче предотвратить, чем тушить и ликвидировать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числите основные права граждан Российской Федерации в области пожарной безопас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вы обязанности граждан Российской Федерации в области пожарной безопасности и в чём их значение для обеспечения личной безопасност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виды ответственности предусмотрены за нарушения правил пожарной безопасност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тельно изучит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учебника и презентации. Материал презентации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ис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невник безопасности (тетрадь) –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язате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майте план своего поведения на случай возникновения пожа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те план эвакуации в случае пожара в школе, особое внимание обратив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шруты эвакуации из различных классных аудитор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а точек  сигнализации о пожар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а расположения огнетуш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ганизация и ход заня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кла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ств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списочного состава кла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и цели ур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зн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машнего зад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лушивание ответов нескольких учеников на домашнее задание (по выбору учител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новым матери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ние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ление и комментирование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и времени следующего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вторение пройденного матери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каких условиях огонь становится опасным для человек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основные мероприятия проводятся в государстве по защите населения от пожаро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на Руси были сформированы пожарные команды? Перечислите их состав и оснащ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кажите об организации пожарной безопасности в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основные мероприятия проводит МЧС России по совершенствованию пожарной безопасности в стран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 РФ «О пожарной безопасности» (от 21 декабря 1994 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88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ичная безопасность челове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итуациях, возникающих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и пожа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ежде всего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виси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го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ве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блюдения ППБ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авил пожарной безопасности)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вседневной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жизни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мения действовать во время пожа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сть соблюдения правил пожарной безопасности диктуется законами жизни и определена законодательством Р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ля гражда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Ф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кон «О пожарной безопасност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т 21 декабря 1994 г.) в области пожарной безопасност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пределя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а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яза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 ответственн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0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граждан в области ПБ </a:t>
            </a:r>
            <a:br>
              <a:rPr sz="32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ожарной безопасност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30492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Граждане имеют право н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щит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х жизни, здоровья и имуществ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случае пожа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змещение ущерб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ичинённого пожаром, в установленном порядк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астие в установлении причин пожа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нёсшего ущерб их здоровью и имуществ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лучение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просам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жарной безопасности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астие в мероприятия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беспечению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жарной безопасност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язанности граждан в области ПБ </a:t>
            </a:r>
            <a:br>
              <a:rPr sz="32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пожарной безопасност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4568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Граждане обязан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блюдать требования ПБ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жарной безопасности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меть в помещении первичные средства тушения пожа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оответствии с ППБ (правилами пожарной безопасности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наружени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жар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(е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медленно уведомить пожарную охран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прибытия пожарной охраны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инимать посильные ме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пасению людей, имущества и тушению пожар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казывать содейств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жарной охране при тушении пожа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ыполнять законные треб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остных лиц пожарной охра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значит – соблюдать требования П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1371600"/>
            <a:ext cx="813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блюдать требования пожарной безопас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ся обращению с огнём в повседневной жиз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ить за состоянием электропровод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хламлять чердаки, подвалы, балконы и лодж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ть подручные средства пожаротушения в доме (квартир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ся пользоваться огнетушителем и другими первичными средствами пожаротуш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ичные средства тушения пожа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4568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ще всего для ликвидации пожаров используют воду или пес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нзин, ацетон, краски и другие легковоспламеняющиеся жидкости, загоревшиеся в доме, гараже, кладовой, тушат с применением воздушно-пенного огнетуши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его нет, используются плотная ткань, одежда либо другие вещи, смоченные в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тдельных случаях для ликвидации возгорания можно использовать метод захлёстывания: по кромке огня ударяют мётлами, одеждой, ветками. Удары должны быть короткими и резкими, чтобы исключить приток воздуха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ственность граждан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нарушение требований П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380520" y="13716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За нарушение требований ПБ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жарной безопасности), а также за иные правонарушения в её области они могут быть привлечены к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тветственно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исциплинарн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дминистратив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ли уголо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астности, 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ь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6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головного кодекса Российской Федераци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УК РФ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усмотрен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умышленное уничтожение или повреждение чужого имущества, совершённое путём поджога и повлекшее по неосторожности смерть человека или иные тяжкие последств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казание путём лишения свободы на срок до 5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ир</dc:creator>
  <dc:description/>
  <dc:language>en-US</dc:language>
  <cp:lastModifiedBy>user</cp:lastModifiedBy>
  <dcterms:modified xsi:type="dcterms:W3CDTF">2015-09-12T14:26:35Z</dcterms:modified>
  <cp:revision>4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