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17B7-AEF9-4C6D-AAD1-C1D9E1F7D0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21F-CC77-4E9F-B4E0-E573BAB91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3F8-5603-473C-B8D1-0DA48FBD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74D-1D60-4AE6-83C7-F28D65D2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92B58-B636-47AD-9889-8D1448AB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DD642-5246-492D-AC17-DA5CBDD2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C7CE4-B268-4EBB-8ED3-0125EB0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692AD-3743-4A49-ADC2-B1E32D7A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B4A29-A36C-40B9-A7EB-6DCA212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38959-DDE8-4F8C-8531-5594499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20426-C193-44AF-B089-38F10AF3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A3816-7856-431D-AD36-71BF9127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7E471-BBCD-47DE-B3C7-A9B8AA72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FE60C-1DE9-44FF-8249-4A92885B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C51-6C24-4000-9F68-22A87099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0DD36-B1E3-4595-9A36-6BCFC0F3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85128-8F0C-4041-B41E-FA13EB8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9FEFF-E15D-4AB8-A8A1-C6F974F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08973-A3EF-4E32-8F73-DEC51B08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7BF83-6965-4912-B5F6-66A71190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E3A3B-4035-4792-A4C5-8ED11840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F9883-8DA5-4148-9199-C7E6E65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AC04E-EF8E-4AEF-BCBA-37C51F9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3AEFC-708F-4B07-890E-0C02F77F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CBEE-7D0E-4B73-A075-5498696D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A35-65B2-4DEC-9BF2-1EEDC4AF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C808E-594B-48A4-AE4E-F7B4990E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1304C-BA84-4DF3-9592-4F15456E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F90A9-EE62-4013-A9FA-ACCFA597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FBA6D-DA38-4C06-9A5F-722F8DD5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EC32-CBB8-4598-A0F7-C46A4D77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7B1B4-FE3E-4338-9BA7-2DFD75A4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94B21-42E6-4630-905A-7FB2CE94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0F62B-222B-4011-B793-6CCD015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AFF5D-5AA0-4D85-9D50-8A26634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E8630-2176-442E-A7E1-9DE98DF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ACE-5D2B-4772-8C76-9B1CA737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FEA4F-1304-48AD-B675-2419502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3B61-F69D-410D-AC1E-6299328E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EAA87-1BB3-4968-9D64-5A143A81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EA119-3041-4E90-AA57-61898747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CD927-5373-4ABE-A3CA-629C765E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305FE-34CF-4766-868B-3F887B54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79982-F8B7-4FBB-B51B-241651D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FB22C-7BEC-4D93-87A1-99360836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C8286-4F3D-4042-AAE3-CFA3F44C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4C149-BD68-4D2D-A91A-1BEAE87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4EE2-4327-40CC-9EB0-2869C8C1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9EA25-CAB5-4B1C-9B23-123A18B0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14681-51C6-44F0-9FBB-9B0AD799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A1E8A-1688-4AFF-94DC-9C1F8F4F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9BC55-5D08-4EED-B06B-232464A5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E8FAD-EB5A-457F-AACC-8A8625B7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7BCCD-11D2-4407-BF9B-9E4AD0C5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59081-AE37-47F3-AF9C-E85FDC0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8D0EA-F882-4E6D-AB2A-12150CE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06BB1-E7E7-4C07-9799-8CE2B2F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8347B-27C9-48D2-8CF2-0D03A4F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E903-5597-405A-A273-6802A8CA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6DD40-88F7-48D2-B17C-62C9D1FA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5BAF4-1585-43DF-ACE9-204EEBA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18165-9B83-4E4D-B11F-7C06F72D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FC9D8-DD43-42B5-B88A-6D6C33F6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45144-6038-45AB-838A-AB94B8D3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BE6EB-3040-4A72-A827-9853BB13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71810-17D1-4CCD-B794-7203077A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93AE4-C260-446E-9643-850C1868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B9AFD-8DB5-4F99-9802-CE7AD092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9128D-CD3E-468F-8A52-9913E682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088A-3D5B-4887-9F03-8EE35D62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AA89B-AF7D-4ACE-99EF-925E7B03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65F05-DA03-4961-A15F-73E12A29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4D01B-2260-489A-8646-4EF83430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0E223-D7B6-4C02-B0FB-92E0281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E0234-CB48-4852-84DA-0C43AF1D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E52B9-FE01-4672-88B8-189DA9E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78C33-D268-481D-85F2-70171765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607A7-C6DD-4DDB-9A0C-4A40EF98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91D7B-C76F-4372-BD5F-3C3F9812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EC136-3719-4961-8E8E-9ABE5612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FDF8-E852-4CF1-BC49-BA2F5FB4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B0F22-D5E9-4A50-BB41-E271B62D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033BE-9BCF-40DD-A7A8-07EA033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1E238-6C10-44A9-9C56-BB057C5B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D09B4-ED70-4408-86E6-EBFCF267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05E4C-3C96-46AA-8964-30001842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64139-BD26-4383-B259-3828DE6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85BA7-2584-4993-A292-1BA95B28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79ABA-E35B-41DF-AA6B-0097DCD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0CA8A-70E1-4925-B88C-6C01E204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AD5B8-A436-471F-9247-F12FA309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C2DE-65FC-4E2C-BAE2-5114409E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DC1B3-FB9B-40BC-87EB-57E8416E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A3A11-48EC-491A-92EE-A503C8E4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29BAC-B0E2-42FF-A29F-4AEEFA97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2319C-0052-40F0-A7D9-29BF61F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E1D61-70A8-4772-8452-82D6485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A31A6-97E6-449D-8FE3-91053131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39C39-2CB5-45F7-A494-CEFDF8A1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6440B-AF2B-4A8B-BD24-B54F972E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56EC5-C400-4FF4-95FB-C1836C6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9884C-FD74-4B89-8CAD-98E70FC0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E3DC-727C-4DF1-B77E-D65439E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9F843-6C74-4F67-8B67-8FBC18AC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6DC49-841D-49A5-928A-3A86382A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CF610-728D-455D-9338-571EB16C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5E0D9-A85B-4527-8379-1A603F14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961DE-4C45-470C-A8B5-3FF813B7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44FDB-8738-4238-89A2-CD2F4A96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E913ED-C6F6-4063-B3BC-94489E09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35230-53C8-4DBE-B6BF-103A5455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EE553-D83C-4B69-9F40-4424386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722B1-2649-4470-8580-A84366F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77D-78FA-4567-A1B6-7A0C1F8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DB96-67EF-460A-BE7D-110F7557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05D5E-28AE-4CA7-BAB2-E9A2196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24C8E-3082-45AB-B642-964F012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D62BF-B1C6-40C5-A414-0E6D048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80184-AA62-4654-BA27-4D8E35EE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F9A22D-7A89-4EB5-9EC4-59192B99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ACF30-415B-4437-85F9-908C63D7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B1CDC-2BDA-485E-A7F9-627BE265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413CF7-84F8-4906-ABCB-95CCAC99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2F650-7451-4C7A-B2E7-E61AAD6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C4342-73C2-4271-9C0A-5907FFF4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495B-D731-4BE9-ADFD-7E1BE5B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81449-A3D3-4869-9DFF-47716DC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B430D-6ED5-4EDE-8DD8-47DEE7F5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ED5B1-E517-479A-B135-39B77282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0165C-C0D6-46B1-8012-736C3EC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213B7-96C2-409C-BE54-FEF47C8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B5886-0C4C-49E4-B480-DA61E984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78690-A883-42B1-B655-ED441C70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3EA9A-4178-454C-8B4E-5803006E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36F8AC-E950-4361-BFA9-8950B08F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44E91-2966-4A0D-AAC0-969653F1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A29E-B25F-4A79-B9C5-A64D11CC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74D6A-A169-4EB1-B182-BC02ECE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BC094-ADB5-4769-BFB5-BBF5685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9825F-38AF-420C-8BA8-88CDCA4B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0D920-00B7-42E9-9BD1-CD427A9A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E9D3C-8286-46A3-8746-C820C1D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F7A39-8869-46EF-ACFC-02D76BC5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3F4FF-BB0D-49AB-9524-D3324309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A1060-61C9-48B1-B3B5-AFD37D26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BA986-93AD-4EE0-AF98-3D17E174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6DFD3-EE13-4450-B190-6C0D4EA9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1BE8-D48F-41FC-9D32-82DD11B1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D0692-3BA5-4C65-991B-1ECB3AFC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EF52F-6560-46A4-A2F1-09587137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75750-2DF5-4888-A559-1A183623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75C33-2388-4933-BD0B-CF56E292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2BBFD-CF39-4F2A-9932-F7AA8A3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A7C89-C8B7-4AE2-93B9-2DE92D67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35890-BFB3-4E41-98E0-7926677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69771-43CF-4D3F-8485-941A1F96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186C7-071E-412D-91A2-F810851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7AF96-D9B3-46EE-947E-790155AA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1217-648E-4F6F-A0A4-00E394AF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D2439-E319-4505-86B9-D2F1B9F8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F0AB7-9AF5-41AF-82AF-CE927A60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BE2B8-DE5A-4076-A65F-81A4B7B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5362E-D51C-4004-9347-78212E04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3C6B8-13A5-4066-AF7F-73999A0D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9C591-65CB-4E94-B5D8-1E22A3CA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79A20-BE87-4062-8E21-2EEE35C4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1F347-B5B9-4DBF-BB4A-DC7EE5B3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69925-301C-4FAA-A363-73E9B89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31123-A659-4C13-8C39-ADD3E95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FC56-4210-48ED-8BD8-E40D5098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46AF9E-85B5-4774-B988-4DA8D982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4A36B-825F-4B8B-AC4C-4F7771F5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D732E-9076-432C-8166-D287A45A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CD0F19-E312-40E0-918D-4A5708A8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821938-AA8D-495F-B216-3FBAD603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83FF4-2540-449B-900D-C517E7EC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F8CD43-E58E-4B85-9727-8D90A017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7F7DC6-2FFC-4822-97D4-8BEB4B3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55E2A-4F82-454F-9340-860FB45A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DB1C64-D39B-46A0-A0AB-6BF2A2C5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FBDE-0FFC-45E3-A2B4-D2CC6F49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00063-6131-49DC-B157-0D912840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6C8F3-1DE3-4CC8-821F-2824C72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A1A1A3-B260-4E0B-A706-5E81C3C4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7FD45A-0F76-4B4F-91FC-5CD89AE3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3ABFCF-8994-40F6-BA3D-D661A492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BF6D27-4FD1-4218-8463-5F863C33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219AA-F502-4822-8ABA-DE088149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A3338F-F9AA-4037-A045-D4B606C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862556-0227-4A67-8817-DF368B40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B6978B-2B38-4FBB-ABDC-4491B71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A58D-8C30-4127-BBE7-7CAA692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1661F4-2EE5-47D7-A0BF-EBBE95E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9D7CC5-779C-404F-872D-6963ED5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9709E7-E84B-4D6A-A9CA-A6BB4D17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3362A3-CA63-4F2D-91EE-9CA67FB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76ABE-F32C-4ACF-98D4-0EECC3B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712924-168B-4534-8C23-A1A6B056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1F2BCF-ED4A-479C-9222-B7D5D999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DB9F9-399C-407A-890C-4687BE0E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643D2D-8EF0-4BFF-B1ED-78F4A7CE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95678B-A230-40E9-8626-981B1E9F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166C-95A7-4026-A7C6-F6A052AF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272B8F-A87E-405F-921C-7197FE2B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BE4B6-02BB-4E0E-8176-5EC21F48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111236-ED8B-416B-AADF-97FF5CB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0029B5-47A0-45E9-8FE0-C5F82AD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E6CF50-EBE1-411D-8DB8-FD8FBDDC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587248-24A1-4864-83DF-B9674C6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D056B9-6AC6-4A43-B49E-5362F6F0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365DD7-4EB9-47A2-A0B6-4478A3E1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3255D3-B4AF-44F9-9132-6B616E44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8160-DA61-4BEE-AC3C-1585F08D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3AB-8A79-4400-A1B7-0C158F4C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E5EF-C1A7-479B-A763-02C26124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DA56-6C2B-4DEF-B9DD-851B1E69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8BD8-B196-42DF-886F-2EEADC1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8722-BFCE-4224-92ED-D4E398C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4A88-B95F-401A-992F-A38F7BA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4A6A-957D-43B5-9F46-3E7C7AB3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A1E8-259A-42B4-A6F1-11F3D61E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6B4E6-9088-4BFF-AF13-DCE11420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C715-DF82-435C-99ED-270FBC42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26669-5B06-473D-B4E4-490572CC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600-4269-46FA-8C18-7714D24B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227B-CB5E-4587-A4C8-ADB24AB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D870-1752-4F19-87AA-013B0243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F436-6B51-4353-A2B0-68CEFC33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FDA3-9A6A-4A72-B158-EE0E456E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8820-7999-4CBE-B21D-0684D76C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50DC-7FC3-416F-BBA8-683ACED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09F8-4DFE-436E-8343-2DB64B6F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E31A-6E72-4180-8611-7F41489F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CD9D-EE25-4C37-809C-32ADDA7E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42A7-545E-47DE-A558-60B5541E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1FE-8BDA-49F8-B660-8D205902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9536-48FA-482E-8507-0E81D75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E56C5-2947-468D-B8F6-3E25AE25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B5ED-4A3F-47D1-8112-5A89576A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ABBA-8FD2-4094-8CD4-C37FB93C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8E87-9653-4FE0-9E59-DF4B6E67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E6E6-74E0-4559-B9FF-C6B78E4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D184-212D-45C9-9E18-BF8ECBC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96F2-F068-4AEC-B277-38C65CD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74FD-CED9-48EF-ADBA-45300454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1B76-4F25-4526-9A09-E8A95410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03F-56FA-48FC-BA7D-BB57D971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183C-AFC3-48DA-A0ED-C283B814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E5653-7D39-4620-AF10-9AEC1426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C244-EA78-42C7-9333-53C24F5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EBC65-30CB-460E-9B30-E2D5442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6C91-6A78-40F1-8827-F05EA30F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3294C-8537-4417-8A90-89AEAA4F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239EB-6F8F-46FB-995A-90BB8748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19A11-096E-42DC-91D9-D7F38C3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0004-C04A-4A17-9EE6-96A35CEF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AFEAF-662E-4C50-B186-9E24223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63E-4C37-4787-9DB6-950417F9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C0C2-FDD9-4F2F-B5A3-BD4ED6CD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0E64-BF3F-4079-B811-33D5E220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54B7-287C-4D3F-8A75-0F319BA4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DAAA-1F59-4DA0-9EAD-5B23CE1A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DF88A-74A3-4F84-8AD8-BF9B388D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B6B8-78E8-49AF-81D8-793A40A4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79D8-D57E-450E-8966-837C181A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372F-8452-4897-BE71-CD1302F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9A7D5-C4E5-4609-96EA-996E26F2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F380B-2A3C-4E7E-8C6E-B42FD399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AE5-E965-4456-B985-1CED1590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31343-E4D9-4EE5-9764-56D42BC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B7551-62C1-4D5B-8E53-DC58157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8EFC-3434-4A7C-A69D-06469469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FECA-3EE5-45A4-9DBF-C8CB3A14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E454-8A94-4462-8FD0-623887FF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FDF3A-81B7-4BE0-8773-0A2258B4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19394-00F6-42A1-9354-7DA7733B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7582-6676-4C1A-8D8C-AADAE7D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41F6B-ED27-48FE-B6F8-C0AF093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AD71-99DA-4469-91B2-7C8FEC0D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C17-74D2-4017-A38F-B2494D03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C453-7C0E-4E06-86A1-AEAD16F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6B8A-69AA-43D8-B563-6DBEC0E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3775E-ADF1-4765-92BB-CD99B27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8AD9F-2E44-4050-8373-53903D6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AFF4B-DD2F-41F7-8BD2-04E6442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D505C-BC83-4825-934B-F63662C4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C55F2-F591-469A-AC72-6DF4A987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491E0-C49E-4A30-8F85-414E2C23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2C61D-33EC-4992-87D1-B69EE922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E60ED-677A-4767-9608-1A8799E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129-F362-46FE-A17F-8B89AAA1E1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D660-67F5-4D03-A115-943994BF95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E588-E9E8-402E-B56C-A7C549250F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984-317E-4A1C-BE79-86F297CA69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33C-2447-4141-AF95-00F21108ED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811C-38FA-493C-BEC1-6E4322AEF70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D75F-ABF8-43D4-832E-E789B8D71E2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7FE4-BB2D-49C7-B2FF-9B308D7E61B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8943-2D06-4BF5-8755-390C6BA668A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AB5-0A42-49EA-8915-B342D0AD2CA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BEAA-A2F8-4294-BCEA-EA6CDE4FA6D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9331-C883-4100-8120-F924C1F8D79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8EFD-5EAF-41CE-ADBE-9D3E928F05D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E54-071C-41C9-BCD1-94110A7D471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F7B-50F6-4129-8199-A965FF7581F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2F46-70B2-4EF6-8A7A-62D0ED5D7CD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F95-E1E1-4E6F-80D4-76C9E9EA69E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D0CF-48FB-46BA-9B0B-AA6E8059B8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EED2-D59B-4E87-A176-4345FF8FCF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A83-85AD-459F-8ED8-A6D67B4726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FD2D-1782-4493-862A-CB0BFFF12F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40AF-DE3B-48F0-822A-4C0302D107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7EF0-3791-4648-998A-E0E1A2011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9916-C619-4C69-8E2B-10CDBD3A1A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АВА, ОБЯЗАННОСТИ И ОТВЕТСТВЕННОСТЬ ГРАЖДАН В ОБЛАСТИ ПОЖАРНОЙ БЕЗОПАСНОСТИ. ОБЕСПЕЧЕНИЕ ЛИЧНОЙ БЕЗОПАСНОСТИ ПРИ ПОЖАРАХ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: ОБЖ.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Класс: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8.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Раздел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1.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еспечение личной  безопасности в повседневной жизни. </a:t>
            </a:r>
            <a:br>
              <a:rPr sz="18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лава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1.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ожарная безопасность. </a:t>
            </a:r>
            <a:br>
              <a:rPr sz="18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Урок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3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Права, обязанности и ответственность граждан в области пожарной безопасности. Обеспечение личной безопасности при пожарах. </a:t>
            </a:r>
            <a:br>
              <a:rPr sz="18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рассмотреть вопросы прав граждан, обязанностей и ответственности в области пожарной безопасности; познакомиться с правилами обеспечения личной безопасности при пожарах.  </a:t>
            </a:r>
            <a:br>
              <a:rPr sz="18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при пожаре в квартире</a:t>
            </a:r>
            <a:br>
              <a:rPr sz="2800"/>
            </a:br>
            <a:br>
              <a:rPr sz="4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ff0000"/>
                </a:solidFill>
                <a:uFillTx/>
                <a:latin typeface="Arial"/>
              </a:rPr>
              <a:t>Правила безопасного поведения при пожаре в квартир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еобходимо немедленно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вызвать пожарных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звонив по телефону 01, сообщить о т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что гори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 свой точный адрес (улицу, номер дома и квартиры, подъезд, этаж, код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сли нет телефона, сообщить о пожаре через сосе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е дожидаясь прибытия пожарных, попытаться потушить начавшийся пожар подручными средствами, учитывая, что, собственно, гори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Чаще всего для ликвидации пожара используют воду, если горят твёрдые вещества (например, мебель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тушения разлившейся легковоспламеняющейся жидкости применяют огнетушител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сли нет огнетушителей, использую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лотные ткани (брезент), одежду либо другие вещи, смоченные водой, песок, землю из цветочных горшков, покрывая ими очаг пожара для прекращения поступления к нему воздух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опасности поражения электрическим током необходимо отключить электроэнергию в квартире (отключив автомат защиты в щитке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при пожаре в квартире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льзя тушить водой включенные в сеть электроприборы и лить её на электрические провода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огонь не потушен не открывайте окна и дв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ликвидировать очаг пожара в начале его возникновения своими силами не представляется возможным, то немедленно покиньте квартиру, плотно прикрыв за собой двер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й враг при пожаре – дым, содержащий токсичные продукты горения и угарный газ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идая квартиру по задымлённому коридору, необходимо передвигаться на четвереньках (внизу меньше дыма) и дышать через влажную ткань. Чтобы уберечься от огня, необходимо накинуть на себя влажную ткань (мокрое одеяло, пальт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невозможно покинуть квартиру обычным путём, то следует воспользоваться балконной пожарной лестницей, а если её нет, необходимо выйти на балкон, плотно закрыть дверь и звать на помощ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рекомендуется самостоятельно перебираться на соседний балкон, расположенный выше второго эта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арный г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лавный враг при пожаре – дым, содержащий токсичные продукты горения и угарный га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д углерода, СО - г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з цвета и запа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уется при неполном сгорании углерода при пожарах, в печах, в двигателях внутреннего сгорания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гарный газ очень опасен для человека, так как даже незначительная доза его содержания в воздухе приводит к трагическим последствия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1% - обмор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2% - кома и быстрая смер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равнения: концентрация углекислого газа СО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воздух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5% не воздейству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% - паралич дыхательных центров, смер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гарный газ в 20 раз опаснее углекислого газ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жар в общественном месте 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3049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ледствий пожаров в общественных местах может быть усугублена возникновение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ни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то психологическое со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зван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рожающим воздействием внешних усло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раже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ув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строго стра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его человека или множество люд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удержимого неконтролируемого стремления избежать опасной ситу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 время пожара страшна тем, что люди, стремясь поскорее покинуть горящее помещение, скапливаются в проходах, мешая вых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жаре в общественных местах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3049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ила безопасного поведения при пожаре в общественных мест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гда постарайтесь запомнить маршрут движения к вых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те внимание на план эвакуации людей в случае пожара, постарайтесь представить направление и количество путей возможной эвакуации, местонахождение лестничных клеток и запасных вы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те внимание на наличие в коридорах и на лестничных клетках светильников, окрашенных в зелёный цвет. Это лампы аварийного освещения при эвакуации во время пожа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ышав крики «Пожар!», сохраняйте спокойствие и выдержку. Оглянитесь вокруг, оценивая обстановку. Заметив телефон или кнопку пожарной сигнализации, сообщите о пожаре в пожарную охра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заполнении помещения дымом или при отсутствии освещения продвигайтесь к выходу, держась за стены, поручни. Дышите через носовой платок или рукав одежды. Если вы находитесь в многоэтажном здании, не пытайтесь воспользоваться лифтами, спускайтесь по лестниц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ыпрыгивайте в окно с большой высоты. При невозможности выйти наружу, отступите в помещение, где нет пожара, плотно закройте дверь и там дожидайтесь помощи пожар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жар на даче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 безопасного поведения при пожаре на дач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дленно оповестите жителей близлежащих домов о пожаре кр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ите о пожаре в пожарную охрану с ближайшего телефона по номеру 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е участие в тушении пожара, используя для этого вёдра с водой, песком, а зимой – сне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жар застал вас дома, и нет возможности выйти, то постарайтесь спуститься в подвал, если он есть. Плотно закройте люк и обложите щели одеж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ликвидации пожара привлеките внимание пожарных стуком или криком для освобождения вас из подв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ый материал:</a:t>
            </a: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еврале 1977 г. в горящей гостинице «Россия» проживавшие там японские туристы набросили на лица обильно смоченные водой полотенца, легли на пол и так дожидались, когда их вызволили из огня пожа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правил пожарной безопасности, соблюдение их требований в повседневной жизни, а также определённый минимум знаний и умений в области безопасного поведения при пожаре – это надёжная гарантия вашей личной безопасности и верный путь снижения количества возгораний, возникающих по вине человека («человеческий фактор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 легче предотвратить, чем тушить и ликвидировать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ислите основные права граждан Российской Федерации в области пожарной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ы обязанности граждан Российской Федерации в области пожарной безопасности и в чём их значение для обеспечения личной безопас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виды ответственности предусмотрены за нарушения правил пожарной безопас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тельно изучит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учебника и презентации. Материал презентац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невник безопасности (тетрадь)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майте план своего поведения на случай возникновения пож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е план эвакуации в случае пожара в школе, особое внимание обратив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шруты эвакуации из различных классных аудитор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а точек  сигнализации о пожа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а расположения огнетуш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торение пройде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аких условиях огонь становится опасным для челове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ятся в государстве по защите населения от пожар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на Руси были сформированы пожарные команды? Перечислите их состав и оснащ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жите об организации пожарной безопасности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ит МЧС России по совершенствованию пожарной безопасности в стран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 РФ «О пожарной безопасности» (от 21 декабря 1994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ичная безопасность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туациях, возникающих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 пожа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жде всего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виси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г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блюдения ППБ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авил пожарной безопасности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седневно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зн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мения действовать во время пожа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сть соблюдения правил пожарной безопасности диктуется законами жизни и определена законодательством Р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ля гражд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Ф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кон «О пожарной безопасност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21 декабря 1994 г.) в области пожарной безопаснос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ределя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а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яза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ответствен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граждан в области ПБ 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жарной безопасно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30492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ждане имеют право 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щи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х жизни, здоровья и имуществ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лучае пож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змещение ущер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чинённого пожаром, в установленном поряд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астие в установлении причин пож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нёсшего ущерб их здоровью и имуществ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учение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проса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жарной безопас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астие в мероприятия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еспе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жарной безопаснос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язанности граждан в области ПБ 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пожарной безопасност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раждане обяза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блюдать требования ПБ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арной безопасности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меть в помещении первичные средства тушения пожа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ППБ (правилами пожарной безопасност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наружен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жар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медленно уведомить пожарную охран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имать посильные ме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пасению людей, имущества и тушению пожа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казывать содейств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арной охране при тушении пожа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полнять законные треб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остных лиц пожарной ох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начит – соблюдать требования П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1371600"/>
            <a:ext cx="813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блюдать требования пожарной безопас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обращению с огнём в повседневной жи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ить за состоянием электропровод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хламлять чердаки, подвалы, балконы и лодж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подручные средства пожаротушения в доме (квартир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ользоваться огнетушителем и другими первичными средствами пожаротуш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ичные средства тушения пож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ще всего для ликвидации пожаров используют воду или пес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нзин, ацетон, краски и другие легковоспламеняющиеся жидкости, загоревшиеся в доме, гараже, кладовой, тушат с применением воздушно-пенного огнетуш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го нет, используются плотная ткань, одежда либо другие вещи, смоченные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дельных случаях для ликвидации возгорания можно использовать метод захлёстывания: по кромке огня ударяют мётлами, одеждой, ветками. Удары должны быть короткими и резкими, чтобы исключить приток воздух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ственность граждан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нарушение требований П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 нарушение требований ПБ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жарной безопасности), а также за иные правонарушения в её области они могут быть привлечены 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ветственн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сциплинар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дминистрати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ли уголо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ности,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ь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6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овного кодекса Российской Федера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К РФ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смотре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умышленное уничтожение или повреждение чужого имущества, совершённое путём поджога и повлекшее по неосторожности смерть человека или иные тяжкие последств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азание путём лишения свободы на срок до 5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5-09-12T14:26:35Z</dcterms:modified>
  <cp:revision>4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