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8EBD-9356-4F9C-943B-2E3CF86DE3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C293-0ED5-4711-8DBA-146C04C99091}" type="slidenum">
              <a:rPr b="0" lang="ru-RU" sz="1200" spc="-1" strike="noStrike">
                <a:solidFill>
                  <a:srgbClr val="af273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af273e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9CC-7CCF-4C6E-A6FD-5B38382C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6D3-8C57-46C9-9936-9F4CC909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119-697D-41F9-B3A1-663216B1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2E9-A19A-49C9-9808-9235A41D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E782-E4CC-4653-8342-E22C1826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8523-5284-4287-99D1-A0313256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A19A-63DF-4DED-990B-F122F4A4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71D2-6407-4A65-BA21-853C9E55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0E22-2832-4AE3-B16E-FF52ED16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B0E5-AF06-4C72-BB1E-3A523001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9F4F-2D2E-430A-ACC0-36D384ED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33F-E18B-4F7F-8D9F-5AAA18A5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D2DE-8CA3-40A3-9183-23B8E815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7A83-F0C7-4C13-A050-0FC58019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F2DA-55C7-457A-B40C-E41C1C41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9065-F5AB-4D0A-A70C-EA5A4E23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5A8D-DF4E-4B4C-B092-A9C82FC1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6C8-263E-4D31-905A-2FEABDE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C21-B4E7-4FEE-A39D-3FD68310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C0F-75F1-432E-B52A-D6FB5DBF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EFC-4E7C-4B89-B337-97F7AFA3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0DA-E70F-405F-938E-F24F01FD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B21-E091-4EB0-A278-F3204CE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F8F-6DAC-4BC2-A5E7-6615D04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af273e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af273e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>
                      <a:gd name="textAreaLeft" fmla="*/ 0 w 474120"/>
                      <a:gd name="textAreaRight" fmla="*/ 474480 w 4741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720"/>
                      <a:gd name="textAreaBottom" fmla="*/ 163080 h 162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>
                      <a:gd name="textAreaLeft" fmla="*/ 0 w 634320"/>
                      <a:gd name="textAreaRight" fmla="*/ 634680 w 63432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>
                      <a:gd name="textAreaLeft" fmla="*/ 0 w 341280"/>
                      <a:gd name="textAreaRight" fmla="*/ 341640 w 34128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>
                      <a:gd name="textAreaLeft" fmla="*/ -360 w 881640"/>
                      <a:gd name="textAreaRight" fmla="*/ 881640 w 88164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>
                      <a:gd name="textAreaLeft" fmla="*/ -360 w 929880"/>
                      <a:gd name="textAreaRight" fmla="*/ 929880 w 92988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>
                      <a:gd name="textAreaLeft" fmla="*/ 360 w 498240"/>
                      <a:gd name="textAreaRight" fmla="*/ 498960 w 4982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200"/>
                      <a:gd name="textAreaBottom" fmla="*/ 169560 h 169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8560"/>
                      <a:gd name="textAreaBottom" fmla="*/ 268920 h 268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7680"/>
                      <a:gd name="textAreaBottom" fmla="*/ 248040 h 247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>
                      <a:gd name="textAreaLeft" fmla="*/ 360 w 293760"/>
                      <a:gd name="textAreaRight" fmla="*/ 294480 w 2937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>
                      <a:gd name="textAreaLeft" fmla="*/ 0 w 336240"/>
                      <a:gd name="textAreaRight" fmla="*/ 336240 w 3362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af273e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af273e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>
                      <a:gd name="textAreaLeft" fmla="*/ 0 w 543960"/>
                      <a:gd name="textAreaRight" fmla="*/ 544320 w 54396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>
                      <a:gd name="textAreaLeft" fmla="*/ -360 w 887400"/>
                      <a:gd name="textAreaRight" fmla="*/ 887400 w 8874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>
                      <a:gd name="textAreaLeft" fmla="*/ 360 w 475920"/>
                      <a:gd name="textAreaRight" fmla="*/ 476640 w 47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>
                      <a:gd name="textAreaLeft" fmla="*/ 360 w 820800"/>
                      <a:gd name="textAreaRight" fmla="*/ 821520 w 82080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>
                      <a:gd name="textAreaLeft" fmla="*/ -360 w 436680"/>
                      <a:gd name="textAreaRight" fmla="*/ 436680 w 43668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>
                      <a:gd name="textAreaLeft" fmla="*/ 360 w 420480"/>
                      <a:gd name="textAreaRight" fmla="*/ 421200 w 42048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>
                      <a:gd name="textAreaLeft" fmla="*/ 0 w 753480"/>
                      <a:gd name="textAreaRight" fmla="*/ 753840 w 75348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>
                      <a:gd name="textAreaLeft" fmla="*/ 0 w 406080"/>
                      <a:gd name="textAreaRight" fmla="*/ 406440 w 40608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>
                      <a:gd name="textAreaLeft" fmla="*/ 0 w 738000"/>
                      <a:gd name="textAreaRight" fmla="*/ 738360 w 73800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af273e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B174-08F4-4892-96C3-EAED0C76F3C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50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8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9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179" name="Oval 10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11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12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13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14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5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6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7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187" name="Freeform 18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9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20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190" name="Freeform 21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22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1400"/>
                        <a:gd name="textAreaBottom" fmla="*/ 671760 h 671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23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193" name="Freeform 24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5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080"/>
                        <a:gd name="textAreaBottom" fmla="*/ 586440 h 586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6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7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8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9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30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31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32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33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34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5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205" name="Freeform 36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7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8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9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40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41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42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43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44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5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6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7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217" name="Freeform 48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9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50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51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52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53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54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5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6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7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8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9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60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61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62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232" name="Freeform 63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64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5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6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7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8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9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70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71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72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73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74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5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6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7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8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9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80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81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82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83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84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5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255" name="Freeform 86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>
                        <a:gd name="textAreaLeft" fmla="*/ 0 w 1424520"/>
                        <a:gd name="textAreaRight" fmla="*/ 1424880 w 142452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7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8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9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90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91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92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93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94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264" name="Freeform 95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6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5160"/>
                        <a:gd name="textAreaBottom" fmla="*/ 605520 h 605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7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8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>
                        <a:gd name="textAreaLeft" fmla="*/ -360 w 1888200"/>
                        <a:gd name="textAreaRight" fmla="*/ 1888200 w 1888200"/>
                        <a:gd name="textAreaTop" fmla="*/ 0 h 346680"/>
                        <a:gd name="textAreaBottom" fmla="*/ 347040 h 346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9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100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101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102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103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273" name="Freeform 104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7920"/>
                        <a:gd name="textAreaBottom" fmla="*/ 368280 h 367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5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>
                        <a:gd name="textAreaLeft" fmla="*/ 0 w 1089720"/>
                        <a:gd name="textAreaRight" fmla="*/ 1090080 w 1089720"/>
                        <a:gd name="textAreaTop" fmla="*/ 0 h 574920"/>
                        <a:gd name="textAreaBottom" fmla="*/ 575280 h 574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6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276" name="Freeform 107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>
                        <a:gd name="textAreaLeft" fmla="*/ 0 w 1971720"/>
                        <a:gd name="textAreaRight" fmla="*/ 1972080 w 1971720"/>
                        <a:gd name="textAreaTop" fmla="*/ 0 h 302400"/>
                        <a:gd name="textAreaBottom" fmla="*/ 302760 h 302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8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9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10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>
                        <a:gd name="textAreaLeft" fmla="*/ 0 w 1812600"/>
                        <a:gd name="textAreaRight" fmla="*/ 1812960 w 181260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11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12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282" name="Freeform 113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>
                        <a:gd name="textAreaLeft" fmla="*/ 0 w 1773000"/>
                        <a:gd name="textAreaRight" fmla="*/ 1773360 w 1773000"/>
                        <a:gd name="textAreaTop" fmla="*/ 0 h 231120"/>
                        <a:gd name="textAreaBottom" fmla="*/ 231480 h 231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14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>
                        <a:gd name="textAreaLeft" fmla="*/ 0 w 951120"/>
                        <a:gd name="textAreaRight" fmla="*/ 951480 w 95112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5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6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7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8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9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5080"/>
                      <a:gd name="textAreaBottom" fmla="*/ 2935440 h 29350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20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21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2560"/>
                      <a:gd name="textAreaBottom" fmla="*/ 2842920 h 28425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22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2200"/>
                      <a:gd name="textAreaBottom" fmla="*/ 2842560 h 284220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23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af273e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24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af273e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5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6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296" name="Arc 127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297" name="Arc 128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298" name="Arc 129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299" name="Arc 130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0" name="Arc 131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1" name="Freeform 132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2" name="Freeform 133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3" name="Freeform 134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4" name="Freeform 135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5" name="Freeform 136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6" name="Freeform 137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7" name="Freeform 138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  <p:sp>
            <p:nvSpPr>
              <p:cNvPr id="308" name="Freeform 139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af273e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af273e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af273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3e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f273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8495-4E0B-4C73-9449-8AA7474158FB}" type="slidenum">
              <a:rPr b="0" lang="ru-RU" sz="1400" spc="-1" strike="noStrike">
                <a:solidFill>
                  <a:srgbClr val="af273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4"/>
          <p:cNvSpPr txBox="1"/>
          <p:nvPr/>
        </p:nvSpPr>
        <p:spPr>
          <a:xfrm>
            <a:off x="1835280" y="549360"/>
            <a:ext cx="57592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8" name="WordArt 5"/>
          <p:cNvSpPr txBox="1"/>
          <p:nvPr/>
        </p:nvSpPr>
        <p:spPr>
          <a:xfrm>
            <a:off x="2627280" y="2852640"/>
            <a:ext cx="446580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литератур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6"/>
          <p:cNvSpPr txBox="1"/>
          <p:nvPr/>
        </p:nvSpPr>
        <p:spPr>
          <a:xfrm>
            <a:off x="3276720" y="4508640"/>
            <a:ext cx="321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клас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2571840" y="214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Доктор Пирогов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00" name="TextBox 2"/>
          <p:cNvSpPr/>
          <p:nvPr/>
        </p:nvSpPr>
        <p:spPr>
          <a:xfrm flipV="1" rot="10800000">
            <a:off x="364680" y="1370520"/>
            <a:ext cx="35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 парке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285840" y="207180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ежливый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Лицо внушало доверие 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Не перебивал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Заглядывал в глаза,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Желая проникнуть в глубь души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скочил 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« Едемте скорее!»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5286240" y="1357200"/>
            <a:ext cx="15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 подвале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5500800" y="20718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Ласково погладил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Убедительный голос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Распорядился о дровах, сомоваре, пище, лекарстве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Дал совет «Не падайте никогда духом».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4"/>
          <p:cNvSpPr txBox="1"/>
          <p:nvPr/>
        </p:nvSpPr>
        <p:spPr>
          <a:xfrm>
            <a:off x="324000" y="333360"/>
            <a:ext cx="100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удо-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WordArt 5"/>
          <p:cNvSpPr txBox="1"/>
          <p:nvPr/>
        </p:nvSpPr>
        <p:spPr>
          <a:xfrm>
            <a:off x="1476360" y="549360"/>
            <a:ext cx="5184720" cy="374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якое явление,кое мы не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меем объяснить п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вестным нам законам,-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во,необычайная вещ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ли явление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учай:неожиданно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противное предвидимо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можности,едв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быточное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06" name="WordArt 6"/>
          <p:cNvSpPr txBox="1"/>
          <p:nvPr/>
        </p:nvSpPr>
        <p:spPr>
          <a:xfrm>
            <a:off x="4211640" y="4437000"/>
            <a:ext cx="3960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 словарь В.И.Даля.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07" name="WordArt 7"/>
          <p:cNvSpPr txBox="1"/>
          <p:nvPr/>
        </p:nvSpPr>
        <p:spPr>
          <a:xfrm>
            <a:off x="324000" y="5013360"/>
            <a:ext cx="100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удо-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8"/>
          <p:cNvSpPr txBox="1"/>
          <p:nvPr/>
        </p:nvSpPr>
        <p:spPr>
          <a:xfrm>
            <a:off x="1547640" y="5013360"/>
            <a:ext cx="4392720" cy="1484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что незабываемое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ерхъестественное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зывающее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09" name="WordArt 9"/>
          <p:cNvSpPr txBox="1"/>
          <p:nvPr/>
        </p:nvSpPr>
        <p:spPr>
          <a:xfrm>
            <a:off x="4500720" y="6524640"/>
            <a:ext cx="4174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словарь С.И.Ожегов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Oval 4"/>
          <p:cNvSpPr/>
          <p:nvPr/>
        </p:nvSpPr>
        <p:spPr>
          <a:xfrm>
            <a:off x="3348000" y="2852640"/>
            <a:ext cx="1944720" cy="79236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Чудо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4067280" y="2060640"/>
            <a:ext cx="485640" cy="760320"/>
          </a:xfrm>
          <a:prstGeom prst="upArrow">
            <a:avLst>
              <a:gd name="adj1" fmla="val 50000"/>
              <a:gd name="adj2" fmla="val 39140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2" name="Oval 6"/>
          <p:cNvSpPr/>
          <p:nvPr/>
        </p:nvSpPr>
        <p:spPr>
          <a:xfrm>
            <a:off x="3276720" y="0"/>
            <a:ext cx="2160360" cy="62064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Доктор</a:t>
            </a: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ирогов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3" name="WordArt 7"/>
          <p:cNvSpPr txBox="1"/>
          <p:nvPr/>
        </p:nvSpPr>
        <p:spPr>
          <a:xfrm>
            <a:off x="3059280" y="836640"/>
            <a:ext cx="251928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одождите"...Не волнуйтесь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скажите мне всё по порядку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как можно короче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жет быть,вместе мы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думаем что-нибудь для вас..."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4" name="Oval 10"/>
          <p:cNvSpPr/>
          <p:nvPr/>
        </p:nvSpPr>
        <p:spPr>
          <a:xfrm>
            <a:off x="250920" y="1413000"/>
            <a:ext cx="1800000" cy="64764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ища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5" name="WordArt 11"/>
          <p:cNvSpPr txBox="1"/>
          <p:nvPr/>
        </p:nvSpPr>
        <p:spPr>
          <a:xfrm>
            <a:off x="0" y="2133720"/>
            <a:ext cx="215892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На три рубля,полученные от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ктора,он (Мерцалов) успел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пить за это время чаю,сахару,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лок и достать в ближайщем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актире горячей пищи."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6" name="AutoShape 12"/>
          <p:cNvSpPr/>
          <p:nvPr/>
        </p:nvSpPr>
        <p:spPr>
          <a:xfrm rot="2465400">
            <a:off x="2484360" y="249228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7" name="Oval 14"/>
          <p:cNvSpPr/>
          <p:nvPr/>
        </p:nvSpPr>
        <p:spPr>
          <a:xfrm>
            <a:off x="468360" y="3716280"/>
            <a:ext cx="2590920" cy="7207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мощь</a:t>
            </a: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ловом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18" name="WordArt 15"/>
          <p:cNvSpPr txBox="1"/>
          <p:nvPr/>
        </p:nvSpPr>
        <p:spPr>
          <a:xfrm>
            <a:off x="324000" y="4581360"/>
            <a:ext cx="267156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Дай бог,чтобы наступающий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д немного снисходительнее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нёсся к вам,чем этот,а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лавное-не падайте никогда духом"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9" name="AutoShape 16"/>
          <p:cNvSpPr/>
          <p:nvPr/>
        </p:nvSpPr>
        <p:spPr>
          <a:xfrm rot="20005800">
            <a:off x="2849040" y="346032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0" name="AutoShape 17"/>
          <p:cNvSpPr/>
          <p:nvPr/>
        </p:nvSpPr>
        <p:spPr>
          <a:xfrm>
            <a:off x="4067280" y="364500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1" name="Oval 18"/>
          <p:cNvSpPr/>
          <p:nvPr/>
        </p:nvSpPr>
        <p:spPr>
          <a:xfrm>
            <a:off x="3564000" y="4365720"/>
            <a:ext cx="1727280" cy="64764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юрприз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2" name="WordArt 19"/>
          <p:cNvSpPr txBox="1"/>
          <p:nvPr/>
        </p:nvSpPr>
        <p:spPr>
          <a:xfrm>
            <a:off x="3276720" y="5300640"/>
            <a:ext cx="2590560" cy="1224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Когда он (Мерцалов) возвратился,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го ожидал сюрприз: под чайным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людцем вместе с рецептом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удесного доктора лежало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сколько крупных кредитных билетов"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3" name="AutoShape 20"/>
          <p:cNvSpPr/>
          <p:nvPr/>
        </p:nvSpPr>
        <p:spPr>
          <a:xfrm rot="2277600">
            <a:off x="5219280" y="335772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4" name="Oval 21"/>
          <p:cNvSpPr/>
          <p:nvPr/>
        </p:nvSpPr>
        <p:spPr>
          <a:xfrm>
            <a:off x="5867280" y="3573360"/>
            <a:ext cx="1943280" cy="79236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екарство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5" name="WordArt 22"/>
          <p:cNvSpPr txBox="1"/>
          <p:nvPr/>
        </p:nvSpPr>
        <p:spPr>
          <a:xfrm>
            <a:off x="6227640" y="4508640"/>
            <a:ext cx="230508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Вот с этой бумажкой вы войдете в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птеку... давайте через два часа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чайной ложке..."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6" name="AutoShape 23"/>
          <p:cNvSpPr/>
          <p:nvPr/>
        </p:nvSpPr>
        <p:spPr>
          <a:xfrm rot="2959800">
            <a:off x="5321880" y="22467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7" name="Oval 24"/>
          <p:cNvSpPr/>
          <p:nvPr/>
        </p:nvSpPr>
        <p:spPr>
          <a:xfrm>
            <a:off x="6659640" y="836640"/>
            <a:ext cx="2160360" cy="7207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ддержка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428" name="WordArt 25"/>
          <p:cNvSpPr txBox="1"/>
          <p:nvPr/>
        </p:nvSpPr>
        <p:spPr>
          <a:xfrm>
            <a:off x="6443640" y="1916280"/>
            <a:ext cx="2700360" cy="1225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Ну,полно,полно,голубушка,-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говорил доктор,ласково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гладив женщину по спине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Встаньте-ка!Покажите мне вашу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льную."Что-то ласковое и убедительное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вучало а его голосе..."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4"/>
          <p:cNvSpPr txBox="1"/>
          <p:nvPr/>
        </p:nvSpPr>
        <p:spPr>
          <a:xfrm>
            <a:off x="900000" y="1484280"/>
            <a:ext cx="7275600" cy="22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Просто чуд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вершил этот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той человек"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4"/>
          <p:cNvSpPr txBox="1"/>
          <p:nvPr/>
        </p:nvSpPr>
        <p:spPr>
          <a:xfrm>
            <a:off x="1908000" y="260280"/>
            <a:ext cx="4751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WordArt 5"/>
          <p:cNvSpPr txBox="1"/>
          <p:nvPr/>
        </p:nvSpPr>
        <p:spPr>
          <a:xfrm>
            <a:off x="250920" y="1844640"/>
            <a:ext cx="66387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Составьте лингвокультурологическ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варик к одному из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ючевых слов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2" name="WordArt 6"/>
          <p:cNvSpPr txBox="1"/>
          <p:nvPr/>
        </p:nvSpPr>
        <p:spPr>
          <a:xfrm>
            <a:off x="324000" y="4005360"/>
            <a:ext cx="64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Напишите сочинение- миниатюру.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В какие чудеса следуе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ить?"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4"/>
          <p:cNvSpPr txBox="1"/>
          <p:nvPr/>
        </p:nvSpPr>
        <p:spPr>
          <a:xfrm>
            <a:off x="684360" y="1268280"/>
            <a:ext cx="750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внеклассного чтения в 6 классе.</a:t>
            </a:r>
            <a:endParaRPr b="0" lang="en-US" sz="1800" spc="1" strike="noStrike">
              <a:ln w="1908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826920" y="2708280"/>
            <a:ext cx="172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тему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WordArt 6"/>
          <p:cNvSpPr txBox="1"/>
          <p:nvPr/>
        </p:nvSpPr>
        <p:spPr>
          <a:xfrm>
            <a:off x="3419640" y="2637000"/>
            <a:ext cx="45370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Во всяком случае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учше надеяться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 отчаиваться"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3" name="WordArt 7"/>
          <p:cNvSpPr txBox="1"/>
          <p:nvPr/>
        </p:nvSpPr>
        <p:spPr>
          <a:xfrm>
            <a:off x="4219560" y="5084640"/>
            <a:ext cx="4924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по рассказу А.И.Куприна "Чудесный доктор"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4"/>
          <p:cNvSpPr txBox="1"/>
          <p:nvPr/>
        </p:nvSpPr>
        <p:spPr>
          <a:xfrm>
            <a:off x="0" y="333360"/>
            <a:ext cx="882000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.И.Куприн  (  1870-1937  )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5" name="WordArt 5" descr=""/>
          <p:cNvPicPr/>
          <p:nvPr/>
        </p:nvPicPr>
        <p:blipFill>
          <a:blip r:embed="rId1"/>
          <a:stretch/>
        </p:blipFill>
        <p:spPr>
          <a:xfrm>
            <a:off x="743040" y="1695600"/>
            <a:ext cx="4627440" cy="2170080"/>
          </a:xfrm>
          <a:prstGeom prst="rect">
            <a:avLst/>
          </a:prstGeom>
          <a:ln w="0">
            <a:noFill/>
          </a:ln>
        </p:spPr>
      </p:pic>
      <p:sp>
        <p:nvSpPr>
          <p:cNvPr id="366" name="WordArt 6"/>
          <p:cNvSpPr txBox="1"/>
          <p:nvPr/>
        </p:nvSpPr>
        <p:spPr>
          <a:xfrm>
            <a:off x="755640" y="3645000"/>
            <a:ext cx="395928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воря его же словами,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юбовью ко всему живому-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дереву,собаке,воде,земле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ловеку,небу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4357800" y="6429240"/>
            <a:ext cx="32144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.Михайлов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68" name="Picture 8" descr="kuprin_1_s"/>
          <p:cNvPicPr/>
          <p:nvPr/>
        </p:nvPicPr>
        <p:blipFill>
          <a:blip r:embed="rId2"/>
          <a:stretch/>
        </p:blipFill>
        <p:spPr>
          <a:xfrm>
            <a:off x="5715000" y="2214720"/>
            <a:ext cx="30002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WordArt 5"/>
          <p:cNvSpPr txBox="1"/>
          <p:nvPr/>
        </p:nvSpPr>
        <p:spPr>
          <a:xfrm>
            <a:off x="539640" y="692280"/>
            <a:ext cx="1552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ждество-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WordArt 6"/>
          <p:cNvSpPr txBox="1"/>
          <p:nvPr/>
        </p:nvSpPr>
        <p:spPr>
          <a:xfrm>
            <a:off x="2340000" y="765000"/>
            <a:ext cx="4029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жденье; годовщина рожденья;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мять; день памяти Рождества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ристов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1" name="WordArt 7"/>
          <p:cNvSpPr txBox="1"/>
          <p:nvPr/>
        </p:nvSpPr>
        <p:spPr>
          <a:xfrm>
            <a:off x="5148360" y="1844640"/>
            <a:ext cx="1266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 В.И.Даль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2" name="WordArt 8"/>
          <p:cNvSpPr txBox="1"/>
          <p:nvPr/>
        </p:nvSpPr>
        <p:spPr>
          <a:xfrm>
            <a:off x="611280" y="3213000"/>
            <a:ext cx="15523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ждество-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2286000" y="3143160"/>
            <a:ext cx="37497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Христианский</a:t>
            </a: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аздник,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ождение</a:t>
            </a: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Христа.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74" name="TextBox 7"/>
          <p:cNvSpPr/>
          <p:nvPr/>
        </p:nvSpPr>
        <p:spPr>
          <a:xfrm>
            <a:off x="4429080" y="39290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.И. Ожегов).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4"/>
          <p:cNvSpPr txBox="1"/>
          <p:nvPr/>
        </p:nvSpPr>
        <p:spPr>
          <a:xfrm>
            <a:off x="1187280" y="1484280"/>
            <a:ext cx="6626520" cy="504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то особый вид рассказов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торые выделяются сходным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южетами: несчастный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ездоленный человек н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ждество чудесным образо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тречает своё счастье.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WordArt 5"/>
          <p:cNvSpPr txBox="1"/>
          <p:nvPr/>
        </p:nvSpPr>
        <p:spPr>
          <a:xfrm>
            <a:off x="1187280" y="1341360"/>
            <a:ext cx="662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ждественский рассказ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0" y="692280"/>
          <a:ext cx="9144000" cy="5060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</a:t>
                      </a: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У автора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1368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В котором происходили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1368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1) У витрины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   </a:t>
                      </a: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4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2)Расспросы о  походе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5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3) В подвале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6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4) Увольнение Мерцалова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5) Болезнь детей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6) Смерть дочери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3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7) Встреча с Пироговым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5760">
                      <a:solidFill>
                        <a:srgbClr val="af273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8) Чудесное спасение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1368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8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5760">
                      <a:solidFill>
                        <a:srgbClr val="af273e"/>
                      </a:solidFill>
                    </a:lnT>
                    <a:lnB w="13680">
                      <a:solidFill>
                        <a:srgbClr val="af273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0" y="5734080"/>
          <a:ext cx="9144000" cy="934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9) </a:t>
                      </a:r>
                      <a:r>
                        <a:rPr b="0" lang="ru-RU" sz="24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Рассказ Григория    Мерцалова</a:t>
                      </a:r>
                      <a:endParaRPr b="0" lang="en-US" sz="24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af273e"/>
                      </a:solidFill>
                    </a:lnL>
                    <a:lnR w="5760">
                      <a:solidFill>
                        <a:srgbClr val="af273e"/>
                      </a:solidFill>
                    </a:lnR>
                    <a:lnT w="13680">
                      <a:solidFill>
                        <a:srgbClr val="af273e"/>
                      </a:solidFill>
                    </a:lnT>
                    <a:lnB w="13680">
                      <a:solidFill>
                        <a:srgbClr val="af27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                 </a:t>
                      </a:r>
                      <a:r>
                        <a:rPr b="0" lang="ru-RU" sz="2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9 </a:t>
                      </a:r>
                      <a:endParaRPr b="0" lang="en-US" sz="2800" spc="-1" strike="noStrike">
                        <a:solidFill>
                          <a:srgbClr val="af273e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f273e"/>
                      </a:solidFill>
                    </a:lnL>
                    <a:lnR w="13680">
                      <a:solidFill>
                        <a:srgbClr val="af273e"/>
                      </a:solidFill>
                    </a:lnR>
                    <a:lnT w="13680">
                      <a:solidFill>
                        <a:srgbClr val="af273e"/>
                      </a:solidFill>
                    </a:lnT>
                    <a:lnB w="13680">
                      <a:solidFill>
                        <a:srgbClr val="af273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WordArt 83"/>
          <p:cNvSpPr txBox="1"/>
          <p:nvPr/>
        </p:nvSpPr>
        <p:spPr>
          <a:xfrm>
            <a:off x="2124000" y="0"/>
            <a:ext cx="5112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ти рассказа: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4"/>
          <p:cNvSpPr txBox="1"/>
          <p:nvPr/>
        </p:nvSpPr>
        <p:spPr>
          <a:xfrm>
            <a:off x="1692360" y="0"/>
            <a:ext cx="5111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Задание для 1 группы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1" name="WordArt 5"/>
          <p:cNvSpPr txBox="1"/>
          <p:nvPr/>
        </p:nvSpPr>
        <p:spPr>
          <a:xfrm>
            <a:off x="1403280" y="1052640"/>
            <a:ext cx="5834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ыпишите из текста рассказ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ючевые слова,характеризующ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льчиков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WordArt 7"/>
          <p:cNvSpPr txBox="1"/>
          <p:nvPr/>
        </p:nvSpPr>
        <p:spPr>
          <a:xfrm>
            <a:off x="1403280" y="3068640"/>
            <a:ext cx="223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цен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У витрины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3" name="WordArt 9"/>
          <p:cNvSpPr txBox="1"/>
          <p:nvPr/>
        </p:nvSpPr>
        <p:spPr>
          <a:xfrm>
            <a:off x="5724360" y="3141720"/>
            <a:ext cx="23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цен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В подвале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4" name="WordArt 10"/>
          <p:cNvSpPr txBox="1"/>
          <p:nvPr/>
        </p:nvSpPr>
        <p:spPr>
          <a:xfrm>
            <a:off x="1042920" y="5229360"/>
            <a:ext cx="673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прокомментируйте свои наблюд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5" name="WordArt 11"/>
          <p:cNvSpPr txBox="1"/>
          <p:nvPr/>
        </p:nvSpPr>
        <p:spPr>
          <a:xfrm>
            <a:off x="900000" y="3068640"/>
            <a:ext cx="381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6" name="WordArt 12"/>
          <p:cNvSpPr txBox="1"/>
          <p:nvPr/>
        </p:nvSpPr>
        <p:spPr>
          <a:xfrm>
            <a:off x="5076720" y="3068640"/>
            <a:ext cx="381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4"/>
          <p:cNvSpPr/>
          <p:nvPr/>
        </p:nvSpPr>
        <p:spPr>
          <a:xfrm>
            <a:off x="1441440" y="10000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У витрины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714240" y="1785960"/>
            <a:ext cx="350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Хохатали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Толкали друг друга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Приплясывали от мороза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Забыли о поручении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4786200" y="928800"/>
            <a:ext cx="15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 подвале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4786200" y="192888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Сердце сжалось от недетского страдания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молчали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421200" y="421488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Вывод: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357120" y="500076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273e"/>
                </a:solidFill>
                <a:latin typeface="Arial Black"/>
              </a:rPr>
              <a:t>Поведение героев меняется. Они чувствуют резкую разницу в жизни.</a:t>
            </a:r>
            <a:endParaRPr b="0" lang="en-US" sz="1800" spc="-1" strike="noStrike">
              <a:solidFill>
                <a:srgbClr val="af273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4"/>
          <p:cNvSpPr txBox="1"/>
          <p:nvPr/>
        </p:nvSpPr>
        <p:spPr>
          <a:xfrm>
            <a:off x="755640" y="260280"/>
            <a:ext cx="7562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ние для 2 групп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4" name="WordArt 5"/>
          <p:cNvSpPr txBox="1"/>
          <p:nvPr/>
        </p:nvSpPr>
        <p:spPr>
          <a:xfrm>
            <a:off x="2771640" y="1413000"/>
            <a:ext cx="325764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охарактеризуйт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ведение доктора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рогова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468360" y="3500280"/>
            <a:ext cx="10080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WordArt 7"/>
          <p:cNvSpPr txBox="1"/>
          <p:nvPr/>
        </p:nvSpPr>
        <p:spPr>
          <a:xfrm>
            <a:off x="4643280" y="3500280"/>
            <a:ext cx="11509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1258920" y="4365720"/>
            <a:ext cx="1800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В парке."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6012000" y="4365720"/>
            <a:ext cx="24494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В подвале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9:05:48Z</dcterms:created>
  <dc:creator>SVETA</dc:creator>
  <dc:description/>
  <dc:language>en-US</dc:language>
  <cp:lastModifiedBy>Английский язык -2</cp:lastModifiedBy>
  <dcterms:modified xsi:type="dcterms:W3CDTF">2017-09-15T12:52:0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