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D7D-FCCE-4A16-BBBC-7DB97630D6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C6F-B980-46F2-80C9-EAEA1FEA3AC9}" type="slidenum">
              <a:rPr b="0" lang="ru-RU" sz="1200" spc="-1" strike="noStrike">
                <a:solidFill>
                  <a:srgbClr val="af273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3D8-79A0-4F42-9D44-8D63D67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ECA-CAD3-494E-A32A-F8A4F8E6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C81-1139-439F-B2D5-FDF3590F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E93-F612-4AF1-AD02-11F77056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7B9-3901-48B0-A27C-6A1C500D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9EB3-80E9-4663-9C17-A677B7DD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9A1-DA8F-4EDC-B1D1-EF5261D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358-9B94-4FDD-8F00-A28A34C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2DA5-0540-4302-8E1B-78C7FE0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282-C8C1-4679-A640-F85ECC6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02E4-6B07-4830-B04F-28CD15C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7B4-2384-481B-85B2-CD1E156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2452-AEC5-44BD-B63A-03DE219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0C8-49CB-45EA-AF0A-FF70797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3907-1D78-4689-AC0F-A34B8D8E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877-0961-448B-888A-793F0D3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149B-C109-4A4F-B1EF-7CB4F6D7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283-D1D8-4FD4-BA8F-B74BA47D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270-2771-44F0-ADD1-4FCF3855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757-9F44-4D9B-8ED4-3FDCC9C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A57-EDDD-41E0-99E3-2D130D1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A1C-08E2-40AC-AF3B-4BF10C6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51B-B9ED-49D1-B12B-37905F34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DCE-05BA-4F68-887A-AF2B4D3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af273e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388F-DD58-4D99-96EA-11F12F56E97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50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8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9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79" name="Oval 10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11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12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13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14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5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6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7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8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9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20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21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22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23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24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5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6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7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8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9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30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31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32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33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34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5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6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7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8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9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40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41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42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43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44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5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6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7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8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9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50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51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52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53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54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5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6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7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8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9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60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61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62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63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64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5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6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7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8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9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70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71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72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73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74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5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6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7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8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9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80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81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82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83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84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5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6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>
                        <a:gd name="textAreaLeft" fmla="*/ 0 w 1424520"/>
                        <a:gd name="textAreaRight" fmla="*/ 1424880 w 142452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7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8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9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90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91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92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93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94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5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6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7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8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>
                        <a:gd name="textAreaLeft" fmla="*/ -360 w 1888200"/>
                        <a:gd name="textAreaRight" fmla="*/ 1888200 w 1888200"/>
                        <a:gd name="textAreaTop" fmla="*/ 0 h 346680"/>
                        <a:gd name="textAreaBottom" fmla="*/ 347040 h 346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9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100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101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102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103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104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7920"/>
                        <a:gd name="textAreaBottom" fmla="*/ 368280 h 367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5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4920"/>
                        <a:gd name="textAreaBottom" fmla="*/ 575280 h 57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6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7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>
                        <a:gd name="textAreaLeft" fmla="*/ 0 w 1971720"/>
                        <a:gd name="textAreaRight" fmla="*/ 1972080 w 19717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8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9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10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>
                        <a:gd name="textAreaLeft" fmla="*/ 0 w 1812600"/>
                        <a:gd name="textAreaRight" fmla="*/ 1812960 w 181260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11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12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13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>
                        <a:gd name="textAreaLeft" fmla="*/ 0 w 1773000"/>
                        <a:gd name="textAreaRight" fmla="*/ 1773360 w 177300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14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5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6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7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8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9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080"/>
                      <a:gd name="textAreaBottom" fmla="*/ 2935440 h 29350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20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21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2560"/>
                      <a:gd name="textAreaBottom" fmla="*/ 2842920 h 28425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22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200"/>
                      <a:gd name="textAreaBottom" fmla="*/ 2842560 h 28422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23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24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5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6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6" name="Arc 127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7" name="Arc 128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8" name="Arc 129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9" name="Arc 130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0" name="Arc 131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1" name="Freeform 132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2" name="Freeform 133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3" name="Freeform 134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4" name="Freeform 135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5" name="Freeform 136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6" name="Freeform 137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7" name="Freeform 138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8" name="Freeform 139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af273e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f273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EB64-A0D6-45E9-8F87-821A41D85F87}" type="slidenum">
              <a:rPr b="0" lang="ru-RU" sz="1400" spc="-1" strike="noStrike">
                <a:solidFill>
                  <a:srgbClr val="af273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1835280" y="549360"/>
            <a:ext cx="57592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WordArt 5"/>
          <p:cNvSpPr txBox="1"/>
          <p:nvPr/>
        </p:nvSpPr>
        <p:spPr>
          <a:xfrm>
            <a:off x="2627280" y="2852640"/>
            <a:ext cx="44658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литератур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6"/>
          <p:cNvSpPr txBox="1"/>
          <p:nvPr/>
        </p:nvSpPr>
        <p:spPr>
          <a:xfrm>
            <a:off x="3276720" y="4508640"/>
            <a:ext cx="321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2571840" y="214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Доктор Пирогов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0" name="TextBox 2"/>
          <p:cNvSpPr/>
          <p:nvPr/>
        </p:nvSpPr>
        <p:spPr>
          <a:xfrm flipV="1" rot="10800000">
            <a:off x="364680" y="1370520"/>
            <a:ext cx="35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 парке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285840" y="207180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ежливый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Лицо внушало доверие 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Не перебивал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Заглядывал в глаза,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Желая проникнуть в глубь душ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скочил 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« Едемте скорее!»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5286240" y="1357200"/>
            <a:ext cx="15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 подвале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5500800" y="20718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Ласково погладил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Убедительный голос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Распорядился о дровах, сомоваре, пище, лекарстве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Дал совет «Не падайте никогда духом»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4"/>
          <p:cNvSpPr txBox="1"/>
          <p:nvPr/>
        </p:nvSpPr>
        <p:spPr>
          <a:xfrm>
            <a:off x="324000" y="33336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о-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WordArt 5"/>
          <p:cNvSpPr txBox="1"/>
          <p:nvPr/>
        </p:nvSpPr>
        <p:spPr>
          <a:xfrm>
            <a:off x="1476360" y="549360"/>
            <a:ext cx="5184720" cy="374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якое явление,кое мы н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меем объяснить п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вестным нам законам,-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во,необычайная вещ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ли явление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учай:неожиданн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противное предвидимо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можности,ед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быточное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6" name="WordArt 6"/>
          <p:cNvSpPr txBox="1"/>
          <p:nvPr/>
        </p:nvSpPr>
        <p:spPr>
          <a:xfrm>
            <a:off x="4211640" y="4437000"/>
            <a:ext cx="3960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словарь В.И.Даля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7" name="WordArt 7"/>
          <p:cNvSpPr txBox="1"/>
          <p:nvPr/>
        </p:nvSpPr>
        <p:spPr>
          <a:xfrm>
            <a:off x="324000" y="501336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о-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8"/>
          <p:cNvSpPr txBox="1"/>
          <p:nvPr/>
        </p:nvSpPr>
        <p:spPr>
          <a:xfrm>
            <a:off x="1547640" y="5013360"/>
            <a:ext cx="4392720" cy="1484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что незабываемое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ерхъестественное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зывающее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9" name="WordArt 9"/>
          <p:cNvSpPr txBox="1"/>
          <p:nvPr/>
        </p:nvSpPr>
        <p:spPr>
          <a:xfrm>
            <a:off x="4500720" y="6524640"/>
            <a:ext cx="4174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словарь С.И.Ожегов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Oval 4"/>
          <p:cNvSpPr/>
          <p:nvPr/>
        </p:nvSpPr>
        <p:spPr>
          <a:xfrm>
            <a:off x="3348000" y="2852640"/>
            <a:ext cx="1944720" cy="7923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Чудо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4067280" y="2060640"/>
            <a:ext cx="485640" cy="760320"/>
          </a:xfrm>
          <a:prstGeom prst="upArrow">
            <a:avLst>
              <a:gd name="adj1" fmla="val 50000"/>
              <a:gd name="adj2" fmla="val 39140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3276720" y="0"/>
            <a:ext cx="2160360" cy="62064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октор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ирогов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3" name="WordArt 7"/>
          <p:cNvSpPr txBox="1"/>
          <p:nvPr/>
        </p:nvSpPr>
        <p:spPr>
          <a:xfrm>
            <a:off x="3059280" y="836640"/>
            <a:ext cx="251928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одождите"...Не волнуйтесь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скажите мне всё по порядку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как можно короче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жет быть,вместе мы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думаем что-нибудь для вас..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250920" y="1413000"/>
            <a:ext cx="1800000" cy="64764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ищ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0" y="2133720"/>
            <a:ext cx="215892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 три рубля,полученные от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ктора,он (Мерцалов) успел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пить за это время чаю,сахару,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лок и достать в ближайщем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актире горячей пищи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6" name="AutoShape 12"/>
          <p:cNvSpPr/>
          <p:nvPr/>
        </p:nvSpPr>
        <p:spPr>
          <a:xfrm rot="2465400">
            <a:off x="2484360" y="249228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7" name="Oval 14"/>
          <p:cNvSpPr/>
          <p:nvPr/>
        </p:nvSpPr>
        <p:spPr>
          <a:xfrm>
            <a:off x="468360" y="3716280"/>
            <a:ext cx="2590920" cy="720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мощь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ловом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8" name="WordArt 15"/>
          <p:cNvSpPr txBox="1"/>
          <p:nvPr/>
        </p:nvSpPr>
        <p:spPr>
          <a:xfrm>
            <a:off x="324000" y="4581360"/>
            <a:ext cx="267156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Дай бог,чтобы наступающи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д немного снисходительнее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нёсся к вам,чем этот,а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вное-не падайте никогда духом"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9" name="AutoShape 16"/>
          <p:cNvSpPr/>
          <p:nvPr/>
        </p:nvSpPr>
        <p:spPr>
          <a:xfrm rot="20005800">
            <a:off x="2849040" y="346032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4067280" y="364500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1" name="Oval 18"/>
          <p:cNvSpPr/>
          <p:nvPr/>
        </p:nvSpPr>
        <p:spPr>
          <a:xfrm>
            <a:off x="3564000" y="4365720"/>
            <a:ext cx="1727280" cy="64764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юрприз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2" name="WordArt 19"/>
          <p:cNvSpPr txBox="1"/>
          <p:nvPr/>
        </p:nvSpPr>
        <p:spPr>
          <a:xfrm>
            <a:off x="3276720" y="5300640"/>
            <a:ext cx="259056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Когда он (Мерцалов) возвратился,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го ожидал сюрприз: под чайным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людцем вместе с рецептом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удесного доктора лежало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сколько крупных кредитных билетов"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3" name="AutoShape 20"/>
          <p:cNvSpPr/>
          <p:nvPr/>
        </p:nvSpPr>
        <p:spPr>
          <a:xfrm rot="2277600">
            <a:off x="5219280" y="335772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4" name="Oval 21"/>
          <p:cNvSpPr/>
          <p:nvPr/>
        </p:nvSpPr>
        <p:spPr>
          <a:xfrm>
            <a:off x="5867280" y="3573360"/>
            <a:ext cx="1943280" cy="7923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екарство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5" name="WordArt 22"/>
          <p:cNvSpPr txBox="1"/>
          <p:nvPr/>
        </p:nvSpPr>
        <p:spPr>
          <a:xfrm>
            <a:off x="6227640" y="4508640"/>
            <a:ext cx="230508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от с этой бумажкой вы войдете в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птеку... давайте через два час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чайной ложке..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6" name="AutoShape 23"/>
          <p:cNvSpPr/>
          <p:nvPr/>
        </p:nvSpPr>
        <p:spPr>
          <a:xfrm rot="2959800">
            <a:off x="5321880" y="2246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7" name="Oval 24"/>
          <p:cNvSpPr/>
          <p:nvPr/>
        </p:nvSpPr>
        <p:spPr>
          <a:xfrm>
            <a:off x="6659640" y="836640"/>
            <a:ext cx="2160360" cy="720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ддержк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8" name="WordArt 25"/>
          <p:cNvSpPr txBox="1"/>
          <p:nvPr/>
        </p:nvSpPr>
        <p:spPr>
          <a:xfrm>
            <a:off x="6443640" y="1916280"/>
            <a:ext cx="2700360" cy="1225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Ну,полно,полно,голубушка,-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говорил доктор,ласково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гладив женщину по спине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Встаньте-ка!Покажите мне вашу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ьную."Что-то ласковое и убедительное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вучало а его голосе..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4"/>
          <p:cNvSpPr txBox="1"/>
          <p:nvPr/>
        </p:nvSpPr>
        <p:spPr>
          <a:xfrm>
            <a:off x="900000" y="1484280"/>
            <a:ext cx="7275600" cy="22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росто чуд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вершил этот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той человек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4"/>
          <p:cNvSpPr txBox="1"/>
          <p:nvPr/>
        </p:nvSpPr>
        <p:spPr>
          <a:xfrm>
            <a:off x="1908000" y="260280"/>
            <a:ext cx="4751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250920" y="1844640"/>
            <a:ext cx="66387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оставьте лингвокультурологическ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варик к одному из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евых слов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324000" y="4005360"/>
            <a:ext cx="64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Напишите сочинение- миниатюру.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 какие чудеса следу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ить?"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684360" y="1268280"/>
            <a:ext cx="750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внеклассного чтения в 6 классе.</a:t>
            </a:r>
            <a:endParaRPr b="0" lang="en-US" sz="1800" spc="1" strike="noStrike">
              <a:ln w="1908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826920" y="2708280"/>
            <a:ext cx="172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3419640" y="2637000"/>
            <a:ext cx="4537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Во всяком случа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учше надеяться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 отчаиваться"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4219560" y="5084640"/>
            <a:ext cx="4924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по рассказу А.И.Куприна "Чудесный доктор"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0" y="333360"/>
            <a:ext cx="88200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.И.Куприн  (  1870-1937  )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5" name="WordArt 5" descr=""/>
          <p:cNvPicPr/>
          <p:nvPr/>
        </p:nvPicPr>
        <p:blipFill>
          <a:blip r:embed="rId1"/>
          <a:stretch/>
        </p:blipFill>
        <p:spPr>
          <a:xfrm>
            <a:off x="743040" y="1695600"/>
            <a:ext cx="4627440" cy="2170080"/>
          </a:xfrm>
          <a:prstGeom prst="rect">
            <a:avLst/>
          </a:prstGeom>
          <a:ln w="0">
            <a:noFill/>
          </a:ln>
        </p:spPr>
      </p:pic>
      <p:sp>
        <p:nvSpPr>
          <p:cNvPr id="366" name="WordArt 6"/>
          <p:cNvSpPr txBox="1"/>
          <p:nvPr/>
        </p:nvSpPr>
        <p:spPr>
          <a:xfrm>
            <a:off x="755640" y="3645000"/>
            <a:ext cx="395928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воря его же словами,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юбовью ко всему живому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дереву,собаке,воде,земле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ловеку,небу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4357800" y="6429240"/>
            <a:ext cx="32144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.Михайло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68" name="Picture 8" descr="kuprin_1_s"/>
          <p:cNvPicPr/>
          <p:nvPr/>
        </p:nvPicPr>
        <p:blipFill>
          <a:blip r:embed="rId2"/>
          <a:stretch/>
        </p:blipFill>
        <p:spPr>
          <a:xfrm>
            <a:off x="5715000" y="2214720"/>
            <a:ext cx="30002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WordArt 5"/>
          <p:cNvSpPr txBox="1"/>
          <p:nvPr/>
        </p:nvSpPr>
        <p:spPr>
          <a:xfrm>
            <a:off x="539640" y="692280"/>
            <a:ext cx="1552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о-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WordArt 6"/>
          <p:cNvSpPr txBox="1"/>
          <p:nvPr/>
        </p:nvSpPr>
        <p:spPr>
          <a:xfrm>
            <a:off x="2340000" y="765000"/>
            <a:ext cx="4029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жденье; годовщина рожденья;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мять; день памяти Рождества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ристов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1" name="WordArt 7"/>
          <p:cNvSpPr txBox="1"/>
          <p:nvPr/>
        </p:nvSpPr>
        <p:spPr>
          <a:xfrm>
            <a:off x="5148360" y="1844640"/>
            <a:ext cx="1266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В.И.Даль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2" name="WordArt 8"/>
          <p:cNvSpPr txBox="1"/>
          <p:nvPr/>
        </p:nvSpPr>
        <p:spPr>
          <a:xfrm>
            <a:off x="611280" y="3213000"/>
            <a:ext cx="15523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о-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286000" y="3143160"/>
            <a:ext cx="3749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ристианский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аздник,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ождение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риста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4429080" y="39290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.И. Ожегов)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4"/>
          <p:cNvSpPr txBox="1"/>
          <p:nvPr/>
        </p:nvSpPr>
        <p:spPr>
          <a:xfrm>
            <a:off x="1187280" y="1484280"/>
            <a:ext cx="6626520" cy="504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о особый вид рассказов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е выделяются сходным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южетами: несчастный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ездоленный человек н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ждество чудесным образ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тречает своё счастье.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WordArt 5"/>
          <p:cNvSpPr txBox="1"/>
          <p:nvPr/>
        </p:nvSpPr>
        <p:spPr>
          <a:xfrm>
            <a:off x="1187280" y="1341360"/>
            <a:ext cx="662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енский рассказ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0" y="692280"/>
          <a:ext cx="9144000" cy="5060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У автора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В котором происходили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1) У витрины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   </a:t>
                      </a: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4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2)Расспросы о  походе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5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3) В подвале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6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4) Увольнение Мерцалова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5) Болезнь детей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6) Смерть дочери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7) Встреча с Пироговым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8) Чудесное спасение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0" y="5734080"/>
          <a:ext cx="9144000" cy="934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9) </a:t>
                      </a: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Рассказ Григория    Мерцалова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9 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WordArt 83"/>
          <p:cNvSpPr txBox="1"/>
          <p:nvPr/>
        </p:nvSpPr>
        <p:spPr>
          <a:xfrm>
            <a:off x="2124000" y="0"/>
            <a:ext cx="5112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и рассказа: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1692360" y="0"/>
            <a:ext cx="5111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Задание для 1 группы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1403280" y="1052640"/>
            <a:ext cx="5834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пишите из текста рассказ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евые слова,характеризующ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льчико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WordArt 7"/>
          <p:cNvSpPr txBox="1"/>
          <p:nvPr/>
        </p:nvSpPr>
        <p:spPr>
          <a:xfrm>
            <a:off x="1403280" y="3068640"/>
            <a:ext cx="223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цен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У витрины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3" name="WordArt 9"/>
          <p:cNvSpPr txBox="1"/>
          <p:nvPr/>
        </p:nvSpPr>
        <p:spPr>
          <a:xfrm>
            <a:off x="5724360" y="3141720"/>
            <a:ext cx="23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цен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В подвал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4" name="WordArt 10"/>
          <p:cNvSpPr txBox="1"/>
          <p:nvPr/>
        </p:nvSpPr>
        <p:spPr>
          <a:xfrm>
            <a:off x="1042920" y="5229360"/>
            <a:ext cx="673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окомментируйте свои наблюд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5" name="WordArt 11"/>
          <p:cNvSpPr txBox="1"/>
          <p:nvPr/>
        </p:nvSpPr>
        <p:spPr>
          <a:xfrm>
            <a:off x="900000" y="3068640"/>
            <a:ext cx="381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6" name="WordArt 12"/>
          <p:cNvSpPr txBox="1"/>
          <p:nvPr/>
        </p:nvSpPr>
        <p:spPr>
          <a:xfrm>
            <a:off x="5076720" y="3068640"/>
            <a:ext cx="381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4"/>
          <p:cNvSpPr/>
          <p:nvPr/>
        </p:nvSpPr>
        <p:spPr>
          <a:xfrm>
            <a:off x="1441440" y="10000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У витрины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714240" y="1785960"/>
            <a:ext cx="350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Хохатал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Толкали друг друг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Приплясывали от мороз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Забыли о поручени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4786200" y="928800"/>
            <a:ext cx="15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 подвале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4786200" y="192888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Сердце сжалось от недетского страдания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молчал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421200" y="421488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ывод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357120" y="500076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Поведение героев меняется. Они чувствуют резкую разницу в жизни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755640" y="260280"/>
            <a:ext cx="7562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ние для 2 групп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2771640" y="1413000"/>
            <a:ext cx="325764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охарактеризу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едение доктора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огова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68360" y="3500280"/>
            <a:ext cx="10080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4643280" y="3500280"/>
            <a:ext cx="1150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1258920" y="4365720"/>
            <a:ext cx="18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 парке."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6012000" y="4365720"/>
            <a:ext cx="2449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 подвале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9:05:48Z</dcterms:created>
  <dc:creator>SVETA</dc:creator>
  <dc:description/>
  <dc:language>en-US</dc:language>
  <cp:lastModifiedBy>Английский язык -2</cp:lastModifiedBy>
  <dcterms:modified xsi:type="dcterms:W3CDTF">2017-09-15T12:52:0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