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D84-50E3-41FB-8A82-0C7A05B6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387-CAA5-4EFA-A779-5775063C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478-EE41-4C29-8EEA-C0F19274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1D7-9A0E-4405-A1E2-D4BF2B43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AF2E-8FB7-4A85-B3F0-5274D29D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7664-3C41-452C-8D19-AB7CDF8C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DFAD-578F-43C7-AC28-3A078CB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7809-8545-4E27-9EF0-8770FECC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FF5E-4A2E-4BC3-A5B3-AC3F7A13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07D2-45A8-41DB-8295-5204EF0D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03F1-F7AA-409B-82D4-E926D61C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F65-B97F-4D18-836E-47939016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E249-C1AF-4589-9BA3-82C9B1B0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4D42-1E3A-43DB-8EDD-E9328488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BDE8-B3DA-4387-99C1-3097F3D3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AD3-1E1E-472A-A594-4EE70964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9F71-0B4C-4175-9661-B39D71FE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E28-D545-442F-A10B-CBB0EFDA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A99-213C-45A3-8A85-87D02D3D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584-BB4D-4A06-B62E-2CEAA1D9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155-2B88-482C-BC1D-E7CF2CF7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33F-3B1A-4AFB-B1CD-A2219423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0F0-C356-4A3B-999B-FA262BCE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7FA-36F4-4C8A-8782-F19F139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EB3A-0EDB-47BE-A81E-96F8A2894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B4B8-FFA7-4A70-88B7-240C1D68A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0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f30fc"/>
                </a:solidFill>
                <a:latin typeface="Arial Black"/>
              </a:rPr>
              <a:t>В  афинских  школах и гимнасиях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овар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едаго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сопровождающий  ребенка 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алест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кола  для  занятий  гимн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Гимнас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кола  для  взросл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Сти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металлическая или костяная  палочка  для пись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423280" y="6066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0fc"/>
                </a:solidFill>
                <a:latin typeface="Arial Black"/>
              </a:rPr>
              <a:t>План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04ec"/>
                </a:solidFill>
                <a:latin typeface="Arial"/>
              </a:rPr>
              <a:t>Рабы – педагог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04ec"/>
                </a:solidFill>
                <a:latin typeface="Arial"/>
              </a:rPr>
              <a:t>Занятия  в школ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04ec"/>
                </a:solidFill>
                <a:latin typeface="Arial"/>
              </a:rPr>
              <a:t>Посещение  палест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04ec"/>
                </a:solidFill>
                <a:latin typeface="Arial"/>
              </a:rPr>
              <a:t>В  афинских  гимнасия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04ec"/>
                </a:solidFill>
                <a:latin typeface="Arial Black"/>
              </a:rPr>
              <a:t>Задание  на урок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04ec"/>
                </a:solidFill>
                <a:latin typeface="Arial"/>
              </a:rPr>
              <a:t>Подумайте, чем  отличаетс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04ec"/>
                </a:solidFill>
                <a:latin typeface="Arial"/>
              </a:rPr>
              <a:t>образование в  Афинах  от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04ec"/>
                </a:solidFill>
                <a:latin typeface="Arial"/>
              </a:rPr>
              <a:t>образования  в  Спарт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3794" y="4951"/>
                </a:moveTo>
                <a:lnTo>
                  <a:pt x="17806" y="11957"/>
                </a:lnTo>
                <a:lnTo>
                  <a:pt x="3794" y="1896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0fc"/>
                </a:solidFill>
                <a:latin typeface="Arial Black"/>
              </a:rPr>
              <a:t>1. Рабы - педаго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79640" y="1341360"/>
            <a:ext cx="511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 семи  лет мальчики  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атых  семей, ниче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оме  игр не  занимали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емь лет ребенка пер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али</a:t>
            </a: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0" lang="ru-RU" sz="3600" spc="-1" strike="noStrike" u="sng">
                <a:solidFill>
                  <a:srgbClr val="cc0099"/>
                </a:solidFill>
                <a:uFillTx/>
                <a:latin typeface="Arial"/>
              </a:rPr>
              <a:t>педагог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водил мальч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школу, нёс 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сьменные  принадлеж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сти  и музыкальны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менты. А дома об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л  хорошим манер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951280" cy="55166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2268360" y="6237360"/>
            <a:ext cx="71640" cy="7128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1709" h="21600">
                <a:moveTo>
                  <a:pt x="0" y="0"/>
                </a:moveTo>
                <a:lnTo>
                  <a:pt x="21709" y="0"/>
                </a:lnTo>
                <a:lnTo>
                  <a:pt x="21709" y="21600"/>
                </a:lnTo>
                <a:lnTo>
                  <a:pt x="0" y="21600"/>
                </a:lnTo>
                <a:close/>
              </a:path>
              <a:path fill="lightenLess" w="21709" h="21600">
                <a:moveTo>
                  <a:pt x="0" y="0"/>
                </a:moveTo>
                <a:lnTo>
                  <a:pt x="21709" y="0"/>
                </a:lnTo>
                <a:lnTo>
                  <a:pt x="20309" y="1400"/>
                </a:lnTo>
                <a:lnTo>
                  <a:pt x="1400" y="1400"/>
                </a:lnTo>
                <a:close/>
              </a:path>
              <a:path fill="darken" w="21709" h="21600">
                <a:moveTo>
                  <a:pt x="21709" y="0"/>
                </a:moveTo>
                <a:lnTo>
                  <a:pt x="21709" y="21600"/>
                </a:lnTo>
                <a:lnTo>
                  <a:pt x="20309" y="20200"/>
                </a:lnTo>
                <a:lnTo>
                  <a:pt x="20309" y="1400"/>
                </a:lnTo>
                <a:close/>
              </a:path>
              <a:path fill="darkenLess" w="21709" h="21600">
                <a:moveTo>
                  <a:pt x="217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9" y="20200"/>
                </a:lnTo>
                <a:close/>
              </a:path>
              <a:path fill="lighten" w="217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9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04ec"/>
                </a:solidFill>
                <a:latin typeface="Arial Black"/>
              </a:rPr>
              <a:t>2. Занятия  в  школ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Изучаемые   предм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Письмо   чтение   счёт  рисование  п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игра  на музыкальных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инструмен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419640" y="2421000"/>
            <a:ext cx="792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9280" y="249228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565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2421000"/>
            <a:ext cx="36036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2421000"/>
            <a:ext cx="10810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421000"/>
            <a:ext cx="50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92000" y="2421000"/>
            <a:ext cx="115092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3794"/>
                </a:moveTo>
                <a:lnTo>
                  <a:pt x="18624" y="10800"/>
                </a:lnTo>
                <a:lnTo>
                  <a:pt x="461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3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3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3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8880" y="-1141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16400" y="1197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 школе  прививал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овь  к  стих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 гордилис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, что  выучил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изусть «Илиаду»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Одиссею»  Гом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765680" cy="50850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028000" y="5805360"/>
            <a:ext cx="826920" cy="682920"/>
          </a:xfrm>
          <a:custGeom>
            <a:avLst/>
            <a:gdLst>
              <a:gd name="textAreaLeft" fmla="*/ 44280 w 826920"/>
              <a:gd name="textAreaRight" fmla="*/ 782640 w 82692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6152" h="21600">
                <a:moveTo>
                  <a:pt x="0" y="0"/>
                </a:moveTo>
                <a:lnTo>
                  <a:pt x="26152" y="0"/>
                </a:lnTo>
                <a:lnTo>
                  <a:pt x="26152" y="21600"/>
                </a:lnTo>
                <a:lnTo>
                  <a:pt x="0" y="21600"/>
                </a:lnTo>
                <a:close/>
              </a:path>
              <a:path fill="lightenLess" w="26152" h="21600">
                <a:moveTo>
                  <a:pt x="0" y="0"/>
                </a:moveTo>
                <a:lnTo>
                  <a:pt x="26152" y="0"/>
                </a:lnTo>
                <a:lnTo>
                  <a:pt x="24752" y="1400"/>
                </a:lnTo>
                <a:lnTo>
                  <a:pt x="1400" y="1400"/>
                </a:lnTo>
                <a:close/>
              </a:path>
              <a:path fill="darken" w="26152" h="21600">
                <a:moveTo>
                  <a:pt x="26152" y="0"/>
                </a:moveTo>
                <a:lnTo>
                  <a:pt x="26152" y="21600"/>
                </a:lnTo>
                <a:lnTo>
                  <a:pt x="24752" y="20200"/>
                </a:lnTo>
                <a:lnTo>
                  <a:pt x="24752" y="1400"/>
                </a:lnTo>
                <a:close/>
              </a:path>
              <a:path fill="darkenLess" w="26152" h="21600">
                <a:moveTo>
                  <a:pt x="2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2" y="20200"/>
                </a:lnTo>
                <a:close/>
              </a:path>
              <a:path fill="lighten" w="2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2" h="21600">
                <a:moveTo>
                  <a:pt x="6070" y="3794"/>
                </a:moveTo>
                <a:lnTo>
                  <a:pt x="20083" y="10800"/>
                </a:lnTo>
                <a:lnTo>
                  <a:pt x="607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04ec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1504ec"/>
                </a:solidFill>
                <a:latin typeface="Arial Black"/>
              </a:rPr>
              <a:t>3. Посещение  палест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03640" y="1484280"/>
            <a:ext cx="3889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 двенадцати  лет  мальчики начин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ещать ещё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у  школу 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99"/>
                </a:solidFill>
                <a:uFillTx/>
                <a:latin typeface="Arial"/>
              </a:rPr>
              <a:t>палестру.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они  заним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сь гимнастик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, бего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ыжками,мета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пья  и д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352000" y="6237360"/>
            <a:ext cx="792000" cy="620640"/>
          </a:xfrm>
          <a:custGeom>
            <a:avLst/>
            <a:gdLst>
              <a:gd name="textAreaLeft" fmla="*/ 39960 w 792000"/>
              <a:gd name="textAreaRight" fmla="*/ 752040 w 79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60" h="21600">
                <a:moveTo>
                  <a:pt x="0" y="0"/>
                </a:moveTo>
                <a:lnTo>
                  <a:pt x="27560" y="0"/>
                </a:lnTo>
                <a:lnTo>
                  <a:pt x="27560" y="21600"/>
                </a:lnTo>
                <a:lnTo>
                  <a:pt x="0" y="21600"/>
                </a:lnTo>
                <a:close/>
              </a:path>
              <a:path fill="lightenLess" w="27560" h="21600">
                <a:moveTo>
                  <a:pt x="0" y="0"/>
                </a:moveTo>
                <a:lnTo>
                  <a:pt x="27560" y="0"/>
                </a:lnTo>
                <a:lnTo>
                  <a:pt x="26160" y="1400"/>
                </a:lnTo>
                <a:lnTo>
                  <a:pt x="1400" y="1400"/>
                </a:lnTo>
                <a:close/>
              </a:path>
              <a:path fill="darken" w="27560" h="21600">
                <a:moveTo>
                  <a:pt x="27560" y="0"/>
                </a:moveTo>
                <a:lnTo>
                  <a:pt x="27560" y="21600"/>
                </a:lnTo>
                <a:lnTo>
                  <a:pt x="26160" y="20200"/>
                </a:lnTo>
                <a:lnTo>
                  <a:pt x="26160" y="1400"/>
                </a:lnTo>
                <a:close/>
              </a:path>
              <a:path fill="darkenLess" w="27560" h="21600">
                <a:moveTo>
                  <a:pt x="2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60" y="20200"/>
                </a:lnTo>
                <a:close/>
              </a:path>
              <a:path fill="lighten" w="2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60" h="21600">
                <a:moveTo>
                  <a:pt x="6774" y="3794"/>
                </a:moveTo>
                <a:lnTo>
                  <a:pt x="20787" y="10800"/>
                </a:lnTo>
                <a:lnTo>
                  <a:pt x="677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7200" y="2133720"/>
            <a:ext cx="443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457440" cy="630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алестрах  стоя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туи атлетов  раб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 великих мастер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х  как  Мирон 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ик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92360" y="3112920"/>
            <a:ext cx="2519280" cy="374508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3920"/>
                </a:moveTo>
                <a:lnTo>
                  <a:pt x="17806" y="10927"/>
                </a:lnTo>
                <a:lnTo>
                  <a:pt x="3794" y="1793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35280" y="3933720"/>
            <a:ext cx="3673440" cy="215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842920" y="1844280"/>
            <a:ext cx="2160360" cy="23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04ec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1504ec"/>
                </a:solidFill>
                <a:latin typeface="Arial Black"/>
              </a:rPr>
              <a:t>4. В  афинских  гимнасия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16400" y="1905120"/>
            <a:ext cx="3927600" cy="495288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рослые  афинян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елавшие  продо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ть занятия  гимн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кой и пополн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и  знания  посещ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  </a:t>
            </a:r>
            <a:r>
              <a:rPr b="0" lang="ru-RU" sz="4000" spc="-1" strike="noStrike" u="sng">
                <a:solidFill>
                  <a:srgbClr val="cc0099"/>
                </a:solidFill>
                <a:uFillTx/>
                <a:latin typeface="Arial"/>
              </a:rPr>
              <a:t>гимнас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олагались  за го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руины гимнасия в Олимп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1744560"/>
            <a:ext cx="4535640" cy="5113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3419280" y="6165720"/>
            <a:ext cx="1873080" cy="358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532720" y="5950080"/>
            <a:ext cx="611280" cy="90792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907920"/>
              <a:gd name="textAreaBottom" fmla="*/ 868320 h 907920"/>
            </a:gdLst>
            <a:ahLst/>
            <a:rect l="textAreaLeft" t="textAreaTop" r="textAreaRight" b="textAreaBottom"/>
            <a:pathLst>
              <a:path w="21600" h="32076">
                <a:moveTo>
                  <a:pt x="0" y="0"/>
                </a:moveTo>
                <a:lnTo>
                  <a:pt x="21600" y="0"/>
                </a:lnTo>
                <a:lnTo>
                  <a:pt x="21600" y="32076"/>
                </a:lnTo>
                <a:lnTo>
                  <a:pt x="0" y="32076"/>
                </a:lnTo>
                <a:close/>
              </a:path>
              <a:path fill="lightenLess" w="21600" h="32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076">
                <a:moveTo>
                  <a:pt x="21600" y="0"/>
                </a:moveTo>
                <a:lnTo>
                  <a:pt x="21600" y="32076"/>
                </a:lnTo>
                <a:lnTo>
                  <a:pt x="20200" y="30676"/>
                </a:lnTo>
                <a:lnTo>
                  <a:pt x="20200" y="1400"/>
                </a:lnTo>
                <a:close/>
              </a:path>
              <a:path fill="darkenLess" w="21600" h="32076">
                <a:moveTo>
                  <a:pt x="21600" y="32076"/>
                </a:moveTo>
                <a:lnTo>
                  <a:pt x="0" y="32076"/>
                </a:lnTo>
                <a:lnTo>
                  <a:pt x="1400" y="30676"/>
                </a:lnTo>
                <a:lnTo>
                  <a:pt x="20200" y="30676"/>
                </a:lnTo>
                <a:close/>
              </a:path>
              <a:path fill="lighten" w="21600" h="32076">
                <a:moveTo>
                  <a:pt x="0" y="32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676"/>
                </a:lnTo>
                <a:close/>
              </a:path>
              <a:path fill="darken" w="21600" h="32076">
                <a:moveTo>
                  <a:pt x="3794" y="9031"/>
                </a:moveTo>
                <a:lnTo>
                  <a:pt x="17806" y="16038"/>
                </a:lnTo>
                <a:lnTo>
                  <a:pt x="3794" y="2304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0:37:30Z</dcterms:created>
  <dc:creator>New</dc:creator>
  <dc:description/>
  <dc:language>en-US</dc:language>
  <cp:lastModifiedBy>Adel</cp:lastModifiedBy>
  <dcterms:modified xsi:type="dcterms:W3CDTF">2009-08-05T11:00:31Z</dcterms:modified>
  <cp:revision>12</cp:revision>
  <dc:subject/>
  <dc:title>В  афинских  школах и гимнасиях</dc:title>
</cp:coreProperties>
</file>