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0A6-5426-45C8-A766-132F28A8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52D-7F69-445F-A3EB-0E4572AE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A6E-B266-42BF-A7C6-E5ED0F7D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78B-1B92-4D88-BF2D-E5BAA1EF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4AB-5EA5-4344-80ED-A9A8A406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768-EA13-4360-8C67-C511FAAD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B34-4046-4E75-A071-99DE6F1F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1F8-6DE8-414D-8285-3FD10209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DF1-1CF2-47E1-8859-C16B21BE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210-72E3-47DB-A687-C022D9C9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6AC-A4DC-4667-895E-26BEB962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E29-1970-40BD-8C9E-A6C7096D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CFF3-803B-405B-A736-569C4FF5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628640"/>
            <a:ext cx="748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Виктор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«Герои любимых сказ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4920" y="620640"/>
            <a:ext cx="669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то-то за кого-то ухватился крепко: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 Ох, никак не вытянуть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х, засела крепко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о ещё помощники скоро прибегут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бедит упрямицу дружный общий труд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то засел так крепко? Может э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35280" y="3284640"/>
            <a:ext cx="31683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17840" y="9810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сет меня лиса за темные леса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За быстрые реки, за высокие горы..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от! Дрозд! Спасите мен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27036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32000" y="90792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 солнечной поляне стоит зеленый дом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 в доме том зеленом живет весел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3809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19280" y="76500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ногим долго неизвестный, 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тал он каждому дружком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сем по сказке интересной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альчик - Луковка знаком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чень просто и недлинно он зов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38280" y="2421000"/>
            <a:ext cx="28400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78200" y="620640"/>
            <a:ext cx="46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сех на свете он добрей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Лечит он больных зверей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И однажды бегемота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ытащил он из болота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сем известен, знаменит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обрый доктор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3328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63640" y="985680"/>
            <a:ext cx="56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н дружок зверям и детям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н живое существо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о таких на целом свете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Больше нет ни одного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тому, что он не птица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 тигренок, не лисица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 котенок, не щенок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 волчонок, не сурок …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о заснято для кино и известна всем давно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Эта милая мордашка, что зов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Картинка 1 из 52781"/>
          <p:cNvPicPr/>
          <p:nvPr/>
        </p:nvPicPr>
        <p:blipFill>
          <a:blip r:embed="rId2"/>
          <a:stretch/>
        </p:blipFill>
        <p:spPr>
          <a:xfrm>
            <a:off x="1332000" y="692280"/>
            <a:ext cx="60958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87280" y="1773360"/>
            <a:ext cx="59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68360" y="9810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 двери он глядит в тревоге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мывальник хромоногий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сех мочалок командир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 чудесной сказк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25210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32000" y="1268280"/>
            <a:ext cx="712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 грядки старушка цветок сорвала, 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евочке Жене его отдала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 цветке, лепестках есть волшебная сила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Их девочка Женя о чем-то просила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Что надо сказать, лепестки отрывая?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ак называется сказка так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733320"/>
            <a:ext cx="381024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0000" y="836640"/>
            <a:ext cx="62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ейчас потолкуем о книжке другой -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ут синее море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ут берег крутой …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тарик вышел к морю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н невод забросил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ого он поймает?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И что он попрос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343512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83664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явилась девочка в чашечке цветка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 была та девочка чуть больше ноготка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 ореховой скорлупке девочка спала 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от какая девочка как она мала!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то читал такую книжку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Знает девочку малыш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1686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40000" y="620640"/>
            <a:ext cx="54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 букварем шагает в школу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еревянный мальчуган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падает вместо школы 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 деревянный балаган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ак зовется эта книжка?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ак зовется сам мальчиш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11240" y="2992320"/>
            <a:ext cx="266076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98100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 птичник повадится — жди беды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ыжим хвостом заметает сл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36576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87640" y="98100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сех он любит неизменно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то б к нему ни приходил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огадались? Это Гена…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4:37:43Z</dcterms:created>
  <dc:creator>Михаил</dc:creator>
  <dc:description/>
  <dc:language>en-US</dc:language>
  <cp:lastModifiedBy>Михаил</cp:lastModifiedBy>
  <dcterms:modified xsi:type="dcterms:W3CDTF">2011-03-27T15:36:23Z</dcterms:modified>
  <cp:revision>4</cp:revision>
  <dc:subject/>
  <dc:title>Слайд 1</dc:title>
</cp:coreProperties>
</file>