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37F-88BD-4810-8D05-BDE2D16C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E6A-D41A-486F-AB2F-0FDE717E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EE2-536E-4B8A-8C1F-43C1F61B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DBD-E0AD-4671-9301-11744254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E8D7-8867-4210-8C0F-7B4A60A5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DAD9-6C01-4320-B56B-FFC4C321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22E8-3363-4C6A-AEDB-91975C1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0A3D-1422-4A63-B761-33D5CCF4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E0F3-76BC-4A5A-8DB8-B60EC1D9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7C26-A001-4FF8-ACF0-DCE3A94E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5D89-D608-4C1D-BEFE-3B5366A5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3CE-7B37-446A-985A-BAE2F00C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1DB0-3663-4FF3-AEE6-18EC4140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5CEB-6ACE-48EA-B900-CE90549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7BF1-956A-4ACA-B7BF-CD5FF420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FD62-A95C-4197-A601-CE006B19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74F2-6E79-45A7-84A0-A57667AE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7356D-C4AA-473D-A778-B0E0BD51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C4BF0-6859-4DDF-B145-475FB648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7134-44BB-442E-A490-9C214C6E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39D4-2F8A-47F2-A22B-60A2A9B4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BAF24-FD11-4B1D-9383-76B5C2D8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399-5D08-4B58-9024-4DF74D05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47293-48A2-4E6F-9E17-E73EE3F6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2415B-9468-4787-A69A-647114CF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1C52-28ED-4E20-9426-30733141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C87A-6C00-4670-8895-9A631ED9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445D3-E2A9-4644-B62C-6CCADB14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F3780-3321-4A83-9802-A294EAE3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7EB5D-A65C-44FA-AFB6-A5F467CC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E8630-47FC-4344-8ED8-AB6F900A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76C1-4F64-4414-8053-97177FD6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5A1D9-A5CC-46C1-A880-EEA54ED7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6FD-49D2-45E7-B43B-81D7FB85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5FB73-4603-46E6-A6B9-0ECD721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B4810-4AA9-4D4A-A6A4-1C70BBD1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51FC6-A060-462E-BDF8-60F817F8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12AF9-DFD3-435C-9748-1F5FFDE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7F018-327A-428C-B081-9C4AABB1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B3E1-3205-4EB1-8304-F5C1039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5E2B-0762-4C64-8191-50799F1A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4F105-2D73-4A3D-9D56-ABE59808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8AB1-23CF-4089-9641-BC205B6E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857ED-23CC-4E64-B1C8-8AF84F5B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112-EBB4-4C3C-9855-FF42A794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376B1-0910-40E7-8311-4DE17B4E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7DBDC-F29F-44F7-829A-C872A66E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5DE2E-5091-41A8-AABF-99E5FAD6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95EF0-3D89-445C-B795-9ADEAE5A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F2479-BCC7-44FF-8CBD-A3C17BD1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F523-83AD-47CF-99C5-526FEC93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86CA5-E5FD-45F6-A940-9B805230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938E8-F42A-47BF-9094-ACA298EA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A63E8-6AD0-476A-AF5E-A6E0B83B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F467D-46B4-4711-AA3A-AB2BB439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DD6-A207-467C-AE20-631BF588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B4763-AAF2-42B9-BE74-5BC693E8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B00C-FEC5-4F6A-B8DB-5D1CEF43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123FA-3323-4BC2-A50C-6D78BF57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A182-D281-465F-8D80-F268F323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33E9B-3B8B-432E-91FA-D3620820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508D8-B375-44F1-8573-15F38099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2EDE0-1699-49E4-B86E-0C2848E5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E61A2-5BD1-469C-9040-575847F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8C964-E35F-4113-A168-0A36A3B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1C7E2-97BE-487A-B8C4-63B0FB56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F1C-7F9F-4833-918D-EE9E903A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A047D-850D-4D61-9705-2B56032D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2DB16-2856-4C53-BE77-EADCE8FC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66230-F1BE-4798-BEC5-5FD18F25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4F1-C2D7-4BD5-8818-D9BCBBAD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5EC-9343-49D9-9163-B3B58FB2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4B94-A77B-471A-A705-B52827D57CB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B67-4B7C-4636-856B-798E5806F13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754B-8333-4E9D-BAB1-86D57844284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9209-AE43-44E1-9EEA-78EA47AC260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9327-381E-4A07-AC2C-04E197E7E83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69E4-8941-4D75-A691-F634C84D2F0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286000" y="927000"/>
            <a:ext cx="6168960" cy="22179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2050920" y="4581360"/>
            <a:ext cx="41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педагог-организатор ОБЖ ГБОУ Школа №20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юков И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924360" y="6381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Общие проявления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личие влечения к повторным приемам средств с целью вызывания эйфо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олезненное состояние при прекращении приема наркотика – синдром абстин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Устранение синдрома абстиненции после приема токсических и наркотических веще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истрастие быстро развивается у людей, имеющих психическую и физическую предрасположенность – эмоционально неустойчивых, с детства подверженных невротическим срыв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хема 5" descr=""/>
          <p:cNvPicPr/>
          <p:nvPr/>
        </p:nvPicPr>
        <p:blipFill>
          <a:blip r:embed="rId1"/>
          <a:stretch/>
        </p:blipFill>
        <p:spPr>
          <a:xfrm>
            <a:off x="-79200" y="1427040"/>
            <a:ext cx="9090000" cy="48513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Воздействие на организ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ркотики поражают генетический аппарат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Частичное поражение отдельных органов у детей носит массовый характ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татистик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ркомания и токсикомания имеют тенденцию к омолож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Установлено, что в раннем возрасте 3 главные причины приводят к диагнозу «наркомания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Любопытство – 65% случа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лияние среды – 14% случа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одражание – 13% случа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ешающее значение имеют особенности характера ребенка, подростка. К примеру, сверхвозбудимость  психики или, наоборот, заторможе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3" descr="ГламуР.jpg"/>
          <p:cNvPicPr/>
          <p:nvPr/>
        </p:nvPicPr>
        <p:blipFill>
          <a:blip r:embed="rId1"/>
          <a:stretch/>
        </p:blipFill>
        <p:spPr>
          <a:xfrm>
            <a:off x="3238560" y="2914560"/>
            <a:ext cx="5905440" cy="39434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Табакокурение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Курение – расстройство всех функций организма, частые болезни, преждевременная смер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Табак – самое вредное  для здоровья человека растение. В состав табачного дыма входят 30 компонентов. Которые относятся к натуральным ядам, например, никотин, окись углерода, тяжелые металлы и их соли, радиоактивные элементы и их изотоп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татистик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В России сегодня курят 70 млн. человек , а ежегодно умирает от курения 400 тыс. 10% средств, расходуемых на здравоохранение, идут на борьбу с болезнями, связанными с хроническим отравлением табачным дым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Стадии привыкания организм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8" name="Содержимое 3" descr=""/>
          <p:cNvPicPr/>
          <p:nvPr/>
        </p:nvPicPr>
        <p:blipFill>
          <a:blip r:embed="rId1"/>
          <a:stretch/>
        </p:blipFill>
        <p:spPr>
          <a:xfrm>
            <a:off x="401760" y="1590840"/>
            <a:ext cx="7535880" cy="46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Схема 3" descr=""/>
          <p:cNvPicPr/>
          <p:nvPr/>
        </p:nvPicPr>
        <p:blipFill>
          <a:blip r:embed="rId1"/>
          <a:stretch/>
        </p:blipFill>
        <p:spPr>
          <a:xfrm>
            <a:off x="633240" y="3498840"/>
            <a:ext cx="8163000" cy="4419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Воздействие на организ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Задерживает рост, умственное развит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звитие кислородной недостаточ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овышение свертываемости кров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особствует образованию склеротических бляше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трицательное воздействие на половую функцию у мужч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иболее распространенными проблемами в наше время являются алкоголизм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наркомания и табакокурение. Однако знание человеком этих факторов, разрушающих здоровье, позволит им обрести психологическую уравновешенность, необходимую для ведения здорового образа жизн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3" descr="00009898.jpg"/>
          <p:cNvPicPr/>
          <p:nvPr/>
        </p:nvPicPr>
        <p:blipFill>
          <a:blip r:embed="rId1"/>
          <a:stretch/>
        </p:blipFill>
        <p:spPr>
          <a:xfrm>
            <a:off x="0" y="0"/>
            <a:ext cx="909144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Алкоголизм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99680" y="15717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Алкоголизм – это наркотический протоплазматический яд, действующий парализующим образом на любую живую клетку и, в первую очередь, на клетки высших отделов центральной нервной системы (ЦНС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татистик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За последние 3 - 4 десятилетия потребление алкоголя на душу населения во многих странах удвоилось, а число случаев первичной госпитализации психических больных, злоупотребляющих алкоголем, утроилос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Показатель смертности от разных причин у лиц, потребляющих алкоголь, 3 – 4 раза превышает аналогичный показатель для населения в целом. Их средняя продолжительность жизни не превышает обычно 55 лет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Алкогольная эйфория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Алкогольная эйфория  - состояние приподнятого настроения, беспечности, довольства, не соответствующее объективным услов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на исключает возможность критического отношения к своим высказываниям, поступкам, действиям, приводит к потере бди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истематическое употребление спиртных напитков уничтожает все, чем обогатил человек свой ум в течение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1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1" i="1" lang="ru-RU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Алкогольная</a:t>
            </a:r>
            <a:r>
              <a:rPr b="1" i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зависимость </a:t>
            </a:r>
            <a:r>
              <a:rPr b="1" i="1" lang="en-GB" sz="3600" spc="-1" strike="noStrike">
                <a:solidFill>
                  <a:srgbClr val="ffffff"/>
                </a:solidFill>
                <a:latin typeface="Georgi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Содержимое 3" descr=""/>
          <p:cNvPicPr/>
          <p:nvPr/>
        </p:nvPicPr>
        <p:blipFill>
          <a:blip r:embed="rId1"/>
          <a:stretch/>
        </p:blipFill>
        <p:spPr>
          <a:xfrm>
            <a:off x="426960" y="1596960"/>
            <a:ext cx="7510680" cy="4541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Воздействие на организ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Содержимое 5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7467480" cy="45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Наркомания и токсикомания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Наркомания – болезненное пристрастие к наркотикам, неконтролируемое их потреб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Токсикомания – употребление средств бытовой химии (в основном ингаляционных) для получения наркотического эфф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8" descr="трава.gif"/>
          <p:cNvPicPr/>
          <p:nvPr/>
        </p:nvPicPr>
        <p:blipFill>
          <a:blip r:embed="rId1"/>
          <a:stretch/>
        </p:blipFill>
        <p:spPr>
          <a:xfrm>
            <a:off x="6572160" y="1428840"/>
            <a:ext cx="2571840" cy="20574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7" descr="00036567.jpg"/>
          <p:cNvPicPr/>
          <p:nvPr/>
        </p:nvPicPr>
        <p:blipFill>
          <a:blip r:embed="rId2"/>
          <a:stretch/>
        </p:blipFill>
        <p:spPr>
          <a:xfrm>
            <a:off x="6572160" y="3514680"/>
            <a:ext cx="2571840" cy="1982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Наркотик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Содержимое 5" descr=""/>
          <p:cNvPicPr/>
          <p:nvPr/>
        </p:nvPicPr>
        <p:blipFill>
          <a:blip r:embed="rId3"/>
          <a:stretch/>
        </p:blipFill>
        <p:spPr>
          <a:xfrm>
            <a:off x="0" y="1620720"/>
            <a:ext cx="8004240" cy="3841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7:04:07Z</dcterms:created>
  <dc:creator>Хотабыч</dc:creator>
  <dc:description/>
  <dc:language>en-US</dc:language>
  <cp:lastModifiedBy>пользователь</cp:lastModifiedBy>
  <dcterms:modified xsi:type="dcterms:W3CDTF">2017-09-15T10:58:01Z</dcterms:modified>
  <cp:revision>29</cp:revision>
  <dc:subject/>
  <dc:title>Слайд 1</dc:title>
</cp:coreProperties>
</file>