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8.png" ContentType="image/png"/>
  <Override PartName="/ppt/media/image7.jpeg" ContentType="image/jpeg"/>
  <Override PartName="/ppt/media/image5.gif" ContentType="image/gif"/>
  <Override PartName="/ppt/media/image3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2.png" ContentType="image/png"/>
  <Override PartName="/ppt/media/image41.png" ContentType="image/png"/>
  <Override PartName="/ppt/media/image43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CA7-C3BB-4E04-8679-D0FC6CD2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EA2-4AE6-41FE-9C2C-0AB834E6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7A0-0A3E-42E1-A55F-F94D08CA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905-6AA2-43B6-BD68-2200A3A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4A8-176D-4619-B41A-8D91217F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C915-C314-493F-8A88-C833908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60C-573E-4A52-9945-6DB2561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A586-4FCB-4B7B-9550-0BF5BAC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AC46-1948-4D51-AA0A-2E2FC92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D34-667F-4792-991C-8EF8956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657-B4F6-4E1C-8603-603B851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A3A-A6A8-4AC8-AA59-B50C61F3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D8D-17C2-4FA0-AE15-CF30ED8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3AE-A434-49D6-9725-1718F87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73F-C23F-4609-A37F-F9C31F2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620B-C5AF-471F-AF6D-4188273D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149F-BAA8-4AEC-8CCF-E6640DE8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F4084-5CE8-4E65-8D5C-9348767E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02233-4B69-4BDC-8630-CB7FB5A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42331-5961-474A-8B8A-759014B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C897F-318E-4159-9A15-E1E10600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A58CA-8039-4684-A71B-E76B02B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B7B-E79E-4501-8664-F2F6EE3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44239-0E45-444A-A278-F285973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D2E8B-7809-4860-BD0F-51E2521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2F134-3533-4035-B5E7-FBACBED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66567-220D-482E-8AB7-E4DC7E2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90A0C-E3B0-4EE5-8F4A-DBCEDD5E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ED6F4-9BBF-4AED-8C16-2E59D88F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9C836-C385-42E2-99BF-4EC256F7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2FC5-067D-4FB8-9494-7643CDCF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3B18-ED77-4899-BB6C-99F80A2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4AA4-A928-4DD4-B7BC-7842A50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DF7-DE97-4F54-B88D-2EECDBF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A071-1BA0-48B8-92BF-DF42BAA9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4727-EEA8-4292-BF86-745B9B24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0074-CC51-4197-A417-33C7715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6A62-C4FA-4DBB-A2C5-21C93AA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C481-4A3F-4235-9C52-4B301F7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34BE-C12A-46AB-822C-0F63A4E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98EC-2A73-4004-823C-13E888EB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48B0-591C-49E9-87D1-8680E2CD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5340-4560-454E-89A2-7E6A8FC2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A9F3-FB11-4018-A50F-8BAFEBF8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A46-88FD-4B42-A402-FED265F8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86F9-B20F-42C2-8F25-D32E6BC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EF12-AA56-41A5-982B-62ED371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EE00-D33E-4000-8E27-38C533D0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5A52-5BA2-4DB8-AECB-4637A50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5C7F-1850-4B70-9B51-579DEDD7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690C-CAF2-4D32-9FF2-BC8A649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863F-B6C2-4B32-A130-6475FBC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D977-4D68-4AD7-8737-FA28EE5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3493-38CA-4C71-96AA-CE2266B3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79758-F776-4EBF-A1BE-4EE766D3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C7E-5F6C-4FBE-908C-0AA98E3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270C-D908-4C5B-8C15-633A7218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3DB-A721-48C6-B33B-50BF8A0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AC7-54B4-4DC6-A1B8-9271AE6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C9F-255A-4940-911A-6D6AE3F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656-C560-4276-A0EF-162E24CB54D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B14-536E-4038-A904-1CA7F93A1EB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3DC-0D4A-4972-A886-A971AA78F3B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D118-FD0B-4590-B028-346685F3C95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4AE-11EB-4D37-B3F1-4000963065F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rebuchet MS"/>
              </a:rPr>
              <a:t>Источники звука. </a:t>
            </a:r>
            <a:br>
              <a:rPr sz="4800"/>
            </a:br>
            <a:r>
              <a:rPr b="1" i="1" lang="ru-RU" sz="4800" spc="-1" strike="noStrike">
                <a:solidFill>
                  <a:srgbClr val="7030a0"/>
                </a:solidFill>
                <a:latin typeface="Trebuchet MS"/>
              </a:rPr>
              <a:t>Характеристики звука.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Picture 2" descr="C:\Documents and Settings\1\Рабочий стол\42064213_1238877202_22.jpg"/>
          <p:cNvPicPr/>
          <p:nvPr/>
        </p:nvPicPr>
        <p:blipFill>
          <a:blip r:embed="rId1"/>
          <a:stretch/>
        </p:blipFill>
        <p:spPr>
          <a:xfrm>
            <a:off x="714240" y="3071880"/>
            <a:ext cx="3802320" cy="2851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5357880" y="2928960"/>
            <a:ext cx="3341520" cy="20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1428840" y="107172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ум –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громкие звуки разных частот, слившиеся в нестройное звуч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785880" y="4143240"/>
            <a:ext cx="3371760" cy="175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5214960" y="4357800"/>
            <a:ext cx="3543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1143000" y="582480"/>
            <a:ext cx="739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Больше читай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46120" y="1704960"/>
            <a:ext cx="4967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man Old Style"/>
              </a:rPr>
              <a:t>физи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1255680" y="2657520"/>
            <a:ext cx="7054920" cy="29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и счасть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улыбнется ва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23" name="Picture 4" descr="MCj04348100000[1]"/>
          <p:cNvPicPr/>
          <p:nvPr/>
        </p:nvPicPr>
        <p:blipFill>
          <a:blip r:embed="rId1"/>
          <a:stretch/>
        </p:blipFill>
        <p:spPr>
          <a:xfrm>
            <a:off x="6072120" y="1143000"/>
            <a:ext cx="21589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71680" y="29289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вук – это воспринимаемые человеческими органами слуха механические волны, которые вызывают звуковые ощу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\Рабочий стол\iKvAs0h0hmE8K.jpg"/>
          <p:cNvPicPr/>
          <p:nvPr/>
        </p:nvPicPr>
        <p:blipFill>
          <a:blip r:embed="rId1"/>
          <a:stretch/>
        </p:blipFill>
        <p:spPr>
          <a:xfrm>
            <a:off x="714240" y="857160"/>
            <a:ext cx="2692440" cy="1857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G_0007"/>
          <p:cNvPicPr/>
          <p:nvPr/>
        </p:nvPicPr>
        <p:blipFill>
          <a:blip r:embed="rId2"/>
          <a:stretch/>
        </p:blipFill>
        <p:spPr>
          <a:xfrm>
            <a:off x="3605040" y="785880"/>
            <a:ext cx="5538960" cy="190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68360" y="429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льтразву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высокочастотные механические колебания частиц твердой, жидкой или газообразной среды, неслышимые человеческим ухом. Частота колебаний ультразвука выше 20 000 в секунду, т. е. выше порога слыш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3"/>
          <a:stretch/>
        </p:blipFill>
        <p:spPr>
          <a:xfrm>
            <a:off x="0" y="-100080"/>
            <a:ext cx="84805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</a:rPr>
              <a:t>Ультразвук и инфразву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391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Ультразвук и инфразвук распространены в природе так же широко, как и волны звукового диапазона. Их излучают и используют для своих «переговоров» дельфины, летучие мыши и некоторые другие сущ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2" name="Picture 4" descr="нркеноге"/>
          <p:cNvPicPr/>
          <p:nvPr/>
        </p:nvPicPr>
        <p:blipFill>
          <a:blip r:embed="rId1"/>
          <a:stretch/>
        </p:blipFill>
        <p:spPr>
          <a:xfrm>
            <a:off x="5940360" y="2924280"/>
            <a:ext cx="2901960" cy="2176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Dolphin_2"/>
          <p:cNvPicPr/>
          <p:nvPr/>
        </p:nvPicPr>
        <p:blipFill>
          <a:blip r:embed="rId2"/>
          <a:stretch/>
        </p:blipFill>
        <p:spPr>
          <a:xfrm>
            <a:off x="179280" y="321300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komar"/>
          <p:cNvPicPr/>
          <p:nvPr/>
        </p:nvPicPr>
        <p:blipFill>
          <a:blip r:embed="rId3"/>
          <a:stretch/>
        </p:blipFill>
        <p:spPr>
          <a:xfrm>
            <a:off x="3492360" y="4670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ппппппппппул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6" name="Picture 9" descr="uzi-4"/>
          <p:cNvPicPr/>
          <p:nvPr/>
        </p:nvPicPr>
        <p:blipFill>
          <a:blip r:embed="rId1"/>
          <a:stretch/>
        </p:blipFill>
        <p:spPr>
          <a:xfrm>
            <a:off x="826920" y="90792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IMG_8781"/>
          <p:cNvPicPr/>
          <p:nvPr/>
        </p:nvPicPr>
        <p:blipFill>
          <a:blip r:embed="rId2"/>
          <a:stretch/>
        </p:blipFill>
        <p:spPr>
          <a:xfrm>
            <a:off x="5715000" y="1071720"/>
            <a:ext cx="2629080" cy="28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1742"/>
          <p:cNvPicPr/>
          <p:nvPr/>
        </p:nvPicPr>
        <p:blipFill>
          <a:blip r:embed="rId3"/>
          <a:stretch/>
        </p:blipFill>
        <p:spPr>
          <a:xfrm>
            <a:off x="500040" y="3997440"/>
            <a:ext cx="2187720" cy="2089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ultreo111"/>
          <p:cNvPicPr/>
          <p:nvPr/>
        </p:nvPicPr>
        <p:blipFill>
          <a:blip r:embed="rId4"/>
          <a:stretch/>
        </p:blipFill>
        <p:spPr>
          <a:xfrm>
            <a:off x="4929120" y="39290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leit01-3"/>
          <p:cNvPicPr/>
          <p:nvPr/>
        </p:nvPicPr>
        <p:blipFill>
          <a:blip r:embed="rId5"/>
          <a:stretch/>
        </p:blipFill>
        <p:spPr>
          <a:xfrm>
            <a:off x="2050920" y="4481640"/>
            <a:ext cx="28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УЛЬТРАЗВУКОВОЙ ДАТЧИК NXT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51134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самых интересных и полезных датчиков – ультразвуковой датчик расстояни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иболее частая задача, которая возникает при постройке и программировании робота – научить его определять расстояния до предметов, например, чтобы не натыкаться на них во время движения, или наоборот, находить предметы, расположенные вокруг. Благодаря ультразвуковому датчику эта задача решается практически без усилий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Picture 5" descr="ultrasonic_sensor"/>
          <p:cNvPicPr/>
          <p:nvPr/>
        </p:nvPicPr>
        <p:blipFill>
          <a:blip r:embed="rId1"/>
          <a:stretch/>
        </p:blipFill>
        <p:spPr>
          <a:xfrm>
            <a:off x="5724360" y="2276640"/>
            <a:ext cx="27244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ультразвуковой датчик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46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ва пластмассовых цилиндра, соединённые с печатной платой проводами, это ультразвуковой динамик и ультразвуковой микрофон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настолько сложный датчик, что в нём есть собственный микропроцессор, что позволяет датчику измерять и сообщать основному блоку расстояние в абсолютных единицах- с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атчик работает по принципу сонара, посылая короткий импульс на частоте 40КГц. Затем он измеряет время, за которое звук дошёл до объекта, отразился от него и вернулся назад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ним. расстояние измерения 4 см, Максим.расстояние равно 255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см 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Picture 5" descr="ultrasonic_sensor_internals"/>
          <p:cNvPicPr/>
          <p:nvPr/>
        </p:nvPicPr>
        <p:blipFill>
          <a:blip r:embed="rId1"/>
          <a:stretch/>
        </p:blipFill>
        <p:spPr>
          <a:xfrm>
            <a:off x="5005440" y="2637000"/>
            <a:ext cx="38876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56000" y="3335400"/>
            <a:ext cx="6588000" cy="3522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4284720" cy="30704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076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Эхо- звук отраженный от препятствия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Эхолот- прибор с помощью которого можно определить глубину водоема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929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арковочный радар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, по другому - парктроник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3" name="Текст 12" descr="Система парковки"/>
          <p:cNvPicPr/>
          <p:nvPr/>
        </p:nvPicPr>
        <p:blipFill>
          <a:blip r:embed="rId1"/>
          <a:stretch/>
        </p:blipFill>
        <p:spPr>
          <a:xfrm>
            <a:off x="2590920" y="1844640"/>
            <a:ext cx="6553080" cy="3251160"/>
          </a:xfrm>
          <a:prstGeom prst="rect">
            <a:avLst/>
          </a:prstGeom>
          <a:ln w="0">
            <a:noFill/>
          </a:ln>
        </p:spPr>
      </p:pic>
      <p:pic>
        <p:nvPicPr>
          <p:cNvPr id="354" name="Текст 12" descr="Ультразвуковой датчик"/>
          <p:cNvPicPr/>
          <p:nvPr/>
        </p:nvPicPr>
        <p:blipFill>
          <a:blip r:embed="rId2"/>
          <a:stretch/>
        </p:blipFill>
        <p:spPr>
          <a:xfrm>
            <a:off x="179280" y="4473720"/>
            <a:ext cx="2880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rebuchet MS"/>
              </a:rPr>
              <a:t>Звук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28640"/>
            <a:ext cx="8186760" cy="24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вуком называют колебания воспринимаемые человеческим ухо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Georgia"/>
              </a:rPr>
              <a:t>От 16 до 20000 Гц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11" descr="море"/>
          <p:cNvPicPr/>
          <p:nvPr/>
        </p:nvPicPr>
        <p:blipFill>
          <a:blip r:embed="rId1"/>
          <a:stretch/>
        </p:blipFill>
        <p:spPr>
          <a:xfrm>
            <a:off x="2500200" y="40053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4720" y="475920"/>
            <a:ext cx="5184720" cy="739800"/>
          </a:xfrm>
          <a:prstGeom prst="rect">
            <a:avLst/>
          </a:prstGeom>
          <a:solidFill>
            <a:srgbClr val="0f217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чники зву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Line 4"/>
          <p:cNvSpPr/>
          <p:nvPr/>
        </p:nvSpPr>
        <p:spPr>
          <a:xfrm flipH="1">
            <a:off x="1402920" y="1125360"/>
            <a:ext cx="865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6804000" y="1125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11280" y="1557360"/>
            <a:ext cx="2592360" cy="576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ст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5940360" y="1557360"/>
            <a:ext cx="2449440" cy="576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3964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Calibri"/>
              </a:rPr>
              <a:t>(голос, шелест листьев, шум прибо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940360" y="2133720"/>
            <a:ext cx="24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Calibri"/>
              </a:rPr>
              <a:t>(камертон, струна, колокол, мембран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2" descr="Ins26.gif"/>
          <p:cNvPicPr/>
          <p:nvPr/>
        </p:nvPicPr>
        <p:blipFill>
          <a:blip r:embed="rId1"/>
          <a:stretch/>
        </p:blipFill>
        <p:spPr>
          <a:xfrm flipH="1">
            <a:off x="611280" y="573408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http://class-fizika.narod.ru/9_class/28/lawyers_talking_md_wht.gif"/>
          <p:cNvPicPr/>
          <p:nvPr/>
        </p:nvPicPr>
        <p:blipFill>
          <a:blip r:embed="rId2"/>
          <a:stretch/>
        </p:blipFill>
        <p:spPr>
          <a:xfrm>
            <a:off x="395280" y="3068640"/>
            <a:ext cx="148752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http://www.sakhalin.ru/Region/korni/sea/Image/fakt/fakt-(52).jpg"/>
          <p:cNvPicPr/>
          <p:nvPr/>
        </p:nvPicPr>
        <p:blipFill>
          <a:blip r:embed="rId3"/>
          <a:stretch/>
        </p:blipFill>
        <p:spPr>
          <a:xfrm>
            <a:off x="2268360" y="4437000"/>
            <a:ext cx="1368720" cy="13478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85" name="Picture 2" descr="http://physics.uni-altai.ru/journals/physics/2003/18/no18_02.gif"/>
          <p:cNvPicPr/>
          <p:nvPr/>
        </p:nvPicPr>
        <p:blipFill>
          <a:blip r:embed="rId4"/>
          <a:stretch/>
        </p:blipFill>
        <p:spPr>
          <a:xfrm>
            <a:off x="5580000" y="3141720"/>
            <a:ext cx="2928960" cy="1466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zvonica2.jpg"/>
          <p:cNvPicPr/>
          <p:nvPr/>
        </p:nvPicPr>
        <p:blipFill>
          <a:blip r:embed="rId5"/>
          <a:stretch/>
        </p:blipFill>
        <p:spPr>
          <a:xfrm>
            <a:off x="5651640" y="41497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D:\WINDOWS\Users\Aida\Рабочий стол\зВУКИ\musician45.gif"/>
          <p:cNvPicPr/>
          <p:nvPr/>
        </p:nvPicPr>
        <p:blipFill>
          <a:blip r:embed="rId6"/>
          <a:stretch/>
        </p:blipFill>
        <p:spPr>
          <a:xfrm flipH="1">
            <a:off x="4859280" y="2133720"/>
            <a:ext cx="830160" cy="1322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http://www.01j.ru/imgs/center.bmp"/>
          <p:cNvPicPr/>
          <p:nvPr/>
        </p:nvPicPr>
        <p:blipFill>
          <a:blip r:embed="rId7"/>
          <a:stretch/>
        </p:blipFill>
        <p:spPr>
          <a:xfrm>
            <a:off x="6732720" y="4149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3" descr="http://cat.tmn.fio.ru/works/40x/311/bolki.jpg"/>
          <p:cNvPicPr/>
          <p:nvPr/>
        </p:nvPicPr>
        <p:blipFill>
          <a:blip r:embed="rId8"/>
          <a:stretch/>
        </p:blipFill>
        <p:spPr>
          <a:xfrm>
            <a:off x="611280" y="4437000"/>
            <a:ext cx="157140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0" name="Picture 13" descr=""/>
          <p:cNvPicPr/>
          <p:nvPr/>
        </p:nvPicPr>
        <p:blipFill>
          <a:blip r:embed="rId9"/>
          <a:stretch/>
        </p:blipFill>
        <p:spPr>
          <a:xfrm>
            <a:off x="7667640" y="5373720"/>
            <a:ext cx="1228680" cy="12682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1" name="Picture 2" descr="C:\Documents and Settings\1\Рабочий стол\iKvAs0h0hmE8K.jpg"/>
          <p:cNvPicPr/>
          <p:nvPr/>
        </p:nvPicPr>
        <p:blipFill>
          <a:blip r:embed="rId10"/>
          <a:stretch/>
        </p:blipFill>
        <p:spPr>
          <a:xfrm>
            <a:off x="2195640" y="314172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505600" y="78588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</a:rPr>
              <a:t>Приемники звуковых волн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5676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2000" spc="-1" strike="noStrike">
                <a:solidFill>
                  <a:srgbClr val="7030a0"/>
                </a:solidFill>
                <a:latin typeface="Georgia"/>
              </a:rPr>
              <a:t>Естественный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ухо. Чувствительность его зависит от частоты звуковой волны: чем меньше частота волны, тем меньше чувствительность уха. Исключительная избирательность: дирижер улавливает звуки отдельных инстр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Georgia"/>
              </a:rPr>
              <a:t>Искусственный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икрофон. Он преобразует механические звуковые колебания в электрическ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6" name="Picture 2" descr="C:\Documents and Settings\1\Рабочий стол\oidos.jpg"/>
          <p:cNvPicPr/>
          <p:nvPr/>
        </p:nvPicPr>
        <p:blipFill>
          <a:blip r:embed="rId1"/>
          <a:stretch/>
        </p:blipFill>
        <p:spPr>
          <a:xfrm>
            <a:off x="3929040" y="4714920"/>
            <a:ext cx="1457280" cy="1822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Documents and Settings\1\Рабочий стол\99.jpg"/>
          <p:cNvPicPr/>
          <p:nvPr/>
        </p:nvPicPr>
        <p:blipFill>
          <a:blip r:embed="rId2"/>
          <a:stretch/>
        </p:blipFill>
        <p:spPr>
          <a:xfrm>
            <a:off x="6286680" y="3933720"/>
            <a:ext cx="221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7" descr="Камертон"/>
          <p:cNvPicPr/>
          <p:nvPr/>
        </p:nvPicPr>
        <p:blipFill>
          <a:blip r:embed="rId1"/>
          <a:stretch/>
        </p:blipFill>
        <p:spPr>
          <a:xfrm>
            <a:off x="5940360" y="1268280"/>
            <a:ext cx="2495520" cy="25322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tfl.gif"/>
          <p:cNvPicPr/>
          <p:nvPr/>
        </p:nvPicPr>
        <p:blipFill>
          <a:blip r:embed="rId2"/>
          <a:stretch/>
        </p:blipFill>
        <p:spPr>
          <a:xfrm>
            <a:off x="611280" y="1214280"/>
            <a:ext cx="5072040" cy="242892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4"/>
          <p:cNvSpPr/>
          <p:nvPr/>
        </p:nvSpPr>
        <p:spPr>
          <a:xfrm>
            <a:off x="571680" y="3714840"/>
            <a:ext cx="83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–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24000" y="4500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Calibri"/>
              </a:rPr>
              <a:t>Колебания струны или металлической пластинки передаются окружающему воздуху.  При отклонении пластины в левую сторону она сжимает слои воздуха слева и разрежает слои воздуха, прилегающие к ней с правой стороны  и т.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f217b"/>
                </a:solidFill>
                <a:latin typeface="Calibri"/>
              </a:rPr>
              <a:t>Сжатие и разрежение прилегающих к пластине слоев воздуха передается соседним слоя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Arial"/>
              </a:rPr>
              <a:t>Камертон. Как передается звук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3214800" y="2571840"/>
            <a:ext cx="2006640" cy="20984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785880" y="714240"/>
            <a:ext cx="750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785880" y="4786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 распространяется в любой упругой среде - твердой, жидкой и газообразной, но не может распространяться в пространстве где нет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истории открытия скорости звука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771200" y="1642680"/>
            <a:ext cx="73724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звука в воздухе впервые была определена в 1708 году английским ученым Уильямом Деремо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вух пунктах, расстояние между которыми было известно, стреляли из пушек. В обоих пунктах измеряли промежутки времени между появлением огня при выстреле и моментом, когда слышался звук выстрела. Скорость звука в воздухе 340 м/с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Arial"/>
              </a:rPr>
              <a:t>Громкость  зву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856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Б         Громкость                               Источник зву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30         Болевой порог                         Самолёт на старт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20         Почти невыносимо                Отбойный молоток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10          Крайне шумно                        Вертолё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00         Крайне шумно                        Оркестр, раскаты гром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90           Очень шумно                          Громкие кр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80           Очень шумно                          Крик, громкий смех, мотоцикл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 глушителе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70           Шумно                                      Громкие разговоры (1м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0           Шумно                                      Офисный шу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0           Отчетливо слышно               Разговор, пишущая машин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0          Довольно слышно                  Негромкий разгово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0          Тихо                                            Шёпот, тиканье настенных ча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0          Едва слышно                            Шёпот (1м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0          Почти не слышно                    Тихий шелест листье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           Не слышно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124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кость звука измеряется в единицах, называемых Децибелами (дБ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ДАТЧИК ЗВУКА NXT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3" name="Picture 5" descr="sound_sensor"/>
          <p:cNvPicPr/>
          <p:nvPr/>
        </p:nvPicPr>
        <p:blipFill>
          <a:blip r:embed="rId1"/>
          <a:stretch/>
        </p:blipFill>
        <p:spPr>
          <a:xfrm>
            <a:off x="1316160" y="2651040"/>
            <a:ext cx="2334960" cy="2335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ound_sensor_internals"/>
          <p:cNvPicPr/>
          <p:nvPr/>
        </p:nvPicPr>
        <p:blipFill>
          <a:blip r:embed="rId2"/>
          <a:stretch/>
        </p:blipFill>
        <p:spPr>
          <a:xfrm>
            <a:off x="5148360" y="2795760"/>
            <a:ext cx="3054240" cy="2043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0"/>
          <p:cNvSpPr/>
          <p:nvPr/>
        </p:nvSpPr>
        <p:spPr>
          <a:xfrm>
            <a:off x="684360" y="53082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можете увидеть микрофон, вставленный в поролоновую подушку, конденсатор и розетку, расположенные сверху печатной пл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324000" y="1477080"/>
            <a:ext cx="847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чик зву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дназначен для определения уровня гром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3:00Z</dcterms:created>
  <dc:creator>Надежда</dc:creator>
  <dc:description/>
  <dc:language>en-US</dc:language>
  <cp:lastModifiedBy>Катя</cp:lastModifiedBy>
  <dcterms:modified xsi:type="dcterms:W3CDTF">2014-11-30T19:47:04Z</dcterms:modified>
  <cp:revision>52</cp:revision>
  <dc:subject/>
  <dc:title>Слайд 1</dc:title>
</cp:coreProperties>
</file>