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8.png" ContentType="image/png"/>
  <Override PartName="/ppt/media/image7.jpeg" ContentType="image/jpeg"/>
  <Override PartName="/ppt/media/image5.gif" ContentType="image/gif"/>
  <Override PartName="/ppt/media/image3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31.jpeg" ContentType="image/jpeg"/>
  <Override PartName="/ppt/media/image2.png" ContentType="image/png"/>
  <Override PartName="/ppt/media/image41.png" ContentType="image/png"/>
  <Override PartName="/ppt/media/image43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9.jpeg" ContentType="image/jpeg"/>
  <Override PartName="/ppt/media/image11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853-B315-4A5C-88EC-8B6D2022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641-F1D8-4CD8-8420-CE32B3FF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1F2-E6C8-4A42-9B88-26F0136A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B6E-C024-46CF-8A1D-EC22B35F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175-338B-45F2-A795-BF4B294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069A-8E8A-47EC-AAD9-7F18B7D1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49A-24BA-4B53-BF10-DAB2CAEA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873F-9023-47DD-9139-E1EAACC9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B3C9-0B13-42CA-B190-C4464364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D389-CF92-45FE-ADFD-BEB5E3F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1E3-0FD5-4A4C-8DB9-3DA7CA2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60D-411E-4EE9-900F-3E2D2D4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B7B-4231-402B-AC02-C4F32AB0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FB0A-ABE3-489D-B38E-34D0D37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BD1D-DE54-4464-ACC6-8CDF8EC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004C-A9CA-4980-A0BA-27818AF5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9039-5808-44B6-93D6-86388F9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5CC35-BD2A-43A3-ADFC-5475A516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D7736-AD43-4147-A977-A39ED1C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2944E-A0C0-4B9E-83BE-106BEECF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75BE5-6E50-4EEC-B2F8-F0913FB2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8AA82-6840-4D9C-9F7A-F7AE94F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9BB-FE3B-413E-8209-76F1519E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AFF91-2078-4601-8CD4-20B5B46C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4D0F1-605F-4A22-B57F-9D4ED1C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CE658-5F75-4710-B0C7-F38C550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3DB08-6BA3-4FA6-A33B-4F35BE9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662E2-8798-4638-BA10-9E0AA15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9DF5A-8715-459B-B565-4693F1DB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C5DFA-C874-4AA4-B1FE-145D9B08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A1B2-2EFB-4B19-A662-0B4166A1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2015-A83E-4E47-BE5A-068C0DA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F0AE-CD76-484D-967F-30F5B14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D8E-5C5D-46BF-A34F-B218F98A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78FE-2AC3-4B0D-82FE-040EF8D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45E7-0205-42FA-A5F0-F64A5DB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0E30-CEF5-4F37-8E62-8A5FEA5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7DCA-7C67-42F7-A7EA-618211B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DBC3-1EAF-4372-8A6A-080206A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82EE-DC95-48DF-BD85-82A16B9A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8DBA-C041-49D2-B0FF-24A7390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E522-13A8-4F7D-874A-39E481C7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9B01D-B069-4DB0-BE23-3708A92C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7A03B-7005-45C2-BF05-01A505D4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C76-88DF-4804-897C-B40CC4D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9A7A-C39C-413C-838E-C21D854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6589-1D20-4B76-B40C-DE1DB1B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ED4A-8A2B-4BAB-B84C-FD6E3ADD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1AE4-FB45-4A15-BAE6-7D21CD1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D773-A2D3-413E-8AB3-2CB4463A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DE87-66B1-431F-8147-301715C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C920-676D-4A72-BC38-F1D7130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116B-D7D6-4AD7-B207-B33B229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703C8-61F5-4188-9BF5-73563A0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4C92-1A9A-4D2C-80AF-3B46A749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59F-9D4C-432A-B0B0-B32549EF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0DE9-5B5A-4E1D-9DD4-6852D70F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7CE-BB89-4034-8321-65F860F9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760-772E-454C-ABEB-E481B09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DDE-1DC9-4AD0-8F62-F0E3EEAD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45F0-FC4F-42AA-BD32-9470891DF9C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441-D4FB-4757-B71E-A93153AC998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B4BB-49FB-4659-93FD-2857C069750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DDA-825D-4D6D-8E56-8541FDDD278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963E-181A-4C06-A0CF-CCBCE170072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928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rebuchet MS"/>
              </a:rPr>
              <a:t>Источники звука. </a:t>
            </a:r>
            <a:br>
              <a:rPr sz="4800"/>
            </a:br>
            <a:r>
              <a:rPr b="1" i="1" lang="ru-RU" sz="4800" spc="-1" strike="noStrike">
                <a:solidFill>
                  <a:srgbClr val="7030a0"/>
                </a:solidFill>
                <a:latin typeface="Trebuchet MS"/>
              </a:rPr>
              <a:t>Характеристики звука.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Picture 2" descr="C:\Documents and Settings\1\Рабочий стол\42064213_1238877202_22.jpg"/>
          <p:cNvPicPr/>
          <p:nvPr/>
        </p:nvPicPr>
        <p:blipFill>
          <a:blip r:embed="rId1"/>
          <a:stretch/>
        </p:blipFill>
        <p:spPr>
          <a:xfrm>
            <a:off x="714240" y="3071880"/>
            <a:ext cx="3802320" cy="2851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1257480" cy="131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tretch/>
        </p:blipFill>
        <p:spPr>
          <a:xfrm>
            <a:off x="5357880" y="2928960"/>
            <a:ext cx="3341520" cy="20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1428840" y="107172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ум –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то громкие звуки разных частот, слившиеся в нестройное звуч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785880" y="4143240"/>
            <a:ext cx="3371760" cy="175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5214960" y="4357800"/>
            <a:ext cx="3543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1143000" y="582480"/>
            <a:ext cx="739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Больше читай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546120" y="1704960"/>
            <a:ext cx="4967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man Old Style"/>
              </a:rPr>
              <a:t>физи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1255680" y="2657520"/>
            <a:ext cx="7054920" cy="29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и счасть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улыбнется ва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23" name="Picture 4" descr="MCj04348100000[1]"/>
          <p:cNvPicPr/>
          <p:nvPr/>
        </p:nvPicPr>
        <p:blipFill>
          <a:blip r:embed="rId1"/>
          <a:stretch/>
        </p:blipFill>
        <p:spPr>
          <a:xfrm>
            <a:off x="6072120" y="1143000"/>
            <a:ext cx="21589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5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5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71680" y="29289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вук – это воспринимаемые человеческими органами слуха механические волны, которые вызывают звуковые ощу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\Рабочий стол\iKvAs0h0hmE8K.jpg"/>
          <p:cNvPicPr/>
          <p:nvPr/>
        </p:nvPicPr>
        <p:blipFill>
          <a:blip r:embed="rId1"/>
          <a:stretch/>
        </p:blipFill>
        <p:spPr>
          <a:xfrm>
            <a:off x="714240" y="857160"/>
            <a:ext cx="2692440" cy="1857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G_0007"/>
          <p:cNvPicPr/>
          <p:nvPr/>
        </p:nvPicPr>
        <p:blipFill>
          <a:blip r:embed="rId2"/>
          <a:stretch/>
        </p:blipFill>
        <p:spPr>
          <a:xfrm>
            <a:off x="3605040" y="785880"/>
            <a:ext cx="5538960" cy="190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68360" y="429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льтразву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высокочастотные механические колебания частиц твердой, жидкой или газообразной среды, неслышимые человеческим ухом. Частота колебаний ультразвука выше 20 000 в секунду, т. е. выше порога слыш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3"/>
          <a:stretch/>
        </p:blipFill>
        <p:spPr>
          <a:xfrm>
            <a:off x="0" y="-100080"/>
            <a:ext cx="84805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</a:rPr>
              <a:t>Ультразвук и инфразву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391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Ультразвук и инфразвук распространены в природе так же широко, как и волны звукового диапазона. Их излучают и используют для своих «переговоров» дельфины, летучие мыши и некоторые другие суще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2" name="Picture 4" descr="нркеноге"/>
          <p:cNvPicPr/>
          <p:nvPr/>
        </p:nvPicPr>
        <p:blipFill>
          <a:blip r:embed="rId1"/>
          <a:stretch/>
        </p:blipFill>
        <p:spPr>
          <a:xfrm>
            <a:off x="5940360" y="2924280"/>
            <a:ext cx="2901960" cy="2176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Dolphin_2"/>
          <p:cNvPicPr/>
          <p:nvPr/>
        </p:nvPicPr>
        <p:blipFill>
          <a:blip r:embed="rId2"/>
          <a:stretch/>
        </p:blipFill>
        <p:spPr>
          <a:xfrm>
            <a:off x="179280" y="321300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komar"/>
          <p:cNvPicPr/>
          <p:nvPr/>
        </p:nvPicPr>
        <p:blipFill>
          <a:blip r:embed="rId3"/>
          <a:stretch/>
        </p:blipFill>
        <p:spPr>
          <a:xfrm>
            <a:off x="3492360" y="46702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ппппппппппул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6" name="Picture 9" descr="uzi-4"/>
          <p:cNvPicPr/>
          <p:nvPr/>
        </p:nvPicPr>
        <p:blipFill>
          <a:blip r:embed="rId1"/>
          <a:stretch/>
        </p:blipFill>
        <p:spPr>
          <a:xfrm>
            <a:off x="826920" y="90792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IMG_8781"/>
          <p:cNvPicPr/>
          <p:nvPr/>
        </p:nvPicPr>
        <p:blipFill>
          <a:blip r:embed="rId2"/>
          <a:stretch/>
        </p:blipFill>
        <p:spPr>
          <a:xfrm>
            <a:off x="5715000" y="1071720"/>
            <a:ext cx="2629080" cy="28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1742"/>
          <p:cNvPicPr/>
          <p:nvPr/>
        </p:nvPicPr>
        <p:blipFill>
          <a:blip r:embed="rId3"/>
          <a:stretch/>
        </p:blipFill>
        <p:spPr>
          <a:xfrm>
            <a:off x="500040" y="3997440"/>
            <a:ext cx="2187720" cy="2089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ultreo111"/>
          <p:cNvPicPr/>
          <p:nvPr/>
        </p:nvPicPr>
        <p:blipFill>
          <a:blip r:embed="rId4"/>
          <a:stretch/>
        </p:blipFill>
        <p:spPr>
          <a:xfrm>
            <a:off x="4929120" y="392904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leit01-3"/>
          <p:cNvPicPr/>
          <p:nvPr/>
        </p:nvPicPr>
        <p:blipFill>
          <a:blip r:embed="rId5"/>
          <a:stretch/>
        </p:blipFill>
        <p:spPr>
          <a:xfrm>
            <a:off x="2050920" y="4481640"/>
            <a:ext cx="28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УЛЬТРАЗВУКОВОЙ ДАТЧИК NXT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51134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ин из самых интересных и полезных датчиков – ультразвуковой датчик расстояния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иболее частая задача, которая возникает при постройке и программировании робота – научить его определять расстояния до предметов, например, чтобы не натыкаться на них во время движения, или наоборот, находить предметы, расположенные вокруг. Благодаря ультразвуковому датчику эта задача решается практически без усилий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3" name="Picture 5" descr="ultrasonic_sensor"/>
          <p:cNvPicPr/>
          <p:nvPr/>
        </p:nvPicPr>
        <p:blipFill>
          <a:blip r:embed="rId1"/>
          <a:stretch/>
        </p:blipFill>
        <p:spPr>
          <a:xfrm>
            <a:off x="5724360" y="2276640"/>
            <a:ext cx="27244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ультразвуковой датчик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46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ва пластмассовых цилиндра, соединённые с печатной платой проводами, это ультразвуковой динамик и ультразвуковой микрофон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настолько сложный датчик, что в нём есть собственный микропроцессор, что позволяет датчику измерять и сообщать основному блоку расстояние в абсолютных единицах- с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атчик работает по принципу сонара, посылая короткий импульс на частоте 40КГц. Затем он измеряет время, за которое звук дошёл до объекта, отразился от него и вернулся назад.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ним. расстояние измерения 4 см, Максим.расстояние равно 255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см 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Picture 5" descr="ultrasonic_sensor_internals"/>
          <p:cNvPicPr/>
          <p:nvPr/>
        </p:nvPicPr>
        <p:blipFill>
          <a:blip r:embed="rId1"/>
          <a:stretch/>
        </p:blipFill>
        <p:spPr>
          <a:xfrm>
            <a:off x="5005440" y="2637000"/>
            <a:ext cx="38876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56000" y="3335400"/>
            <a:ext cx="6588000" cy="3522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4284720" cy="30704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076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Эхо- звук отраженный от препятствия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Эхолот- прибор с помощью которого можно определить глубину водоема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929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арковочный радар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, по другому - парктроник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3" name="Текст 12" descr="Система парковки"/>
          <p:cNvPicPr/>
          <p:nvPr/>
        </p:nvPicPr>
        <p:blipFill>
          <a:blip r:embed="rId1"/>
          <a:stretch/>
        </p:blipFill>
        <p:spPr>
          <a:xfrm>
            <a:off x="2590920" y="1844640"/>
            <a:ext cx="6553080" cy="3251160"/>
          </a:xfrm>
          <a:prstGeom prst="rect">
            <a:avLst/>
          </a:prstGeom>
          <a:ln w="0">
            <a:noFill/>
          </a:ln>
        </p:spPr>
      </p:pic>
      <p:pic>
        <p:nvPicPr>
          <p:cNvPr id="354" name="Текст 12" descr="Ультразвуковой датчик"/>
          <p:cNvPicPr/>
          <p:nvPr/>
        </p:nvPicPr>
        <p:blipFill>
          <a:blip r:embed="rId2"/>
          <a:stretch/>
        </p:blipFill>
        <p:spPr>
          <a:xfrm>
            <a:off x="179280" y="4473720"/>
            <a:ext cx="2880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rebuchet MS"/>
              </a:rPr>
              <a:t>Звук.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28640"/>
            <a:ext cx="8186760" cy="24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вуком называют колебания воспринимаемые человеческим ухо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Georgia"/>
              </a:rPr>
              <a:t>От 16 до 20000 Гц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11" descr="море"/>
          <p:cNvPicPr/>
          <p:nvPr/>
        </p:nvPicPr>
        <p:blipFill>
          <a:blip r:embed="rId1"/>
          <a:stretch/>
        </p:blipFill>
        <p:spPr>
          <a:xfrm>
            <a:off x="2500200" y="4005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4720" y="475920"/>
            <a:ext cx="5184720" cy="739800"/>
          </a:xfrm>
          <a:prstGeom prst="rect">
            <a:avLst/>
          </a:prstGeom>
          <a:solidFill>
            <a:srgbClr val="0f217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чники зву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Line 4"/>
          <p:cNvSpPr/>
          <p:nvPr/>
        </p:nvSpPr>
        <p:spPr>
          <a:xfrm flipH="1">
            <a:off x="1402920" y="1125360"/>
            <a:ext cx="865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6804000" y="1125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11280" y="1557360"/>
            <a:ext cx="2592360" cy="576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ст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5940360" y="1557360"/>
            <a:ext cx="2449440" cy="576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53964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Calibri"/>
              </a:rPr>
              <a:t>(голос, шелест листьев, шум прибо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940360" y="2133720"/>
            <a:ext cx="24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Calibri"/>
              </a:rPr>
              <a:t>(камертон, струна, колокол, мембран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2" descr="Ins26.gif"/>
          <p:cNvPicPr/>
          <p:nvPr/>
        </p:nvPicPr>
        <p:blipFill>
          <a:blip r:embed="rId1"/>
          <a:stretch/>
        </p:blipFill>
        <p:spPr>
          <a:xfrm flipH="1">
            <a:off x="611280" y="573408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http://class-fizika.narod.ru/9_class/28/lawyers_talking_md_wht.gif"/>
          <p:cNvPicPr/>
          <p:nvPr/>
        </p:nvPicPr>
        <p:blipFill>
          <a:blip r:embed="rId2"/>
          <a:stretch/>
        </p:blipFill>
        <p:spPr>
          <a:xfrm>
            <a:off x="395280" y="3068640"/>
            <a:ext cx="148752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http://www.sakhalin.ru/Region/korni/sea/Image/fakt/fakt-(52).jpg"/>
          <p:cNvPicPr/>
          <p:nvPr/>
        </p:nvPicPr>
        <p:blipFill>
          <a:blip r:embed="rId3"/>
          <a:stretch/>
        </p:blipFill>
        <p:spPr>
          <a:xfrm>
            <a:off x="2268360" y="4437000"/>
            <a:ext cx="1368720" cy="13478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85" name="Picture 2" descr="http://physics.uni-altai.ru/journals/physics/2003/18/no18_02.gif"/>
          <p:cNvPicPr/>
          <p:nvPr/>
        </p:nvPicPr>
        <p:blipFill>
          <a:blip r:embed="rId4"/>
          <a:stretch/>
        </p:blipFill>
        <p:spPr>
          <a:xfrm>
            <a:off x="5580000" y="3141720"/>
            <a:ext cx="2928960" cy="14666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zvonica2.jpg"/>
          <p:cNvPicPr/>
          <p:nvPr/>
        </p:nvPicPr>
        <p:blipFill>
          <a:blip r:embed="rId5"/>
          <a:stretch/>
        </p:blipFill>
        <p:spPr>
          <a:xfrm>
            <a:off x="5651640" y="414972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D:\WINDOWS\Users\Aida\Рабочий стол\зВУКИ\musician45.gif"/>
          <p:cNvPicPr/>
          <p:nvPr/>
        </p:nvPicPr>
        <p:blipFill>
          <a:blip r:embed="rId6"/>
          <a:stretch/>
        </p:blipFill>
        <p:spPr>
          <a:xfrm flipH="1">
            <a:off x="4859280" y="2133720"/>
            <a:ext cx="830160" cy="1322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http://www.01j.ru/imgs/center.bmp"/>
          <p:cNvPicPr/>
          <p:nvPr/>
        </p:nvPicPr>
        <p:blipFill>
          <a:blip r:embed="rId7"/>
          <a:stretch/>
        </p:blipFill>
        <p:spPr>
          <a:xfrm>
            <a:off x="6732720" y="4149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3" descr="http://cat.tmn.fio.ru/works/40x/311/bolki.jpg"/>
          <p:cNvPicPr/>
          <p:nvPr/>
        </p:nvPicPr>
        <p:blipFill>
          <a:blip r:embed="rId8"/>
          <a:stretch/>
        </p:blipFill>
        <p:spPr>
          <a:xfrm>
            <a:off x="611280" y="4437000"/>
            <a:ext cx="157140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0" name="Picture 13" descr=""/>
          <p:cNvPicPr/>
          <p:nvPr/>
        </p:nvPicPr>
        <p:blipFill>
          <a:blip r:embed="rId9"/>
          <a:stretch/>
        </p:blipFill>
        <p:spPr>
          <a:xfrm>
            <a:off x="7667640" y="5373720"/>
            <a:ext cx="1228680" cy="12682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1" name="Picture 2" descr="C:\Documents and Settings\1\Рабочий стол\iKvAs0h0hmE8K.jpg"/>
          <p:cNvPicPr/>
          <p:nvPr/>
        </p:nvPicPr>
        <p:blipFill>
          <a:blip r:embed="rId10"/>
          <a:stretch/>
        </p:blipFill>
        <p:spPr>
          <a:xfrm>
            <a:off x="2195640" y="314172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505600" y="78588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</a:rPr>
              <a:t>Приемники звуковых волн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5676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2000" spc="-1" strike="noStrike">
                <a:solidFill>
                  <a:srgbClr val="7030a0"/>
                </a:solidFill>
                <a:latin typeface="Georgia"/>
              </a:rPr>
              <a:t>Естественный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–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ухо. Чувствительность его зависит от частоты звуковой волны: чем меньше частота волны, тем меньше чувствительность уха. Исключительная избирательность: дирижер улавливает звуки отдельных инстр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Georgia"/>
              </a:rPr>
              <a:t>Искусственный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микрофон. Он преобразует механические звуковые колебания в электрическ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6" name="Picture 2" descr="C:\Documents and Settings\1\Рабочий стол\oidos.jpg"/>
          <p:cNvPicPr/>
          <p:nvPr/>
        </p:nvPicPr>
        <p:blipFill>
          <a:blip r:embed="rId1"/>
          <a:stretch/>
        </p:blipFill>
        <p:spPr>
          <a:xfrm>
            <a:off x="3929040" y="4714920"/>
            <a:ext cx="1457280" cy="1822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Documents and Settings\1\Рабочий стол\99.jpg"/>
          <p:cNvPicPr/>
          <p:nvPr/>
        </p:nvPicPr>
        <p:blipFill>
          <a:blip r:embed="rId2"/>
          <a:stretch/>
        </p:blipFill>
        <p:spPr>
          <a:xfrm>
            <a:off x="6286680" y="3933720"/>
            <a:ext cx="221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7" descr="Камертон"/>
          <p:cNvPicPr/>
          <p:nvPr/>
        </p:nvPicPr>
        <p:blipFill>
          <a:blip r:embed="rId1"/>
          <a:stretch/>
        </p:blipFill>
        <p:spPr>
          <a:xfrm>
            <a:off x="5940360" y="1268280"/>
            <a:ext cx="2495520" cy="25322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tfl.gif"/>
          <p:cNvPicPr/>
          <p:nvPr/>
        </p:nvPicPr>
        <p:blipFill>
          <a:blip r:embed="rId2"/>
          <a:stretch/>
        </p:blipFill>
        <p:spPr>
          <a:xfrm>
            <a:off x="611280" y="1214280"/>
            <a:ext cx="5072040" cy="242892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4"/>
          <p:cNvSpPr/>
          <p:nvPr/>
        </p:nvSpPr>
        <p:spPr>
          <a:xfrm>
            <a:off x="571680" y="3714840"/>
            <a:ext cx="83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–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24000" y="4500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Calibri"/>
              </a:rPr>
              <a:t>Колебания струны или металлической пластинки передаются окружающему воздуху.  При отклонении пластины в левую сторону она сжимает слои воздуха слева и разрежает слои воздуха, прилегающие к ней с правой стороны  и т.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f217b"/>
                </a:solidFill>
                <a:latin typeface="Calibri"/>
              </a:rPr>
              <a:t>Сжатие и разрежение прилегающих к пластине слоев воздуха передается соседним слоя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Arial"/>
              </a:rPr>
              <a:t>Камертон. Как передается звук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http://www.tmn.fio.ru/works/89x/308/images/16f-i1.gif"/>
          <p:cNvPicPr/>
          <p:nvPr/>
        </p:nvPicPr>
        <p:blipFill>
          <a:blip r:embed="rId1"/>
          <a:stretch/>
        </p:blipFill>
        <p:spPr>
          <a:xfrm>
            <a:off x="3214800" y="2571840"/>
            <a:ext cx="2006640" cy="20984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785880" y="714240"/>
            <a:ext cx="750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785880" y="47862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 распространяется в любой упругой среде - твердой, жидкой и газообразной, но не может распространяться в пространстве где нет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истории открытия скорости звука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771200" y="1642680"/>
            <a:ext cx="73724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звука в воздухе впервые была определена в 1708 году английским ученым Уильямом Деремо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вух пунктах, расстояние между которыми было известно, стреляли из пушек. В обоих пунктах измеряли промежутки времени между появлением огня при выстреле и моментом, когда слышался звук выстрела. Скорость звука в воздухе 340 м/с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Arial"/>
              </a:rPr>
              <a:t>Громкость  зву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856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Б         Громкость                               Источник зву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30         Болевой порог                         Самолёт на старт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20         Почти невыносимо                Отбойный молоток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10          Крайне шумно                        Вертолё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00         Крайне шумно                        Оркестр, раскаты гром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90           Очень шумно                          Громкие кр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80           Очень шумно                          Крик, громкий смех, мотоцикл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 глушителе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70           Шумно                                      Громкие разговоры (1м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0           Шумно                                      Офисный шу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0           Отчетливо слышно               Разговор, пишущая машин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0          Довольно слышно                  Негромкий разговор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0          Тихо                                            Шёпот, тиканье настенных ча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0          Едва слышно                            Шёпот (1м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0          Почти не слышно                    Тихий шелест листье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0            Не слышно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68360" y="1124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мкость звука измеряется в единицах, называемых Децибелами (дБ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ДАТЧИК ЗВУКА NXT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3" name="Picture 5" descr="sound_sensor"/>
          <p:cNvPicPr/>
          <p:nvPr/>
        </p:nvPicPr>
        <p:blipFill>
          <a:blip r:embed="rId1"/>
          <a:stretch/>
        </p:blipFill>
        <p:spPr>
          <a:xfrm>
            <a:off x="1316160" y="2651040"/>
            <a:ext cx="2334960" cy="2335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ound_sensor_internals"/>
          <p:cNvPicPr/>
          <p:nvPr/>
        </p:nvPicPr>
        <p:blipFill>
          <a:blip r:embed="rId2"/>
          <a:stretch/>
        </p:blipFill>
        <p:spPr>
          <a:xfrm>
            <a:off x="5148360" y="2795760"/>
            <a:ext cx="3054240" cy="2043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0"/>
          <p:cNvSpPr/>
          <p:nvPr/>
        </p:nvSpPr>
        <p:spPr>
          <a:xfrm>
            <a:off x="684360" y="53082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можете увидеть микрофон, вставленный в поролоновую подушку, конденсатор и розетку, расположенные сверху печатной пл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324000" y="1477080"/>
            <a:ext cx="847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чик зву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дназначен для определения уровня гром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3:00Z</dcterms:created>
  <dc:creator>Надежда</dc:creator>
  <dc:description/>
  <dc:language>en-US</dc:language>
  <cp:lastModifiedBy>Катя</cp:lastModifiedBy>
  <dcterms:modified xsi:type="dcterms:W3CDTF">2014-11-30T19:47:04Z</dcterms:modified>
  <cp:revision>52</cp:revision>
  <dc:subject/>
  <dc:title>Слайд 1</dc:title>
</cp:coreProperties>
</file>