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128-917F-420A-8A8B-ED1A1E22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F22-4109-49EA-8573-C1A269B7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190-9CBA-4F24-B793-80602B20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2F1-553B-47A8-9E36-F31FDF18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202C-9D9A-4B94-90CD-1307C588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7BF9-7AD1-4190-A126-2798C492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5E29-671B-4E6A-9D1B-49178307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EDBE-D2D9-4EC5-8D58-E08C1588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CCD9-DDF5-42E0-A131-7B78E939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9B1A-B093-49E3-B0F8-DBA590D7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F632-DDD9-4F2F-9320-6FFFE26D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732-805B-4894-909B-64AFD6DB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8047-C953-4871-83B5-86059F6E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B488-008A-4CD4-8AF6-4B550B72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25D0-C954-4ACF-92F4-625ED61A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E620-E940-4D86-83A8-753D4358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A535-1E5E-4B86-8BAB-F6B5D8F4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3868-6290-4DBD-AB12-7B2C7A9B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7C42-D429-4948-AB1E-CB83BADD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5742-F238-49BD-861E-B97BFDAB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2D956-6A82-4598-8E38-759ABD63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63006-5653-4843-863F-3C7EECF5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D20-B1B0-4521-AC36-72D8161C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AB52-62F6-4449-A020-7312CC61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6216-A300-480F-BA85-AE1CBBA5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CF58-5FBE-4988-AB48-D965499A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A9FD7-EBFC-4C00-93F1-D5B747D9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3203E-4C3C-4AC7-8BC4-2915C468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9888D-4573-4905-A1D3-6A30108C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DF75-E60D-475B-8BC3-1E0CE74C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765AF-5453-43DA-B97D-83BF6C33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D6285-F758-43E8-B365-ABA8D8B7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CE33B-3B6C-4B73-B74A-318A5466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254-E671-417E-BCBA-EAF81934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F43C8-4D22-48AD-9CAA-26CD4321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07176-4A86-481A-BE6D-D5823A8C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2FF9E-2EF0-41F9-91D6-1714E0CF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336A5-D3F8-40BE-A5E6-83E2F227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338F0-4E25-4E87-AD60-FC5E9153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2C808-600D-4BC8-B53E-EF578DCC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EB43-FC29-4262-BE92-7FCE01F9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23445-04F3-4ECE-B5F6-E4AB0846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D8591-0BA8-4CEF-AABB-3906C7AC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F396E-F386-43A7-9337-2E8AFEB8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FA5-81BF-466F-BCEC-51E028CF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EDC8B-0E8A-4FA9-9566-A1740751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58174-4580-48BA-A380-01593631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BF32D-BCC0-4586-B2B2-272D8566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97B09-E697-4C69-BE3A-F980B5EF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7E454-C7C2-4C3D-9F36-428B177D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623D8-CA4F-423D-A00D-0338D465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58877-D939-435D-927E-7CADCAAA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7678D-8FAC-4DAB-AA4B-36ECEFC5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0EE6A-6E49-415D-AD69-12C6FB25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47C97-25AC-4C11-BB71-00F51B23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D1D-3013-4B2D-A457-91335A0D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F6683-BF35-493F-84DB-3109681B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78CE2-119F-4BD6-9A8F-0EA06531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AA367-EF8A-4B2C-999A-D1E5C884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C0647-BBD3-4707-8265-FC409304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4CC2E-0A07-4688-A1B7-2A63DE0C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B7739-1D9D-4BEA-853A-5303A010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C5722-9A39-4FF3-88EF-ED48E0A5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21E89-B793-4EE2-B388-01742F78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EA450-E157-4256-A6E2-CF5C8741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F17A1-FE24-48A0-A81B-9163E0E5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01B-2682-4367-BD43-2632DEDA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CCE82-7A15-4EFF-9085-F33E8AC8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0EE03-497D-4516-8986-06F05423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719EE-A187-4996-83FF-20E99F52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2A592-B648-40DD-976E-DF592182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D8A30-4A75-4EE8-9DAC-D421C7BE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48854-82F2-4C39-A36A-4487F500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15CC8-CA34-4927-A976-BC0CD6F4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88387-13D4-4B2D-846B-D3B785BF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8D276-7095-4F42-B39A-3F16D12A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CA725-0595-4F1B-9ED3-26A3FAF0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1AC-63A7-4F74-9BCA-4D7FE942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C58AA-D2AF-43DE-AEC3-3D6D4D6C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C6756-4AA4-41C4-92AD-282FBF12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94ED0-D1BC-46F9-9E6A-45A8E5FA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7E34D-4740-4E24-8AF6-A4809858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0FB3B-EAB0-40DF-9E59-AEBCF142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F9EA7-8376-40FA-A1B4-767DA2D1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E17DA-D305-452A-89BE-1F536846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6939F-5449-4D66-A8B8-C42377FE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230F8-34BB-4C19-B65B-40EA49F3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BEE9D-D2CB-462E-AB93-7F21B985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BDE-7491-4ADD-BE2A-322CDD8D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4B70F-B101-4329-BEE8-D5881609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12057-4F9B-42A5-A726-5DD8EE3A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E7E58-E5B2-4641-90AA-A4E457DC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A1DC6-938F-4B02-B800-721B312B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C97CD-3BA1-4826-821F-F6C30A47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3D16E-B100-4486-8CCD-983CE3E3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1F958-2578-4FB8-9FCB-1E10C3A5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39D7-0BE5-4141-B63B-38D8A194896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F82B-1DFB-4E09-83FB-691A6E5E9F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F7DB-382D-403A-98FB-9024BB51FD8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DA15-686E-448D-9F9B-13053F6B979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09D2-592C-4776-960D-C82518E052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26E4-B73B-4210-B974-ABA23B2A0A4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A1F7-91EC-4A74-A2AF-EE9BE425BE0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EAD3-8E78-48E8-9EC3-0E845032D7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6341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72314"/>
                </a:solidFill>
                <a:latin typeface="Calibri"/>
              </a:rPr>
              <a:t>C</a:t>
            </a:r>
            <a:r>
              <a:rPr b="1" lang="ru-RU" sz="4800" spc="-1" strike="noStrike">
                <a:solidFill>
                  <a:srgbClr val="572314"/>
                </a:solidFill>
                <a:latin typeface="Calibri"/>
              </a:rPr>
              <a:t>овременный урок физики, ориентированный на достижение требований ФГОС 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143000" y="4285800"/>
            <a:ext cx="734544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Масалкова Е. 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3816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Работа с научно-популярной литературой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8317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Тематика естественно-научных текстов подбирается таким образом, чтобы их содержание соответствовало возрастным особенностям учащихся и  </a:t>
            </a:r>
            <a:br>
              <a:rPr sz="3600"/>
            </a:b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находилось в сфере их познавательных интересов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Объект 4" descr=""/>
          <p:cNvPicPr/>
          <p:nvPr/>
        </p:nvPicPr>
        <p:blipFill>
          <a:blip r:embed="rId1"/>
          <a:stretch/>
        </p:blipFill>
        <p:spPr>
          <a:xfrm>
            <a:off x="7020000" y="4149720"/>
            <a:ext cx="2016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Прыжок из стратосферы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1" name="Объект 9" descr=""/>
          <p:cNvPicPr/>
          <p:nvPr/>
        </p:nvPicPr>
        <p:blipFill>
          <a:blip r:embed="rId1"/>
          <a:stretch/>
        </p:blipFill>
        <p:spPr>
          <a:xfrm>
            <a:off x="1709640" y="1523880"/>
            <a:ext cx="3108600" cy="4664160"/>
          </a:xfrm>
          <a:prstGeom prst="rect">
            <a:avLst/>
          </a:prstGeom>
          <a:ln w="0">
            <a:noFill/>
          </a:ln>
        </p:spPr>
      </p:pic>
      <p:pic>
        <p:nvPicPr>
          <p:cNvPr id="392" name="Объект 10" descr=""/>
          <p:cNvPicPr/>
          <p:nvPr/>
        </p:nvPicPr>
        <p:blipFill>
          <a:blip r:embed="rId2"/>
          <a:stretch/>
        </p:blipFill>
        <p:spPr>
          <a:xfrm>
            <a:off x="5551560" y="1523880"/>
            <a:ext cx="310824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Вопросы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55280" y="112500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Выразите в (м</a:t>
            </a:r>
            <a:r>
              <a:rPr b="1" i="1" lang="en-US" sz="3600" spc="-1" strike="noStrike">
                <a:solidFill>
                  <a:srgbClr val="4f271c"/>
                </a:solidFill>
                <a:latin typeface="Calibri"/>
              </a:rPr>
              <a:t>/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с) значение скорости, достигнутой Феликсом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В какие моменты на парашютиста действовала сила тяжести: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- во время нахождения в капсуле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- во время свободного прыжка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- после раскрытия парашюта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- все время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 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Как менялся вес парашютиста</a:t>
            </a:r>
            <a:r>
              <a:rPr b="1" i="1" lang="en-US" sz="3600" spc="-1" strike="noStrike">
                <a:solidFill>
                  <a:srgbClr val="4f271c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амый быстрый </a:t>
            </a:r>
            <a:r>
              <a:rPr b="1" lang="en-US" sz="4400" spc="-1" strike="noStrike">
                <a:solidFill>
                  <a:srgbClr val="572314"/>
                </a:solidFill>
                <a:latin typeface="Calibri"/>
              </a:rPr>
              <a:t>Ford </a:t>
            </a: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в мире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6" name="Объект 3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746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Вопросы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Какую дистанцию проехал самый быстрый Ford GT, разогнавшись до скорости 455 км/ч? Выразите  скорость в м</a:t>
            </a:r>
            <a:r>
              <a:rPr b="1" i="1" lang="en-US" sz="3600" spc="-1" strike="noStrike">
                <a:solidFill>
                  <a:srgbClr val="4f271c"/>
                </a:solidFill>
                <a:latin typeface="Calibri"/>
              </a:rPr>
              <a:t>/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с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Вычислите время, которое потребовалось автомобилю для приобретения  указанной в тексте скорост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Самая высокая температура,  достигнутая  лабораторным  способом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0" name="Объект 3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Вопросы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434960" y="1268280"/>
            <a:ext cx="74995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Выразите полученную учеными температуру плазмы по шкале Фаренгейта,  и по абсолютной шкале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Во сколько раз эта температура превосходит температуру поверхности Солнц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Вспомните и опишите известные вам свойства  плазмы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612720" y="765000"/>
            <a:ext cx="954720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Хоть выйди ты не в белый свет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А в поле за околицей, —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ока идешь за кем-то вслед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Дорога не запомнитс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Зато, куда б ты ни попа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И по какой распутице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Дорога та, что сам искал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Вовек не позабудетс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                                  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(Н.Рыленков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indent="235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Цели образования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Новые социальные запросы определяют цели образования как общекультурное, личностное и познавательное развитие учащихся, обеспечивающие такую ключевую компетенцию образования как «научить учиться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184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Требования к результатам освоения ООП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02920" y="907560"/>
            <a:ext cx="7497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личностны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редметны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метапредметные - </a:t>
            </a:r>
            <a:r>
              <a:rPr b="1" i="1" lang="ru-RU" sz="3200" spc="-1" strike="noStrike">
                <a:solidFill>
                  <a:srgbClr val="4f271c"/>
                </a:solidFill>
                <a:latin typeface="Calibri"/>
              </a:rPr>
              <a:t>умение определять цели обучения, планировать пути их достижения, оценивать правильность выполнения учебной задачи, владеть основами самоконтроля, </a:t>
            </a:r>
            <a:r>
              <a:rPr b="1" i="1" lang="ru-RU" sz="3200" spc="-1" strike="noStrike" u="sng">
                <a:solidFill>
                  <a:srgbClr val="4f271c"/>
                </a:solidFill>
                <a:uFillTx/>
                <a:latin typeface="Calibri"/>
              </a:rPr>
              <a:t>смыслового чтения, </a:t>
            </a:r>
            <a:r>
              <a:rPr b="1" i="1" lang="ru-RU" sz="3200" spc="-1" strike="noStrike">
                <a:solidFill>
                  <a:srgbClr val="4f271c"/>
                </a:solidFill>
                <a:latin typeface="Calibri"/>
              </a:rPr>
              <a:t>ИКТ-компетенции и т.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Физика.</a:t>
            </a:r>
            <a:r>
              <a:rPr b="1" lang="en-US" sz="4400" spc="-1" strike="noStrike">
                <a:solidFill>
                  <a:srgbClr val="4f271c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Планируемые результаты</a:t>
            </a:r>
            <a:r>
              <a:rPr b="1" lang="en-US" sz="4400" spc="-1" strike="noStrike">
                <a:solidFill>
                  <a:srgbClr val="4f271c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2060280"/>
            <a:ext cx="7499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использовать при выполнении учебных задач научно-популярную литературу о физических явлениях, справочные издания (на бумажных и электронных носителях и ресурсы </a:t>
            </a:r>
            <a:r>
              <a:rPr b="1" i="1" lang="en-US" sz="3600" spc="-1" strike="noStrike">
                <a:solidFill>
                  <a:srgbClr val="4f271c"/>
                </a:solidFill>
                <a:latin typeface="Calibri"/>
              </a:rPr>
              <a:t>Internet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Умения, характеризующие достижение планируемого результата:</a:t>
            </a:r>
            <a:r>
              <a:rPr b="1" i="1" lang="ru-RU" sz="4400" spc="-1" strike="noStrike">
                <a:solidFill>
                  <a:srgbClr val="572314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71280" y="2060640"/>
            <a:ext cx="817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Использовать при выполнении учебных задач справочные изда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ри чтении  текстов отвечать на вопросы по содержанию текст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онимать смысл физических терминов при чтении научно-популярных текстов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Три группы умений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общая ориентация в тексте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глубокое понимание текст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рименение информации из текста в учебно-практических задачах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99640" y="1599840"/>
            <a:ext cx="6551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Чтение параграф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Ответы на вопросы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Заполнение таблиц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остроение график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Составление конспект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Нахождение и объяснение ошибок в решебник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Объект 3" descr=""/>
          <p:cNvPicPr/>
          <p:nvPr/>
        </p:nvPicPr>
        <p:blipFill>
          <a:blip r:embed="rId1"/>
          <a:stretch/>
        </p:blipFill>
        <p:spPr>
          <a:xfrm>
            <a:off x="6804000" y="3645000"/>
            <a:ext cx="20271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16000" y="277560"/>
            <a:ext cx="7570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Вопросы для работы с текстом о физической величине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99640" y="2276640"/>
            <a:ext cx="777564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Обозначе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Единицы измере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Формула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рибор для измерени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3" name="Объект 4" descr=""/>
          <p:cNvPicPr/>
          <p:nvPr/>
        </p:nvPicPr>
        <p:blipFill>
          <a:blip r:embed="rId1"/>
          <a:stretch/>
        </p:blipFill>
        <p:spPr>
          <a:xfrm>
            <a:off x="6012000" y="4292640"/>
            <a:ext cx="26748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277560"/>
            <a:ext cx="764388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Вопросы для работы с текстом о физическом приборе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276640"/>
            <a:ext cx="5041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Назначе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Устройст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ринцип действи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римене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Объект 4" descr=""/>
          <p:cNvPicPr/>
          <p:nvPr/>
        </p:nvPicPr>
        <p:blipFill>
          <a:blip r:embed="rId1"/>
          <a:stretch/>
        </p:blipFill>
        <p:spPr>
          <a:xfrm>
            <a:off x="6365880" y="3500280"/>
            <a:ext cx="2454120" cy="2968920"/>
          </a:xfrm>
          <a:prstGeom prst="rect">
            <a:avLst/>
          </a:prstGeom>
          <a:ln w="9360">
            <a:solidFill>
              <a:srgbClr val="9643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09:08:51Z</dcterms:created>
  <dc:creator>User</dc:creator>
  <dc:description/>
  <dc:language>en-US</dc:language>
  <cp:lastModifiedBy>Elena</cp:lastModifiedBy>
  <dcterms:modified xsi:type="dcterms:W3CDTF">2013-12-29T12:20:24Z</dcterms:modified>
  <cp:revision>144</cp:revision>
  <dc:subject/>
  <dc:title>Эффективность урока стимул успеха учителя и ученика</dc:title>
</cp:coreProperties>
</file>