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B9C-9CB0-468F-84B4-0738B11B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98C-7156-4502-89C5-05D1C205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F83-56C4-4003-B93F-E3A52B04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669-8C91-4180-A48E-C080397F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AEF2-0CE8-4D32-BCE5-3DB01070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07E9-A710-4B00-801A-02C780C7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D307-F575-407C-83C0-B8E17093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4600-1902-4230-8034-E3A072F7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8CD3-B139-4F18-9BCE-2EADA565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51F4-D56E-4473-9B89-02E97583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1741-B3FD-465F-9F69-4F82A217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BD4-DE52-4F48-891A-8A026AB0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C8EA-51F8-48BF-9011-68EB76A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7779-1A4D-442C-9ECD-9B363BAA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9DB2-1307-4D0A-A465-8CFF7271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D720-989C-4F59-B32D-6638CF7B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8178-7C79-4967-8124-7DFA2C1D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3E78-354B-4D22-A244-ACAACBB2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56B6-46FC-4ECC-8CF7-A4E83B18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F9F6-9B2B-4F07-8475-AE5D98A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6E59-2690-4BE4-A6E0-A77EAA46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54CC-D920-4244-AF28-BB4D464E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7D3-7EA7-453A-A742-10C0ECFE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F2C5-5501-4651-BE61-EC1EACCC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53CC-47E1-43D3-96B6-6834E1B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B134-607E-4970-9FDB-0B10841D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6BF7-9737-4116-AC2D-7E655837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E2B0-7BE9-4CA5-9AD1-5FEDE45E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E520-CCFF-4CAC-80CF-D9CABAF0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EB5F-77C3-41C5-83DD-B59A729A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1A18-D91C-4539-8418-BC95F07C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38FB-B620-4FA6-B9C0-71BBD11F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EB77-F3BB-41D3-B3AD-7019DB12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620-21C0-402B-B03B-C7EAA19C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D8C7-D32D-4CC1-AF30-ABE70394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BDDB-F4D0-40D1-B66A-B78DCF5F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DD47-334A-4067-B159-3B86A56D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659E-65BB-4393-93DA-8071553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0AC3-FF65-4657-8A02-F5B40BC6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ABE3-8DAA-4A65-A0FE-4107889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C43F8-6529-4C38-87F6-9C37D683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CC91-FE76-4F13-B1C1-ADF8B2AF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CC28-6663-4F6A-9B1E-4331614E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9611-918D-4FBD-B574-D7CCA9C1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F64-413D-440A-BDE3-11108627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B6393-7948-4006-A926-63BFA255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30AE6-43C7-4F08-BF4E-7820934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13F92-8DAF-4512-A38F-5E36BDC0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E5186-9484-4407-A38E-515C0DC1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263C5-9911-443B-BA9C-609CF6C2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9979-66F8-4CF2-BEA0-F8B75BC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090D5-3ECE-4CD7-BECA-3DD3523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12A2-9156-4077-9120-2183FF2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677B6-9CB4-4F74-8FA4-FB0B539D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7C997-B181-4797-A5BE-0F2D184A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362-71AF-4F89-A436-A6DD9166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24D0-E005-486C-AC44-F494B32E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273D2-16B4-412A-83E7-6F702598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53C6D-EE2C-436A-A761-23530EFD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A913C-B6D7-4CAC-8D6D-0B5A70EA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3798D-C116-4DDE-A640-8CD89B8A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E006C-C854-4DA5-9F7D-EDFA5D8A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D2A04-9248-44E4-9E33-9DFB139E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3468-553F-45CE-B3A1-1A84CA51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1D137-B8C5-4820-9E86-DB8047C0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E3840-85D6-4F41-8DEA-6DD8BC2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574-A7F5-4B54-9609-0D971AB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2D2F1-F365-4943-A0E8-B0FD827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88A96-D69B-41E8-9075-7AE54023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7DE5-DDFF-4CB1-83AD-B0E8985D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36932-C8C1-49EA-B679-08C9B925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3BD5C-8766-4DBB-8EC9-A50772DC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7EAC1-BAD9-48C6-8AE7-4017A70F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EC83C-FACC-49C7-8298-41AD3A14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1FC55-833C-4BF7-B7E5-73E93C71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89CDE-8C61-46CB-807F-64DED9F8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DCDFF-65C3-490B-AEFC-FE9A018F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225-D94E-4D6F-88C7-CCDC5772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5F84F-5B9B-4ECC-ACBD-BC071ED3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308F-6348-4E93-B34A-76EBEC8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83843-2A99-4607-8A60-C3A9B8A6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796E1-D141-4D3D-845A-E1710531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4CF51-5A7F-4AE9-A3B0-D7A67E5E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0FC3-03AD-4E5E-8077-77B3AF86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0BD43-9BF8-4BDE-9C51-E29384AE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AE67C-58FA-48E1-9DF5-4F79D6C1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75EA7-A62A-42A5-B9AA-6075EFAA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41953-90DE-4A18-9F27-F3687A28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16B-8227-49A5-AA6E-BC83346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21BD1-6AD4-4981-A864-AE5C81D4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FA562-9A9E-4269-A4BF-57D6F0E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F0F72-F1CC-4895-9BCD-2E2B7212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D729E-3D2C-42C0-BFC7-8D72DD7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A50CB-EE66-4F44-901A-B66DA95B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14BA-90D2-46C8-BFF6-51B52AA7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3C734-4C3F-418F-8062-A01568AF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2AA3-CF37-4853-8659-728B2F3033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C493-B55A-4D99-97A0-82D5269DF6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47EF-3155-4C9C-8260-DC26372917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FF7-94F0-4B7D-ADA8-527EA384EA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5B75-0970-4D97-8A24-E7405A9544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C323-6EA6-45A3-8FCB-DA665890B8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8C5E-646F-4118-926D-E71B20D6F1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A6F4-556D-489A-8AEE-7678A26354B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634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2314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572314"/>
                </a:solidFill>
                <a:latin typeface="Calibri"/>
              </a:rPr>
              <a:t>овременный урок физики, ориентированный на достижение требований ФГОС 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143000" y="4285800"/>
            <a:ext cx="734544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Масалкова Е. 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381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Работа с научно-популярной литературо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8317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Тематика естественно-научных текстов подбирается таким образом, чтобы их содержание соответствовало возрастным особенностям учащихся и  </a:t>
            </a:r>
            <a:br>
              <a:rPr sz="3600"/>
            </a:b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находилось в сфере их познавательных интересов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Объект 4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2016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Прыжок из стратосфер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1" name="Объект 9" descr=""/>
          <p:cNvPicPr/>
          <p:nvPr/>
        </p:nvPicPr>
        <p:blipFill>
          <a:blip r:embed="rId1"/>
          <a:stretch/>
        </p:blipFill>
        <p:spPr>
          <a:xfrm>
            <a:off x="1709640" y="1523880"/>
            <a:ext cx="3108600" cy="4664160"/>
          </a:xfrm>
          <a:prstGeom prst="rect">
            <a:avLst/>
          </a:prstGeom>
          <a:ln w="0">
            <a:noFill/>
          </a:ln>
        </p:spPr>
      </p:pic>
      <p:pic>
        <p:nvPicPr>
          <p:cNvPr id="392" name="Объект 10" descr=""/>
          <p:cNvPicPr/>
          <p:nvPr/>
        </p:nvPicPr>
        <p:blipFill>
          <a:blip r:embed="rId2"/>
          <a:stretch/>
        </p:blipFill>
        <p:spPr>
          <a:xfrm>
            <a:off x="5551560" y="1523880"/>
            <a:ext cx="31082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55280" y="112500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ыразите в (м</a:t>
            </a:r>
            <a:r>
              <a:rPr b="1" i="1" lang="en-US" sz="3600" spc="-1" strike="noStrike">
                <a:solidFill>
                  <a:srgbClr val="4f271c"/>
                </a:solidFill>
                <a:latin typeface="Calibri"/>
              </a:rPr>
              <a:t>/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с) значение скорости, достигнутой Феликсом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 какие моменты на парашютиста действовала сила тяжести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- во время нахождения в капсуле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- во время свободного прыжк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- после раскрытия парашют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- все время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 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Как менялся вес парашютиста</a:t>
            </a:r>
            <a:r>
              <a:rPr b="1" i="1" lang="en-US" sz="3600" spc="-1" strike="noStrike">
                <a:solidFill>
                  <a:srgbClr val="4f271c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амый быстрый </a:t>
            </a:r>
            <a:r>
              <a:rPr b="1" lang="en-US" sz="4400" spc="-1" strike="noStrike">
                <a:solidFill>
                  <a:srgbClr val="572314"/>
                </a:solidFill>
                <a:latin typeface="Calibri"/>
              </a:rPr>
              <a:t>Ford </a:t>
            </a: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в мир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Объект 3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746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Какую дистанцию проехал самый быстрый Ford GT, разогнавшись до скорости 455 км/ч? Выразите  скорость в м</a:t>
            </a:r>
            <a:r>
              <a:rPr b="1" i="1" lang="en-US" sz="3600" spc="-1" strike="noStrike">
                <a:solidFill>
                  <a:srgbClr val="4f271c"/>
                </a:solidFill>
                <a:latin typeface="Calibri"/>
              </a:rPr>
              <a:t>/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ычислите время, которое потребовалось автомобилю для приобретения  указанной в тексте скорост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Самая высокая температура,  достигнутая  лабораторным  способом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0" name="Объект 3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ыразите полученную учеными температуру плазмы по шкале Фаренгейта,  и по абсолютной шкале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о сколько раз эта температура превосходит температуру поверхности Солнц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спомните и опишите известные вам свойства  плазмы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612720" y="765000"/>
            <a:ext cx="954720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Хоть выйди ты не в белый свет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А в поле за околицей, —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ока идешь за кем-то вслед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Дорога не запомнитс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Зато, куда б ты ни попа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И по какой распутице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Дорога та, что сам искал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Вовек не позабудетс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                                  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(Н.Рыленков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indent="235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Цели образ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Новые социальные запросы определяют цели образования как общекультурное, личностное и познавательное развитие учащихся, обеспечивающие такую ключевую компетенцию образования как «научить учиться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184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Требования к результатам освоения ООП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02920" y="907560"/>
            <a:ext cx="7497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едмет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метапредметные - </a:t>
            </a:r>
            <a:r>
              <a:rPr b="1" i="1" lang="ru-RU" sz="3200" spc="-1" strike="noStrike">
                <a:solidFill>
                  <a:srgbClr val="4f271c"/>
                </a:solidFill>
                <a:latin typeface="Calibri"/>
              </a:rPr>
              <a:t>умение определять цели обучения, планировать пути их достижения, оценивать правильность выполнения учебной задачи, владеть основами самоконтроля, </a:t>
            </a:r>
            <a:r>
              <a:rPr b="1" i="1" lang="ru-RU" sz="3200" spc="-1" strike="noStrike" u="sng">
                <a:solidFill>
                  <a:srgbClr val="4f271c"/>
                </a:solidFill>
                <a:uFillTx/>
                <a:latin typeface="Calibri"/>
              </a:rPr>
              <a:t>смыслового чтения, </a:t>
            </a:r>
            <a:r>
              <a:rPr b="1" i="1" lang="ru-RU" sz="3200" spc="-1" strike="noStrike">
                <a:solidFill>
                  <a:srgbClr val="4f271c"/>
                </a:solidFill>
                <a:latin typeface="Calibri"/>
              </a:rPr>
              <a:t>ИКТ-компетенции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Физика.</a:t>
            </a:r>
            <a:r>
              <a:rPr b="1" lang="en-US" sz="4400" spc="-1" strike="noStrike">
                <a:solidFill>
                  <a:srgbClr val="4f271c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Планируемые результаты</a:t>
            </a:r>
            <a:r>
              <a:rPr b="1" lang="en-US" sz="4400" spc="-1" strike="noStrike">
                <a:solidFill>
                  <a:srgbClr val="4f271c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2060280"/>
            <a:ext cx="7499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использовать при выполнении учебных задач научно-популярную литературу о физических явлениях, справочные издания (на бумажных и электронных носителях и ресурсы </a:t>
            </a:r>
            <a:r>
              <a:rPr b="1" i="1" lang="en-US" sz="3600" spc="-1" strike="noStrike">
                <a:solidFill>
                  <a:srgbClr val="4f271c"/>
                </a:solidFill>
                <a:latin typeface="Calibri"/>
              </a:rPr>
              <a:t>Internet</a:t>
            </a: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Умения, характеризующие достижение планируемого результата:</a:t>
            </a:r>
            <a:r>
              <a:rPr b="1" i="1" lang="ru-RU" sz="4400" spc="-1" strike="noStrike">
                <a:solidFill>
                  <a:srgbClr val="572314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71280" y="2060640"/>
            <a:ext cx="817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Использовать при выполнении учебных задач справочные изда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 чтении  текстов отвечать на вопросы по содержанию текст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онимать смысл физических терминов при чтении научно-популярных тексто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Три группы умени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общая ориентация в тексте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глубокое понимание текст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менение информации из текста в учебно-практических задачах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655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Чтение параграф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Ответы на вопросы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Заполнение таблиц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остроение график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Составление конспект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Нахождение и объяснение ошибок в решебник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Объект 3" descr=""/>
          <p:cNvPicPr/>
          <p:nvPr/>
        </p:nvPicPr>
        <p:blipFill>
          <a:blip r:embed="rId1"/>
          <a:stretch/>
        </p:blipFill>
        <p:spPr>
          <a:xfrm>
            <a:off x="6804000" y="3645000"/>
            <a:ext cx="2027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16000" y="277560"/>
            <a:ext cx="7570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alibri"/>
              </a:rPr>
              <a:t>Вопросы для работы с текстом о физической величин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77756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Обознач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Единицы измер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Формул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бор для измерен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Объект 4" descr=""/>
          <p:cNvPicPr/>
          <p:nvPr/>
        </p:nvPicPr>
        <p:blipFill>
          <a:blip r:embed="rId1"/>
          <a:stretch/>
        </p:blipFill>
        <p:spPr>
          <a:xfrm>
            <a:off x="6012000" y="42926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277560"/>
            <a:ext cx="764388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Вопросы для работы с текстом о физическом прибор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5041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Назнач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Устрой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нцип действ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Calibri"/>
              </a:rPr>
              <a:t>Примен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Объект 4" descr=""/>
          <p:cNvPicPr/>
          <p:nvPr/>
        </p:nvPicPr>
        <p:blipFill>
          <a:blip r:embed="rId1"/>
          <a:stretch/>
        </p:blipFill>
        <p:spPr>
          <a:xfrm>
            <a:off x="6365880" y="3500280"/>
            <a:ext cx="2454120" cy="2968920"/>
          </a:xfrm>
          <a:prstGeom prst="rect">
            <a:avLst/>
          </a:prstGeom>
          <a:ln w="9360">
            <a:solidFill>
              <a:srgbClr val="9643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9:08:51Z</dcterms:created>
  <dc:creator>User</dc:creator>
  <dc:description/>
  <dc:language>en-US</dc:language>
  <cp:lastModifiedBy>Elena</cp:lastModifiedBy>
  <dcterms:modified xsi:type="dcterms:W3CDTF">2013-12-29T12:20:24Z</dcterms:modified>
  <cp:revision>144</cp:revision>
  <dc:subject/>
  <dc:title>Эффективность урока стимул успеха учителя и ученика</dc:title>
</cp:coreProperties>
</file>