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4.jpeg" ContentType="image/jpeg"/>
  <Override PartName="/ppt/media/image40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9.jpeg" ContentType="image/jpeg"/>
  <Override PartName="/ppt/media/image8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43.gif" ContentType="image/gif"/>
  <Override PartName="/ppt/media/image6.png" ContentType="image/png"/>
  <Override PartName="/ppt/media/image25.png" ContentType="image/png"/>
  <Override PartName="/ppt/media/image42.jpeg" ContentType="image/jpeg"/>
  <Override PartName="/ppt/media/image3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9A8-B6EA-4516-991F-9382B404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EAF-0C31-4B78-832A-A609E8F9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111E5-E47B-4705-8E36-29FA531A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34217-057C-4F0E-BCF4-673A5949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A1DA1-05AB-4E15-9DB2-E64BF4ED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67C69-FD39-4556-B253-8197FB50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2BFFD-DE74-4C81-99BF-F7694FE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54AA6-3FCF-4E6A-888D-4B5859B2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219A7-7F35-45B3-B611-27BD64EB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269D6-766D-4543-A107-0A3DC394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89FEB-5FBD-43B1-93E4-8A34294E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D5B-0090-45F5-8906-207776AC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22F-F71B-4434-8CB8-343B64CA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B482-0934-4919-81AF-5EBD1990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A118-FC3C-42CC-88E3-96549107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7B57-7928-453F-8940-2EB8CE61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3050-CEE5-4C6D-9A7A-8B210DEE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5538-4870-472F-BF1B-3E157DBE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2A15-9441-43D8-A042-56AF62A9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0AB0-CF81-4857-98B5-0A0E57A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91E-E867-47E3-A1F0-2D12E6A9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D621-E4C2-40F2-ADE6-173BB971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81CD-A7B4-4D42-91FC-EAA09707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C656-04FB-4086-ADCF-AEC7E56F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FE72-A6FE-4526-A62E-A024B83E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1E35-6715-492E-AEC6-C4D8BBF2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EA8D-690C-4D7C-A4C2-FE485F08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C0CE-C9BC-436D-B71D-34BD4275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C27CA-0668-4C50-8CE1-4CEA62D4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F9A4-D496-4866-956E-7C97BF5F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7585-2199-4F51-9673-1A99F6E1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BF9-C6A8-4380-9189-75AFE095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63CB-1FF8-4C8C-A99C-343F1839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5C37B-0887-4410-A1E9-6D86B72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3A83-07EB-4469-9B50-6DEBCC89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499B-B7C0-42A3-9541-70A42A8E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7D0B-0CB9-476F-ACA8-06ABE01F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9F7D-1D61-4DF3-A72E-49743140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EF7C-9904-4D2F-9A8B-D532ECC4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1E749-B297-43AF-B0EE-7A7BEDFF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43180-F43E-4539-89B7-C4C3B91A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36997-26E7-4624-B139-F8EF200E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E20-8C78-436E-B8D5-34D3B24A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5295-FCED-4FB3-9C66-BEA983E5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79A0E-7CF6-4B60-97F7-2A7397B4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5805-E9A7-4955-9773-273AF321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CE97B-F4CA-41E2-999C-24768C31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7DD20-928B-4BAE-A657-B7154EB5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5B6D-1669-4E2D-8E93-76E6D3FB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E0B6F-5107-4414-8960-B47E54D5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587E-06DF-400D-9ED7-2EFA1C5E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8BD73-A811-4E31-818F-75C9E66C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1E262-5E5D-4A2E-B783-D6B2EFD5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617-1224-48B5-91F5-D2B2AD65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ED8F7-B729-4BB0-B245-D35A65FB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0F4B3-FB44-4303-B060-7F8D98E0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88FCE-DB84-47D2-AE0E-432A61AC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E5A2-69AE-42AB-9F42-367FC64F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CE08E-47F3-452B-B0DA-0CCD206F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B4317-ED40-45F2-8567-C1C1F26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6D1E0-74BF-4180-8F69-92E6F21D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53BC4-FF96-49C8-9893-CC010A9D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D11D5-2C2A-403B-8A2D-80B30832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09E22-CAE8-454A-A719-BCDD8B83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747-8787-49D1-8937-8F976B32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6895B-AE53-4735-B718-F8941D39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0FFF1-74D5-4550-B432-6F618389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FFAD2-33C4-4DEB-8D94-95B4204F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E7D43-EFCA-432C-8843-BEAE501F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0E13F-BBC1-4DC7-8C2E-1707428E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900A3-66B2-42A5-BFC8-3DC90E74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677DC-8FF9-498F-92C1-6B93802E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4C5DE-8A28-482B-91A9-5CD94E33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0740C-2991-4269-B67A-FBFF3768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0D5A4-60C8-45BA-9514-000B307E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625-D626-4646-93A6-080A4897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CF2C7-C1E9-425B-AFE0-2C5822B5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4D35-5FF4-42E1-BEC7-99D734B2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1558B-666F-42BD-B177-D517A00A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24083-A0B8-4D20-86DC-D8A96EE6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CB1B3-5DD9-4DDD-8E1C-30D1ACB7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B6F25-2A79-406B-9901-8FC1A69E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2E8C2-855C-4FB5-8ED8-7E6F4E91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0F7AC-C078-41CA-A491-C961FCB1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A63D9-E8D1-4415-B204-FF0272D7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6E47A-9980-4D8D-9AC4-A3016274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ABD-7DBD-465C-B163-F7F1D334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9477D-3D5C-4BD8-9AAA-FF15BEAD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B6706-047A-4537-BCE9-D409040D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07ED6-09D1-4ADB-AEEB-7D4295F5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21A4F-C0F2-48A1-BCDF-C35585D5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13132-3261-4B29-B3E5-FE175ACA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49907-3644-451E-A212-7D0F431E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86CFC-CE56-42F3-A1DC-8534CA81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EC437-DA64-4E77-960C-3D7DF283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3A863-54A5-45B6-84B6-A85D6460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3BF22-E158-4945-8A01-9C1E19C4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2F6-2409-42AD-AB7F-5266B4D3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DB097-D961-4A69-B017-B5568F51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4DA0D-7C2A-47B3-88E7-AB77D53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C4F07-E3B9-4DF2-B9BF-C3AAB7E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7D502-067D-456B-B25D-1020CAE7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4A3D4-5D76-4BBC-A694-A333327F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9C000-ECAC-4DBD-97C6-8AA6D1FA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821A7-EABD-4ABD-8754-BED49A81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DDCB7-296C-40EB-9D28-3DCF753E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D9E72-C688-4257-B8F5-A0BF3674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10E60-4205-4346-9709-2363FD88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0A7C-A6BC-4443-8CA2-BB792E2C2041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A35D-A336-411D-A6AB-DD9F296D3C30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3998-4428-452D-BDB8-2B6491FF4A6A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c2d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D0A5-6232-4748-BFC8-31B4DB7ABB21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F338-49F1-4609-8A6B-7FEDDDFB22BC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673C-4642-4933-99C2-BA9524B05373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BA68-6661-4F5B-91D6-9E77DF8BE780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F179-0993-4AE1-B574-E0EA67884C3C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A6AF-80A3-4FEB-B247-E37F03203EEA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slide" Target="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AutoShape 4" descr=""/>
          <p:cNvPicPr/>
          <p:nvPr/>
        </p:nvPicPr>
        <p:blipFill>
          <a:blip r:embed="rId1"/>
          <a:stretch/>
        </p:blipFill>
        <p:spPr>
          <a:xfrm>
            <a:off x="1670040" y="1030320"/>
            <a:ext cx="1122480" cy="993600"/>
          </a:xfrm>
          <a:prstGeom prst="rect">
            <a:avLst/>
          </a:prstGeom>
          <a:ln w="0">
            <a:noFill/>
          </a:ln>
        </p:spPr>
      </p:pic>
      <p:pic>
        <p:nvPicPr>
          <p:cNvPr id="400" name="AutoShape 5" descr=""/>
          <p:cNvPicPr/>
          <p:nvPr/>
        </p:nvPicPr>
        <p:blipFill>
          <a:blip r:embed="rId2"/>
          <a:stretch/>
        </p:blipFill>
        <p:spPr>
          <a:xfrm>
            <a:off x="4541760" y="1030320"/>
            <a:ext cx="1133640" cy="993600"/>
          </a:xfrm>
          <a:prstGeom prst="rect">
            <a:avLst/>
          </a:prstGeom>
          <a:ln w="0">
            <a:noFill/>
          </a:ln>
        </p:spPr>
      </p:pic>
      <p:pic>
        <p:nvPicPr>
          <p:cNvPr id="401" name="AutoShape 6" descr=""/>
          <p:cNvPicPr/>
          <p:nvPr/>
        </p:nvPicPr>
        <p:blipFill>
          <a:blip r:embed="rId3"/>
          <a:stretch/>
        </p:blipFill>
        <p:spPr>
          <a:xfrm>
            <a:off x="3103560" y="1030320"/>
            <a:ext cx="1133640" cy="993600"/>
          </a:xfrm>
          <a:prstGeom prst="rect">
            <a:avLst/>
          </a:prstGeom>
          <a:ln w="0">
            <a:noFill/>
          </a:ln>
        </p:spPr>
      </p:pic>
      <p:pic>
        <p:nvPicPr>
          <p:cNvPr id="402" name="AutoShape 7" descr=""/>
          <p:cNvPicPr/>
          <p:nvPr/>
        </p:nvPicPr>
        <p:blipFill>
          <a:blip r:embed="rId4"/>
          <a:stretch/>
        </p:blipFill>
        <p:spPr>
          <a:xfrm>
            <a:off x="1663560" y="2457360"/>
            <a:ext cx="1135080" cy="981000"/>
          </a:xfrm>
          <a:prstGeom prst="rect">
            <a:avLst/>
          </a:prstGeom>
          <a:ln w="0">
            <a:noFill/>
          </a:ln>
        </p:spPr>
      </p:pic>
      <p:pic>
        <p:nvPicPr>
          <p:cNvPr id="403" name="AutoShape 8" descr=""/>
          <p:cNvPicPr/>
          <p:nvPr/>
        </p:nvPicPr>
        <p:blipFill>
          <a:blip r:embed="rId5"/>
          <a:stretch/>
        </p:blipFill>
        <p:spPr>
          <a:xfrm>
            <a:off x="1663560" y="3906720"/>
            <a:ext cx="1135080" cy="1000080"/>
          </a:xfrm>
          <a:prstGeom prst="rect">
            <a:avLst/>
          </a:prstGeom>
          <a:ln w="0">
            <a:noFill/>
          </a:ln>
        </p:spPr>
      </p:pic>
      <p:pic>
        <p:nvPicPr>
          <p:cNvPr id="404" name="AutoShape 9" descr=""/>
          <p:cNvPicPr/>
          <p:nvPr/>
        </p:nvPicPr>
        <p:blipFill>
          <a:blip r:embed="rId6"/>
          <a:stretch/>
        </p:blipFill>
        <p:spPr>
          <a:xfrm>
            <a:off x="1663560" y="5346720"/>
            <a:ext cx="1135080" cy="998640"/>
          </a:xfrm>
          <a:prstGeom prst="rect">
            <a:avLst/>
          </a:prstGeom>
          <a:ln w="0">
            <a:noFill/>
          </a:ln>
        </p:spPr>
      </p:pic>
      <p:pic>
        <p:nvPicPr>
          <p:cNvPr id="405" name="AutoShape 10" descr=""/>
          <p:cNvPicPr/>
          <p:nvPr/>
        </p:nvPicPr>
        <p:blipFill>
          <a:blip r:embed="rId7"/>
          <a:stretch/>
        </p:blipFill>
        <p:spPr>
          <a:xfrm>
            <a:off x="5979960" y="1030320"/>
            <a:ext cx="1133640" cy="993600"/>
          </a:xfrm>
          <a:prstGeom prst="rect">
            <a:avLst/>
          </a:prstGeom>
          <a:ln w="0">
            <a:noFill/>
          </a:ln>
        </p:spPr>
      </p:pic>
      <p:pic>
        <p:nvPicPr>
          <p:cNvPr id="406" name="AutoShape 11" descr=""/>
          <p:cNvPicPr/>
          <p:nvPr/>
        </p:nvPicPr>
        <p:blipFill>
          <a:blip r:embed="rId8"/>
          <a:stretch/>
        </p:blipFill>
        <p:spPr>
          <a:xfrm>
            <a:off x="7424640" y="1030320"/>
            <a:ext cx="1128960" cy="993600"/>
          </a:xfrm>
          <a:prstGeom prst="rect">
            <a:avLst/>
          </a:prstGeom>
          <a:ln w="0">
            <a:noFill/>
          </a:ln>
        </p:spPr>
      </p:pic>
      <p:pic>
        <p:nvPicPr>
          <p:cNvPr id="407" name="AutoShape 12" descr=""/>
          <p:cNvPicPr/>
          <p:nvPr/>
        </p:nvPicPr>
        <p:blipFill>
          <a:blip r:embed="rId9"/>
          <a:stretch/>
        </p:blipFill>
        <p:spPr>
          <a:xfrm>
            <a:off x="5979960" y="2451240"/>
            <a:ext cx="1133640" cy="998280"/>
          </a:xfrm>
          <a:prstGeom prst="rect">
            <a:avLst/>
          </a:prstGeom>
          <a:ln w="0">
            <a:noFill/>
          </a:ln>
        </p:spPr>
      </p:pic>
      <p:pic>
        <p:nvPicPr>
          <p:cNvPr id="408" name="AutoShape 13" descr=""/>
          <p:cNvPicPr/>
          <p:nvPr/>
        </p:nvPicPr>
        <p:blipFill>
          <a:blip r:embed="rId10"/>
          <a:stretch/>
        </p:blipFill>
        <p:spPr>
          <a:xfrm>
            <a:off x="4541760" y="2451240"/>
            <a:ext cx="1133640" cy="998280"/>
          </a:xfrm>
          <a:prstGeom prst="rect">
            <a:avLst/>
          </a:prstGeom>
          <a:ln w="0">
            <a:noFill/>
          </a:ln>
        </p:spPr>
      </p:pic>
      <p:pic>
        <p:nvPicPr>
          <p:cNvPr id="409" name="AutoShape 14" descr=""/>
          <p:cNvPicPr/>
          <p:nvPr/>
        </p:nvPicPr>
        <p:blipFill>
          <a:blip r:embed="rId11"/>
          <a:stretch/>
        </p:blipFill>
        <p:spPr>
          <a:xfrm>
            <a:off x="3103560" y="2451240"/>
            <a:ext cx="1133640" cy="998280"/>
          </a:xfrm>
          <a:prstGeom prst="rect">
            <a:avLst/>
          </a:prstGeom>
          <a:ln w="0">
            <a:noFill/>
          </a:ln>
        </p:spPr>
      </p:pic>
      <p:pic>
        <p:nvPicPr>
          <p:cNvPr id="410" name="AutoShape 15" descr=""/>
          <p:cNvPicPr/>
          <p:nvPr/>
        </p:nvPicPr>
        <p:blipFill>
          <a:blip r:embed="rId12"/>
          <a:stretch/>
        </p:blipFill>
        <p:spPr>
          <a:xfrm>
            <a:off x="4541760" y="3906720"/>
            <a:ext cx="1133640" cy="1000080"/>
          </a:xfrm>
          <a:prstGeom prst="rect">
            <a:avLst/>
          </a:prstGeom>
          <a:ln w="0">
            <a:noFill/>
          </a:ln>
        </p:spPr>
      </p:pic>
      <p:pic>
        <p:nvPicPr>
          <p:cNvPr id="411" name="AutoShape 16" descr=""/>
          <p:cNvPicPr/>
          <p:nvPr/>
        </p:nvPicPr>
        <p:blipFill>
          <a:blip r:embed="rId13"/>
          <a:stretch/>
        </p:blipFill>
        <p:spPr>
          <a:xfrm>
            <a:off x="3103560" y="3906720"/>
            <a:ext cx="1133640" cy="1000080"/>
          </a:xfrm>
          <a:prstGeom prst="rect">
            <a:avLst/>
          </a:prstGeom>
          <a:ln w="0">
            <a:noFill/>
          </a:ln>
        </p:spPr>
      </p:pic>
      <p:pic>
        <p:nvPicPr>
          <p:cNvPr id="412" name="AutoShape 17" descr=""/>
          <p:cNvPicPr/>
          <p:nvPr/>
        </p:nvPicPr>
        <p:blipFill>
          <a:blip r:embed="rId14"/>
          <a:stretch/>
        </p:blipFill>
        <p:spPr>
          <a:xfrm>
            <a:off x="7424640" y="2451240"/>
            <a:ext cx="1128960" cy="998280"/>
          </a:xfrm>
          <a:prstGeom prst="rect">
            <a:avLst/>
          </a:prstGeom>
          <a:ln w="0">
            <a:noFill/>
          </a:ln>
        </p:spPr>
      </p:pic>
      <p:pic>
        <p:nvPicPr>
          <p:cNvPr id="413" name="AutoShape 18" descr=""/>
          <p:cNvPicPr/>
          <p:nvPr/>
        </p:nvPicPr>
        <p:blipFill>
          <a:blip r:embed="rId15"/>
          <a:stretch/>
        </p:blipFill>
        <p:spPr>
          <a:xfrm>
            <a:off x="7424640" y="5346720"/>
            <a:ext cx="1128960" cy="998640"/>
          </a:xfrm>
          <a:prstGeom prst="rect">
            <a:avLst/>
          </a:prstGeom>
          <a:ln w="0">
            <a:noFill/>
          </a:ln>
        </p:spPr>
      </p:pic>
      <p:pic>
        <p:nvPicPr>
          <p:cNvPr id="414" name="AutoShape 19" descr=""/>
          <p:cNvPicPr/>
          <p:nvPr/>
        </p:nvPicPr>
        <p:blipFill>
          <a:blip r:embed="rId16"/>
          <a:stretch/>
        </p:blipFill>
        <p:spPr>
          <a:xfrm>
            <a:off x="5979960" y="5346720"/>
            <a:ext cx="1133640" cy="998640"/>
          </a:xfrm>
          <a:prstGeom prst="rect">
            <a:avLst/>
          </a:prstGeom>
          <a:ln w="0">
            <a:noFill/>
          </a:ln>
        </p:spPr>
      </p:pic>
      <p:pic>
        <p:nvPicPr>
          <p:cNvPr id="415" name="AutoShape 20" descr=""/>
          <p:cNvPicPr/>
          <p:nvPr/>
        </p:nvPicPr>
        <p:blipFill>
          <a:blip r:embed="rId17"/>
          <a:stretch/>
        </p:blipFill>
        <p:spPr>
          <a:xfrm>
            <a:off x="4541760" y="5346720"/>
            <a:ext cx="1133640" cy="998640"/>
          </a:xfrm>
          <a:prstGeom prst="rect">
            <a:avLst/>
          </a:prstGeom>
          <a:ln w="0">
            <a:noFill/>
          </a:ln>
        </p:spPr>
      </p:pic>
      <p:pic>
        <p:nvPicPr>
          <p:cNvPr id="416" name="AutoShape 21" descr=""/>
          <p:cNvPicPr/>
          <p:nvPr/>
        </p:nvPicPr>
        <p:blipFill>
          <a:blip r:embed="rId18"/>
          <a:stretch/>
        </p:blipFill>
        <p:spPr>
          <a:xfrm>
            <a:off x="3103560" y="5346720"/>
            <a:ext cx="1133640" cy="998640"/>
          </a:xfrm>
          <a:prstGeom prst="rect">
            <a:avLst/>
          </a:prstGeom>
          <a:ln w="0">
            <a:noFill/>
          </a:ln>
        </p:spPr>
      </p:pic>
      <p:grpSp>
        <p:nvGrpSpPr>
          <p:cNvPr id="417" name="AutoShape 22"/>
          <p:cNvGrpSpPr/>
          <p:nvPr/>
        </p:nvGrpSpPr>
        <p:grpSpPr>
          <a:xfrm>
            <a:off x="7431120" y="3913200"/>
            <a:ext cx="1109520" cy="987480"/>
            <a:chOff x="7431120" y="3913200"/>
            <a:chExt cx="1109520" cy="987480"/>
          </a:xfrm>
        </p:grpSpPr>
        <p:pic>
          <p:nvPicPr>
            <p:cNvPr id="418" name="AutoShape 22" descr=""/>
            <p:cNvPicPr/>
            <p:nvPr/>
          </p:nvPicPr>
          <p:blipFill>
            <a:blip r:embed="rId19"/>
            <a:stretch/>
          </p:blipFill>
          <p:spPr>
            <a:xfrm>
              <a:off x="7431120" y="3913200"/>
              <a:ext cx="1109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7451640" y="3933720"/>
              <a:ext cx="1079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410082"/>
                  </a:solidFill>
                  <a:uFillTx/>
                  <a:latin typeface="Times New Roman"/>
                  <a:hlinkClick r:id="rId20" action="ppaction://hlinksldjump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20" name="AutoShape 23" descr=""/>
          <p:cNvPicPr/>
          <p:nvPr/>
        </p:nvPicPr>
        <p:blipFill>
          <a:blip r:embed="rId21"/>
          <a:stretch/>
        </p:blipFill>
        <p:spPr>
          <a:xfrm>
            <a:off x="5979960" y="3906720"/>
            <a:ext cx="1133640" cy="10000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24"/>
          <p:cNvSpPr/>
          <p:nvPr/>
        </p:nvSpPr>
        <p:spPr>
          <a:xfrm>
            <a:off x="1785960" y="0"/>
            <a:ext cx="66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СВОЯ ИГРА «ЭРУДИТ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25"/>
          <p:cNvSpPr/>
          <p:nvPr/>
        </p:nvSpPr>
        <p:spPr>
          <a:xfrm>
            <a:off x="250920" y="1268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250920" y="2637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7"/>
          <p:cNvSpPr/>
          <p:nvPr/>
        </p:nvSpPr>
        <p:spPr>
          <a:xfrm>
            <a:off x="250920" y="41497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250920" y="5589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ВСЕЛЕН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AutoShape 29" descr=""/>
          <p:cNvPicPr/>
          <p:nvPr/>
        </p:nvPicPr>
        <p:blipFill>
          <a:blip r:embed="rId22"/>
          <a:stretch/>
        </p:blipFill>
        <p:spPr>
          <a:xfrm>
            <a:off x="7424640" y="3906720"/>
            <a:ext cx="112896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785960"/>
            <a:ext cx="82296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помощью какой детской игры мы сможем доказать, что воздух занимает место?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42960" y="500040"/>
            <a:ext cx="49291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УВАНИЕ ШАРИКОВ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277560" indent="-277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45" name="AutoShape 4">
            <a:hlinkClick r:id="" action="ppaction://hlinkshowjump?jump=firstslide"/>
          </p:cNvPr>
          <p:cNvSpPr/>
          <p:nvPr/>
        </p:nvSpPr>
        <p:spPr>
          <a:xfrm>
            <a:off x="7215120" y="5572080"/>
            <a:ext cx="1308240" cy="719280"/>
          </a:xfrm>
          <a:custGeom>
            <a:avLst/>
            <a:gdLst>
              <a:gd name="textAreaLeft" fmla="*/ 46440 w 1308240"/>
              <a:gd name="textAreaRight" fmla="*/ 1261800 w 13082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9278" h="21600">
                <a:moveTo>
                  <a:pt x="0" y="0"/>
                </a:moveTo>
                <a:lnTo>
                  <a:pt x="39278" y="0"/>
                </a:lnTo>
                <a:lnTo>
                  <a:pt x="39278" y="21600"/>
                </a:lnTo>
                <a:lnTo>
                  <a:pt x="0" y="21600"/>
                </a:lnTo>
                <a:close/>
              </a:path>
              <a:path fill="lightenLess" w="39278" h="21600">
                <a:moveTo>
                  <a:pt x="0" y="0"/>
                </a:moveTo>
                <a:lnTo>
                  <a:pt x="39278" y="0"/>
                </a:lnTo>
                <a:lnTo>
                  <a:pt x="37878" y="1400"/>
                </a:lnTo>
                <a:lnTo>
                  <a:pt x="1400" y="1400"/>
                </a:lnTo>
                <a:close/>
              </a:path>
              <a:path fill="darken" w="39278" h="21600">
                <a:moveTo>
                  <a:pt x="39278" y="0"/>
                </a:moveTo>
                <a:lnTo>
                  <a:pt x="39278" y="21600"/>
                </a:lnTo>
                <a:lnTo>
                  <a:pt x="37878" y="20200"/>
                </a:lnTo>
                <a:lnTo>
                  <a:pt x="37878" y="1400"/>
                </a:lnTo>
                <a:close/>
              </a:path>
              <a:path fill="darkenLess" w="39278" h="21600">
                <a:moveTo>
                  <a:pt x="39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78" y="20200"/>
                </a:lnTo>
                <a:close/>
              </a:path>
              <a:path fill="lighten" w="39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78" h="21600">
                <a:moveTo>
                  <a:pt x="19639" y="3837"/>
                </a:moveTo>
                <a:lnTo>
                  <a:pt x="22215" y="6448"/>
                </a:lnTo>
                <a:lnTo>
                  <a:pt x="22215" y="4707"/>
                </a:lnTo>
                <a:lnTo>
                  <a:pt x="23991" y="4707"/>
                </a:lnTo>
                <a:lnTo>
                  <a:pt x="23991" y="8224"/>
                </a:lnTo>
                <a:lnTo>
                  <a:pt x="26602" y="10800"/>
                </a:lnTo>
                <a:lnTo>
                  <a:pt x="24948" y="10800"/>
                </a:lnTo>
                <a:lnTo>
                  <a:pt x="24948" y="17989"/>
                </a:lnTo>
                <a:lnTo>
                  <a:pt x="14330" y="17989"/>
                </a:lnTo>
                <a:lnTo>
                  <a:pt x="14330" y="10800"/>
                </a:lnTo>
                <a:lnTo>
                  <a:pt x="12676" y="10800"/>
                </a:lnTo>
                <a:close/>
              </a:path>
              <a:path fill="darkenLess" w="39278" h="21600">
                <a:moveTo>
                  <a:pt x="22215" y="6448"/>
                </a:moveTo>
                <a:lnTo>
                  <a:pt x="22215" y="4707"/>
                </a:lnTo>
                <a:lnTo>
                  <a:pt x="23991" y="4707"/>
                </a:lnTo>
                <a:lnTo>
                  <a:pt x="23991" y="8224"/>
                </a:lnTo>
                <a:close/>
              </a:path>
              <a:path fill="darkenLess" w="39278" h="21600">
                <a:moveTo>
                  <a:pt x="18716" y="14299"/>
                </a:moveTo>
                <a:lnTo>
                  <a:pt x="20561" y="14299"/>
                </a:lnTo>
                <a:lnTo>
                  <a:pt x="20561" y="17989"/>
                </a:lnTo>
                <a:lnTo>
                  <a:pt x="24948" y="17989"/>
                </a:lnTo>
                <a:lnTo>
                  <a:pt x="24948" y="10800"/>
                </a:lnTo>
                <a:lnTo>
                  <a:pt x="14330" y="10800"/>
                </a:lnTo>
                <a:lnTo>
                  <a:pt x="14330" y="17989"/>
                </a:lnTo>
                <a:lnTo>
                  <a:pt x="18716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6" name="Picture 4" descr="C:\Users\ПК\Desktop\шарик2.jpg"/>
          <p:cNvPicPr/>
          <p:nvPr/>
        </p:nvPicPr>
        <p:blipFill>
          <a:blip r:embed="rId1"/>
          <a:stretch/>
        </p:blipFill>
        <p:spPr>
          <a:xfrm>
            <a:off x="0" y="2149560"/>
            <a:ext cx="6286680" cy="47084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28760" y="1928880"/>
            <a:ext cx="82296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рях и реках обитает, но часто по небу летает, а как наскучит ей летать, на землю падает опять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856800" y="499680"/>
            <a:ext cx="3313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ДА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49" name="AutoShape 4">
            <a:hlinkClick r:id="" action="ppaction://hlinkshowjump?jump=firstslide"/>
          </p:cNvPr>
          <p:cNvSpPr/>
          <p:nvPr/>
        </p:nvSpPr>
        <p:spPr>
          <a:xfrm>
            <a:off x="7429680" y="5572080"/>
            <a:ext cx="1164960" cy="719280"/>
          </a:xfrm>
          <a:custGeom>
            <a:avLst/>
            <a:gdLst>
              <a:gd name="textAreaLeft" fmla="*/ 46440 w 1164960"/>
              <a:gd name="textAreaRight" fmla="*/ 1118520 w 11649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977" h="21600">
                <a:moveTo>
                  <a:pt x="0" y="0"/>
                </a:moveTo>
                <a:lnTo>
                  <a:pt x="34977" y="0"/>
                </a:lnTo>
                <a:lnTo>
                  <a:pt x="34977" y="21600"/>
                </a:lnTo>
                <a:lnTo>
                  <a:pt x="0" y="21600"/>
                </a:lnTo>
                <a:close/>
              </a:path>
              <a:path fill="lightenLess" w="34977" h="21600">
                <a:moveTo>
                  <a:pt x="0" y="0"/>
                </a:moveTo>
                <a:lnTo>
                  <a:pt x="34977" y="0"/>
                </a:lnTo>
                <a:lnTo>
                  <a:pt x="33577" y="1400"/>
                </a:lnTo>
                <a:lnTo>
                  <a:pt x="1400" y="1400"/>
                </a:lnTo>
                <a:close/>
              </a:path>
              <a:path fill="darken" w="34977" h="21600">
                <a:moveTo>
                  <a:pt x="34977" y="0"/>
                </a:moveTo>
                <a:lnTo>
                  <a:pt x="34977" y="21600"/>
                </a:lnTo>
                <a:lnTo>
                  <a:pt x="33577" y="20200"/>
                </a:lnTo>
                <a:lnTo>
                  <a:pt x="33577" y="1400"/>
                </a:lnTo>
                <a:close/>
              </a:path>
              <a:path fill="darkenLess" w="34977" h="21600">
                <a:moveTo>
                  <a:pt x="34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77" y="20200"/>
                </a:lnTo>
                <a:close/>
              </a:path>
              <a:path fill="lighten" w="34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77" h="21600">
                <a:moveTo>
                  <a:pt x="17489" y="3837"/>
                </a:moveTo>
                <a:lnTo>
                  <a:pt x="20065" y="6448"/>
                </a:lnTo>
                <a:lnTo>
                  <a:pt x="20065" y="4707"/>
                </a:lnTo>
                <a:lnTo>
                  <a:pt x="21840" y="4707"/>
                </a:lnTo>
                <a:lnTo>
                  <a:pt x="21840" y="8224"/>
                </a:lnTo>
                <a:lnTo>
                  <a:pt x="24452" y="10800"/>
                </a:lnTo>
                <a:lnTo>
                  <a:pt x="22798" y="10800"/>
                </a:lnTo>
                <a:lnTo>
                  <a:pt x="22798" y="17989"/>
                </a:lnTo>
                <a:lnTo>
                  <a:pt x="12179" y="17989"/>
                </a:lnTo>
                <a:lnTo>
                  <a:pt x="12179" y="10800"/>
                </a:lnTo>
                <a:lnTo>
                  <a:pt x="10526" y="10800"/>
                </a:lnTo>
                <a:close/>
              </a:path>
              <a:path fill="darkenLess" w="34977" h="21600">
                <a:moveTo>
                  <a:pt x="20065" y="6448"/>
                </a:moveTo>
                <a:lnTo>
                  <a:pt x="20065" y="4707"/>
                </a:lnTo>
                <a:lnTo>
                  <a:pt x="21840" y="4707"/>
                </a:lnTo>
                <a:lnTo>
                  <a:pt x="21840" y="8224"/>
                </a:lnTo>
                <a:close/>
              </a:path>
              <a:path fill="darkenLess" w="34977" h="21600">
                <a:moveTo>
                  <a:pt x="16566" y="14299"/>
                </a:moveTo>
                <a:lnTo>
                  <a:pt x="18411" y="14299"/>
                </a:lnTo>
                <a:lnTo>
                  <a:pt x="18411" y="17989"/>
                </a:lnTo>
                <a:lnTo>
                  <a:pt x="22798" y="17989"/>
                </a:lnTo>
                <a:lnTo>
                  <a:pt x="22798" y="10800"/>
                </a:lnTo>
                <a:lnTo>
                  <a:pt x="12179" y="10800"/>
                </a:lnTo>
                <a:lnTo>
                  <a:pt x="12179" y="17989"/>
                </a:lnTo>
                <a:lnTo>
                  <a:pt x="16566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0" name="Picture 4" descr="C:\Users\ПК\Desktop\вода.jpg"/>
          <p:cNvPicPr/>
          <p:nvPr/>
        </p:nvPicPr>
        <p:blipFill>
          <a:blip r:embed="rId1"/>
          <a:stretch/>
        </p:blipFill>
        <p:spPr>
          <a:xfrm>
            <a:off x="0" y="1846440"/>
            <a:ext cx="5357880" cy="5011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57140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гу я как по лесенке, по камушкам звеня, издалека по песенке, узнаете меня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1000080" y="571320"/>
            <a:ext cx="357192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А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53" name="AutoShape 4">
            <a:hlinkClick r:id="" action="ppaction://hlinkshowjump?jump=firstslide"/>
          </p:cNvPr>
          <p:cNvSpPr/>
          <p:nvPr/>
        </p:nvSpPr>
        <p:spPr>
          <a:xfrm>
            <a:off x="7786800" y="5643720"/>
            <a:ext cx="879480" cy="718920"/>
          </a:xfrm>
          <a:custGeom>
            <a:avLst/>
            <a:gdLst>
              <a:gd name="textAreaLeft" fmla="*/ 46440 w 879480"/>
              <a:gd name="textAreaRight" fmla="*/ 833040 w 8794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6422" h="21600">
                <a:moveTo>
                  <a:pt x="0" y="0"/>
                </a:moveTo>
                <a:lnTo>
                  <a:pt x="26422" y="0"/>
                </a:lnTo>
                <a:lnTo>
                  <a:pt x="26422" y="21600"/>
                </a:lnTo>
                <a:lnTo>
                  <a:pt x="0" y="21600"/>
                </a:lnTo>
                <a:close/>
              </a:path>
              <a:path fill="lightenLess" w="26422" h="21600">
                <a:moveTo>
                  <a:pt x="0" y="0"/>
                </a:moveTo>
                <a:lnTo>
                  <a:pt x="26422" y="0"/>
                </a:lnTo>
                <a:lnTo>
                  <a:pt x="25022" y="1400"/>
                </a:lnTo>
                <a:lnTo>
                  <a:pt x="1400" y="1400"/>
                </a:lnTo>
                <a:close/>
              </a:path>
              <a:path fill="darken" w="26422" h="21600">
                <a:moveTo>
                  <a:pt x="26422" y="0"/>
                </a:moveTo>
                <a:lnTo>
                  <a:pt x="26422" y="21600"/>
                </a:lnTo>
                <a:lnTo>
                  <a:pt x="25022" y="20200"/>
                </a:lnTo>
                <a:lnTo>
                  <a:pt x="25022" y="1400"/>
                </a:lnTo>
                <a:close/>
              </a:path>
              <a:path fill="darkenLess" w="26422" h="21600">
                <a:moveTo>
                  <a:pt x="26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2" y="20200"/>
                </a:lnTo>
                <a:close/>
              </a:path>
              <a:path fill="lighten" w="26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2" h="21600">
                <a:moveTo>
                  <a:pt x="13211" y="3837"/>
                </a:moveTo>
                <a:lnTo>
                  <a:pt x="15787" y="6448"/>
                </a:lnTo>
                <a:lnTo>
                  <a:pt x="15787" y="4707"/>
                </a:lnTo>
                <a:lnTo>
                  <a:pt x="17563" y="4707"/>
                </a:lnTo>
                <a:lnTo>
                  <a:pt x="17563" y="8224"/>
                </a:lnTo>
                <a:lnTo>
                  <a:pt x="20174" y="10800"/>
                </a:lnTo>
                <a:lnTo>
                  <a:pt x="18520" y="10800"/>
                </a:lnTo>
                <a:lnTo>
                  <a:pt x="18520" y="17989"/>
                </a:lnTo>
                <a:lnTo>
                  <a:pt x="7902" y="17989"/>
                </a:lnTo>
                <a:lnTo>
                  <a:pt x="7902" y="10800"/>
                </a:lnTo>
                <a:lnTo>
                  <a:pt x="6248" y="10800"/>
                </a:lnTo>
                <a:close/>
              </a:path>
              <a:path fill="darkenLess" w="26422" h="21600">
                <a:moveTo>
                  <a:pt x="15787" y="6448"/>
                </a:moveTo>
                <a:lnTo>
                  <a:pt x="15787" y="4707"/>
                </a:lnTo>
                <a:lnTo>
                  <a:pt x="17563" y="4707"/>
                </a:lnTo>
                <a:lnTo>
                  <a:pt x="17563" y="8224"/>
                </a:lnTo>
                <a:close/>
              </a:path>
              <a:path fill="darkenLess" w="26422" h="21600">
                <a:moveTo>
                  <a:pt x="12288" y="14299"/>
                </a:moveTo>
                <a:lnTo>
                  <a:pt x="14133" y="14299"/>
                </a:lnTo>
                <a:lnTo>
                  <a:pt x="14133" y="17989"/>
                </a:lnTo>
                <a:lnTo>
                  <a:pt x="18520" y="17989"/>
                </a:lnTo>
                <a:lnTo>
                  <a:pt x="18520" y="10800"/>
                </a:lnTo>
                <a:lnTo>
                  <a:pt x="7902" y="10800"/>
                </a:lnTo>
                <a:lnTo>
                  <a:pt x="7902" y="17989"/>
                </a:lnTo>
                <a:lnTo>
                  <a:pt x="12288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Picture 4" descr="C:\Users\ПК\Desktop\река.jpg"/>
          <p:cNvPicPr/>
          <p:nvPr/>
        </p:nvPicPr>
        <p:blipFill>
          <a:blip r:embed="rId1"/>
          <a:stretch/>
        </p:blipFill>
        <p:spPr>
          <a:xfrm>
            <a:off x="0" y="1928880"/>
            <a:ext cx="721368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без рук, он без ног, из земли пробиться смог, нас он летом в самый зной, ледяной поит водой. 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1285560" y="642600"/>
            <a:ext cx="33908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НИК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57" name="AutoShape 4">
            <a:hlinkClick r:id="" action="ppaction://hlinkshowjump?jump=firstslide"/>
          </p:cNvPr>
          <p:cNvSpPr/>
          <p:nvPr/>
        </p:nvSpPr>
        <p:spPr>
          <a:xfrm>
            <a:off x="7572240" y="5715000"/>
            <a:ext cx="951120" cy="719280"/>
          </a:xfrm>
          <a:custGeom>
            <a:avLst/>
            <a:gdLst>
              <a:gd name="textAreaLeft" fmla="*/ 46440 w 951120"/>
              <a:gd name="textAreaRight" fmla="*/ 904680 w 9511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559" h="21600">
                <a:moveTo>
                  <a:pt x="0" y="0"/>
                </a:moveTo>
                <a:lnTo>
                  <a:pt x="28559" y="0"/>
                </a:lnTo>
                <a:lnTo>
                  <a:pt x="28559" y="21600"/>
                </a:lnTo>
                <a:lnTo>
                  <a:pt x="0" y="21600"/>
                </a:lnTo>
                <a:close/>
              </a:path>
              <a:path fill="lightenLess" w="28559" h="21600">
                <a:moveTo>
                  <a:pt x="0" y="0"/>
                </a:moveTo>
                <a:lnTo>
                  <a:pt x="28559" y="0"/>
                </a:lnTo>
                <a:lnTo>
                  <a:pt x="27159" y="1400"/>
                </a:lnTo>
                <a:lnTo>
                  <a:pt x="1400" y="1400"/>
                </a:lnTo>
                <a:close/>
              </a:path>
              <a:path fill="darken" w="28559" h="21600">
                <a:moveTo>
                  <a:pt x="28559" y="0"/>
                </a:moveTo>
                <a:lnTo>
                  <a:pt x="28559" y="21600"/>
                </a:lnTo>
                <a:lnTo>
                  <a:pt x="27159" y="20200"/>
                </a:lnTo>
                <a:lnTo>
                  <a:pt x="27159" y="1400"/>
                </a:lnTo>
                <a:close/>
              </a:path>
              <a:path fill="darkenLess" w="28559" h="21600">
                <a:moveTo>
                  <a:pt x="28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59" y="20200"/>
                </a:lnTo>
                <a:close/>
              </a:path>
              <a:path fill="lighten" w="28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59" h="21600">
                <a:moveTo>
                  <a:pt x="14279" y="3837"/>
                </a:moveTo>
                <a:lnTo>
                  <a:pt x="16856" y="6448"/>
                </a:lnTo>
                <a:lnTo>
                  <a:pt x="16856" y="4707"/>
                </a:lnTo>
                <a:lnTo>
                  <a:pt x="18631" y="4707"/>
                </a:lnTo>
                <a:lnTo>
                  <a:pt x="18631" y="8224"/>
                </a:lnTo>
                <a:lnTo>
                  <a:pt x="21242" y="10800"/>
                </a:lnTo>
                <a:lnTo>
                  <a:pt x="19589" y="10800"/>
                </a:lnTo>
                <a:lnTo>
                  <a:pt x="19589" y="17989"/>
                </a:lnTo>
                <a:lnTo>
                  <a:pt x="8970" y="17989"/>
                </a:lnTo>
                <a:lnTo>
                  <a:pt x="8970" y="10800"/>
                </a:lnTo>
                <a:lnTo>
                  <a:pt x="7316" y="10800"/>
                </a:lnTo>
                <a:close/>
              </a:path>
              <a:path fill="darkenLess" w="28559" h="21600">
                <a:moveTo>
                  <a:pt x="16856" y="6448"/>
                </a:moveTo>
                <a:lnTo>
                  <a:pt x="16856" y="4707"/>
                </a:lnTo>
                <a:lnTo>
                  <a:pt x="18631" y="4707"/>
                </a:lnTo>
                <a:lnTo>
                  <a:pt x="18631" y="8224"/>
                </a:lnTo>
                <a:close/>
              </a:path>
              <a:path fill="darkenLess" w="28559" h="21600">
                <a:moveTo>
                  <a:pt x="13357" y="14299"/>
                </a:moveTo>
                <a:lnTo>
                  <a:pt x="15202" y="14299"/>
                </a:lnTo>
                <a:lnTo>
                  <a:pt x="15202" y="17989"/>
                </a:lnTo>
                <a:lnTo>
                  <a:pt x="19589" y="17989"/>
                </a:lnTo>
                <a:lnTo>
                  <a:pt x="19589" y="10800"/>
                </a:lnTo>
                <a:lnTo>
                  <a:pt x="8970" y="10800"/>
                </a:lnTo>
                <a:lnTo>
                  <a:pt x="8970" y="17989"/>
                </a:lnTo>
                <a:lnTo>
                  <a:pt x="13357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8" name="Picture 4" descr="C:\Users\ПК\Desktop\родник.jpg"/>
          <p:cNvPicPr/>
          <p:nvPr/>
        </p:nvPicPr>
        <p:blipFill>
          <a:blip r:embed="rId1"/>
          <a:stretch/>
        </p:blipFill>
        <p:spPr>
          <a:xfrm>
            <a:off x="0" y="187488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3840" y="1428840"/>
            <a:ext cx="857268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ром падаю всегда – не дождинка, не звезда – и сверкаю в лопухах на опушках и лугах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914040" y="642960"/>
            <a:ext cx="3800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А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61" name="AutoShape 4">
            <a:hlinkClick r:id="" action="ppaction://hlinkshowjump?jump=firstslide"/>
          </p:cNvPr>
          <p:cNvSpPr/>
          <p:nvPr/>
        </p:nvSpPr>
        <p:spPr>
          <a:xfrm>
            <a:off x="7643880" y="5643720"/>
            <a:ext cx="879480" cy="718920"/>
          </a:xfrm>
          <a:custGeom>
            <a:avLst/>
            <a:gdLst>
              <a:gd name="textAreaLeft" fmla="*/ 46440 w 879480"/>
              <a:gd name="textAreaRight" fmla="*/ 833040 w 8794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6422" h="21600">
                <a:moveTo>
                  <a:pt x="0" y="0"/>
                </a:moveTo>
                <a:lnTo>
                  <a:pt x="26422" y="0"/>
                </a:lnTo>
                <a:lnTo>
                  <a:pt x="26422" y="21600"/>
                </a:lnTo>
                <a:lnTo>
                  <a:pt x="0" y="21600"/>
                </a:lnTo>
                <a:close/>
              </a:path>
              <a:path fill="lightenLess" w="26422" h="21600">
                <a:moveTo>
                  <a:pt x="0" y="0"/>
                </a:moveTo>
                <a:lnTo>
                  <a:pt x="26422" y="0"/>
                </a:lnTo>
                <a:lnTo>
                  <a:pt x="25022" y="1400"/>
                </a:lnTo>
                <a:lnTo>
                  <a:pt x="1400" y="1400"/>
                </a:lnTo>
                <a:close/>
              </a:path>
              <a:path fill="darken" w="26422" h="21600">
                <a:moveTo>
                  <a:pt x="26422" y="0"/>
                </a:moveTo>
                <a:lnTo>
                  <a:pt x="26422" y="21600"/>
                </a:lnTo>
                <a:lnTo>
                  <a:pt x="25022" y="20200"/>
                </a:lnTo>
                <a:lnTo>
                  <a:pt x="25022" y="1400"/>
                </a:lnTo>
                <a:close/>
              </a:path>
              <a:path fill="darkenLess" w="26422" h="21600">
                <a:moveTo>
                  <a:pt x="26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2" y="20200"/>
                </a:lnTo>
                <a:close/>
              </a:path>
              <a:path fill="lighten" w="26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2" h="21600">
                <a:moveTo>
                  <a:pt x="13211" y="3837"/>
                </a:moveTo>
                <a:lnTo>
                  <a:pt x="15787" y="6448"/>
                </a:lnTo>
                <a:lnTo>
                  <a:pt x="15787" y="4707"/>
                </a:lnTo>
                <a:lnTo>
                  <a:pt x="17563" y="4707"/>
                </a:lnTo>
                <a:lnTo>
                  <a:pt x="17563" y="8224"/>
                </a:lnTo>
                <a:lnTo>
                  <a:pt x="20174" y="10800"/>
                </a:lnTo>
                <a:lnTo>
                  <a:pt x="18520" y="10800"/>
                </a:lnTo>
                <a:lnTo>
                  <a:pt x="18520" y="17989"/>
                </a:lnTo>
                <a:lnTo>
                  <a:pt x="7902" y="17989"/>
                </a:lnTo>
                <a:lnTo>
                  <a:pt x="7902" y="10800"/>
                </a:lnTo>
                <a:lnTo>
                  <a:pt x="6248" y="10800"/>
                </a:lnTo>
                <a:close/>
              </a:path>
              <a:path fill="darkenLess" w="26422" h="21600">
                <a:moveTo>
                  <a:pt x="15787" y="6448"/>
                </a:moveTo>
                <a:lnTo>
                  <a:pt x="15787" y="4707"/>
                </a:lnTo>
                <a:lnTo>
                  <a:pt x="17563" y="4707"/>
                </a:lnTo>
                <a:lnTo>
                  <a:pt x="17563" y="8224"/>
                </a:lnTo>
                <a:close/>
              </a:path>
              <a:path fill="darkenLess" w="26422" h="21600">
                <a:moveTo>
                  <a:pt x="12288" y="14299"/>
                </a:moveTo>
                <a:lnTo>
                  <a:pt x="14133" y="14299"/>
                </a:lnTo>
                <a:lnTo>
                  <a:pt x="14133" y="17989"/>
                </a:lnTo>
                <a:lnTo>
                  <a:pt x="18520" y="17989"/>
                </a:lnTo>
                <a:lnTo>
                  <a:pt x="18520" y="10800"/>
                </a:lnTo>
                <a:lnTo>
                  <a:pt x="7902" y="10800"/>
                </a:lnTo>
                <a:lnTo>
                  <a:pt x="7902" y="17989"/>
                </a:lnTo>
                <a:lnTo>
                  <a:pt x="12288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2" name="Picture 4" descr="C:\Users\ПК\Desktop\роса.jpg"/>
          <p:cNvPicPr/>
          <p:nvPr/>
        </p:nvPicPr>
        <p:blipFill>
          <a:blip r:embed="rId1"/>
          <a:stretch/>
        </p:blipFill>
        <p:spPr>
          <a:xfrm>
            <a:off x="0" y="2000160"/>
            <a:ext cx="664380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121520" cy="36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Неведимка-озорник, в нашу комнату проник, заплясали занавески, календарь пустился в пляс, хорошо что сразу с треском дверь захлопнулась у нас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живу под самой крышей, даже страшно глянуть вниз, я могла бы жить и выше, если б крыши там нашлись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28760" y="92844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УЛЬКА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65" name="AutoShape 4">
            <a:hlinkClick r:id="" action="ppaction://hlinkshowjump?jump=firstslide"/>
          </p:cNvPr>
          <p:cNvSpPr/>
          <p:nvPr/>
        </p:nvSpPr>
        <p:spPr>
          <a:xfrm>
            <a:off x="7429680" y="5715000"/>
            <a:ext cx="1164960" cy="719280"/>
          </a:xfrm>
          <a:custGeom>
            <a:avLst/>
            <a:gdLst>
              <a:gd name="textAreaLeft" fmla="*/ 46440 w 1164960"/>
              <a:gd name="textAreaRight" fmla="*/ 1118520 w 11649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977" h="21600">
                <a:moveTo>
                  <a:pt x="0" y="0"/>
                </a:moveTo>
                <a:lnTo>
                  <a:pt x="34977" y="0"/>
                </a:lnTo>
                <a:lnTo>
                  <a:pt x="34977" y="21600"/>
                </a:lnTo>
                <a:lnTo>
                  <a:pt x="0" y="21600"/>
                </a:lnTo>
                <a:close/>
              </a:path>
              <a:path fill="lightenLess" w="34977" h="21600">
                <a:moveTo>
                  <a:pt x="0" y="0"/>
                </a:moveTo>
                <a:lnTo>
                  <a:pt x="34977" y="0"/>
                </a:lnTo>
                <a:lnTo>
                  <a:pt x="33577" y="1400"/>
                </a:lnTo>
                <a:lnTo>
                  <a:pt x="1400" y="1400"/>
                </a:lnTo>
                <a:close/>
              </a:path>
              <a:path fill="darken" w="34977" h="21600">
                <a:moveTo>
                  <a:pt x="34977" y="0"/>
                </a:moveTo>
                <a:lnTo>
                  <a:pt x="34977" y="21600"/>
                </a:lnTo>
                <a:lnTo>
                  <a:pt x="33577" y="20200"/>
                </a:lnTo>
                <a:lnTo>
                  <a:pt x="33577" y="1400"/>
                </a:lnTo>
                <a:close/>
              </a:path>
              <a:path fill="darkenLess" w="34977" h="21600">
                <a:moveTo>
                  <a:pt x="34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77" y="20200"/>
                </a:lnTo>
                <a:close/>
              </a:path>
              <a:path fill="lighten" w="34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77" h="21600">
                <a:moveTo>
                  <a:pt x="17489" y="3837"/>
                </a:moveTo>
                <a:lnTo>
                  <a:pt x="20065" y="6448"/>
                </a:lnTo>
                <a:lnTo>
                  <a:pt x="20065" y="4707"/>
                </a:lnTo>
                <a:lnTo>
                  <a:pt x="21840" y="4707"/>
                </a:lnTo>
                <a:lnTo>
                  <a:pt x="21840" y="8224"/>
                </a:lnTo>
                <a:lnTo>
                  <a:pt x="24452" y="10800"/>
                </a:lnTo>
                <a:lnTo>
                  <a:pt x="22798" y="10800"/>
                </a:lnTo>
                <a:lnTo>
                  <a:pt x="22798" y="17989"/>
                </a:lnTo>
                <a:lnTo>
                  <a:pt x="12179" y="17989"/>
                </a:lnTo>
                <a:lnTo>
                  <a:pt x="12179" y="10800"/>
                </a:lnTo>
                <a:lnTo>
                  <a:pt x="10526" y="10800"/>
                </a:lnTo>
                <a:close/>
              </a:path>
              <a:path fill="darkenLess" w="34977" h="21600">
                <a:moveTo>
                  <a:pt x="20065" y="6448"/>
                </a:moveTo>
                <a:lnTo>
                  <a:pt x="20065" y="4707"/>
                </a:lnTo>
                <a:lnTo>
                  <a:pt x="21840" y="4707"/>
                </a:lnTo>
                <a:lnTo>
                  <a:pt x="21840" y="8224"/>
                </a:lnTo>
                <a:close/>
              </a:path>
              <a:path fill="darkenLess" w="34977" h="21600">
                <a:moveTo>
                  <a:pt x="16566" y="14299"/>
                </a:moveTo>
                <a:lnTo>
                  <a:pt x="18411" y="14299"/>
                </a:lnTo>
                <a:lnTo>
                  <a:pt x="18411" y="17989"/>
                </a:lnTo>
                <a:lnTo>
                  <a:pt x="22798" y="17989"/>
                </a:lnTo>
                <a:lnTo>
                  <a:pt x="22798" y="10800"/>
                </a:lnTo>
                <a:lnTo>
                  <a:pt x="12179" y="10800"/>
                </a:lnTo>
                <a:lnTo>
                  <a:pt x="12179" y="17989"/>
                </a:lnTo>
                <a:lnTo>
                  <a:pt x="16566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6" name="Picture 4" descr="C:\Users\ПК\Desktop\сосулька.jpg"/>
          <p:cNvPicPr/>
          <p:nvPr/>
        </p:nvPicPr>
        <p:blipFill>
          <a:blip r:embed="rId1"/>
          <a:stretch/>
        </p:blipFill>
        <p:spPr>
          <a:xfrm>
            <a:off x="0" y="2500200"/>
            <a:ext cx="650088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1999800"/>
            <a:ext cx="8229600" cy="24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В жарком лете я стою, 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Шапкой зиму достаю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214280" y="500040"/>
            <a:ext cx="35337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А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69" name="AutoShape 4">
            <a:hlinkClick r:id="" action="ppaction://hlinkshowjump?jump=firstslide"/>
          </p:cNvPr>
          <p:cNvSpPr/>
          <p:nvPr/>
        </p:nvSpPr>
        <p:spPr>
          <a:xfrm>
            <a:off x="7643880" y="5643720"/>
            <a:ext cx="879480" cy="718920"/>
          </a:xfrm>
          <a:custGeom>
            <a:avLst/>
            <a:gdLst>
              <a:gd name="textAreaLeft" fmla="*/ 46440 w 879480"/>
              <a:gd name="textAreaRight" fmla="*/ 833040 w 8794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6422" h="21600">
                <a:moveTo>
                  <a:pt x="0" y="0"/>
                </a:moveTo>
                <a:lnTo>
                  <a:pt x="26422" y="0"/>
                </a:lnTo>
                <a:lnTo>
                  <a:pt x="26422" y="21600"/>
                </a:lnTo>
                <a:lnTo>
                  <a:pt x="0" y="21600"/>
                </a:lnTo>
                <a:close/>
              </a:path>
              <a:path fill="lightenLess" w="26422" h="21600">
                <a:moveTo>
                  <a:pt x="0" y="0"/>
                </a:moveTo>
                <a:lnTo>
                  <a:pt x="26422" y="0"/>
                </a:lnTo>
                <a:lnTo>
                  <a:pt x="25022" y="1400"/>
                </a:lnTo>
                <a:lnTo>
                  <a:pt x="1400" y="1400"/>
                </a:lnTo>
                <a:close/>
              </a:path>
              <a:path fill="darken" w="26422" h="21600">
                <a:moveTo>
                  <a:pt x="26422" y="0"/>
                </a:moveTo>
                <a:lnTo>
                  <a:pt x="26422" y="21600"/>
                </a:lnTo>
                <a:lnTo>
                  <a:pt x="25022" y="20200"/>
                </a:lnTo>
                <a:lnTo>
                  <a:pt x="25022" y="1400"/>
                </a:lnTo>
                <a:close/>
              </a:path>
              <a:path fill="darkenLess" w="26422" h="21600">
                <a:moveTo>
                  <a:pt x="26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2" y="20200"/>
                </a:lnTo>
                <a:close/>
              </a:path>
              <a:path fill="lighten" w="26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2" h="21600">
                <a:moveTo>
                  <a:pt x="13211" y="3837"/>
                </a:moveTo>
                <a:lnTo>
                  <a:pt x="15787" y="6448"/>
                </a:lnTo>
                <a:lnTo>
                  <a:pt x="15787" y="4707"/>
                </a:lnTo>
                <a:lnTo>
                  <a:pt x="17563" y="4707"/>
                </a:lnTo>
                <a:lnTo>
                  <a:pt x="17563" y="8224"/>
                </a:lnTo>
                <a:lnTo>
                  <a:pt x="20174" y="10800"/>
                </a:lnTo>
                <a:lnTo>
                  <a:pt x="18520" y="10800"/>
                </a:lnTo>
                <a:lnTo>
                  <a:pt x="18520" y="17989"/>
                </a:lnTo>
                <a:lnTo>
                  <a:pt x="7902" y="17989"/>
                </a:lnTo>
                <a:lnTo>
                  <a:pt x="7902" y="10800"/>
                </a:lnTo>
                <a:lnTo>
                  <a:pt x="6248" y="10800"/>
                </a:lnTo>
                <a:close/>
              </a:path>
              <a:path fill="darkenLess" w="26422" h="21600">
                <a:moveTo>
                  <a:pt x="15787" y="6448"/>
                </a:moveTo>
                <a:lnTo>
                  <a:pt x="15787" y="4707"/>
                </a:lnTo>
                <a:lnTo>
                  <a:pt x="17563" y="4707"/>
                </a:lnTo>
                <a:lnTo>
                  <a:pt x="17563" y="8224"/>
                </a:lnTo>
                <a:close/>
              </a:path>
              <a:path fill="darkenLess" w="26422" h="21600">
                <a:moveTo>
                  <a:pt x="12288" y="14299"/>
                </a:moveTo>
                <a:lnTo>
                  <a:pt x="14133" y="14299"/>
                </a:lnTo>
                <a:lnTo>
                  <a:pt x="14133" y="17989"/>
                </a:lnTo>
                <a:lnTo>
                  <a:pt x="18520" y="17989"/>
                </a:lnTo>
                <a:lnTo>
                  <a:pt x="18520" y="10800"/>
                </a:lnTo>
                <a:lnTo>
                  <a:pt x="7902" y="10800"/>
                </a:lnTo>
                <a:lnTo>
                  <a:pt x="7902" y="17989"/>
                </a:lnTo>
                <a:lnTo>
                  <a:pt x="12288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Picture 4" descr="C:\Users\ПК\Desktop\гора.jpg"/>
          <p:cNvPicPr/>
          <p:nvPr/>
        </p:nvPicPr>
        <p:blipFill>
          <a:blip r:embed="rId1"/>
          <a:stretch/>
        </p:blipFill>
        <p:spPr>
          <a:xfrm>
            <a:off x="0" y="1881360"/>
            <a:ext cx="6643800" cy="4976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500120"/>
            <a:ext cx="822960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Он и летом и зимой -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Между небом и землёй.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Хоть всю жизнь к нему иди -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Он всё будет впереди. 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01680" indent="-301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Виден край, Да не дойдёшь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600" y="1214280"/>
            <a:ext cx="50720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ИЗОНТ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73" name="AutoShape 4">
            <a:hlinkClick r:id="" action="ppaction://hlinkshowjump?jump=firstslide"/>
          </p:cNvPr>
          <p:cNvSpPr/>
          <p:nvPr/>
        </p:nvSpPr>
        <p:spPr>
          <a:xfrm>
            <a:off x="7286760" y="5373720"/>
            <a:ext cx="1101600" cy="719280"/>
          </a:xfrm>
          <a:custGeom>
            <a:avLst/>
            <a:gdLst>
              <a:gd name="textAreaLeft" fmla="*/ 46440 w 1101600"/>
              <a:gd name="textAreaRight" fmla="*/ 1055160 w 11016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3075" h="21600">
                <a:moveTo>
                  <a:pt x="0" y="0"/>
                </a:moveTo>
                <a:lnTo>
                  <a:pt x="33075" y="0"/>
                </a:lnTo>
                <a:lnTo>
                  <a:pt x="33075" y="21600"/>
                </a:lnTo>
                <a:lnTo>
                  <a:pt x="0" y="21600"/>
                </a:lnTo>
                <a:close/>
              </a:path>
              <a:path fill="lightenLess" w="33075" h="21600">
                <a:moveTo>
                  <a:pt x="0" y="0"/>
                </a:moveTo>
                <a:lnTo>
                  <a:pt x="33075" y="0"/>
                </a:lnTo>
                <a:lnTo>
                  <a:pt x="31675" y="1400"/>
                </a:lnTo>
                <a:lnTo>
                  <a:pt x="1400" y="1400"/>
                </a:lnTo>
                <a:close/>
              </a:path>
              <a:path fill="darken" w="33075" h="21600">
                <a:moveTo>
                  <a:pt x="33075" y="0"/>
                </a:moveTo>
                <a:lnTo>
                  <a:pt x="33075" y="21600"/>
                </a:lnTo>
                <a:lnTo>
                  <a:pt x="31675" y="20200"/>
                </a:lnTo>
                <a:lnTo>
                  <a:pt x="31675" y="1400"/>
                </a:lnTo>
                <a:close/>
              </a:path>
              <a:path fill="darkenLess" w="33075" h="21600">
                <a:moveTo>
                  <a:pt x="33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75" y="20200"/>
                </a:lnTo>
                <a:close/>
              </a:path>
              <a:path fill="lighten" w="33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75" h="21600">
                <a:moveTo>
                  <a:pt x="16538" y="3837"/>
                </a:moveTo>
                <a:lnTo>
                  <a:pt x="19114" y="6448"/>
                </a:lnTo>
                <a:lnTo>
                  <a:pt x="19114" y="4707"/>
                </a:lnTo>
                <a:lnTo>
                  <a:pt x="20890" y="4707"/>
                </a:lnTo>
                <a:lnTo>
                  <a:pt x="20890" y="8224"/>
                </a:lnTo>
                <a:lnTo>
                  <a:pt x="23501" y="10800"/>
                </a:lnTo>
                <a:lnTo>
                  <a:pt x="21847" y="10800"/>
                </a:lnTo>
                <a:lnTo>
                  <a:pt x="21847" y="17989"/>
                </a:lnTo>
                <a:lnTo>
                  <a:pt x="11228" y="17989"/>
                </a:lnTo>
                <a:lnTo>
                  <a:pt x="11228" y="10800"/>
                </a:lnTo>
                <a:lnTo>
                  <a:pt x="9575" y="10800"/>
                </a:lnTo>
                <a:close/>
              </a:path>
              <a:path fill="darkenLess" w="33075" h="21600">
                <a:moveTo>
                  <a:pt x="19114" y="6448"/>
                </a:moveTo>
                <a:lnTo>
                  <a:pt x="19114" y="4707"/>
                </a:lnTo>
                <a:lnTo>
                  <a:pt x="20890" y="4707"/>
                </a:lnTo>
                <a:lnTo>
                  <a:pt x="20890" y="8224"/>
                </a:lnTo>
                <a:close/>
              </a:path>
              <a:path fill="darkenLess" w="33075" h="21600">
                <a:moveTo>
                  <a:pt x="15615" y="14299"/>
                </a:moveTo>
                <a:lnTo>
                  <a:pt x="17460" y="14299"/>
                </a:lnTo>
                <a:lnTo>
                  <a:pt x="17460" y="17989"/>
                </a:lnTo>
                <a:lnTo>
                  <a:pt x="21847" y="17989"/>
                </a:lnTo>
                <a:lnTo>
                  <a:pt x="21847" y="10800"/>
                </a:lnTo>
                <a:lnTo>
                  <a:pt x="11228" y="10800"/>
                </a:lnTo>
                <a:lnTo>
                  <a:pt x="11228" y="17989"/>
                </a:lnTo>
                <a:lnTo>
                  <a:pt x="15615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4" name="Picture 4" descr="C:\Users\ПК\Desktop\горизонт.jpg"/>
          <p:cNvPicPr/>
          <p:nvPr/>
        </p:nvPicPr>
        <p:blipFill>
          <a:blip r:embed="rId1"/>
          <a:stretch/>
        </p:blipFill>
        <p:spPr>
          <a:xfrm>
            <a:off x="0" y="2416320"/>
            <a:ext cx="5929200" cy="4441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57140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Ни начала, ни конца,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Ни затылка, ни лица.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Знают все, и млад и стар,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Что она - большущий шар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213840" y="500040"/>
            <a:ext cx="52707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ЕМЛЯ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77" name="AutoShape 4">
            <a:hlinkClick r:id="" action="ppaction://hlinkshowjump?jump=firstslide"/>
          </p:cNvPr>
          <p:cNvSpPr/>
          <p:nvPr/>
        </p:nvSpPr>
        <p:spPr>
          <a:xfrm>
            <a:off x="7286760" y="5643720"/>
            <a:ext cx="1307880" cy="718920"/>
          </a:xfrm>
          <a:custGeom>
            <a:avLst/>
            <a:gdLst>
              <a:gd name="textAreaLeft" fmla="*/ 46440 w 1307880"/>
              <a:gd name="textAreaRight" fmla="*/ 1261440 w 13078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9286" h="21600">
                <a:moveTo>
                  <a:pt x="0" y="0"/>
                </a:moveTo>
                <a:lnTo>
                  <a:pt x="39286" y="0"/>
                </a:lnTo>
                <a:lnTo>
                  <a:pt x="39286" y="21600"/>
                </a:lnTo>
                <a:lnTo>
                  <a:pt x="0" y="21600"/>
                </a:lnTo>
                <a:close/>
              </a:path>
              <a:path fill="lightenLess" w="39286" h="21600">
                <a:moveTo>
                  <a:pt x="0" y="0"/>
                </a:moveTo>
                <a:lnTo>
                  <a:pt x="39286" y="0"/>
                </a:lnTo>
                <a:lnTo>
                  <a:pt x="37886" y="1400"/>
                </a:lnTo>
                <a:lnTo>
                  <a:pt x="1400" y="1400"/>
                </a:lnTo>
                <a:close/>
              </a:path>
              <a:path fill="darken" w="39286" h="21600">
                <a:moveTo>
                  <a:pt x="39286" y="0"/>
                </a:moveTo>
                <a:lnTo>
                  <a:pt x="39286" y="21600"/>
                </a:lnTo>
                <a:lnTo>
                  <a:pt x="37886" y="20200"/>
                </a:lnTo>
                <a:lnTo>
                  <a:pt x="37886" y="1400"/>
                </a:lnTo>
                <a:close/>
              </a:path>
              <a:path fill="darkenLess" w="39286" h="21600">
                <a:moveTo>
                  <a:pt x="39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86" y="20200"/>
                </a:lnTo>
                <a:close/>
              </a:path>
              <a:path fill="lighten" w="39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86" h="21600">
                <a:moveTo>
                  <a:pt x="19643" y="3837"/>
                </a:moveTo>
                <a:lnTo>
                  <a:pt x="22220" y="6448"/>
                </a:lnTo>
                <a:lnTo>
                  <a:pt x="22220" y="4707"/>
                </a:lnTo>
                <a:lnTo>
                  <a:pt x="23995" y="4707"/>
                </a:lnTo>
                <a:lnTo>
                  <a:pt x="23995" y="8224"/>
                </a:lnTo>
                <a:lnTo>
                  <a:pt x="26606" y="10800"/>
                </a:lnTo>
                <a:lnTo>
                  <a:pt x="24953" y="10800"/>
                </a:lnTo>
                <a:lnTo>
                  <a:pt x="24953" y="17989"/>
                </a:lnTo>
                <a:lnTo>
                  <a:pt x="14334" y="17989"/>
                </a:lnTo>
                <a:lnTo>
                  <a:pt x="14334" y="10800"/>
                </a:lnTo>
                <a:lnTo>
                  <a:pt x="12680" y="10800"/>
                </a:lnTo>
                <a:close/>
              </a:path>
              <a:path fill="darkenLess" w="39286" h="21600">
                <a:moveTo>
                  <a:pt x="22220" y="6448"/>
                </a:moveTo>
                <a:lnTo>
                  <a:pt x="22220" y="4707"/>
                </a:lnTo>
                <a:lnTo>
                  <a:pt x="23995" y="4707"/>
                </a:lnTo>
                <a:lnTo>
                  <a:pt x="23995" y="8224"/>
                </a:lnTo>
                <a:close/>
              </a:path>
              <a:path fill="darkenLess" w="39286" h="21600">
                <a:moveTo>
                  <a:pt x="18721" y="14299"/>
                </a:moveTo>
                <a:lnTo>
                  <a:pt x="20566" y="14299"/>
                </a:lnTo>
                <a:lnTo>
                  <a:pt x="20566" y="17989"/>
                </a:lnTo>
                <a:lnTo>
                  <a:pt x="24953" y="17989"/>
                </a:lnTo>
                <a:lnTo>
                  <a:pt x="24953" y="10800"/>
                </a:lnTo>
                <a:lnTo>
                  <a:pt x="14334" y="10800"/>
                </a:lnTo>
                <a:lnTo>
                  <a:pt x="14334" y="17989"/>
                </a:lnTo>
                <a:lnTo>
                  <a:pt x="18721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Picture 4" descr="C:\Users\ПК\Desktop\земля.jpg"/>
          <p:cNvPicPr/>
          <p:nvPr/>
        </p:nvPicPr>
        <p:blipFill>
          <a:blip r:embed="rId1"/>
          <a:stretch/>
        </p:blipFill>
        <p:spPr>
          <a:xfrm>
            <a:off x="0" y="1714680"/>
            <a:ext cx="514368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57200" y="18572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У той немаленькой горы,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Характер тихий до поры.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Но может так случиться –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Взорвётся, задымится!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856800" y="714240"/>
            <a:ext cx="3745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УЛКАН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81" name="AutoShape 4">
            <a:hlinkClick r:id="" action="ppaction://hlinkshowjump?jump=firstslide"/>
          </p:cNvPr>
          <p:cNvSpPr/>
          <p:nvPr/>
        </p:nvSpPr>
        <p:spPr>
          <a:xfrm>
            <a:off x="7358040" y="5857920"/>
            <a:ext cx="1165320" cy="718920"/>
          </a:xfrm>
          <a:custGeom>
            <a:avLst/>
            <a:gdLst>
              <a:gd name="textAreaLeft" fmla="*/ 46440 w 1165320"/>
              <a:gd name="textAreaRight" fmla="*/ 1118880 w 11653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5005" h="21600">
                <a:moveTo>
                  <a:pt x="0" y="0"/>
                </a:moveTo>
                <a:lnTo>
                  <a:pt x="35005" y="0"/>
                </a:lnTo>
                <a:lnTo>
                  <a:pt x="35005" y="21600"/>
                </a:lnTo>
                <a:lnTo>
                  <a:pt x="0" y="21600"/>
                </a:lnTo>
                <a:close/>
              </a:path>
              <a:path fill="lightenLess" w="35005" h="21600">
                <a:moveTo>
                  <a:pt x="0" y="0"/>
                </a:moveTo>
                <a:lnTo>
                  <a:pt x="35005" y="0"/>
                </a:lnTo>
                <a:lnTo>
                  <a:pt x="33605" y="1400"/>
                </a:lnTo>
                <a:lnTo>
                  <a:pt x="1400" y="1400"/>
                </a:lnTo>
                <a:close/>
              </a:path>
              <a:path fill="darken" w="35005" h="21600">
                <a:moveTo>
                  <a:pt x="35005" y="0"/>
                </a:moveTo>
                <a:lnTo>
                  <a:pt x="35005" y="21600"/>
                </a:lnTo>
                <a:lnTo>
                  <a:pt x="33605" y="20200"/>
                </a:lnTo>
                <a:lnTo>
                  <a:pt x="33605" y="1400"/>
                </a:lnTo>
                <a:close/>
              </a:path>
              <a:path fill="darkenLess" w="35005" h="21600">
                <a:moveTo>
                  <a:pt x="35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05" y="20200"/>
                </a:lnTo>
                <a:close/>
              </a:path>
              <a:path fill="lighten" w="35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05" h="21600">
                <a:moveTo>
                  <a:pt x="17503" y="3837"/>
                </a:moveTo>
                <a:lnTo>
                  <a:pt x="20079" y="6448"/>
                </a:lnTo>
                <a:lnTo>
                  <a:pt x="20079" y="4707"/>
                </a:lnTo>
                <a:lnTo>
                  <a:pt x="21855" y="4707"/>
                </a:lnTo>
                <a:lnTo>
                  <a:pt x="21855" y="8224"/>
                </a:lnTo>
                <a:lnTo>
                  <a:pt x="24466" y="10800"/>
                </a:lnTo>
                <a:lnTo>
                  <a:pt x="22812" y="10800"/>
                </a:lnTo>
                <a:lnTo>
                  <a:pt x="22812" y="17989"/>
                </a:lnTo>
                <a:lnTo>
                  <a:pt x="12193" y="17989"/>
                </a:lnTo>
                <a:lnTo>
                  <a:pt x="12193" y="10800"/>
                </a:lnTo>
                <a:lnTo>
                  <a:pt x="10540" y="10800"/>
                </a:lnTo>
                <a:close/>
              </a:path>
              <a:path fill="darkenLess" w="35005" h="21600">
                <a:moveTo>
                  <a:pt x="20079" y="6448"/>
                </a:moveTo>
                <a:lnTo>
                  <a:pt x="20079" y="4707"/>
                </a:lnTo>
                <a:lnTo>
                  <a:pt x="21855" y="4707"/>
                </a:lnTo>
                <a:lnTo>
                  <a:pt x="21855" y="8224"/>
                </a:lnTo>
                <a:close/>
              </a:path>
              <a:path fill="darkenLess" w="35005" h="21600">
                <a:moveTo>
                  <a:pt x="16580" y="14299"/>
                </a:moveTo>
                <a:lnTo>
                  <a:pt x="18425" y="14299"/>
                </a:lnTo>
                <a:lnTo>
                  <a:pt x="18425" y="17989"/>
                </a:lnTo>
                <a:lnTo>
                  <a:pt x="22812" y="17989"/>
                </a:lnTo>
                <a:lnTo>
                  <a:pt x="22812" y="10800"/>
                </a:lnTo>
                <a:lnTo>
                  <a:pt x="12193" y="10800"/>
                </a:lnTo>
                <a:lnTo>
                  <a:pt x="12193" y="17989"/>
                </a:lnTo>
                <a:lnTo>
                  <a:pt x="16580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Picture 4" descr="C:\Users\ПК\Desktop\вулкан.jpg"/>
          <p:cNvPicPr/>
          <p:nvPr/>
        </p:nvPicPr>
        <p:blipFill>
          <a:blip r:embed="rId1"/>
          <a:stretch/>
        </p:blipFill>
        <p:spPr>
          <a:xfrm>
            <a:off x="0" y="2000160"/>
            <a:ext cx="635796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28840" y="785880"/>
            <a:ext cx="42861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ВОЗНЯК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29" name="AutoShape 7">
            <a:hlinkClick r:id="" action="ppaction://hlinkshowjump?jump=firstslide"/>
          </p:cNvPr>
          <p:cNvSpPr/>
          <p:nvPr/>
        </p:nvSpPr>
        <p:spPr>
          <a:xfrm>
            <a:off x="7286760" y="4941720"/>
            <a:ext cx="1244520" cy="719280"/>
          </a:xfrm>
          <a:custGeom>
            <a:avLst/>
            <a:gdLst>
              <a:gd name="textAreaLeft" fmla="*/ 46440 w 1244520"/>
              <a:gd name="textAreaRight" fmla="*/ 1198080 w 12445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7365" h="21600">
                <a:moveTo>
                  <a:pt x="0" y="0"/>
                </a:moveTo>
                <a:lnTo>
                  <a:pt x="37365" y="0"/>
                </a:lnTo>
                <a:lnTo>
                  <a:pt x="37365" y="21600"/>
                </a:lnTo>
                <a:lnTo>
                  <a:pt x="0" y="21600"/>
                </a:lnTo>
                <a:close/>
              </a:path>
              <a:path fill="lightenLess" w="37365" h="21600">
                <a:moveTo>
                  <a:pt x="0" y="0"/>
                </a:moveTo>
                <a:lnTo>
                  <a:pt x="37365" y="0"/>
                </a:lnTo>
                <a:lnTo>
                  <a:pt x="35965" y="1400"/>
                </a:lnTo>
                <a:lnTo>
                  <a:pt x="1400" y="1400"/>
                </a:lnTo>
                <a:close/>
              </a:path>
              <a:path fill="darken" w="37365" h="21600">
                <a:moveTo>
                  <a:pt x="37365" y="0"/>
                </a:moveTo>
                <a:lnTo>
                  <a:pt x="37365" y="21600"/>
                </a:lnTo>
                <a:lnTo>
                  <a:pt x="35965" y="20200"/>
                </a:lnTo>
                <a:lnTo>
                  <a:pt x="35965" y="1400"/>
                </a:lnTo>
                <a:close/>
              </a:path>
              <a:path fill="darkenLess" w="37365" h="21600">
                <a:moveTo>
                  <a:pt x="37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65" y="20200"/>
                </a:lnTo>
                <a:close/>
              </a:path>
              <a:path fill="lighten" w="37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65" h="21600">
                <a:moveTo>
                  <a:pt x="18683" y="3837"/>
                </a:moveTo>
                <a:lnTo>
                  <a:pt x="21259" y="6448"/>
                </a:lnTo>
                <a:lnTo>
                  <a:pt x="21259" y="4707"/>
                </a:lnTo>
                <a:lnTo>
                  <a:pt x="23034" y="4707"/>
                </a:lnTo>
                <a:lnTo>
                  <a:pt x="23034" y="8224"/>
                </a:lnTo>
                <a:lnTo>
                  <a:pt x="25646" y="10800"/>
                </a:lnTo>
                <a:lnTo>
                  <a:pt x="23992" y="10800"/>
                </a:lnTo>
                <a:lnTo>
                  <a:pt x="23992" y="17989"/>
                </a:lnTo>
                <a:lnTo>
                  <a:pt x="13373" y="17989"/>
                </a:lnTo>
                <a:lnTo>
                  <a:pt x="13373" y="10800"/>
                </a:lnTo>
                <a:lnTo>
                  <a:pt x="11720" y="10800"/>
                </a:lnTo>
                <a:close/>
              </a:path>
              <a:path fill="darkenLess" w="37365" h="21600">
                <a:moveTo>
                  <a:pt x="21259" y="6448"/>
                </a:moveTo>
                <a:lnTo>
                  <a:pt x="21259" y="4707"/>
                </a:lnTo>
                <a:lnTo>
                  <a:pt x="23034" y="4707"/>
                </a:lnTo>
                <a:lnTo>
                  <a:pt x="23034" y="8224"/>
                </a:lnTo>
                <a:close/>
              </a:path>
              <a:path fill="darkenLess" w="37365" h="21600">
                <a:moveTo>
                  <a:pt x="17760" y="14299"/>
                </a:moveTo>
                <a:lnTo>
                  <a:pt x="19605" y="14299"/>
                </a:lnTo>
                <a:lnTo>
                  <a:pt x="19605" y="17989"/>
                </a:lnTo>
                <a:lnTo>
                  <a:pt x="23992" y="17989"/>
                </a:lnTo>
                <a:lnTo>
                  <a:pt x="23992" y="10800"/>
                </a:lnTo>
                <a:lnTo>
                  <a:pt x="13373" y="10800"/>
                </a:lnTo>
                <a:lnTo>
                  <a:pt x="13373" y="17989"/>
                </a:lnTo>
                <a:lnTo>
                  <a:pt x="17760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Picture 4" descr="C:\Users\ПК\Desktop\ск.jpg"/>
          <p:cNvPicPr/>
          <p:nvPr/>
        </p:nvPicPr>
        <p:blipFill>
          <a:blip r:embed="rId1"/>
          <a:stretch/>
        </p:blipFill>
        <p:spPr>
          <a:xfrm>
            <a:off x="0" y="1916280"/>
            <a:ext cx="678672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643040"/>
            <a:ext cx="822960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На минуту в землю врос,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Разноцветный чудо-мост.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Чудо-мастер смастерил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Мост высокий без перил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785880" y="1143000"/>
            <a:ext cx="4572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ДУГА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85" name="AutoShape 4">
            <a:hlinkClick r:id="" action="ppaction://hlinkshowjump?jump=firstslide"/>
          </p:cNvPr>
          <p:cNvSpPr/>
          <p:nvPr/>
        </p:nvSpPr>
        <p:spPr>
          <a:xfrm>
            <a:off x="7786800" y="5643720"/>
            <a:ext cx="950760" cy="718920"/>
          </a:xfrm>
          <a:custGeom>
            <a:avLst/>
            <a:gdLst>
              <a:gd name="textAreaLeft" fmla="*/ 46440 w 950760"/>
              <a:gd name="textAreaRight" fmla="*/ 904320 w 9507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562" h="21600">
                <a:moveTo>
                  <a:pt x="0" y="0"/>
                </a:moveTo>
                <a:lnTo>
                  <a:pt x="28562" y="0"/>
                </a:lnTo>
                <a:lnTo>
                  <a:pt x="28562" y="21600"/>
                </a:lnTo>
                <a:lnTo>
                  <a:pt x="0" y="21600"/>
                </a:lnTo>
                <a:close/>
              </a:path>
              <a:path fill="lightenLess" w="28562" h="21600">
                <a:moveTo>
                  <a:pt x="0" y="0"/>
                </a:moveTo>
                <a:lnTo>
                  <a:pt x="28562" y="0"/>
                </a:lnTo>
                <a:lnTo>
                  <a:pt x="27162" y="1400"/>
                </a:lnTo>
                <a:lnTo>
                  <a:pt x="1400" y="1400"/>
                </a:lnTo>
                <a:close/>
              </a:path>
              <a:path fill="darken" w="28562" h="21600">
                <a:moveTo>
                  <a:pt x="28562" y="0"/>
                </a:moveTo>
                <a:lnTo>
                  <a:pt x="28562" y="21600"/>
                </a:lnTo>
                <a:lnTo>
                  <a:pt x="27162" y="20200"/>
                </a:lnTo>
                <a:lnTo>
                  <a:pt x="27162" y="1400"/>
                </a:lnTo>
                <a:close/>
              </a:path>
              <a:path fill="darkenLess" w="28562" h="21600">
                <a:moveTo>
                  <a:pt x="28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62" y="20200"/>
                </a:lnTo>
                <a:close/>
              </a:path>
              <a:path fill="lighten" w="28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62" h="21600">
                <a:moveTo>
                  <a:pt x="14281" y="3837"/>
                </a:moveTo>
                <a:lnTo>
                  <a:pt x="16857" y="6448"/>
                </a:lnTo>
                <a:lnTo>
                  <a:pt x="16857" y="4707"/>
                </a:lnTo>
                <a:lnTo>
                  <a:pt x="18633" y="4707"/>
                </a:lnTo>
                <a:lnTo>
                  <a:pt x="18633" y="8224"/>
                </a:lnTo>
                <a:lnTo>
                  <a:pt x="21244" y="10800"/>
                </a:lnTo>
                <a:lnTo>
                  <a:pt x="19590" y="10800"/>
                </a:lnTo>
                <a:lnTo>
                  <a:pt x="19590" y="17989"/>
                </a:lnTo>
                <a:lnTo>
                  <a:pt x="8972" y="17989"/>
                </a:lnTo>
                <a:lnTo>
                  <a:pt x="8972" y="10800"/>
                </a:lnTo>
                <a:lnTo>
                  <a:pt x="7318" y="10800"/>
                </a:lnTo>
                <a:close/>
              </a:path>
              <a:path fill="darkenLess" w="28562" h="21600">
                <a:moveTo>
                  <a:pt x="16857" y="6448"/>
                </a:moveTo>
                <a:lnTo>
                  <a:pt x="16857" y="4707"/>
                </a:lnTo>
                <a:lnTo>
                  <a:pt x="18633" y="4707"/>
                </a:lnTo>
                <a:lnTo>
                  <a:pt x="18633" y="8224"/>
                </a:lnTo>
                <a:close/>
              </a:path>
              <a:path fill="darkenLess" w="28562" h="21600">
                <a:moveTo>
                  <a:pt x="13358" y="14299"/>
                </a:moveTo>
                <a:lnTo>
                  <a:pt x="15204" y="14299"/>
                </a:lnTo>
                <a:lnTo>
                  <a:pt x="15204" y="17989"/>
                </a:lnTo>
                <a:lnTo>
                  <a:pt x="19590" y="17989"/>
                </a:lnTo>
                <a:lnTo>
                  <a:pt x="19590" y="10800"/>
                </a:lnTo>
                <a:lnTo>
                  <a:pt x="8972" y="10800"/>
                </a:lnTo>
                <a:lnTo>
                  <a:pt x="8972" y="17989"/>
                </a:lnTo>
                <a:lnTo>
                  <a:pt x="13358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6" name="Picture 4" descr="C:\Users\ПК\Desktop\радуга.jpg"/>
          <p:cNvPicPr/>
          <p:nvPr/>
        </p:nvPicPr>
        <p:blipFill>
          <a:blip r:embed="rId1"/>
          <a:stretch/>
        </p:blipFill>
        <p:spPr>
          <a:xfrm>
            <a:off x="0" y="2714760"/>
            <a:ext cx="6566040" cy="4143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2071800"/>
            <a:ext cx="822960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Украшал ночную синь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Серебристый апельсин,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А прошла неделька только —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От него осталась долька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071360" y="928440"/>
            <a:ext cx="36716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УНА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89" name="AutoShape 4">
            <a:hlinkClick r:id="" action="ppaction://hlinkshowjump?jump=firstslide"/>
          </p:cNvPr>
          <p:cNvSpPr/>
          <p:nvPr/>
        </p:nvSpPr>
        <p:spPr>
          <a:xfrm>
            <a:off x="7358040" y="5500800"/>
            <a:ext cx="950760" cy="718920"/>
          </a:xfrm>
          <a:custGeom>
            <a:avLst/>
            <a:gdLst>
              <a:gd name="textAreaLeft" fmla="*/ 46440 w 950760"/>
              <a:gd name="textAreaRight" fmla="*/ 904320 w 9507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562" h="21600">
                <a:moveTo>
                  <a:pt x="0" y="0"/>
                </a:moveTo>
                <a:lnTo>
                  <a:pt x="28562" y="0"/>
                </a:lnTo>
                <a:lnTo>
                  <a:pt x="28562" y="21600"/>
                </a:lnTo>
                <a:lnTo>
                  <a:pt x="0" y="21600"/>
                </a:lnTo>
                <a:close/>
              </a:path>
              <a:path fill="lightenLess" w="28562" h="21600">
                <a:moveTo>
                  <a:pt x="0" y="0"/>
                </a:moveTo>
                <a:lnTo>
                  <a:pt x="28562" y="0"/>
                </a:lnTo>
                <a:lnTo>
                  <a:pt x="27162" y="1400"/>
                </a:lnTo>
                <a:lnTo>
                  <a:pt x="1400" y="1400"/>
                </a:lnTo>
                <a:close/>
              </a:path>
              <a:path fill="darken" w="28562" h="21600">
                <a:moveTo>
                  <a:pt x="28562" y="0"/>
                </a:moveTo>
                <a:lnTo>
                  <a:pt x="28562" y="21600"/>
                </a:lnTo>
                <a:lnTo>
                  <a:pt x="27162" y="20200"/>
                </a:lnTo>
                <a:lnTo>
                  <a:pt x="27162" y="1400"/>
                </a:lnTo>
                <a:close/>
              </a:path>
              <a:path fill="darkenLess" w="28562" h="21600">
                <a:moveTo>
                  <a:pt x="28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62" y="20200"/>
                </a:lnTo>
                <a:close/>
              </a:path>
              <a:path fill="lighten" w="28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62" h="21600">
                <a:moveTo>
                  <a:pt x="14281" y="3837"/>
                </a:moveTo>
                <a:lnTo>
                  <a:pt x="16857" y="6448"/>
                </a:lnTo>
                <a:lnTo>
                  <a:pt x="16857" y="4707"/>
                </a:lnTo>
                <a:lnTo>
                  <a:pt x="18633" y="4707"/>
                </a:lnTo>
                <a:lnTo>
                  <a:pt x="18633" y="8224"/>
                </a:lnTo>
                <a:lnTo>
                  <a:pt x="21244" y="10800"/>
                </a:lnTo>
                <a:lnTo>
                  <a:pt x="19590" y="10800"/>
                </a:lnTo>
                <a:lnTo>
                  <a:pt x="19590" y="17989"/>
                </a:lnTo>
                <a:lnTo>
                  <a:pt x="8972" y="17989"/>
                </a:lnTo>
                <a:lnTo>
                  <a:pt x="8972" y="10800"/>
                </a:lnTo>
                <a:lnTo>
                  <a:pt x="7318" y="10800"/>
                </a:lnTo>
                <a:close/>
              </a:path>
              <a:path fill="darkenLess" w="28562" h="21600">
                <a:moveTo>
                  <a:pt x="16857" y="6448"/>
                </a:moveTo>
                <a:lnTo>
                  <a:pt x="16857" y="4707"/>
                </a:lnTo>
                <a:lnTo>
                  <a:pt x="18633" y="4707"/>
                </a:lnTo>
                <a:lnTo>
                  <a:pt x="18633" y="8224"/>
                </a:lnTo>
                <a:close/>
              </a:path>
              <a:path fill="darkenLess" w="28562" h="21600">
                <a:moveTo>
                  <a:pt x="13358" y="14299"/>
                </a:moveTo>
                <a:lnTo>
                  <a:pt x="15204" y="14299"/>
                </a:lnTo>
                <a:lnTo>
                  <a:pt x="15204" y="17989"/>
                </a:lnTo>
                <a:lnTo>
                  <a:pt x="19590" y="17989"/>
                </a:lnTo>
                <a:lnTo>
                  <a:pt x="19590" y="10800"/>
                </a:lnTo>
                <a:lnTo>
                  <a:pt x="8972" y="10800"/>
                </a:lnTo>
                <a:lnTo>
                  <a:pt x="8972" y="17989"/>
                </a:lnTo>
                <a:lnTo>
                  <a:pt x="13358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0" name="Picture 5" descr="C:\Users\ПК\Desktop\луна.jpg"/>
          <p:cNvPicPr/>
          <p:nvPr/>
        </p:nvPicPr>
        <p:blipFill>
          <a:blip r:embed="rId1"/>
          <a:stretch/>
        </p:blipFill>
        <p:spPr>
          <a:xfrm>
            <a:off x="0" y="2214720"/>
            <a:ext cx="607212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1857240"/>
            <a:ext cx="822960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Если ясной ночью выйдешь,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Над собою ты увидишь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Ту дорогу.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Днём она, не видна.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257040" indent="-257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99720" y="1142640"/>
            <a:ext cx="360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ЕЧНЫЙ ПУТЬ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93" name="AutoShape 4">
            <a:hlinkClick r:id="" action="ppaction://hlinkshowjump?jump=firstslide"/>
          </p:cNvPr>
          <p:cNvSpPr/>
          <p:nvPr/>
        </p:nvSpPr>
        <p:spPr>
          <a:xfrm>
            <a:off x="7500960" y="5357880"/>
            <a:ext cx="1022400" cy="718920"/>
          </a:xfrm>
          <a:custGeom>
            <a:avLst/>
            <a:gdLst>
              <a:gd name="textAreaLeft" fmla="*/ 46440 w 1022400"/>
              <a:gd name="textAreaRight" fmla="*/ 975960 w 10224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714" h="21600">
                <a:moveTo>
                  <a:pt x="0" y="0"/>
                </a:moveTo>
                <a:lnTo>
                  <a:pt x="30714" y="0"/>
                </a:lnTo>
                <a:lnTo>
                  <a:pt x="30714" y="21600"/>
                </a:lnTo>
                <a:lnTo>
                  <a:pt x="0" y="21600"/>
                </a:lnTo>
                <a:close/>
              </a:path>
              <a:path fill="lightenLess" w="30714" h="21600">
                <a:moveTo>
                  <a:pt x="0" y="0"/>
                </a:moveTo>
                <a:lnTo>
                  <a:pt x="30714" y="0"/>
                </a:lnTo>
                <a:lnTo>
                  <a:pt x="29314" y="1400"/>
                </a:lnTo>
                <a:lnTo>
                  <a:pt x="1400" y="1400"/>
                </a:lnTo>
                <a:close/>
              </a:path>
              <a:path fill="darken" w="30714" h="21600">
                <a:moveTo>
                  <a:pt x="30714" y="0"/>
                </a:moveTo>
                <a:lnTo>
                  <a:pt x="30714" y="21600"/>
                </a:lnTo>
                <a:lnTo>
                  <a:pt x="29314" y="20200"/>
                </a:lnTo>
                <a:lnTo>
                  <a:pt x="29314" y="1400"/>
                </a:lnTo>
                <a:close/>
              </a:path>
              <a:path fill="darkenLess" w="30714" h="21600">
                <a:moveTo>
                  <a:pt x="30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14" y="20200"/>
                </a:lnTo>
                <a:close/>
              </a:path>
              <a:path fill="lighten" w="30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14" h="21600">
                <a:moveTo>
                  <a:pt x="15357" y="3837"/>
                </a:moveTo>
                <a:lnTo>
                  <a:pt x="17933" y="6448"/>
                </a:lnTo>
                <a:lnTo>
                  <a:pt x="17933" y="4707"/>
                </a:lnTo>
                <a:lnTo>
                  <a:pt x="19709" y="4707"/>
                </a:lnTo>
                <a:lnTo>
                  <a:pt x="19709" y="8224"/>
                </a:lnTo>
                <a:lnTo>
                  <a:pt x="22320" y="10800"/>
                </a:lnTo>
                <a:lnTo>
                  <a:pt x="20666" y="10800"/>
                </a:lnTo>
                <a:lnTo>
                  <a:pt x="20666" y="17989"/>
                </a:lnTo>
                <a:lnTo>
                  <a:pt x="10047" y="17989"/>
                </a:lnTo>
                <a:lnTo>
                  <a:pt x="10047" y="10800"/>
                </a:lnTo>
                <a:lnTo>
                  <a:pt x="8394" y="10800"/>
                </a:lnTo>
                <a:close/>
              </a:path>
              <a:path fill="darkenLess" w="30714" h="21600">
                <a:moveTo>
                  <a:pt x="17933" y="6448"/>
                </a:moveTo>
                <a:lnTo>
                  <a:pt x="17933" y="4707"/>
                </a:lnTo>
                <a:lnTo>
                  <a:pt x="19709" y="4707"/>
                </a:lnTo>
                <a:lnTo>
                  <a:pt x="19709" y="8224"/>
                </a:lnTo>
                <a:close/>
              </a:path>
              <a:path fill="darkenLess" w="30714" h="21600">
                <a:moveTo>
                  <a:pt x="14434" y="14299"/>
                </a:moveTo>
                <a:lnTo>
                  <a:pt x="16279" y="14299"/>
                </a:lnTo>
                <a:lnTo>
                  <a:pt x="16279" y="17989"/>
                </a:lnTo>
                <a:lnTo>
                  <a:pt x="20666" y="17989"/>
                </a:lnTo>
                <a:lnTo>
                  <a:pt x="20666" y="10800"/>
                </a:lnTo>
                <a:lnTo>
                  <a:pt x="10047" y="10800"/>
                </a:lnTo>
                <a:lnTo>
                  <a:pt x="10047" y="17989"/>
                </a:lnTo>
                <a:lnTo>
                  <a:pt x="14434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4" name="Picture 5" descr="C:\Users\ПК\Desktop\мл путь.jpg"/>
          <p:cNvPicPr/>
          <p:nvPr/>
        </p:nvPicPr>
        <p:blipFill>
          <a:blip r:embed="rId1"/>
          <a:stretch/>
        </p:blipFill>
        <p:spPr>
          <a:xfrm>
            <a:off x="0" y="2671920"/>
            <a:ext cx="6429240" cy="4186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785880"/>
            <a:ext cx="822960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По небу ходит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Маляр без кистей,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Краской коричневой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Красит людей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713880" y="1143000"/>
            <a:ext cx="50562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СОЛНЦЕ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97" name="AutoShape 4">
            <a:hlinkClick r:id="" action="ppaction://hlinkshowjump?jump=firstslide"/>
          </p:cNvPr>
          <p:cNvSpPr/>
          <p:nvPr/>
        </p:nvSpPr>
        <p:spPr>
          <a:xfrm>
            <a:off x="7143840" y="5643720"/>
            <a:ext cx="1022400" cy="718920"/>
          </a:xfrm>
          <a:custGeom>
            <a:avLst/>
            <a:gdLst>
              <a:gd name="textAreaLeft" fmla="*/ 46440 w 1022400"/>
              <a:gd name="textAreaRight" fmla="*/ 975960 w 10224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714" h="21600">
                <a:moveTo>
                  <a:pt x="0" y="0"/>
                </a:moveTo>
                <a:lnTo>
                  <a:pt x="30714" y="0"/>
                </a:lnTo>
                <a:lnTo>
                  <a:pt x="30714" y="21600"/>
                </a:lnTo>
                <a:lnTo>
                  <a:pt x="0" y="21600"/>
                </a:lnTo>
                <a:close/>
              </a:path>
              <a:path fill="lightenLess" w="30714" h="21600">
                <a:moveTo>
                  <a:pt x="0" y="0"/>
                </a:moveTo>
                <a:lnTo>
                  <a:pt x="30714" y="0"/>
                </a:lnTo>
                <a:lnTo>
                  <a:pt x="29314" y="1400"/>
                </a:lnTo>
                <a:lnTo>
                  <a:pt x="1400" y="1400"/>
                </a:lnTo>
                <a:close/>
              </a:path>
              <a:path fill="darken" w="30714" h="21600">
                <a:moveTo>
                  <a:pt x="30714" y="0"/>
                </a:moveTo>
                <a:lnTo>
                  <a:pt x="30714" y="21600"/>
                </a:lnTo>
                <a:lnTo>
                  <a:pt x="29314" y="20200"/>
                </a:lnTo>
                <a:lnTo>
                  <a:pt x="29314" y="1400"/>
                </a:lnTo>
                <a:close/>
              </a:path>
              <a:path fill="darkenLess" w="30714" h="21600">
                <a:moveTo>
                  <a:pt x="30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14" y="20200"/>
                </a:lnTo>
                <a:close/>
              </a:path>
              <a:path fill="lighten" w="30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14" h="21600">
                <a:moveTo>
                  <a:pt x="15357" y="3837"/>
                </a:moveTo>
                <a:lnTo>
                  <a:pt x="17933" y="6448"/>
                </a:lnTo>
                <a:lnTo>
                  <a:pt x="17933" y="4707"/>
                </a:lnTo>
                <a:lnTo>
                  <a:pt x="19709" y="4707"/>
                </a:lnTo>
                <a:lnTo>
                  <a:pt x="19709" y="8224"/>
                </a:lnTo>
                <a:lnTo>
                  <a:pt x="22320" y="10800"/>
                </a:lnTo>
                <a:lnTo>
                  <a:pt x="20666" y="10800"/>
                </a:lnTo>
                <a:lnTo>
                  <a:pt x="20666" y="17989"/>
                </a:lnTo>
                <a:lnTo>
                  <a:pt x="10047" y="17989"/>
                </a:lnTo>
                <a:lnTo>
                  <a:pt x="10047" y="10800"/>
                </a:lnTo>
                <a:lnTo>
                  <a:pt x="8394" y="10800"/>
                </a:lnTo>
                <a:close/>
              </a:path>
              <a:path fill="darkenLess" w="30714" h="21600">
                <a:moveTo>
                  <a:pt x="17933" y="6448"/>
                </a:moveTo>
                <a:lnTo>
                  <a:pt x="17933" y="4707"/>
                </a:lnTo>
                <a:lnTo>
                  <a:pt x="19709" y="4707"/>
                </a:lnTo>
                <a:lnTo>
                  <a:pt x="19709" y="8224"/>
                </a:lnTo>
                <a:close/>
              </a:path>
              <a:path fill="darkenLess" w="30714" h="21600">
                <a:moveTo>
                  <a:pt x="14434" y="14299"/>
                </a:moveTo>
                <a:lnTo>
                  <a:pt x="16279" y="14299"/>
                </a:lnTo>
                <a:lnTo>
                  <a:pt x="16279" y="17989"/>
                </a:lnTo>
                <a:lnTo>
                  <a:pt x="20666" y="17989"/>
                </a:lnTo>
                <a:lnTo>
                  <a:pt x="20666" y="10800"/>
                </a:lnTo>
                <a:lnTo>
                  <a:pt x="10047" y="10800"/>
                </a:lnTo>
                <a:lnTo>
                  <a:pt x="10047" y="17989"/>
                </a:lnTo>
                <a:lnTo>
                  <a:pt x="14434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8" name="Picture 5" descr="C:\Users\ПК\Desktop\солнце.gif"/>
          <p:cNvPicPr/>
          <p:nvPr/>
        </p:nvPicPr>
        <p:blipFill>
          <a:blip r:embed="rId1"/>
          <a:stretch/>
        </p:blipFill>
        <p:spPr>
          <a:xfrm>
            <a:off x="0" y="2414520"/>
            <a:ext cx="4429080" cy="44434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714680"/>
            <a:ext cx="822960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В чёрном небе до зари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Тускло светят Фонари.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Фонари - Фонарики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Меньше, чем комарики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928440" y="1000080"/>
            <a:ext cx="331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ЁЗДЫ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01" name="AutoShape 4">
            <a:hlinkClick r:id="" action="ppaction://hlinkshowjump?jump=firstslide"/>
          </p:cNvPr>
          <p:cNvSpPr/>
          <p:nvPr/>
        </p:nvSpPr>
        <p:spPr>
          <a:xfrm>
            <a:off x="7643880" y="5643720"/>
            <a:ext cx="950760" cy="718920"/>
          </a:xfrm>
          <a:custGeom>
            <a:avLst/>
            <a:gdLst>
              <a:gd name="textAreaLeft" fmla="*/ 46440 w 950760"/>
              <a:gd name="textAreaRight" fmla="*/ 904320 w 9507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562" h="21600">
                <a:moveTo>
                  <a:pt x="0" y="0"/>
                </a:moveTo>
                <a:lnTo>
                  <a:pt x="28562" y="0"/>
                </a:lnTo>
                <a:lnTo>
                  <a:pt x="28562" y="21600"/>
                </a:lnTo>
                <a:lnTo>
                  <a:pt x="0" y="21600"/>
                </a:lnTo>
                <a:close/>
              </a:path>
              <a:path fill="lightenLess" w="28562" h="21600">
                <a:moveTo>
                  <a:pt x="0" y="0"/>
                </a:moveTo>
                <a:lnTo>
                  <a:pt x="28562" y="0"/>
                </a:lnTo>
                <a:lnTo>
                  <a:pt x="27162" y="1400"/>
                </a:lnTo>
                <a:lnTo>
                  <a:pt x="1400" y="1400"/>
                </a:lnTo>
                <a:close/>
              </a:path>
              <a:path fill="darken" w="28562" h="21600">
                <a:moveTo>
                  <a:pt x="28562" y="0"/>
                </a:moveTo>
                <a:lnTo>
                  <a:pt x="28562" y="21600"/>
                </a:lnTo>
                <a:lnTo>
                  <a:pt x="27162" y="20200"/>
                </a:lnTo>
                <a:lnTo>
                  <a:pt x="27162" y="1400"/>
                </a:lnTo>
                <a:close/>
              </a:path>
              <a:path fill="darkenLess" w="28562" h="21600">
                <a:moveTo>
                  <a:pt x="28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62" y="20200"/>
                </a:lnTo>
                <a:close/>
              </a:path>
              <a:path fill="lighten" w="28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62" h="21600">
                <a:moveTo>
                  <a:pt x="14281" y="3837"/>
                </a:moveTo>
                <a:lnTo>
                  <a:pt x="16857" y="6448"/>
                </a:lnTo>
                <a:lnTo>
                  <a:pt x="16857" y="4707"/>
                </a:lnTo>
                <a:lnTo>
                  <a:pt x="18633" y="4707"/>
                </a:lnTo>
                <a:lnTo>
                  <a:pt x="18633" y="8224"/>
                </a:lnTo>
                <a:lnTo>
                  <a:pt x="21244" y="10800"/>
                </a:lnTo>
                <a:lnTo>
                  <a:pt x="19590" y="10800"/>
                </a:lnTo>
                <a:lnTo>
                  <a:pt x="19590" y="17989"/>
                </a:lnTo>
                <a:lnTo>
                  <a:pt x="8972" y="17989"/>
                </a:lnTo>
                <a:lnTo>
                  <a:pt x="8972" y="10800"/>
                </a:lnTo>
                <a:lnTo>
                  <a:pt x="7318" y="10800"/>
                </a:lnTo>
                <a:close/>
              </a:path>
              <a:path fill="darkenLess" w="28562" h="21600">
                <a:moveTo>
                  <a:pt x="16857" y="6448"/>
                </a:moveTo>
                <a:lnTo>
                  <a:pt x="16857" y="4707"/>
                </a:lnTo>
                <a:lnTo>
                  <a:pt x="18633" y="4707"/>
                </a:lnTo>
                <a:lnTo>
                  <a:pt x="18633" y="8224"/>
                </a:lnTo>
                <a:close/>
              </a:path>
              <a:path fill="darkenLess" w="28562" h="21600">
                <a:moveTo>
                  <a:pt x="13358" y="14299"/>
                </a:moveTo>
                <a:lnTo>
                  <a:pt x="15204" y="14299"/>
                </a:lnTo>
                <a:lnTo>
                  <a:pt x="15204" y="17989"/>
                </a:lnTo>
                <a:lnTo>
                  <a:pt x="19590" y="17989"/>
                </a:lnTo>
                <a:lnTo>
                  <a:pt x="19590" y="10800"/>
                </a:lnTo>
                <a:lnTo>
                  <a:pt x="8972" y="10800"/>
                </a:lnTo>
                <a:lnTo>
                  <a:pt x="8972" y="17989"/>
                </a:lnTo>
                <a:lnTo>
                  <a:pt x="13358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2" name="Picture 5" descr="C:\Users\ПК\Desktop\звезда.jpg"/>
          <p:cNvPicPr/>
          <p:nvPr/>
        </p:nvPicPr>
        <p:blipFill>
          <a:blip r:embed="rId1"/>
          <a:stretch/>
        </p:blipFill>
        <p:spPr>
          <a:xfrm>
            <a:off x="0" y="2500200"/>
            <a:ext cx="522936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ше леса, выше гор расстилается ковер. Он всегда – раскинут над тобой и надо мной, то он серый, то он синий, то он ярко голубой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1000080"/>
            <a:ext cx="82296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Эта межзвездная 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Вечная странница ,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В небе ночном 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Только – только представится 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И улетает 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Надолго потом, 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Нам на прощанье </a:t>
            </a:r>
            <a:br>
              <a:rPr sz="4000"/>
            </a:br>
            <a:r>
              <a:rPr b="1" lang="ru-RU" sz="40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Мерцая хвостом. 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85880" y="999720"/>
            <a:ext cx="3643200" cy="15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ЕТА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05" name="AutoShape 5">
            <a:hlinkClick r:id="" action="ppaction://hlinkshowjump?jump=firstslide"/>
          </p:cNvPr>
          <p:cNvSpPr/>
          <p:nvPr/>
        </p:nvSpPr>
        <p:spPr>
          <a:xfrm>
            <a:off x="7715160" y="5500800"/>
            <a:ext cx="808200" cy="718920"/>
          </a:xfrm>
          <a:custGeom>
            <a:avLst/>
            <a:gdLst>
              <a:gd name="textAreaLeft" fmla="*/ 46440 w 808200"/>
              <a:gd name="textAreaRight" fmla="*/ 761760 w 8082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4281" h="21600">
                <a:moveTo>
                  <a:pt x="0" y="0"/>
                </a:moveTo>
                <a:lnTo>
                  <a:pt x="24281" y="0"/>
                </a:lnTo>
                <a:lnTo>
                  <a:pt x="24281" y="21600"/>
                </a:lnTo>
                <a:lnTo>
                  <a:pt x="0" y="21600"/>
                </a:lnTo>
                <a:close/>
              </a:path>
              <a:path fill="lightenLess" w="24281" h="21600">
                <a:moveTo>
                  <a:pt x="0" y="0"/>
                </a:moveTo>
                <a:lnTo>
                  <a:pt x="24281" y="0"/>
                </a:lnTo>
                <a:lnTo>
                  <a:pt x="22881" y="1400"/>
                </a:lnTo>
                <a:lnTo>
                  <a:pt x="1400" y="1400"/>
                </a:lnTo>
                <a:close/>
              </a:path>
              <a:path fill="darken" w="24281" h="21600">
                <a:moveTo>
                  <a:pt x="24281" y="0"/>
                </a:moveTo>
                <a:lnTo>
                  <a:pt x="24281" y="21600"/>
                </a:lnTo>
                <a:lnTo>
                  <a:pt x="22881" y="20200"/>
                </a:lnTo>
                <a:lnTo>
                  <a:pt x="22881" y="1400"/>
                </a:lnTo>
                <a:close/>
              </a:path>
              <a:path fill="darkenLess" w="24281" h="21600">
                <a:moveTo>
                  <a:pt x="24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1" y="20200"/>
                </a:lnTo>
                <a:close/>
              </a:path>
              <a:path fill="lighten" w="24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1" h="21600">
                <a:moveTo>
                  <a:pt x="12141" y="3837"/>
                </a:moveTo>
                <a:lnTo>
                  <a:pt x="14717" y="6448"/>
                </a:lnTo>
                <a:lnTo>
                  <a:pt x="14717" y="4707"/>
                </a:lnTo>
                <a:lnTo>
                  <a:pt x="16492" y="4707"/>
                </a:lnTo>
                <a:lnTo>
                  <a:pt x="16492" y="8224"/>
                </a:lnTo>
                <a:lnTo>
                  <a:pt x="19104" y="10800"/>
                </a:lnTo>
                <a:lnTo>
                  <a:pt x="17450" y="10800"/>
                </a:lnTo>
                <a:lnTo>
                  <a:pt x="17450" y="17989"/>
                </a:lnTo>
                <a:lnTo>
                  <a:pt x="6831" y="17989"/>
                </a:lnTo>
                <a:lnTo>
                  <a:pt x="6831" y="10800"/>
                </a:lnTo>
                <a:lnTo>
                  <a:pt x="5178" y="10800"/>
                </a:lnTo>
                <a:close/>
              </a:path>
              <a:path fill="darkenLess" w="24281" h="21600">
                <a:moveTo>
                  <a:pt x="14717" y="6448"/>
                </a:moveTo>
                <a:lnTo>
                  <a:pt x="14717" y="4707"/>
                </a:lnTo>
                <a:lnTo>
                  <a:pt x="16492" y="4707"/>
                </a:lnTo>
                <a:lnTo>
                  <a:pt x="16492" y="8224"/>
                </a:lnTo>
                <a:close/>
              </a:path>
              <a:path fill="darkenLess" w="24281" h="21600">
                <a:moveTo>
                  <a:pt x="11218" y="14299"/>
                </a:moveTo>
                <a:lnTo>
                  <a:pt x="13063" y="14299"/>
                </a:lnTo>
                <a:lnTo>
                  <a:pt x="13063" y="17989"/>
                </a:lnTo>
                <a:lnTo>
                  <a:pt x="17450" y="17989"/>
                </a:lnTo>
                <a:lnTo>
                  <a:pt x="17450" y="10800"/>
                </a:lnTo>
                <a:lnTo>
                  <a:pt x="6831" y="10800"/>
                </a:lnTo>
                <a:lnTo>
                  <a:pt x="6831" y="17989"/>
                </a:lnTo>
                <a:lnTo>
                  <a:pt x="11218" y="17989"/>
                </a:ln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6" name="Picture 5" descr="C:\Users\ПК\Desktop\камета.jpg"/>
          <p:cNvPicPr/>
          <p:nvPr/>
        </p:nvPicPr>
        <p:blipFill>
          <a:blip r:embed="rId1"/>
          <a:stretch/>
        </p:blipFill>
        <p:spPr>
          <a:xfrm>
            <a:off x="0" y="2579760"/>
            <a:ext cx="6429240" cy="4278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1"/>
          <a:stretch/>
        </p:blipFill>
        <p:spPr>
          <a:xfrm>
            <a:off x="298440" y="414360"/>
            <a:ext cx="8699400" cy="11286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457200" y="2071440"/>
            <a:ext cx="82296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Я  ИГРА «Эрудиты»</a:t>
            </a: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ллектуальная игра для 6-7 классов</a:t>
            </a: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географии Болякова Людмила Александровна</a:t>
            </a: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1" descr=""/>
          <p:cNvPicPr/>
          <p:nvPr/>
        </p:nvPicPr>
        <p:blipFill>
          <a:blip r:embed="rId1"/>
          <a:stretch/>
        </p:blipFill>
        <p:spPr>
          <a:xfrm>
            <a:off x="298440" y="414360"/>
            <a:ext cx="8712360" cy="12556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я: Занимательные материалы к урокам и внеклассным занятиям в 6-8 классах/ сост.Н.А.Касаткина.- Волгоград:Учитель,2004</a:t>
            </a: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й урок географии: кн.для учителя/О.В.Крылова.-3-еизд.-М.:Просвещение,2003</a:t>
            </a: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оведение 5 класс: Материалы к урокам (стихи, викторины, кроссворды)/сост.Н.А.Касаткина.- Волгоград:Учитель,2004.</a:t>
            </a: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llforchildren.ru/kidfun/riddles_sky.php</a:t>
            </a: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zanimatika.narod.ru/Nachalka.htm#</a:t>
            </a: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veselajashkola.ru/konkursy/zagadki-po-geografii-s-otvetami/</a:t>
            </a: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aby-news.net/riddles/12/</a:t>
            </a: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numama.ru/zagadki-dlja-malenkih-detei/zagadki-pro-javlenija-prirody/zagadki-pro-zvezdy.html</a:t>
            </a: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642680" y="928440"/>
            <a:ext cx="2500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БО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33" name="AutoShape 4">
            <a:hlinkClick r:id="" action="ppaction://hlinkshowjump?jump=firstslide"/>
          </p:cNvPr>
          <p:cNvSpPr/>
          <p:nvPr/>
        </p:nvSpPr>
        <p:spPr>
          <a:xfrm>
            <a:off x="7358040" y="5643720"/>
            <a:ext cx="1022400" cy="718920"/>
          </a:xfrm>
          <a:custGeom>
            <a:avLst/>
            <a:gdLst>
              <a:gd name="textAreaLeft" fmla="*/ 46440 w 1022400"/>
              <a:gd name="textAreaRight" fmla="*/ 975960 w 10224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714" h="21600">
                <a:moveTo>
                  <a:pt x="0" y="0"/>
                </a:moveTo>
                <a:lnTo>
                  <a:pt x="30714" y="0"/>
                </a:lnTo>
                <a:lnTo>
                  <a:pt x="30714" y="21600"/>
                </a:lnTo>
                <a:lnTo>
                  <a:pt x="0" y="21600"/>
                </a:lnTo>
                <a:close/>
              </a:path>
              <a:path fill="lightenLess" w="30714" h="21600">
                <a:moveTo>
                  <a:pt x="0" y="0"/>
                </a:moveTo>
                <a:lnTo>
                  <a:pt x="30714" y="0"/>
                </a:lnTo>
                <a:lnTo>
                  <a:pt x="29314" y="1400"/>
                </a:lnTo>
                <a:lnTo>
                  <a:pt x="1400" y="1400"/>
                </a:lnTo>
                <a:close/>
              </a:path>
              <a:path fill="darken" w="30714" h="21600">
                <a:moveTo>
                  <a:pt x="30714" y="0"/>
                </a:moveTo>
                <a:lnTo>
                  <a:pt x="30714" y="21600"/>
                </a:lnTo>
                <a:lnTo>
                  <a:pt x="29314" y="20200"/>
                </a:lnTo>
                <a:lnTo>
                  <a:pt x="29314" y="1400"/>
                </a:lnTo>
                <a:close/>
              </a:path>
              <a:path fill="darkenLess" w="30714" h="21600">
                <a:moveTo>
                  <a:pt x="30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14" y="20200"/>
                </a:lnTo>
                <a:close/>
              </a:path>
              <a:path fill="lighten" w="30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14" h="21600">
                <a:moveTo>
                  <a:pt x="15357" y="3837"/>
                </a:moveTo>
                <a:lnTo>
                  <a:pt x="17933" y="6448"/>
                </a:lnTo>
                <a:lnTo>
                  <a:pt x="17933" y="4707"/>
                </a:lnTo>
                <a:lnTo>
                  <a:pt x="19709" y="4707"/>
                </a:lnTo>
                <a:lnTo>
                  <a:pt x="19709" y="8224"/>
                </a:lnTo>
                <a:lnTo>
                  <a:pt x="22320" y="10800"/>
                </a:lnTo>
                <a:lnTo>
                  <a:pt x="20666" y="10800"/>
                </a:lnTo>
                <a:lnTo>
                  <a:pt x="20666" y="17989"/>
                </a:lnTo>
                <a:lnTo>
                  <a:pt x="10047" y="17989"/>
                </a:lnTo>
                <a:lnTo>
                  <a:pt x="10047" y="10800"/>
                </a:lnTo>
                <a:lnTo>
                  <a:pt x="8394" y="10800"/>
                </a:lnTo>
                <a:close/>
              </a:path>
              <a:path fill="darkenLess" w="30714" h="21600">
                <a:moveTo>
                  <a:pt x="17933" y="6448"/>
                </a:moveTo>
                <a:lnTo>
                  <a:pt x="17933" y="4707"/>
                </a:lnTo>
                <a:lnTo>
                  <a:pt x="19709" y="4707"/>
                </a:lnTo>
                <a:lnTo>
                  <a:pt x="19709" y="8224"/>
                </a:lnTo>
                <a:close/>
              </a:path>
              <a:path fill="darkenLess" w="30714" h="21600">
                <a:moveTo>
                  <a:pt x="14434" y="14299"/>
                </a:moveTo>
                <a:lnTo>
                  <a:pt x="16279" y="14299"/>
                </a:lnTo>
                <a:lnTo>
                  <a:pt x="16279" y="17989"/>
                </a:lnTo>
                <a:lnTo>
                  <a:pt x="20666" y="17989"/>
                </a:lnTo>
                <a:lnTo>
                  <a:pt x="20666" y="10800"/>
                </a:lnTo>
                <a:lnTo>
                  <a:pt x="10047" y="10800"/>
                </a:lnTo>
                <a:lnTo>
                  <a:pt x="10047" y="17989"/>
                </a:lnTo>
                <a:lnTo>
                  <a:pt x="14434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4" descr="C:\Users\ПК\Desktop\небо.jpg"/>
          <p:cNvPicPr/>
          <p:nvPr/>
        </p:nvPicPr>
        <p:blipFill>
          <a:blip r:embed="rId1"/>
          <a:stretch/>
        </p:blipFill>
        <p:spPr>
          <a:xfrm>
            <a:off x="0" y="2143080"/>
            <a:ext cx="654840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64304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тит без крыльев и поёт, прохожих задирает, одним проходу не даёт, других он подгоняет</a:t>
            </a:r>
            <a:endParaRPr b="0" lang="en-US" sz="48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500040" y="1142640"/>
            <a:ext cx="5229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ТЕР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37" name="AutoShape 4">
            <a:hlinkClick r:id="" action="ppaction://hlinkshowjump?jump=firstslide"/>
          </p:cNvPr>
          <p:cNvSpPr/>
          <p:nvPr/>
        </p:nvSpPr>
        <p:spPr>
          <a:xfrm>
            <a:off x="7286760" y="5715000"/>
            <a:ext cx="1164960" cy="719280"/>
          </a:xfrm>
          <a:custGeom>
            <a:avLst/>
            <a:gdLst>
              <a:gd name="textAreaLeft" fmla="*/ 46440 w 1164960"/>
              <a:gd name="textAreaRight" fmla="*/ 1118520 w 11649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977" h="21600">
                <a:moveTo>
                  <a:pt x="0" y="0"/>
                </a:moveTo>
                <a:lnTo>
                  <a:pt x="34977" y="0"/>
                </a:lnTo>
                <a:lnTo>
                  <a:pt x="34977" y="21600"/>
                </a:lnTo>
                <a:lnTo>
                  <a:pt x="0" y="21600"/>
                </a:lnTo>
                <a:close/>
              </a:path>
              <a:path fill="lightenLess" w="34977" h="21600">
                <a:moveTo>
                  <a:pt x="0" y="0"/>
                </a:moveTo>
                <a:lnTo>
                  <a:pt x="34977" y="0"/>
                </a:lnTo>
                <a:lnTo>
                  <a:pt x="33577" y="1400"/>
                </a:lnTo>
                <a:lnTo>
                  <a:pt x="1400" y="1400"/>
                </a:lnTo>
                <a:close/>
              </a:path>
              <a:path fill="darken" w="34977" h="21600">
                <a:moveTo>
                  <a:pt x="34977" y="0"/>
                </a:moveTo>
                <a:lnTo>
                  <a:pt x="34977" y="21600"/>
                </a:lnTo>
                <a:lnTo>
                  <a:pt x="33577" y="20200"/>
                </a:lnTo>
                <a:lnTo>
                  <a:pt x="33577" y="1400"/>
                </a:lnTo>
                <a:close/>
              </a:path>
              <a:path fill="darkenLess" w="34977" h="21600">
                <a:moveTo>
                  <a:pt x="34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77" y="20200"/>
                </a:lnTo>
                <a:close/>
              </a:path>
              <a:path fill="lighten" w="34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77" h="21600">
                <a:moveTo>
                  <a:pt x="17489" y="3837"/>
                </a:moveTo>
                <a:lnTo>
                  <a:pt x="20065" y="6448"/>
                </a:lnTo>
                <a:lnTo>
                  <a:pt x="20065" y="4707"/>
                </a:lnTo>
                <a:lnTo>
                  <a:pt x="21840" y="4707"/>
                </a:lnTo>
                <a:lnTo>
                  <a:pt x="21840" y="8224"/>
                </a:lnTo>
                <a:lnTo>
                  <a:pt x="24452" y="10800"/>
                </a:lnTo>
                <a:lnTo>
                  <a:pt x="22798" y="10800"/>
                </a:lnTo>
                <a:lnTo>
                  <a:pt x="22798" y="17989"/>
                </a:lnTo>
                <a:lnTo>
                  <a:pt x="12179" y="17989"/>
                </a:lnTo>
                <a:lnTo>
                  <a:pt x="12179" y="10800"/>
                </a:lnTo>
                <a:lnTo>
                  <a:pt x="10526" y="10800"/>
                </a:lnTo>
                <a:close/>
              </a:path>
              <a:path fill="darkenLess" w="34977" h="21600">
                <a:moveTo>
                  <a:pt x="20065" y="6448"/>
                </a:moveTo>
                <a:lnTo>
                  <a:pt x="20065" y="4707"/>
                </a:lnTo>
                <a:lnTo>
                  <a:pt x="21840" y="4707"/>
                </a:lnTo>
                <a:lnTo>
                  <a:pt x="21840" y="8224"/>
                </a:lnTo>
                <a:close/>
              </a:path>
              <a:path fill="darkenLess" w="34977" h="21600">
                <a:moveTo>
                  <a:pt x="16566" y="14299"/>
                </a:moveTo>
                <a:lnTo>
                  <a:pt x="18411" y="14299"/>
                </a:lnTo>
                <a:lnTo>
                  <a:pt x="18411" y="17989"/>
                </a:lnTo>
                <a:lnTo>
                  <a:pt x="22798" y="17989"/>
                </a:lnTo>
                <a:lnTo>
                  <a:pt x="22798" y="10800"/>
                </a:lnTo>
                <a:lnTo>
                  <a:pt x="12179" y="10800"/>
                </a:lnTo>
                <a:lnTo>
                  <a:pt x="12179" y="17989"/>
                </a:lnTo>
                <a:lnTo>
                  <a:pt x="16566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8" name="Picture 4" descr="C:\Users\ПК\Desktop\ветер.gif"/>
          <p:cNvPicPr/>
          <p:nvPr/>
        </p:nvPicPr>
        <p:blipFill>
          <a:blip r:embed="rId1"/>
          <a:stretch/>
        </p:blipFill>
        <p:spPr>
          <a:xfrm>
            <a:off x="0" y="2214720"/>
            <a:ext cx="620856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571320" y="1428840"/>
            <a:ext cx="771516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з нос проходит в грудь и обратный держит путь,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е видимый, и всё же, без него мы жить не можем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71320" y="1214280"/>
            <a:ext cx="4157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Х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41" name="AutoShape 4">
            <a:hlinkClick r:id="" action="ppaction://hlinkshowjump?jump=firstslide"/>
          </p:cNvPr>
          <p:cNvSpPr/>
          <p:nvPr/>
        </p:nvSpPr>
        <p:spPr>
          <a:xfrm>
            <a:off x="7286760" y="5572080"/>
            <a:ext cx="1093680" cy="719280"/>
          </a:xfrm>
          <a:custGeom>
            <a:avLst/>
            <a:gdLst>
              <a:gd name="textAreaLeft" fmla="*/ 46440 w 1093680"/>
              <a:gd name="textAreaRight" fmla="*/ 1047240 w 10936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838" h="21600">
                <a:moveTo>
                  <a:pt x="0" y="0"/>
                </a:moveTo>
                <a:lnTo>
                  <a:pt x="32838" y="0"/>
                </a:lnTo>
                <a:lnTo>
                  <a:pt x="32838" y="21600"/>
                </a:lnTo>
                <a:lnTo>
                  <a:pt x="0" y="21600"/>
                </a:lnTo>
                <a:close/>
              </a:path>
              <a:path fill="lightenLess" w="32838" h="21600">
                <a:moveTo>
                  <a:pt x="0" y="0"/>
                </a:moveTo>
                <a:lnTo>
                  <a:pt x="32838" y="0"/>
                </a:lnTo>
                <a:lnTo>
                  <a:pt x="31438" y="1400"/>
                </a:lnTo>
                <a:lnTo>
                  <a:pt x="1400" y="1400"/>
                </a:lnTo>
                <a:close/>
              </a:path>
              <a:path fill="darken" w="32838" h="21600">
                <a:moveTo>
                  <a:pt x="32838" y="0"/>
                </a:moveTo>
                <a:lnTo>
                  <a:pt x="32838" y="21600"/>
                </a:lnTo>
                <a:lnTo>
                  <a:pt x="31438" y="20200"/>
                </a:lnTo>
                <a:lnTo>
                  <a:pt x="31438" y="1400"/>
                </a:lnTo>
                <a:close/>
              </a:path>
              <a:path fill="darkenLess" w="32838" h="21600">
                <a:moveTo>
                  <a:pt x="32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38" y="20200"/>
                </a:lnTo>
                <a:close/>
              </a:path>
              <a:path fill="lighten" w="32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38" h="21600">
                <a:moveTo>
                  <a:pt x="16419" y="3837"/>
                </a:moveTo>
                <a:lnTo>
                  <a:pt x="18995" y="6448"/>
                </a:lnTo>
                <a:lnTo>
                  <a:pt x="18995" y="4707"/>
                </a:lnTo>
                <a:lnTo>
                  <a:pt x="20771" y="4707"/>
                </a:lnTo>
                <a:lnTo>
                  <a:pt x="20771" y="8224"/>
                </a:lnTo>
                <a:lnTo>
                  <a:pt x="23382" y="10800"/>
                </a:lnTo>
                <a:lnTo>
                  <a:pt x="21728" y="10800"/>
                </a:lnTo>
                <a:lnTo>
                  <a:pt x="21728" y="17989"/>
                </a:lnTo>
                <a:lnTo>
                  <a:pt x="11110" y="17989"/>
                </a:lnTo>
                <a:lnTo>
                  <a:pt x="11110" y="10800"/>
                </a:lnTo>
                <a:lnTo>
                  <a:pt x="9456" y="10800"/>
                </a:lnTo>
                <a:close/>
              </a:path>
              <a:path fill="darkenLess" w="32838" h="21600">
                <a:moveTo>
                  <a:pt x="18995" y="6448"/>
                </a:moveTo>
                <a:lnTo>
                  <a:pt x="18995" y="4707"/>
                </a:lnTo>
                <a:lnTo>
                  <a:pt x="20771" y="4707"/>
                </a:lnTo>
                <a:lnTo>
                  <a:pt x="20771" y="8224"/>
                </a:lnTo>
                <a:close/>
              </a:path>
              <a:path fill="darkenLess" w="32838" h="21600">
                <a:moveTo>
                  <a:pt x="15496" y="14299"/>
                </a:moveTo>
                <a:lnTo>
                  <a:pt x="17341" y="14299"/>
                </a:lnTo>
                <a:lnTo>
                  <a:pt x="17341" y="17989"/>
                </a:lnTo>
                <a:lnTo>
                  <a:pt x="21728" y="17989"/>
                </a:lnTo>
                <a:lnTo>
                  <a:pt x="21728" y="10800"/>
                </a:lnTo>
                <a:lnTo>
                  <a:pt x="11110" y="10800"/>
                </a:lnTo>
                <a:lnTo>
                  <a:pt x="11110" y="17989"/>
                </a:lnTo>
                <a:lnTo>
                  <a:pt x="15496" y="17989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2" name="Picture 4" descr="C:\Users\ПК\Desktop\воздух.jpg"/>
          <p:cNvPicPr/>
          <p:nvPr/>
        </p:nvPicPr>
        <p:blipFill>
          <a:blip r:embed="rId1"/>
          <a:stretch/>
        </p:blipFill>
        <p:spPr>
          <a:xfrm>
            <a:off x="0" y="2209680"/>
            <a:ext cx="514368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7:33:34Z</dcterms:created>
  <dc:creator>Alex</dc:creator>
  <dc:description/>
  <dc:language>en-US</dc:language>
  <cp:lastModifiedBy>ПК</cp:lastModifiedBy>
  <dcterms:modified xsi:type="dcterms:W3CDTF">2014-12-18T11:40:10Z</dcterms:modified>
  <cp:revision>69</cp:revision>
  <dc:subject/>
  <dc:title>Слайд 1</dc:title>
</cp:coreProperties>
</file>