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139-51AA-4BB1-82DD-FA2C11E8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7BE-2F48-4B19-B163-87C46599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2A8-1677-4270-88BD-5259A93E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9A2-797D-4002-930A-FBABAEAD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3938-AD31-4AE6-967F-88552EA3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AACD-789C-45D0-BBD3-FD24297B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351D-7306-4AE4-8CBA-B26EE7BD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857B-D614-4F67-8E4E-DE152722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4901-2790-49B9-A686-B3A123F6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5313-AD65-46D7-9308-3B2F8BEE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64C6-2B09-4441-8B8C-BE53CA36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1FC-2AF4-421D-A066-B36B2AD9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12E7-7363-4149-8E2D-723099BC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5FBA-BD2C-4DDD-8B78-7BF9A028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4776-8CEE-4EBB-BE4A-DA738E10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4980-3485-4665-95F9-0E98A5DB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AD7C-CC49-4F9F-BE2E-2A44DBB9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2DF-662B-4640-8A87-049CAFDB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A2B-DFC2-4A8A-9FAD-3708ADD0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A31-8617-4026-8ABA-D6CC4EA3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702-4F85-48DE-903F-3D73EDFD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E78-370E-4AB8-9976-6868C991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925-6641-41C1-9E2E-83BB30C4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029-E8C8-410D-8E52-AB489F19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6B80-E510-4D1C-9253-1C3A7C844AFE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9804-D2C2-4739-A993-19F8445194B4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BS00811_[1]"/>
          <p:cNvPicPr/>
          <p:nvPr/>
        </p:nvPicPr>
        <p:blipFill>
          <a:blip r:embed="rId2"/>
          <a:stretch/>
        </p:blipFill>
        <p:spPr>
          <a:xfrm>
            <a:off x="4140360" y="2924280"/>
            <a:ext cx="5003640" cy="3644640"/>
          </a:xfrm>
          <a:prstGeom prst="rect">
            <a:avLst/>
          </a:prstGeom>
          <a:ln w="0">
            <a:noFill/>
          </a:ln>
        </p:spPr>
      </p:pic>
      <p:sp>
        <p:nvSpPr>
          <p:cNvPr id="83" name="WordArt 11"/>
          <p:cNvSpPr txBox="1"/>
          <p:nvPr/>
        </p:nvSpPr>
        <p:spPr>
          <a:xfrm>
            <a:off x="755640" y="765000"/>
            <a:ext cx="4537080" cy="27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b0eef4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графия</a:t>
            </a:r>
            <a:endParaRPr b="1" lang="en-US" sz="1800" spc="1" strike="noStrike">
              <a:ln w="38160">
                <a:solidFill>
                  <a:srgbClr val="b0eef4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b0eef4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</a:t>
            </a:r>
            <a:endParaRPr b="1" lang="en-US" sz="1800" spc="1" strike="noStrike">
              <a:ln w="38160">
                <a:solidFill>
                  <a:srgbClr val="b0eef4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b0eef4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ука</a:t>
            </a:r>
            <a:endParaRPr b="1" lang="en-US" sz="1800" spc="1" strike="noStrike">
              <a:ln w="38160">
                <a:solidFill>
                  <a:srgbClr val="b0eef4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5"/>
          <p:cNvSpPr/>
          <p:nvPr/>
        </p:nvSpPr>
        <p:spPr>
          <a:xfrm>
            <a:off x="250920" y="3141720"/>
            <a:ext cx="8893080" cy="3456000"/>
          </a:xfrm>
          <a:custGeom>
            <a:avLst/>
            <a:gdLst>
              <a:gd name="textAreaLeft" fmla="*/ 2030040 w 8893080"/>
              <a:gd name="textAreaRight" fmla="*/ 6863040 w 8893080"/>
              <a:gd name="textAreaTop" fmla="*/ 788760 h 3456000"/>
              <a:gd name="textAreaBottom" fmla="*/ 266724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1547640" y="4005360"/>
            <a:ext cx="64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География – наука, которая описывает Земл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684360" y="333360"/>
            <a:ext cx="79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7"/>
          <p:cNvSpPr/>
          <p:nvPr/>
        </p:nvSpPr>
        <p:spPr>
          <a:xfrm flipH="1" rot="5379600">
            <a:off x="1499400" y="788760"/>
            <a:ext cx="503280" cy="2468520"/>
          </a:xfrm>
          <a:custGeom>
            <a:avLst/>
            <a:gdLst>
              <a:gd name="textAreaLeft" fmla="*/ 321480 w 503280"/>
              <a:gd name="textAreaRight" fmla="*/ 503640 w 503280"/>
              <a:gd name="textAreaTop" fmla="*/ 64080 h 2468520"/>
              <a:gd name="textAreaBottom" fmla="*/ 2404440 h 24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17"/>
                </a:lnTo>
                <a:cubicBezTo>
                  <a:pt x="10800" y="9817"/>
                  <a:pt x="5400" y="10717"/>
                  <a:pt x="0" y="10717"/>
                </a:cubicBezTo>
                <a:cubicBezTo>
                  <a:pt x="5400" y="10717"/>
                  <a:pt x="10800" y="11617"/>
                  <a:pt x="10800" y="125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 rot="5400000">
            <a:off x="4764600" y="284760"/>
            <a:ext cx="546120" cy="3522600"/>
          </a:xfrm>
          <a:custGeom>
            <a:avLst/>
            <a:gdLst>
              <a:gd name="textAreaLeft" fmla="*/ 0 w 546120"/>
              <a:gd name="textAreaRight" fmla="*/ 197280 w 546120"/>
              <a:gd name="textAreaTop" fmla="*/ 32400 h 3522600"/>
              <a:gd name="textAreaBottom" fmla="*/ 3490200 h 352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1"/>
                  <a:pt x="10800" y="641"/>
                </a:cubicBezTo>
                <a:lnTo>
                  <a:pt x="10800" y="10153"/>
                </a:lnTo>
                <a:cubicBezTo>
                  <a:pt x="10800" y="10474"/>
                  <a:pt x="16200" y="10794"/>
                  <a:pt x="21600" y="10794"/>
                </a:cubicBezTo>
                <a:cubicBezTo>
                  <a:pt x="16200" y="10794"/>
                  <a:pt x="10800" y="11115"/>
                  <a:pt x="10800" y="11435"/>
                </a:cubicBezTo>
                <a:lnTo>
                  <a:pt x="10800" y="20959"/>
                </a:lnTo>
                <a:cubicBezTo>
                  <a:pt x="10800" y="2128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79280" y="234936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«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гео</a:t>
            </a: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» - </a:t>
            </a:r>
            <a:r>
              <a:rPr b="1" lang="ru-RU" sz="4000" spc="-1" strike="noStrike">
                <a:solidFill>
                  <a:srgbClr val="333399"/>
                </a:solidFill>
                <a:latin typeface="Arial Narrow"/>
              </a:rPr>
              <a:t>Земля </a:t>
            </a:r>
            <a:r>
              <a:rPr b="1" lang="ru-RU" sz="4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ff6600"/>
                </a:solidFill>
                <a:latin typeface="Monotype Corsiv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3635280" y="2349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графо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» -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иш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1403280" y="4076640"/>
            <a:ext cx="69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География – это наук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rebuchet MS"/>
              </a:rPr>
              <a:t>Название науке географии дал</a:t>
            </a:r>
            <a:r>
              <a:rPr b="1" i="1" lang="ru-RU" sz="4800" spc="-1" strike="noStrike">
                <a:solidFill>
                  <a:srgbClr val="ff0066"/>
                </a:solidFill>
                <a:latin typeface="Trebuchet MS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" name="Picture 17" descr="Ератосфен"/>
          <p:cNvPicPr/>
          <p:nvPr/>
        </p:nvPicPr>
        <p:blipFill>
          <a:blip r:embed="rId2"/>
          <a:stretch/>
        </p:blipFill>
        <p:spPr>
          <a:xfrm>
            <a:off x="539640" y="1557360"/>
            <a:ext cx="3659400" cy="5084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4284720" y="2421000"/>
            <a:ext cx="44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Эратосфе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364000" y="4076640"/>
            <a:ext cx="316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лее 2000 лет наза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D05735_[1]"/>
          <p:cNvPicPr/>
          <p:nvPr/>
        </p:nvPicPr>
        <p:blipFill>
          <a:blip r:embed="rId2"/>
          <a:stretch/>
        </p:blipFill>
        <p:spPr>
          <a:xfrm>
            <a:off x="539640" y="1773360"/>
            <a:ext cx="3888000" cy="4680000"/>
          </a:xfrm>
          <a:prstGeom prst="rect">
            <a:avLst/>
          </a:prstGeom>
          <a:ln w="0">
            <a:noFill/>
          </a:ln>
          <a:effectLst>
            <a:outerShdw dist="148236" dir="18059258" blurRad="0" rotWithShape="0">
              <a:srgbClr val="339966">
                <a:alpha val="50000"/>
              </a:srgbClr>
            </a:outerShdw>
          </a:effectLst>
        </p:spPr>
      </p:pic>
      <p:sp>
        <p:nvSpPr>
          <p:cNvPr id="97" name="WordArt 6"/>
          <p:cNvSpPr txBox="1"/>
          <p:nvPr/>
        </p:nvSpPr>
        <p:spPr>
          <a:xfrm>
            <a:off x="395280" y="333360"/>
            <a:ext cx="8353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3370"/>
                <a:gd name="adj2" fmla="val -1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 геогра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508720" y="227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и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651640" y="3429000"/>
            <a:ext cx="34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учше использовать богатства при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43280" y="1700280"/>
            <a:ext cx="4283280" cy="4867560"/>
          </a:xfrm>
          <a:prstGeom prst="rect">
            <a:avLst/>
          </a:prstGeom>
          <a:solidFill>
            <a:srgbClr val="ffffc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чает на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де 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ая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L -0.47829 -0.0125 E">
                                      <p:cBhvr>
                                        <p:cTn id="15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rebuchet MS"/>
              </a:rPr>
              <a:t>Чем занимается современная география?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6000" y="1773000"/>
            <a:ext cx="5329080" cy="4454280"/>
          </a:xfrm>
          <a:prstGeom prst="rect">
            <a:avLst/>
          </a:prstGeom>
          <a:solidFill>
            <a:srgbClr val="e5f9e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Исследует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Описывает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Объясняет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Прогнозирует (предвидит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250920" y="1989000"/>
            <a:ext cx="241308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059280" y="1989000"/>
            <a:ext cx="29509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443640" y="1989000"/>
            <a:ext cx="248436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3" descr="j0090386"/>
          <p:cNvPicPr/>
          <p:nvPr/>
        </p:nvPicPr>
        <p:blipFill>
          <a:blip r:embed="rId2"/>
          <a:stretch/>
        </p:blipFill>
        <p:spPr>
          <a:xfrm>
            <a:off x="6443640" y="2781360"/>
            <a:ext cx="252108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28"/>
          <p:cNvSpPr/>
          <p:nvPr/>
        </p:nvSpPr>
        <p:spPr>
          <a:xfrm>
            <a:off x="2843280" y="5734080"/>
            <a:ext cx="3168720" cy="8254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ы развития 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6300720" y="5805360"/>
            <a:ext cx="2664000" cy="82548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жизн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33"/>
          <p:cNvSpPr txBox="1"/>
          <p:nvPr/>
        </p:nvSpPr>
        <p:spPr>
          <a:xfrm>
            <a:off x="1403280" y="333360"/>
            <a:ext cx="56898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граф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41" descr="go2big"/>
          <p:cNvPicPr/>
          <p:nvPr/>
        </p:nvPicPr>
        <p:blipFill>
          <a:blip r:embed="rId3"/>
          <a:stretch/>
        </p:blipFill>
        <p:spPr>
          <a:xfrm>
            <a:off x="250920" y="2708280"/>
            <a:ext cx="2305080" cy="27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Line 43"/>
          <p:cNvSpPr/>
          <p:nvPr/>
        </p:nvSpPr>
        <p:spPr>
          <a:xfrm flipH="1">
            <a:off x="1692000" y="1197000"/>
            <a:ext cx="115092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5"/>
          <p:cNvSpPr/>
          <p:nvPr/>
        </p:nvSpPr>
        <p:spPr>
          <a:xfrm flipH="1">
            <a:off x="4245480" y="1139760"/>
            <a:ext cx="13320" cy="84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6"/>
          <p:cNvSpPr/>
          <p:nvPr/>
        </p:nvSpPr>
        <p:spPr>
          <a:xfrm>
            <a:off x="5620680" y="1184040"/>
            <a:ext cx="1299960" cy="70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7" descr=""/>
          <p:cNvPicPr/>
          <p:nvPr/>
        </p:nvPicPr>
        <p:blipFill>
          <a:blip r:embed="rId4"/>
          <a:stretch/>
        </p:blipFill>
        <p:spPr>
          <a:xfrm>
            <a:off x="3203640" y="2708280"/>
            <a:ext cx="251928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51"/>
          <p:cNvSpPr/>
          <p:nvPr/>
        </p:nvSpPr>
        <p:spPr>
          <a:xfrm>
            <a:off x="250920" y="5877000"/>
            <a:ext cx="2233440" cy="459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planets_001"/>
          <p:cNvPicPr/>
          <p:nvPr/>
        </p:nvPicPr>
        <p:blipFill>
          <a:blip r:embed="rId1"/>
          <a:stretch/>
        </p:blipFill>
        <p:spPr>
          <a:xfrm>
            <a:off x="755640" y="2421000"/>
            <a:ext cx="3745080" cy="2733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4643280" y="1341360"/>
            <a:ext cx="432144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Земля и её изображение. </a:t>
            </a:r>
            <a:r>
              <a:rPr b="1" lang="ru-RU" sz="4000" spc="-1" strike="noStrike">
                <a:solidFill>
                  <a:srgbClr val="a6a6a6"/>
                </a:solidFill>
                <a:latin typeface="Arial"/>
              </a:rPr>
              <a:t>История географических открытий. </a:t>
            </a:r>
            <a:r>
              <a:rPr b="1" lang="ru-RU" sz="4000" spc="-1" strike="noStrike">
                <a:solidFill>
                  <a:srgbClr val="ffffcf"/>
                </a:solidFill>
                <a:latin typeface="Arial"/>
              </a:rPr>
              <a:t>Путешествие по планете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ирода Зем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826920" y="47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411280" y="476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Наука ге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 rot="16200000">
            <a:off x="-2707920" y="3147480"/>
            <a:ext cx="63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В 5 классе мы будем изуч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14:08:17Z</dcterms:created>
  <dc:creator>Sergey</dc:creator>
  <dc:description/>
  <dc:language>en-US</dc:language>
  <cp:lastModifiedBy>Luba</cp:lastModifiedBy>
  <dcterms:modified xsi:type="dcterms:W3CDTF">2017-03-26T15:35:17Z</dcterms:modified>
  <cp:revision>37</cp:revision>
  <dc:subject/>
  <dc:title>Слайд 1</dc:title>
</cp:coreProperties>
</file>