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82E-09DA-48EE-99B5-AED31062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D48-7221-401D-8327-C906767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36A-1EAA-4A22-B877-916F8D19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E71-D3C7-4BF0-B078-69B5DE7E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38C-F5EC-4241-96BC-9F47104A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869-0C96-43E2-A233-81E4772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71A4-EE33-4EB9-819C-6A3A356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9E1-BB63-472C-9088-3CFB657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3E7F-2E08-414E-92A5-EDE83F30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6CA-1167-450A-8EF5-C7E3771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4CD-83B4-4708-B462-1708969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710-F1C9-42E2-9B80-76D01C9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C58A-99DD-49BC-ADF6-95E8131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20AC-F636-435D-8AEF-D0A825E1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572F-F683-4DD7-9469-F2A14EDE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36A-D445-4A1C-B079-DD8968EC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AA2E-0E63-4926-BF27-8573C630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C75-0C0B-49F6-B3A2-EEADCB2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77C-E780-4C39-A80A-E853C8F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5C1-289C-4292-A123-20E1D01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CE2-1DFA-4D50-9880-32D85E7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C87-1C06-47F3-9437-480DD51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1DD-C62E-4E4E-9BCD-A256180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915-8F32-4E22-AF5E-98FD941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a5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666a5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D41-6F52-4E27-843C-46472EC0E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a5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666a5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a5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CA6-3B11-46EB-A1B0-A930A034321D}" type="slidenum">
              <a:rPr b="0" lang="ru-RU" sz="1200" spc="-1" strike="noStrike">
                <a:solidFill>
                  <a:srgbClr val="666a5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мая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День радио</a:t>
            </a:r>
            <a:endParaRPr b="0" lang="en-US" sz="8800" spc="-1" strike="noStrike">
              <a:solidFill>
                <a:srgbClr val="75786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ледам Попова шел итальянский изобретатель Гульельмо Маркони. Он усовершенствовал радиоприемник Попова и получил на него патент.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9" name="Объект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237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ркони увеличил дальность связи до тысяч километров и организовал промышленный выпуск радиоприемников. Именно с помощью его радиоприемника был подан сигна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SOS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«Титаника»  </a:t>
            </a:r>
            <a:endParaRPr b="0" lang="en-US" sz="32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1" name="Объект 5" descr=""/>
          <p:cNvPicPr/>
          <p:nvPr/>
        </p:nvPicPr>
        <p:blipFill>
          <a:blip r:embed="rId1"/>
          <a:stretch/>
        </p:blipFill>
        <p:spPr>
          <a:xfrm>
            <a:off x="2057400" y="3011400"/>
            <a:ext cx="4952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1909 году Маркони получил Нобелевскую премию за свои работы в области радиосвязи. А. С. Попов к тому времени уже умер.</a:t>
            </a:r>
            <a:endParaRPr b="0" lang="en-US" sz="32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3" name="Объект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6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Шли годы, менялся внешний вид радиоприемника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5" name="Объект 8" descr=""/>
          <p:cNvPicPr/>
          <p:nvPr/>
        </p:nvPicPr>
        <p:blipFill>
          <a:blip r:embed="rId1"/>
          <a:stretch/>
        </p:blipFill>
        <p:spPr>
          <a:xfrm>
            <a:off x="117360" y="2209680"/>
            <a:ext cx="4668840" cy="3276720"/>
          </a:xfrm>
          <a:prstGeom prst="rect">
            <a:avLst/>
          </a:prstGeom>
          <a:ln w="0">
            <a:noFill/>
          </a:ln>
        </p:spPr>
      </p:pic>
      <p:pic>
        <p:nvPicPr>
          <p:cNvPr id="356" name="Объект 9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46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явились телевизоры, радиолокаторы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8" name="Объект 10" descr=""/>
          <p:cNvPicPr/>
          <p:nvPr/>
        </p:nvPicPr>
        <p:blipFill>
          <a:blip r:embed="rId1"/>
          <a:stretch/>
        </p:blipFill>
        <p:spPr>
          <a:xfrm>
            <a:off x="0" y="1905120"/>
            <a:ext cx="4848120" cy="3504960"/>
          </a:xfrm>
          <a:prstGeom prst="rect">
            <a:avLst/>
          </a:prstGeom>
          <a:ln w="0">
            <a:noFill/>
          </a:ln>
        </p:spPr>
      </p:pic>
      <p:pic>
        <p:nvPicPr>
          <p:cNvPr id="359" name="Объект 9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73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шла пора радиотелескопов, сотовых телефонов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1" name="Объект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2" name="Объект 8" descr=""/>
          <p:cNvPicPr/>
          <p:nvPr/>
        </p:nvPicPr>
        <p:blipFill>
          <a:blip r:embed="rId2"/>
          <a:stretch/>
        </p:blipFill>
        <p:spPr>
          <a:xfrm>
            <a:off x="4191120" y="3048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ременные информационные технологии были бы невозможны без изобретения  А. С. Попова 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4" name="Объект 7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365" name="Объект 8" descr=""/>
          <p:cNvPicPr/>
          <p:nvPr/>
        </p:nvPicPr>
        <p:blipFill>
          <a:blip r:embed="rId2"/>
          <a:stretch/>
        </p:blipFill>
        <p:spPr>
          <a:xfrm>
            <a:off x="4800600" y="32385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нь радио – наш общий праздник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здравляем!!!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7" name="Объект 8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5587920" cy="349236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7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49604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86200" y="277920"/>
            <a:ext cx="495288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20 лет тому назад 7 мая 1895 года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лександр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тепанович Попов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ровел первую радиопередачу</a:t>
            </a:r>
            <a:endParaRPr b="0" lang="en-US" sz="48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2" name="Объект 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274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вый радиоприемник был совсем не похож на современные радиоприемники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4" name="Объект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15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общение передавалось с помощью азбуки Морзе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176040" y="2590920"/>
            <a:ext cx="87728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вое сообщение состояло только из 2 слов «Генрих Герц»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1502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277920"/>
            <a:ext cx="5181480" cy="57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енрих Герц – немецкий физик, экспериментально доказавший существование электромагнитных волн. В честь него названа единица измерения частоты 1 Гц. 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152280" y="252360"/>
            <a:ext cx="8705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hinaOne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Я горд тем, что родился русским. И если не современники, то, может быть, потомки наши  поймут, сколь велика моя  преданность нашей Родине и как  счастлив я, что не за рубежом, а в  России открыто новое средство  связи».            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пов А.С.</a:t>
            </a:r>
            <a:endParaRPr b="0" lang="en-US" sz="4000" spc="-1" strike="noStrike">
              <a:solidFill>
                <a:srgbClr val="666a5c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a5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2160" y="3049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СКОРОМ ВРЕМЕНИ ИЗОБРЕТЕНИЕ А. С. ПОПОВА НАЧАЛО ПРИМЕНЯТЬСЯ НА РУССКОМ ФЛОТЕ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347" name="Объект 6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645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</dc:creator>
  <dc:description/>
  <dc:language>en-US</dc:language>
  <cp:lastModifiedBy>Elena</cp:lastModifiedBy>
  <dcterms:modified xsi:type="dcterms:W3CDTF">2015-05-06T18:49:4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