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0E9-0F74-4268-8BAC-65E663AA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B11-F4F5-49B5-8820-3A0C900A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1E4-AC21-4191-B8B8-69FAD9F6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D2D-ABAC-466E-BC6B-C574FA24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9FF1-D32D-4B0D-893C-06CFC2A8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7D2-F007-4D3A-9D1F-277C0EE2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C78-4FA4-4B96-AD1C-0067AA30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E9FF-043D-4A94-A8A2-975009CA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B57-5DEE-4736-A9CC-65CF3F05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43BD-3253-442C-9FD3-2EA476F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F70C-5463-4E04-8ACC-DE65C2D2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AB0-711C-48E3-AE5C-3F160155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DEAA-8A03-46B5-8F88-FDE9BD6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20B5-6713-4B21-AEEF-E4B5DB7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EA05-A43F-497A-A5F1-3F69A72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BA88-9153-4EC6-9900-5F485F1D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9DF1-5900-4164-979D-2468D47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1AE-C470-4725-A6FA-58E036A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E31-1A59-4FB2-8A32-60D291DA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FDD-3359-49FD-9775-6EB9CA2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9DB-BDD8-4E79-819E-6A99744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627-6D03-4EA3-90C4-A8F6FB6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47F-C736-47F9-82A1-B5CFBC28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DF5-7AF1-4896-9CD9-EF3861B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a5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666a5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14D2-9975-46C3-B283-D266B88BF2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a5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666a5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666a5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666a5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666a5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a5c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666a5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a5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CBA-B6AB-46DD-B2F7-2A00996836ED}" type="slidenum">
              <a:rPr b="0" lang="ru-RU" sz="1200" spc="-1" strike="noStrike">
                <a:solidFill>
                  <a:srgbClr val="666a5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мая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День радио</a:t>
            </a:r>
            <a:endParaRPr b="0" lang="en-US" sz="8800" spc="-1" strike="noStrike">
              <a:solidFill>
                <a:srgbClr val="75786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57600" y="277920"/>
            <a:ext cx="548640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ледам Попова шел итальянский изобретатель Гульельмо Маркони. Он усовершенствовал радиоприемник Попова и получил на него патент.</a:t>
            </a:r>
            <a:endParaRPr b="0" lang="en-US" sz="36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49" name="Объект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2371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ркони увеличил дальность связи до тысяч километров и организовал промышленный выпуск радиоприемников. Именно с помощью его радиоприемника был подан сигна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SOS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«Титаника»  </a:t>
            </a:r>
            <a:endParaRPr b="0" lang="en-US" sz="32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1" name="Объект 5" descr=""/>
          <p:cNvPicPr/>
          <p:nvPr/>
        </p:nvPicPr>
        <p:blipFill>
          <a:blip r:embed="rId1"/>
          <a:stretch/>
        </p:blipFill>
        <p:spPr>
          <a:xfrm>
            <a:off x="2057400" y="3011400"/>
            <a:ext cx="49528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1909 году Маркони получил Нобелевскую премию за свои работы в области радиосвязи. А. С. Попов к тому времени уже умер.</a:t>
            </a:r>
            <a:endParaRPr b="0" lang="en-US" sz="32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3" name="Объект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6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Шли годы, менялся внешний вид радиоприемника…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5" name="Объект 8" descr=""/>
          <p:cNvPicPr/>
          <p:nvPr/>
        </p:nvPicPr>
        <p:blipFill>
          <a:blip r:embed="rId1"/>
          <a:stretch/>
        </p:blipFill>
        <p:spPr>
          <a:xfrm>
            <a:off x="117360" y="2209680"/>
            <a:ext cx="4668840" cy="3276720"/>
          </a:xfrm>
          <a:prstGeom prst="rect">
            <a:avLst/>
          </a:prstGeom>
          <a:ln w="0">
            <a:noFill/>
          </a:ln>
        </p:spPr>
      </p:pic>
      <p:pic>
        <p:nvPicPr>
          <p:cNvPr id="356" name="Объект 9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46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явились телевизоры, радиолокаторы…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58" name="Объект 10" descr=""/>
          <p:cNvPicPr/>
          <p:nvPr/>
        </p:nvPicPr>
        <p:blipFill>
          <a:blip r:embed="rId1"/>
          <a:stretch/>
        </p:blipFill>
        <p:spPr>
          <a:xfrm>
            <a:off x="0" y="1905120"/>
            <a:ext cx="4848120" cy="3504960"/>
          </a:xfrm>
          <a:prstGeom prst="rect">
            <a:avLst/>
          </a:prstGeom>
          <a:ln w="0">
            <a:noFill/>
          </a:ln>
        </p:spPr>
      </p:pic>
      <p:pic>
        <p:nvPicPr>
          <p:cNvPr id="359" name="Объект 9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73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шла пора радиотелескопов, сотовых телефонов…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61" name="Объект 7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2" name="Объект 8" descr=""/>
          <p:cNvPicPr/>
          <p:nvPr/>
        </p:nvPicPr>
        <p:blipFill>
          <a:blip r:embed="rId2"/>
          <a:stretch/>
        </p:blipFill>
        <p:spPr>
          <a:xfrm>
            <a:off x="4191120" y="3048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ременные информационные технологии были бы невозможны без изобретения  А. С. Попова </a:t>
            </a:r>
            <a:endParaRPr b="0" lang="en-US" sz="36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64" name="Объект 7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365" name="Объект 8" descr=""/>
          <p:cNvPicPr/>
          <p:nvPr/>
        </p:nvPicPr>
        <p:blipFill>
          <a:blip r:embed="rId2"/>
          <a:stretch/>
        </p:blipFill>
        <p:spPr>
          <a:xfrm>
            <a:off x="4800600" y="323856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нь радио – наш общий праздник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здравляем!!!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67" name="Объект 8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5587920" cy="3492360"/>
          </a:xfrm>
          <a:prstGeom prst="rect">
            <a:avLst/>
          </a:prstGeom>
          <a:ln w="0">
            <a:noFill/>
          </a:ln>
        </p:spPr>
      </p:pic>
      <p:pic>
        <p:nvPicPr>
          <p:cNvPr id="368" name="Объект 7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49604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86200" y="277920"/>
            <a:ext cx="4952880" cy="61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20 лет тому назад 7 мая 1895 года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лександр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тепанович Попов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ровел первую радиопередачу</a:t>
            </a:r>
            <a:endParaRPr b="0" lang="en-US" sz="48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2" name="Объект 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274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рвый радиоприемник был совсем не похож на современные радиоприемники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4" name="Объект 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15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общение передавалось с помощью азбуки Морзе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1"/>
          <a:stretch/>
        </p:blipFill>
        <p:spPr>
          <a:xfrm>
            <a:off x="176040" y="2590920"/>
            <a:ext cx="87728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вое сообщение состояло только из 2 слов «Генрих Герц»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1502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277920"/>
            <a:ext cx="5181480" cy="57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енрих Герц – немецкий физик, экспериментально доказавший существование электромагнитных волн. В честь него названа единица измерения частоты 1 Гц. 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152280" y="252360"/>
            <a:ext cx="870588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hinaOne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Я горд тем, что родился русским. И если не современники, то, может быть, потомки наши  поймут, сколь велика моя  преданность нашей Родине и как  счастлив я, что не за рубежом, а в  России открыто новое средство  связи».            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пов А.С.</a:t>
            </a:r>
            <a:endParaRPr b="0" lang="en-US" sz="4000" spc="-1" strike="noStrike">
              <a:solidFill>
                <a:srgbClr val="666a5c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a5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2160" y="304920"/>
            <a:ext cx="77724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СКОРОМ ВРЕМЕНИ ИЗОБРЕТЕНИЕ А. С. ПОПОВА НАЧАЛО ПРИМЕНЯТЬСЯ НА РУССКОМ ФЛОТЕ</a:t>
            </a:r>
            <a:endParaRPr b="0" lang="en-US" sz="36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347" name="Объект 6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645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na</dc:creator>
  <dc:description/>
  <dc:language>en-US</dc:language>
  <cp:lastModifiedBy>Elena</cp:lastModifiedBy>
  <dcterms:modified xsi:type="dcterms:W3CDTF">2015-05-06T18:49:4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